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712-94C8-4BA2-B335-9806C043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27B-EFEC-4729-87E1-2FAD769A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1A5-F12F-4F4D-A10D-D70E4BB8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EAA-95A1-4E93-87EE-12AD66C2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44F-E42D-4311-9BEE-F2051DB6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11D-D2D0-42AA-B0B9-19A43630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E0A-60F6-4AB4-8675-E910A351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DF9-F45C-456E-8C3B-AEB0B5BD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EFB-CB68-4546-820F-71A27B86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0A9-30BE-4A5C-B1F2-A161A80D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91A-C821-4032-A25F-D5CE75F7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03E-73F8-46E4-9CFD-A4CBB491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A57A-54E3-420F-9FC5-0B580FF392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607280" cy="3682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0" y="4508640"/>
            <a:ext cx="914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El hechizo de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Burbuja la bruj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6524640"/>
            <a:ext cx="6227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11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 rot="21162600">
            <a:off x="3504960" y="2084400"/>
            <a:ext cx="2612880" cy="2787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1312920" cy="1439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18325800">
            <a:off x="7248240" y="1396440"/>
            <a:ext cx="1150920" cy="1262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flipH="1" rot="2995200">
            <a:off x="5219280" y="548640"/>
            <a:ext cx="1314720" cy="1441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 flipH="1" rot="85800">
            <a:off x="2842920" y="333360"/>
            <a:ext cx="1181160" cy="1294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ragón y un drag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3235320" cy="3241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 rot="21466800">
            <a:off x="5224320" y="263520"/>
            <a:ext cx="1881360" cy="2476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5950080"/>
            <a:ext cx="9144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rbuja remueva los ingredientes.</a:t>
            </a:r>
            <a:r>
              <a:rPr b="0" lang="en-GB" sz="2000" spc="-1" strike="noStrike">
                <a:solidFill>
                  <a:srgbClr val="000000"/>
                </a:solidFill>
                <a:latin typeface="Tidy Ha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89000"/>
            <a:ext cx="914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 un hechizo para hacer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l_fi" descr=""/>
          <p:cNvPicPr/>
          <p:nvPr/>
        </p:nvPicPr>
        <p:blipFill>
          <a:blip r:embed="rId1"/>
          <a:srcRect l="25997" t="26188" r="24762" b="26205"/>
          <a:stretch/>
        </p:blipFill>
        <p:spPr>
          <a:xfrm>
            <a:off x="1547640" y="1341360"/>
            <a:ext cx="6120000" cy="4438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6093000"/>
            <a:ext cx="914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¡ chorizo !</a:t>
            </a:r>
            <a:r>
              <a:rPr b="1" lang="en-US" sz="2000" spc="-1" strike="noStrike">
                <a:solidFill>
                  <a:srgbClr val="000000"/>
                </a:solidFill>
                <a:latin typeface="Tidy Ha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607280" cy="3682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0" y="4508640"/>
            <a:ext cx="914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El hechizo de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Burbuja la bruj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260280"/>
            <a:ext cx="439236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Vocabul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oni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pret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ruj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urbuj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bub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ero (m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caul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cinero (m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c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efante (m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eph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egant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eg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stragón (m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tarr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om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ace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to 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echizo (m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sp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51280" y="260280"/>
            <a:ext cx="439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grediente (m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ngre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aleta (f.)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sui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uy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rej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vej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lom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d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tatas fritas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one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to 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epara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to prep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move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to 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ijeras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sci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urrac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mag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vac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violet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rbuja la bruja prepara un hechiz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one en el cald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1122400">
            <a:off x="2518920" y="2449440"/>
            <a:ext cx="1217520" cy="1238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95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cho ojos rojo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1180800">
            <a:off x="1115640" y="3789360"/>
            <a:ext cx="1217520" cy="1238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531600">
            <a:off x="5795640" y="3357360"/>
            <a:ext cx="1217520" cy="1238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 rot="21122400">
            <a:off x="3850920" y="4221000"/>
            <a:ext cx="1217520" cy="1238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322200">
            <a:off x="7164000" y="2204640"/>
            <a:ext cx="121752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 rot="20019600">
            <a:off x="468360" y="1700280"/>
            <a:ext cx="1217520" cy="1238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 rot="21122400">
            <a:off x="7092720" y="4797360"/>
            <a:ext cx="1217520" cy="1238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 rot="21122400">
            <a:off x="4500360" y="2205000"/>
            <a:ext cx="12175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16572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 maletas violeta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497400">
            <a:off x="1403280" y="476280"/>
            <a:ext cx="2232000" cy="169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0296200">
            <a:off x="4642920" y="1267920"/>
            <a:ext cx="2808360" cy="2127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497400">
            <a:off x="1184400" y="3295800"/>
            <a:ext cx="3457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20334000">
            <a:off x="2378160" y="714240"/>
            <a:ext cx="1527120" cy="360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730200">
            <a:off x="5364000" y="1773000"/>
            <a:ext cx="152748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16572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s tijeras cocinera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916360" y="260280"/>
            <a:ext cx="3600360" cy="5040360"/>
            <a:chOff x="2916360" y="260280"/>
            <a:chExt cx="3600360" cy="5040360"/>
          </a:xfrm>
        </p:grpSpPr>
        <p:pic>
          <p:nvPicPr>
            <p:cNvPr id="62" name="elephant_1[1]" descr=""/>
            <p:cNvPicPr/>
            <p:nvPr/>
          </p:nvPicPr>
          <p:blipFill>
            <a:blip r:embed="rId1"/>
            <a:stretch/>
          </p:blipFill>
          <p:spPr>
            <a:xfrm>
              <a:off x="2916360" y="764280"/>
              <a:ext cx="3600360" cy="45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 rot="16200000">
              <a:off x="4364280" y="12600"/>
              <a:ext cx="604800" cy="1100160"/>
            </a:xfrm>
            <a:prstGeom prst="flowChartDelay">
              <a:avLst/>
            </a:prstGeom>
            <a:solidFill>
              <a:srgbClr val="00cc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155200">
              <a:off x="4313160" y="-84240"/>
              <a:ext cx="655200" cy="205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66480" y="1520280"/>
              <a:ext cx="550080" cy="554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efefe">
                    <a:alpha val="40000"/>
                  </a:srgbClr>
                </a:gs>
              </a:gsLst>
              <a:lin ang="5400000"/>
            </a:gra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66480" y="1520280"/>
              <a:ext cx="550080" cy="554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efefe">
                    <a:alpha val="40000"/>
                  </a:srgbClr>
                </a:gs>
              </a:gsLst>
              <a:lin ang="5400000"/>
            </a:gra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16560" y="1772280"/>
              <a:ext cx="3499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66280" y="2692080"/>
              <a:ext cx="174960" cy="17640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66360" y="2831040"/>
              <a:ext cx="174960" cy="17640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79160" y="2957040"/>
              <a:ext cx="174960" cy="17640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16680" y="2856240"/>
              <a:ext cx="174960" cy="17640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41600" y="2729880"/>
              <a:ext cx="174960" cy="17640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66440" y="2957040"/>
              <a:ext cx="162360" cy="17640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elefante muy elegant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616572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uatro vacas y cinco urraca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flipH="1" rot="791400">
            <a:off x="6372360" y="4437000"/>
            <a:ext cx="1584360" cy="1027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73600">
            <a:off x="2987640" y="4581360"/>
            <a:ext cx="1943280" cy="126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flipH="1" rot="20537400">
            <a:off x="1692000" y="2781360"/>
            <a:ext cx="1584360" cy="102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 rot="273600">
            <a:off x="4716360" y="836640"/>
            <a:ext cx="1943280" cy="126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148360" y="2781360"/>
            <a:ext cx="949320" cy="1224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 flipH="1" rot="21312600">
            <a:off x="7619400" y="1893600"/>
            <a:ext cx="106020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 flipH="1" rot="21311400">
            <a:off x="826920" y="691920"/>
            <a:ext cx="1060560" cy="136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755640" y="4221000"/>
            <a:ext cx="949320" cy="1224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3059280" y="1125360"/>
            <a:ext cx="9493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721160" y="615600"/>
            <a:ext cx="5968800" cy="5052600"/>
            <a:chOff x="1721160" y="615600"/>
            <a:chExt cx="5968800" cy="50526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 rot="20734800">
              <a:off x="2124000" y="1197000"/>
              <a:ext cx="5162760" cy="38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 rot="20734800">
              <a:off x="3492000" y="1752840"/>
              <a:ext cx="2710440" cy="294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0" y="616572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goma con una palom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9300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s ovejas con tres oreja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681080" y="1013040"/>
            <a:ext cx="3615120" cy="2716200"/>
            <a:chOff x="4681080" y="1013040"/>
            <a:chExt cx="3615120" cy="2716200"/>
          </a:xfrm>
        </p:grpSpPr>
        <p:sp>
          <p:nvSpPr>
            <p:cNvPr id="91" name=""/>
            <p:cNvSpPr/>
            <p:nvPr/>
          </p:nvSpPr>
          <p:spPr>
            <a:xfrm rot="96600">
              <a:off x="7110000" y="273168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96600">
              <a:off x="5942880" y="256212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217400">
              <a:off x="6657480" y="274608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217400">
              <a:off x="5511240" y="247032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645000">
              <a:off x="5359320" y="1232640"/>
              <a:ext cx="2454120" cy="1699920"/>
            </a:xfrm>
            <a:custGeom>
              <a:avLst/>
              <a:gdLst/>
              <a:ahLst/>
              <a:rect l="l" t="t" r="r" b="b"/>
              <a:pathLst>
                <a:path w="3598984" h="2498546">
                  <a:moveTo>
                    <a:pt x="1294228" y="337624"/>
                  </a:moveTo>
                  <a:cubicBezTo>
                    <a:pt x="1303606" y="309489"/>
                    <a:pt x="1312985" y="281353"/>
                    <a:pt x="1322363" y="253218"/>
                  </a:cubicBezTo>
                  <a:cubicBezTo>
                    <a:pt x="1327052" y="239150"/>
                    <a:pt x="1331742" y="225083"/>
                    <a:pt x="1336431" y="211015"/>
                  </a:cubicBezTo>
                  <a:cubicBezTo>
                    <a:pt x="1341120" y="196947"/>
                    <a:pt x="1342274" y="181150"/>
                    <a:pt x="1350499" y="168812"/>
                  </a:cubicBezTo>
                  <a:cubicBezTo>
                    <a:pt x="1359877" y="154744"/>
                    <a:pt x="1368072" y="139811"/>
                    <a:pt x="1378634" y="126609"/>
                  </a:cubicBezTo>
                  <a:cubicBezTo>
                    <a:pt x="1411373" y="85686"/>
                    <a:pt x="1405107" y="106893"/>
                    <a:pt x="1448973" y="70338"/>
                  </a:cubicBezTo>
                  <a:cubicBezTo>
                    <a:pt x="1464256" y="57602"/>
                    <a:pt x="1474623" y="39171"/>
                    <a:pt x="1491176" y="28135"/>
                  </a:cubicBezTo>
                  <a:cubicBezTo>
                    <a:pt x="1521204" y="8116"/>
                    <a:pt x="1641144" y="597"/>
                    <a:pt x="1645920" y="0"/>
                  </a:cubicBezTo>
                  <a:cubicBezTo>
                    <a:pt x="1744394" y="4689"/>
                    <a:pt x="1843097" y="5880"/>
                    <a:pt x="1941342" y="14067"/>
                  </a:cubicBezTo>
                  <a:cubicBezTo>
                    <a:pt x="1983650" y="17593"/>
                    <a:pt x="2017889" y="51514"/>
                    <a:pt x="2039816" y="84406"/>
                  </a:cubicBezTo>
                  <a:cubicBezTo>
                    <a:pt x="2049194" y="98474"/>
                    <a:pt x="2057127" y="113621"/>
                    <a:pt x="2067951" y="126609"/>
                  </a:cubicBezTo>
                  <a:cubicBezTo>
                    <a:pt x="2158221" y="234933"/>
                    <a:pt x="2068429" y="106226"/>
                    <a:pt x="2138290" y="211015"/>
                  </a:cubicBezTo>
                  <a:cubicBezTo>
                    <a:pt x="2143852" y="227702"/>
                    <a:pt x="2153230" y="276810"/>
                    <a:pt x="2180493" y="281354"/>
                  </a:cubicBezTo>
                  <a:cubicBezTo>
                    <a:pt x="2199564" y="284533"/>
                    <a:pt x="2218006" y="271975"/>
                    <a:pt x="2236763" y="267286"/>
                  </a:cubicBezTo>
                  <a:cubicBezTo>
                    <a:pt x="2264899" y="239150"/>
                    <a:pt x="2293034" y="211015"/>
                    <a:pt x="2321170" y="182880"/>
                  </a:cubicBezTo>
                  <a:cubicBezTo>
                    <a:pt x="2331656" y="172395"/>
                    <a:pt x="2350110" y="175444"/>
                    <a:pt x="2363373" y="168812"/>
                  </a:cubicBezTo>
                  <a:cubicBezTo>
                    <a:pt x="2378495" y="161251"/>
                    <a:pt x="2390126" y="147544"/>
                    <a:pt x="2405576" y="140677"/>
                  </a:cubicBezTo>
                  <a:cubicBezTo>
                    <a:pt x="2432677" y="128632"/>
                    <a:pt x="2489982" y="112541"/>
                    <a:pt x="2489982" y="112541"/>
                  </a:cubicBezTo>
                  <a:cubicBezTo>
                    <a:pt x="2588456" y="117230"/>
                    <a:pt x="2687158" y="118422"/>
                    <a:pt x="2785403" y="126609"/>
                  </a:cubicBezTo>
                  <a:cubicBezTo>
                    <a:pt x="2800180" y="127840"/>
                    <a:pt x="2815743" y="131780"/>
                    <a:pt x="2827606" y="140677"/>
                  </a:cubicBezTo>
                  <a:cubicBezTo>
                    <a:pt x="2827622" y="140689"/>
                    <a:pt x="2906380" y="219450"/>
                    <a:pt x="2926080" y="239151"/>
                  </a:cubicBezTo>
                  <a:cubicBezTo>
                    <a:pt x="2949990" y="263062"/>
                    <a:pt x="2982351" y="323557"/>
                    <a:pt x="2982351" y="323557"/>
                  </a:cubicBezTo>
                  <a:cubicBezTo>
                    <a:pt x="3019564" y="472405"/>
                    <a:pt x="2969040" y="297125"/>
                    <a:pt x="3024554" y="422031"/>
                  </a:cubicBezTo>
                  <a:cubicBezTo>
                    <a:pt x="3059049" y="499645"/>
                    <a:pt x="3047843" y="501119"/>
                    <a:pt x="3066757" y="576775"/>
                  </a:cubicBezTo>
                  <a:cubicBezTo>
                    <a:pt x="3070353" y="591161"/>
                    <a:pt x="3076136" y="604910"/>
                    <a:pt x="3080825" y="618978"/>
                  </a:cubicBezTo>
                  <a:cubicBezTo>
                    <a:pt x="3114125" y="607878"/>
                    <a:pt x="3159418" y="590843"/>
                    <a:pt x="3193366" y="590843"/>
                  </a:cubicBezTo>
                  <a:cubicBezTo>
                    <a:pt x="3254506" y="590843"/>
                    <a:pt x="3315286" y="600222"/>
                    <a:pt x="3376246" y="604911"/>
                  </a:cubicBezTo>
                  <a:cubicBezTo>
                    <a:pt x="3390314" y="614289"/>
                    <a:pt x="3407316" y="620322"/>
                    <a:pt x="3418450" y="633046"/>
                  </a:cubicBezTo>
                  <a:cubicBezTo>
                    <a:pt x="3440717" y="658494"/>
                    <a:pt x="3450809" y="693542"/>
                    <a:pt x="3474720" y="717452"/>
                  </a:cubicBezTo>
                  <a:cubicBezTo>
                    <a:pt x="3484099" y="726830"/>
                    <a:pt x="3493477" y="736209"/>
                    <a:pt x="3502856" y="745587"/>
                  </a:cubicBezTo>
                  <a:cubicBezTo>
                    <a:pt x="3512234" y="773723"/>
                    <a:pt x="3521613" y="801858"/>
                    <a:pt x="3530991" y="829994"/>
                  </a:cubicBezTo>
                  <a:cubicBezTo>
                    <a:pt x="3535680" y="844062"/>
                    <a:pt x="3536834" y="859859"/>
                    <a:pt x="3545059" y="872197"/>
                  </a:cubicBezTo>
                  <a:cubicBezTo>
                    <a:pt x="3554437" y="886265"/>
                    <a:pt x="3563816" y="900332"/>
                    <a:pt x="3573194" y="914400"/>
                  </a:cubicBezTo>
                  <a:cubicBezTo>
                    <a:pt x="3594876" y="1044491"/>
                    <a:pt x="3598984" y="1029292"/>
                    <a:pt x="3573194" y="1209821"/>
                  </a:cubicBezTo>
                  <a:cubicBezTo>
                    <a:pt x="3569000" y="1239180"/>
                    <a:pt x="3554437" y="1266092"/>
                    <a:pt x="3545059" y="1294227"/>
                  </a:cubicBezTo>
                  <a:cubicBezTo>
                    <a:pt x="3533303" y="1329497"/>
                    <a:pt x="3466342" y="1370151"/>
                    <a:pt x="3432517" y="1392701"/>
                  </a:cubicBezTo>
                  <a:cubicBezTo>
                    <a:pt x="3458453" y="1496444"/>
                    <a:pt x="3430583" y="1402255"/>
                    <a:pt x="3474720" y="1505243"/>
                  </a:cubicBezTo>
                  <a:cubicBezTo>
                    <a:pt x="3486830" y="1533499"/>
                    <a:pt x="3495716" y="1575159"/>
                    <a:pt x="3502856" y="1603717"/>
                  </a:cubicBezTo>
                  <a:cubicBezTo>
                    <a:pt x="3498167" y="1697502"/>
                    <a:pt x="3499551" y="1791788"/>
                    <a:pt x="3488788" y="1885071"/>
                  </a:cubicBezTo>
                  <a:cubicBezTo>
                    <a:pt x="3485389" y="1914533"/>
                    <a:pt x="3481624" y="1948506"/>
                    <a:pt x="3460653" y="1969477"/>
                  </a:cubicBezTo>
                  <a:cubicBezTo>
                    <a:pt x="3446585" y="1983545"/>
                    <a:pt x="3430664" y="1995976"/>
                    <a:pt x="3418450" y="2011680"/>
                  </a:cubicBezTo>
                  <a:cubicBezTo>
                    <a:pt x="3412337" y="2019539"/>
                    <a:pt x="3363530" y="2106529"/>
                    <a:pt x="3334043" y="2124221"/>
                  </a:cubicBezTo>
                  <a:cubicBezTo>
                    <a:pt x="3321327" y="2131850"/>
                    <a:pt x="3305908" y="2133600"/>
                    <a:pt x="3291840" y="2138289"/>
                  </a:cubicBezTo>
                  <a:cubicBezTo>
                    <a:pt x="3277772" y="2152357"/>
                    <a:pt x="3269395" y="2178168"/>
                    <a:pt x="3249637" y="2180492"/>
                  </a:cubicBezTo>
                  <a:cubicBezTo>
                    <a:pt x="3184272" y="2188182"/>
                    <a:pt x="3116541" y="2182387"/>
                    <a:pt x="3052690" y="2166424"/>
                  </a:cubicBezTo>
                  <a:cubicBezTo>
                    <a:pt x="2981292" y="2148575"/>
                    <a:pt x="2982762" y="2116109"/>
                    <a:pt x="2940148" y="2082018"/>
                  </a:cubicBezTo>
                  <a:cubicBezTo>
                    <a:pt x="2926946" y="2071456"/>
                    <a:pt x="2912013" y="2063261"/>
                    <a:pt x="2897945" y="2053883"/>
                  </a:cubicBezTo>
                  <a:cubicBezTo>
                    <a:pt x="2879188" y="2067951"/>
                    <a:pt x="2856933" y="2078284"/>
                    <a:pt x="2841674" y="2096086"/>
                  </a:cubicBezTo>
                  <a:cubicBezTo>
                    <a:pt x="2828026" y="2112008"/>
                    <a:pt x="2825172" y="2134908"/>
                    <a:pt x="2813539" y="2152357"/>
                  </a:cubicBezTo>
                  <a:cubicBezTo>
                    <a:pt x="2806182" y="2163393"/>
                    <a:pt x="2793689" y="2170135"/>
                    <a:pt x="2785403" y="2180492"/>
                  </a:cubicBezTo>
                  <a:cubicBezTo>
                    <a:pt x="2714408" y="2269235"/>
                    <a:pt x="2797074" y="2182887"/>
                    <a:pt x="2729133" y="2250831"/>
                  </a:cubicBezTo>
                  <a:cubicBezTo>
                    <a:pt x="2724444" y="2264899"/>
                    <a:pt x="2723962" y="2281171"/>
                    <a:pt x="2715065" y="2293034"/>
                  </a:cubicBezTo>
                  <a:cubicBezTo>
                    <a:pt x="2638514" y="2395101"/>
                    <a:pt x="2668934" y="2337855"/>
                    <a:pt x="2588456" y="2391507"/>
                  </a:cubicBezTo>
                  <a:cubicBezTo>
                    <a:pt x="2577420" y="2398864"/>
                    <a:pt x="2571693" y="2412819"/>
                    <a:pt x="2560320" y="2419643"/>
                  </a:cubicBezTo>
                  <a:cubicBezTo>
                    <a:pt x="2547605" y="2427272"/>
                    <a:pt x="2532375" y="2429637"/>
                    <a:pt x="2518117" y="2433711"/>
                  </a:cubicBezTo>
                  <a:cubicBezTo>
                    <a:pt x="2471773" y="2446952"/>
                    <a:pt x="2439841" y="2452179"/>
                    <a:pt x="2391508" y="2461846"/>
                  </a:cubicBezTo>
                  <a:cubicBezTo>
                    <a:pt x="2349305" y="2457157"/>
                    <a:pt x="2306537" y="2456106"/>
                    <a:pt x="2264899" y="2447778"/>
                  </a:cubicBezTo>
                  <a:cubicBezTo>
                    <a:pt x="2235818" y="2441962"/>
                    <a:pt x="2180493" y="2419643"/>
                    <a:pt x="2180493" y="2419643"/>
                  </a:cubicBezTo>
                  <a:cubicBezTo>
                    <a:pt x="2171114" y="2410264"/>
                    <a:pt x="2163730" y="2398331"/>
                    <a:pt x="2152357" y="2391507"/>
                  </a:cubicBezTo>
                  <a:cubicBezTo>
                    <a:pt x="2061717" y="2337123"/>
                    <a:pt x="2159431" y="2425538"/>
                    <a:pt x="2067951" y="2349304"/>
                  </a:cubicBezTo>
                  <a:cubicBezTo>
                    <a:pt x="1959642" y="2259046"/>
                    <a:pt x="2088320" y="2348815"/>
                    <a:pt x="1983545" y="2278966"/>
                  </a:cubicBezTo>
                  <a:cubicBezTo>
                    <a:pt x="1974167" y="2264898"/>
                    <a:pt x="1965972" y="2249965"/>
                    <a:pt x="1955410" y="2236763"/>
                  </a:cubicBezTo>
                  <a:cubicBezTo>
                    <a:pt x="1947124" y="2226406"/>
                    <a:pt x="1939857" y="2204433"/>
                    <a:pt x="1927274" y="2208627"/>
                  </a:cubicBezTo>
                  <a:cubicBezTo>
                    <a:pt x="1913206" y="2213316"/>
                    <a:pt x="1919838" y="2237568"/>
                    <a:pt x="1913206" y="2250831"/>
                  </a:cubicBezTo>
                  <a:cubicBezTo>
                    <a:pt x="1905645" y="2265953"/>
                    <a:pt x="1898059" y="2282210"/>
                    <a:pt x="1885071" y="2293034"/>
                  </a:cubicBezTo>
                  <a:cubicBezTo>
                    <a:pt x="1868961" y="2306459"/>
                    <a:pt x="1847008" y="2310765"/>
                    <a:pt x="1828800" y="2321169"/>
                  </a:cubicBezTo>
                  <a:cubicBezTo>
                    <a:pt x="1814120" y="2329557"/>
                    <a:pt x="1801277" y="2340916"/>
                    <a:pt x="1786597" y="2349304"/>
                  </a:cubicBezTo>
                  <a:cubicBezTo>
                    <a:pt x="1768389" y="2359709"/>
                    <a:pt x="1747391" y="2365251"/>
                    <a:pt x="1730326" y="2377440"/>
                  </a:cubicBezTo>
                  <a:cubicBezTo>
                    <a:pt x="1714137" y="2389004"/>
                    <a:pt x="1704312" y="2408079"/>
                    <a:pt x="1688123" y="2419643"/>
                  </a:cubicBezTo>
                  <a:cubicBezTo>
                    <a:pt x="1671059" y="2431832"/>
                    <a:pt x="1651324" y="2439990"/>
                    <a:pt x="1631853" y="2447778"/>
                  </a:cubicBezTo>
                  <a:cubicBezTo>
                    <a:pt x="1560456" y="2476337"/>
                    <a:pt x="1547751" y="2475853"/>
                    <a:pt x="1477108" y="2489981"/>
                  </a:cubicBezTo>
                  <a:cubicBezTo>
                    <a:pt x="1463118" y="2489158"/>
                    <a:pt x="1269154" y="2498546"/>
                    <a:pt x="1195754" y="2461846"/>
                  </a:cubicBezTo>
                  <a:cubicBezTo>
                    <a:pt x="1180632" y="2454285"/>
                    <a:pt x="1167619" y="2443089"/>
                    <a:pt x="1153551" y="2433711"/>
                  </a:cubicBezTo>
                  <a:cubicBezTo>
                    <a:pt x="1118191" y="2327632"/>
                    <a:pt x="1165888" y="2458384"/>
                    <a:pt x="1111348" y="2349304"/>
                  </a:cubicBezTo>
                  <a:cubicBezTo>
                    <a:pt x="1104716" y="2336041"/>
                    <a:pt x="1103912" y="2320364"/>
                    <a:pt x="1097280" y="2307101"/>
                  </a:cubicBezTo>
                  <a:cubicBezTo>
                    <a:pt x="1042739" y="2198019"/>
                    <a:pt x="1090437" y="2328774"/>
                    <a:pt x="1055077" y="2222695"/>
                  </a:cubicBezTo>
                  <a:cubicBezTo>
                    <a:pt x="1000122" y="2277652"/>
                    <a:pt x="1057787" y="2228374"/>
                    <a:pt x="984739" y="2264898"/>
                  </a:cubicBezTo>
                  <a:cubicBezTo>
                    <a:pt x="969617" y="2272459"/>
                    <a:pt x="958076" y="2286374"/>
                    <a:pt x="942536" y="2293034"/>
                  </a:cubicBezTo>
                  <a:cubicBezTo>
                    <a:pt x="924765" y="2300650"/>
                    <a:pt x="904855" y="2301790"/>
                    <a:pt x="886265" y="2307101"/>
                  </a:cubicBezTo>
                  <a:cubicBezTo>
                    <a:pt x="872007" y="2311175"/>
                    <a:pt x="858130" y="2316480"/>
                    <a:pt x="844062" y="2321169"/>
                  </a:cubicBezTo>
                  <a:cubicBezTo>
                    <a:pt x="827144" y="2319631"/>
                    <a:pt x="694766" y="2319507"/>
                    <a:pt x="647114" y="2293034"/>
                  </a:cubicBezTo>
                  <a:cubicBezTo>
                    <a:pt x="617555" y="2276612"/>
                    <a:pt x="590843" y="2255520"/>
                    <a:pt x="562708" y="2236763"/>
                  </a:cubicBezTo>
                  <a:cubicBezTo>
                    <a:pt x="540637" y="2222049"/>
                    <a:pt x="521151" y="2202563"/>
                    <a:pt x="506437" y="2180492"/>
                  </a:cubicBezTo>
                  <a:cubicBezTo>
                    <a:pt x="497059" y="2166424"/>
                    <a:pt x="491504" y="2148851"/>
                    <a:pt x="478302" y="2138289"/>
                  </a:cubicBezTo>
                  <a:cubicBezTo>
                    <a:pt x="466723" y="2129026"/>
                    <a:pt x="450167" y="2128910"/>
                    <a:pt x="436099" y="2124221"/>
                  </a:cubicBezTo>
                  <a:cubicBezTo>
                    <a:pt x="431410" y="2110153"/>
                    <a:pt x="428663" y="2095281"/>
                    <a:pt x="422031" y="2082018"/>
                  </a:cubicBezTo>
                  <a:cubicBezTo>
                    <a:pt x="414470" y="2066896"/>
                    <a:pt x="400763" y="2055265"/>
                    <a:pt x="393896" y="2039815"/>
                  </a:cubicBezTo>
                  <a:cubicBezTo>
                    <a:pt x="381851" y="2012714"/>
                    <a:pt x="375138" y="1983544"/>
                    <a:pt x="365760" y="1955409"/>
                  </a:cubicBezTo>
                  <a:cubicBezTo>
                    <a:pt x="361071" y="1941341"/>
                    <a:pt x="351693" y="1913206"/>
                    <a:pt x="351693" y="1913206"/>
                  </a:cubicBezTo>
                  <a:cubicBezTo>
                    <a:pt x="347004" y="1880381"/>
                    <a:pt x="342007" y="1847599"/>
                    <a:pt x="337625" y="1814732"/>
                  </a:cubicBezTo>
                  <a:cubicBezTo>
                    <a:pt x="332628" y="1777258"/>
                    <a:pt x="341917" y="1735239"/>
                    <a:pt x="323557" y="1702191"/>
                  </a:cubicBezTo>
                  <a:cubicBezTo>
                    <a:pt x="314167" y="1685290"/>
                    <a:pt x="286043" y="1692812"/>
                    <a:pt x="267286" y="1688123"/>
                  </a:cubicBezTo>
                  <a:cubicBezTo>
                    <a:pt x="253218" y="1678744"/>
                    <a:pt x="240205" y="1667548"/>
                    <a:pt x="225083" y="1659987"/>
                  </a:cubicBezTo>
                  <a:cubicBezTo>
                    <a:pt x="211820" y="1653355"/>
                    <a:pt x="194743" y="1654817"/>
                    <a:pt x="182880" y="1645920"/>
                  </a:cubicBezTo>
                  <a:cubicBezTo>
                    <a:pt x="102027" y="1585280"/>
                    <a:pt x="124643" y="1589725"/>
                    <a:pt x="84406" y="1519311"/>
                  </a:cubicBezTo>
                  <a:cubicBezTo>
                    <a:pt x="51005" y="1460859"/>
                    <a:pt x="59023" y="1496576"/>
                    <a:pt x="42203" y="1434904"/>
                  </a:cubicBezTo>
                  <a:cubicBezTo>
                    <a:pt x="32029" y="1397598"/>
                    <a:pt x="23446" y="1359877"/>
                    <a:pt x="14068" y="1322363"/>
                  </a:cubicBezTo>
                  <a:cubicBezTo>
                    <a:pt x="9379" y="1303606"/>
                    <a:pt x="0" y="1266092"/>
                    <a:pt x="0" y="1266092"/>
                  </a:cubicBezTo>
                  <a:cubicBezTo>
                    <a:pt x="4689" y="1172307"/>
                    <a:pt x="6270" y="1078315"/>
                    <a:pt x="14068" y="984738"/>
                  </a:cubicBezTo>
                  <a:cubicBezTo>
                    <a:pt x="15674" y="965470"/>
                    <a:pt x="20520" y="946238"/>
                    <a:pt x="28136" y="928467"/>
                  </a:cubicBezTo>
                  <a:cubicBezTo>
                    <a:pt x="34796" y="912927"/>
                    <a:pt x="47883" y="900944"/>
                    <a:pt x="56271" y="886264"/>
                  </a:cubicBezTo>
                  <a:cubicBezTo>
                    <a:pt x="66675" y="868056"/>
                    <a:pt x="69577" y="844822"/>
                    <a:pt x="84406" y="829994"/>
                  </a:cubicBezTo>
                  <a:cubicBezTo>
                    <a:pt x="108317" y="806083"/>
                    <a:pt x="140677" y="792480"/>
                    <a:pt x="168813" y="773723"/>
                  </a:cubicBezTo>
                  <a:cubicBezTo>
                    <a:pt x="179849" y="766366"/>
                    <a:pt x="187570" y="754966"/>
                    <a:pt x="196948" y="745587"/>
                  </a:cubicBezTo>
                  <a:cubicBezTo>
                    <a:pt x="201637" y="618978"/>
                    <a:pt x="202588" y="492175"/>
                    <a:pt x="211016" y="365760"/>
                  </a:cubicBezTo>
                  <a:cubicBezTo>
                    <a:pt x="212002" y="350964"/>
                    <a:pt x="221009" y="337815"/>
                    <a:pt x="225083" y="323557"/>
                  </a:cubicBezTo>
                  <a:cubicBezTo>
                    <a:pt x="230394" y="304967"/>
                    <a:pt x="230504" y="284579"/>
                    <a:pt x="239151" y="267286"/>
                  </a:cubicBezTo>
                  <a:cubicBezTo>
                    <a:pt x="247956" y="249677"/>
                    <a:pt x="320290" y="137077"/>
                    <a:pt x="351693" y="126609"/>
                  </a:cubicBezTo>
                  <a:cubicBezTo>
                    <a:pt x="379828" y="117231"/>
                    <a:pt x="436099" y="98474"/>
                    <a:pt x="436099" y="98474"/>
                  </a:cubicBezTo>
                  <a:cubicBezTo>
                    <a:pt x="539262" y="103163"/>
                    <a:pt x="642906" y="101539"/>
                    <a:pt x="745588" y="112541"/>
                  </a:cubicBezTo>
                  <a:cubicBezTo>
                    <a:pt x="775077" y="115700"/>
                    <a:pt x="801859" y="131299"/>
                    <a:pt x="829994" y="140677"/>
                  </a:cubicBezTo>
                  <a:cubicBezTo>
                    <a:pt x="844062" y="145366"/>
                    <a:pt x="872197" y="154744"/>
                    <a:pt x="872197" y="154744"/>
                  </a:cubicBezTo>
                  <a:cubicBezTo>
                    <a:pt x="881576" y="145366"/>
                    <a:pt x="888960" y="133433"/>
                    <a:pt x="900333" y="126609"/>
                  </a:cubicBezTo>
                  <a:cubicBezTo>
                    <a:pt x="961065" y="90170"/>
                    <a:pt x="1090503" y="123923"/>
                    <a:pt x="1125416" y="126609"/>
                  </a:cubicBezTo>
                  <a:cubicBezTo>
                    <a:pt x="1159740" y="138050"/>
                    <a:pt x="1182552" y="141542"/>
                    <a:pt x="1209822" y="168812"/>
                  </a:cubicBezTo>
                  <a:cubicBezTo>
                    <a:pt x="1221777" y="180767"/>
                    <a:pt x="1227395" y="197813"/>
                    <a:pt x="1237957" y="211015"/>
                  </a:cubicBezTo>
                  <a:cubicBezTo>
                    <a:pt x="1260866" y="239652"/>
                    <a:pt x="1276959" y="246395"/>
                    <a:pt x="1308296" y="267286"/>
                  </a:cubicBezTo>
                  <a:cubicBezTo>
                    <a:pt x="1326557" y="322071"/>
                    <a:pt x="1332848" y="299004"/>
                    <a:pt x="1294228" y="33762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1080" y="1013040"/>
              <a:ext cx="1669320" cy="1323000"/>
              <a:chOff x="4681080" y="1013040"/>
              <a:chExt cx="1669320" cy="1323000"/>
            </a:xfrm>
          </p:grpSpPr>
          <p:sp>
            <p:nvSpPr>
              <p:cNvPr id="97" name=""/>
              <p:cNvSpPr/>
              <p:nvPr/>
            </p:nvSpPr>
            <p:spPr>
              <a:xfrm rot="20460000">
                <a:off x="4773600" y="1365840"/>
                <a:ext cx="1276200" cy="78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8127200">
                <a:off x="5524560" y="1183680"/>
                <a:ext cx="538920" cy="24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9497000">
                <a:off x="5761800" y="1344240"/>
                <a:ext cx="540000" cy="24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1070200">
                <a:off x="5794560" y="1640880"/>
                <a:ext cx="540000" cy="24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rot="645000">
              <a:off x="7758360" y="1877400"/>
              <a:ext cx="488880" cy="568080"/>
            </a:xfrm>
            <a:custGeom>
              <a:avLst/>
              <a:gdLst/>
              <a:ahLst/>
              <a:rect l="l" t="t" r="r" b="b"/>
              <a:pathLst>
                <a:path w="717452" h="835036">
                  <a:moveTo>
                    <a:pt x="0" y="286396"/>
                  </a:moveTo>
                  <a:cubicBezTo>
                    <a:pt x="14068" y="281707"/>
                    <a:pt x="30624" y="281592"/>
                    <a:pt x="42203" y="272329"/>
                  </a:cubicBezTo>
                  <a:cubicBezTo>
                    <a:pt x="55405" y="261767"/>
                    <a:pt x="59776" y="243328"/>
                    <a:pt x="70338" y="230126"/>
                  </a:cubicBezTo>
                  <a:cubicBezTo>
                    <a:pt x="78624" y="219769"/>
                    <a:pt x="89095" y="211369"/>
                    <a:pt x="98474" y="201990"/>
                  </a:cubicBezTo>
                  <a:cubicBezTo>
                    <a:pt x="158833" y="81270"/>
                    <a:pt x="89276" y="197120"/>
                    <a:pt x="168812" y="117584"/>
                  </a:cubicBezTo>
                  <a:cubicBezTo>
                    <a:pt x="180767" y="105629"/>
                    <a:pt x="186385" y="88583"/>
                    <a:pt x="196947" y="75381"/>
                  </a:cubicBezTo>
                  <a:cubicBezTo>
                    <a:pt x="219854" y="46747"/>
                    <a:pt x="235953" y="39999"/>
                    <a:pt x="267286" y="19110"/>
                  </a:cubicBezTo>
                  <a:cubicBezTo>
                    <a:pt x="362018" y="29636"/>
                    <a:pt x="389724" y="0"/>
                    <a:pt x="422030" y="75381"/>
                  </a:cubicBezTo>
                  <a:cubicBezTo>
                    <a:pt x="429646" y="93152"/>
                    <a:pt x="431409" y="112895"/>
                    <a:pt x="436098" y="131652"/>
                  </a:cubicBezTo>
                  <a:cubicBezTo>
                    <a:pt x="454855" y="126963"/>
                    <a:pt x="473035" y="117584"/>
                    <a:pt x="492369" y="117584"/>
                  </a:cubicBezTo>
                  <a:cubicBezTo>
                    <a:pt x="516279" y="117584"/>
                    <a:pt x="540730" y="122233"/>
                    <a:pt x="562707" y="131652"/>
                  </a:cubicBezTo>
                  <a:cubicBezTo>
                    <a:pt x="574898" y="136877"/>
                    <a:pt x="582557" y="149430"/>
                    <a:pt x="590843" y="159787"/>
                  </a:cubicBezTo>
                  <a:cubicBezTo>
                    <a:pt x="614189" y="188970"/>
                    <a:pt x="625045" y="208192"/>
                    <a:pt x="633046" y="244193"/>
                  </a:cubicBezTo>
                  <a:cubicBezTo>
                    <a:pt x="639234" y="272037"/>
                    <a:pt x="637099" y="301892"/>
                    <a:pt x="647114" y="328599"/>
                  </a:cubicBezTo>
                  <a:cubicBezTo>
                    <a:pt x="651771" y="341018"/>
                    <a:pt x="666964" y="346378"/>
                    <a:pt x="675249" y="356735"/>
                  </a:cubicBezTo>
                  <a:cubicBezTo>
                    <a:pt x="706415" y="395693"/>
                    <a:pt x="702593" y="396566"/>
                    <a:pt x="717452" y="441141"/>
                  </a:cubicBezTo>
                  <a:cubicBezTo>
                    <a:pt x="712763" y="469276"/>
                    <a:pt x="716140" y="500035"/>
                    <a:pt x="703384" y="525547"/>
                  </a:cubicBezTo>
                  <a:cubicBezTo>
                    <a:pt x="673661" y="584992"/>
                    <a:pt x="533921" y="540957"/>
                    <a:pt x="520504" y="539615"/>
                  </a:cubicBezTo>
                  <a:cubicBezTo>
                    <a:pt x="525193" y="553683"/>
                    <a:pt x="534572" y="566989"/>
                    <a:pt x="534572" y="581818"/>
                  </a:cubicBezTo>
                  <a:cubicBezTo>
                    <a:pt x="534572" y="626266"/>
                    <a:pt x="524560" y="697933"/>
                    <a:pt x="492369" y="736562"/>
                  </a:cubicBezTo>
                  <a:cubicBezTo>
                    <a:pt x="471391" y="761736"/>
                    <a:pt x="436769" y="769164"/>
                    <a:pt x="407963" y="778766"/>
                  </a:cubicBezTo>
                  <a:cubicBezTo>
                    <a:pt x="370449" y="774077"/>
                    <a:pt x="326393" y="786378"/>
                    <a:pt x="295421" y="764698"/>
                  </a:cubicBezTo>
                  <a:cubicBezTo>
                    <a:pt x="271125" y="747691"/>
                    <a:pt x="267286" y="680292"/>
                    <a:pt x="267286" y="680292"/>
                  </a:cubicBezTo>
                  <a:cubicBezTo>
                    <a:pt x="253357" y="722078"/>
                    <a:pt x="244454" y="773462"/>
                    <a:pt x="211015" y="806901"/>
                  </a:cubicBezTo>
                  <a:cubicBezTo>
                    <a:pt x="199060" y="818856"/>
                    <a:pt x="182880" y="825658"/>
                    <a:pt x="168812" y="835036"/>
                  </a:cubicBezTo>
                  <a:cubicBezTo>
                    <a:pt x="150055" y="830347"/>
                    <a:pt x="127639" y="833047"/>
                    <a:pt x="112541" y="820969"/>
                  </a:cubicBezTo>
                  <a:cubicBezTo>
                    <a:pt x="100962" y="811706"/>
                    <a:pt x="107371" y="790629"/>
                    <a:pt x="98474" y="778766"/>
                  </a:cubicBezTo>
                  <a:cubicBezTo>
                    <a:pt x="92183" y="770377"/>
                    <a:pt x="79717" y="769387"/>
                    <a:pt x="70338" y="76469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17280" y="2381400"/>
            <a:ext cx="3615120" cy="2716200"/>
            <a:chOff x="917280" y="2381400"/>
            <a:chExt cx="3615120" cy="2716200"/>
          </a:xfrm>
        </p:grpSpPr>
        <p:sp>
          <p:nvSpPr>
            <p:cNvPr id="103" name=""/>
            <p:cNvSpPr/>
            <p:nvPr/>
          </p:nvSpPr>
          <p:spPr>
            <a:xfrm flipH="1" rot="21503400">
              <a:off x="1906560" y="409968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21503400">
              <a:off x="3073680" y="393012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20382600">
              <a:off x="2359440" y="411444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20382600">
              <a:off x="3505680" y="383868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20955000">
              <a:off x="1399320" y="2601000"/>
              <a:ext cx="2454120" cy="1699920"/>
            </a:xfrm>
            <a:custGeom>
              <a:avLst/>
              <a:gdLst/>
              <a:ahLst/>
              <a:rect l="l" t="t" r="r" b="b"/>
              <a:pathLst>
                <a:path w="3598984" h="2498546">
                  <a:moveTo>
                    <a:pt x="1294228" y="337624"/>
                  </a:moveTo>
                  <a:cubicBezTo>
                    <a:pt x="1303606" y="309489"/>
                    <a:pt x="1312985" y="281353"/>
                    <a:pt x="1322363" y="253218"/>
                  </a:cubicBezTo>
                  <a:cubicBezTo>
                    <a:pt x="1327052" y="239150"/>
                    <a:pt x="1331742" y="225083"/>
                    <a:pt x="1336431" y="211015"/>
                  </a:cubicBezTo>
                  <a:cubicBezTo>
                    <a:pt x="1341120" y="196947"/>
                    <a:pt x="1342274" y="181150"/>
                    <a:pt x="1350499" y="168812"/>
                  </a:cubicBezTo>
                  <a:cubicBezTo>
                    <a:pt x="1359877" y="154744"/>
                    <a:pt x="1368072" y="139811"/>
                    <a:pt x="1378634" y="126609"/>
                  </a:cubicBezTo>
                  <a:cubicBezTo>
                    <a:pt x="1411373" y="85686"/>
                    <a:pt x="1405107" y="106893"/>
                    <a:pt x="1448973" y="70338"/>
                  </a:cubicBezTo>
                  <a:cubicBezTo>
                    <a:pt x="1464256" y="57602"/>
                    <a:pt x="1474623" y="39171"/>
                    <a:pt x="1491176" y="28135"/>
                  </a:cubicBezTo>
                  <a:cubicBezTo>
                    <a:pt x="1521204" y="8116"/>
                    <a:pt x="1641144" y="597"/>
                    <a:pt x="1645920" y="0"/>
                  </a:cubicBezTo>
                  <a:cubicBezTo>
                    <a:pt x="1744394" y="4689"/>
                    <a:pt x="1843097" y="5880"/>
                    <a:pt x="1941342" y="14067"/>
                  </a:cubicBezTo>
                  <a:cubicBezTo>
                    <a:pt x="1983650" y="17593"/>
                    <a:pt x="2017889" y="51514"/>
                    <a:pt x="2039816" y="84406"/>
                  </a:cubicBezTo>
                  <a:cubicBezTo>
                    <a:pt x="2049194" y="98474"/>
                    <a:pt x="2057127" y="113621"/>
                    <a:pt x="2067951" y="126609"/>
                  </a:cubicBezTo>
                  <a:cubicBezTo>
                    <a:pt x="2158221" y="234933"/>
                    <a:pt x="2068429" y="106226"/>
                    <a:pt x="2138290" y="211015"/>
                  </a:cubicBezTo>
                  <a:cubicBezTo>
                    <a:pt x="2143852" y="227702"/>
                    <a:pt x="2153230" y="276810"/>
                    <a:pt x="2180493" y="281354"/>
                  </a:cubicBezTo>
                  <a:cubicBezTo>
                    <a:pt x="2199564" y="284533"/>
                    <a:pt x="2218006" y="271975"/>
                    <a:pt x="2236763" y="267286"/>
                  </a:cubicBezTo>
                  <a:cubicBezTo>
                    <a:pt x="2264899" y="239150"/>
                    <a:pt x="2293034" y="211015"/>
                    <a:pt x="2321170" y="182880"/>
                  </a:cubicBezTo>
                  <a:cubicBezTo>
                    <a:pt x="2331656" y="172395"/>
                    <a:pt x="2350110" y="175444"/>
                    <a:pt x="2363373" y="168812"/>
                  </a:cubicBezTo>
                  <a:cubicBezTo>
                    <a:pt x="2378495" y="161251"/>
                    <a:pt x="2390126" y="147544"/>
                    <a:pt x="2405576" y="140677"/>
                  </a:cubicBezTo>
                  <a:cubicBezTo>
                    <a:pt x="2432677" y="128632"/>
                    <a:pt x="2489982" y="112541"/>
                    <a:pt x="2489982" y="112541"/>
                  </a:cubicBezTo>
                  <a:cubicBezTo>
                    <a:pt x="2588456" y="117230"/>
                    <a:pt x="2687158" y="118422"/>
                    <a:pt x="2785403" y="126609"/>
                  </a:cubicBezTo>
                  <a:cubicBezTo>
                    <a:pt x="2800180" y="127840"/>
                    <a:pt x="2815743" y="131780"/>
                    <a:pt x="2827606" y="140677"/>
                  </a:cubicBezTo>
                  <a:cubicBezTo>
                    <a:pt x="2827622" y="140689"/>
                    <a:pt x="2906380" y="219450"/>
                    <a:pt x="2926080" y="239151"/>
                  </a:cubicBezTo>
                  <a:cubicBezTo>
                    <a:pt x="2949990" y="263062"/>
                    <a:pt x="2982351" y="323557"/>
                    <a:pt x="2982351" y="323557"/>
                  </a:cubicBezTo>
                  <a:cubicBezTo>
                    <a:pt x="3019564" y="472405"/>
                    <a:pt x="2969040" y="297125"/>
                    <a:pt x="3024554" y="422031"/>
                  </a:cubicBezTo>
                  <a:cubicBezTo>
                    <a:pt x="3059049" y="499645"/>
                    <a:pt x="3047843" y="501119"/>
                    <a:pt x="3066757" y="576775"/>
                  </a:cubicBezTo>
                  <a:cubicBezTo>
                    <a:pt x="3070353" y="591161"/>
                    <a:pt x="3076136" y="604910"/>
                    <a:pt x="3080825" y="618978"/>
                  </a:cubicBezTo>
                  <a:cubicBezTo>
                    <a:pt x="3114125" y="607878"/>
                    <a:pt x="3159418" y="590843"/>
                    <a:pt x="3193366" y="590843"/>
                  </a:cubicBezTo>
                  <a:cubicBezTo>
                    <a:pt x="3254506" y="590843"/>
                    <a:pt x="3315286" y="600222"/>
                    <a:pt x="3376246" y="604911"/>
                  </a:cubicBezTo>
                  <a:cubicBezTo>
                    <a:pt x="3390314" y="614289"/>
                    <a:pt x="3407316" y="620322"/>
                    <a:pt x="3418450" y="633046"/>
                  </a:cubicBezTo>
                  <a:cubicBezTo>
                    <a:pt x="3440717" y="658494"/>
                    <a:pt x="3450809" y="693542"/>
                    <a:pt x="3474720" y="717452"/>
                  </a:cubicBezTo>
                  <a:cubicBezTo>
                    <a:pt x="3484099" y="726830"/>
                    <a:pt x="3493477" y="736209"/>
                    <a:pt x="3502856" y="745587"/>
                  </a:cubicBezTo>
                  <a:cubicBezTo>
                    <a:pt x="3512234" y="773723"/>
                    <a:pt x="3521613" y="801858"/>
                    <a:pt x="3530991" y="829994"/>
                  </a:cubicBezTo>
                  <a:cubicBezTo>
                    <a:pt x="3535680" y="844062"/>
                    <a:pt x="3536834" y="859859"/>
                    <a:pt x="3545059" y="872197"/>
                  </a:cubicBezTo>
                  <a:cubicBezTo>
                    <a:pt x="3554437" y="886265"/>
                    <a:pt x="3563816" y="900332"/>
                    <a:pt x="3573194" y="914400"/>
                  </a:cubicBezTo>
                  <a:cubicBezTo>
                    <a:pt x="3594876" y="1044491"/>
                    <a:pt x="3598984" y="1029292"/>
                    <a:pt x="3573194" y="1209821"/>
                  </a:cubicBezTo>
                  <a:cubicBezTo>
                    <a:pt x="3569000" y="1239180"/>
                    <a:pt x="3554437" y="1266092"/>
                    <a:pt x="3545059" y="1294227"/>
                  </a:cubicBezTo>
                  <a:cubicBezTo>
                    <a:pt x="3533303" y="1329497"/>
                    <a:pt x="3466342" y="1370151"/>
                    <a:pt x="3432517" y="1392701"/>
                  </a:cubicBezTo>
                  <a:cubicBezTo>
                    <a:pt x="3458453" y="1496444"/>
                    <a:pt x="3430583" y="1402255"/>
                    <a:pt x="3474720" y="1505243"/>
                  </a:cubicBezTo>
                  <a:cubicBezTo>
                    <a:pt x="3486830" y="1533499"/>
                    <a:pt x="3495716" y="1575159"/>
                    <a:pt x="3502856" y="1603717"/>
                  </a:cubicBezTo>
                  <a:cubicBezTo>
                    <a:pt x="3498167" y="1697502"/>
                    <a:pt x="3499551" y="1791788"/>
                    <a:pt x="3488788" y="1885071"/>
                  </a:cubicBezTo>
                  <a:cubicBezTo>
                    <a:pt x="3485389" y="1914533"/>
                    <a:pt x="3481624" y="1948506"/>
                    <a:pt x="3460653" y="1969477"/>
                  </a:cubicBezTo>
                  <a:cubicBezTo>
                    <a:pt x="3446585" y="1983545"/>
                    <a:pt x="3430664" y="1995976"/>
                    <a:pt x="3418450" y="2011680"/>
                  </a:cubicBezTo>
                  <a:cubicBezTo>
                    <a:pt x="3412337" y="2019539"/>
                    <a:pt x="3363530" y="2106529"/>
                    <a:pt x="3334043" y="2124221"/>
                  </a:cubicBezTo>
                  <a:cubicBezTo>
                    <a:pt x="3321327" y="2131850"/>
                    <a:pt x="3305908" y="2133600"/>
                    <a:pt x="3291840" y="2138289"/>
                  </a:cubicBezTo>
                  <a:cubicBezTo>
                    <a:pt x="3277772" y="2152357"/>
                    <a:pt x="3269395" y="2178168"/>
                    <a:pt x="3249637" y="2180492"/>
                  </a:cubicBezTo>
                  <a:cubicBezTo>
                    <a:pt x="3184272" y="2188182"/>
                    <a:pt x="3116541" y="2182387"/>
                    <a:pt x="3052690" y="2166424"/>
                  </a:cubicBezTo>
                  <a:cubicBezTo>
                    <a:pt x="2981292" y="2148575"/>
                    <a:pt x="2982762" y="2116109"/>
                    <a:pt x="2940148" y="2082018"/>
                  </a:cubicBezTo>
                  <a:cubicBezTo>
                    <a:pt x="2926946" y="2071456"/>
                    <a:pt x="2912013" y="2063261"/>
                    <a:pt x="2897945" y="2053883"/>
                  </a:cubicBezTo>
                  <a:cubicBezTo>
                    <a:pt x="2879188" y="2067951"/>
                    <a:pt x="2856933" y="2078284"/>
                    <a:pt x="2841674" y="2096086"/>
                  </a:cubicBezTo>
                  <a:cubicBezTo>
                    <a:pt x="2828026" y="2112008"/>
                    <a:pt x="2825172" y="2134908"/>
                    <a:pt x="2813539" y="2152357"/>
                  </a:cubicBezTo>
                  <a:cubicBezTo>
                    <a:pt x="2806182" y="2163393"/>
                    <a:pt x="2793689" y="2170135"/>
                    <a:pt x="2785403" y="2180492"/>
                  </a:cubicBezTo>
                  <a:cubicBezTo>
                    <a:pt x="2714408" y="2269235"/>
                    <a:pt x="2797074" y="2182887"/>
                    <a:pt x="2729133" y="2250831"/>
                  </a:cubicBezTo>
                  <a:cubicBezTo>
                    <a:pt x="2724444" y="2264899"/>
                    <a:pt x="2723962" y="2281171"/>
                    <a:pt x="2715065" y="2293034"/>
                  </a:cubicBezTo>
                  <a:cubicBezTo>
                    <a:pt x="2638514" y="2395101"/>
                    <a:pt x="2668934" y="2337855"/>
                    <a:pt x="2588456" y="2391507"/>
                  </a:cubicBezTo>
                  <a:cubicBezTo>
                    <a:pt x="2577420" y="2398864"/>
                    <a:pt x="2571693" y="2412819"/>
                    <a:pt x="2560320" y="2419643"/>
                  </a:cubicBezTo>
                  <a:cubicBezTo>
                    <a:pt x="2547605" y="2427272"/>
                    <a:pt x="2532375" y="2429637"/>
                    <a:pt x="2518117" y="2433711"/>
                  </a:cubicBezTo>
                  <a:cubicBezTo>
                    <a:pt x="2471773" y="2446952"/>
                    <a:pt x="2439841" y="2452179"/>
                    <a:pt x="2391508" y="2461846"/>
                  </a:cubicBezTo>
                  <a:cubicBezTo>
                    <a:pt x="2349305" y="2457157"/>
                    <a:pt x="2306537" y="2456106"/>
                    <a:pt x="2264899" y="2447778"/>
                  </a:cubicBezTo>
                  <a:cubicBezTo>
                    <a:pt x="2235818" y="2441962"/>
                    <a:pt x="2180493" y="2419643"/>
                    <a:pt x="2180493" y="2419643"/>
                  </a:cubicBezTo>
                  <a:cubicBezTo>
                    <a:pt x="2171114" y="2410264"/>
                    <a:pt x="2163730" y="2398331"/>
                    <a:pt x="2152357" y="2391507"/>
                  </a:cubicBezTo>
                  <a:cubicBezTo>
                    <a:pt x="2061717" y="2337123"/>
                    <a:pt x="2159431" y="2425538"/>
                    <a:pt x="2067951" y="2349304"/>
                  </a:cubicBezTo>
                  <a:cubicBezTo>
                    <a:pt x="1959642" y="2259046"/>
                    <a:pt x="2088320" y="2348815"/>
                    <a:pt x="1983545" y="2278966"/>
                  </a:cubicBezTo>
                  <a:cubicBezTo>
                    <a:pt x="1974167" y="2264898"/>
                    <a:pt x="1965972" y="2249965"/>
                    <a:pt x="1955410" y="2236763"/>
                  </a:cubicBezTo>
                  <a:cubicBezTo>
                    <a:pt x="1947124" y="2226406"/>
                    <a:pt x="1939857" y="2204433"/>
                    <a:pt x="1927274" y="2208627"/>
                  </a:cubicBezTo>
                  <a:cubicBezTo>
                    <a:pt x="1913206" y="2213316"/>
                    <a:pt x="1919838" y="2237568"/>
                    <a:pt x="1913206" y="2250831"/>
                  </a:cubicBezTo>
                  <a:cubicBezTo>
                    <a:pt x="1905645" y="2265953"/>
                    <a:pt x="1898059" y="2282210"/>
                    <a:pt x="1885071" y="2293034"/>
                  </a:cubicBezTo>
                  <a:cubicBezTo>
                    <a:pt x="1868961" y="2306459"/>
                    <a:pt x="1847008" y="2310765"/>
                    <a:pt x="1828800" y="2321169"/>
                  </a:cubicBezTo>
                  <a:cubicBezTo>
                    <a:pt x="1814120" y="2329557"/>
                    <a:pt x="1801277" y="2340916"/>
                    <a:pt x="1786597" y="2349304"/>
                  </a:cubicBezTo>
                  <a:cubicBezTo>
                    <a:pt x="1768389" y="2359709"/>
                    <a:pt x="1747391" y="2365251"/>
                    <a:pt x="1730326" y="2377440"/>
                  </a:cubicBezTo>
                  <a:cubicBezTo>
                    <a:pt x="1714137" y="2389004"/>
                    <a:pt x="1704312" y="2408079"/>
                    <a:pt x="1688123" y="2419643"/>
                  </a:cubicBezTo>
                  <a:cubicBezTo>
                    <a:pt x="1671059" y="2431832"/>
                    <a:pt x="1651324" y="2439990"/>
                    <a:pt x="1631853" y="2447778"/>
                  </a:cubicBezTo>
                  <a:cubicBezTo>
                    <a:pt x="1560456" y="2476337"/>
                    <a:pt x="1547751" y="2475853"/>
                    <a:pt x="1477108" y="2489981"/>
                  </a:cubicBezTo>
                  <a:cubicBezTo>
                    <a:pt x="1463118" y="2489158"/>
                    <a:pt x="1269154" y="2498546"/>
                    <a:pt x="1195754" y="2461846"/>
                  </a:cubicBezTo>
                  <a:cubicBezTo>
                    <a:pt x="1180632" y="2454285"/>
                    <a:pt x="1167619" y="2443089"/>
                    <a:pt x="1153551" y="2433711"/>
                  </a:cubicBezTo>
                  <a:cubicBezTo>
                    <a:pt x="1118191" y="2327632"/>
                    <a:pt x="1165888" y="2458384"/>
                    <a:pt x="1111348" y="2349304"/>
                  </a:cubicBezTo>
                  <a:cubicBezTo>
                    <a:pt x="1104716" y="2336041"/>
                    <a:pt x="1103912" y="2320364"/>
                    <a:pt x="1097280" y="2307101"/>
                  </a:cubicBezTo>
                  <a:cubicBezTo>
                    <a:pt x="1042739" y="2198019"/>
                    <a:pt x="1090437" y="2328774"/>
                    <a:pt x="1055077" y="2222695"/>
                  </a:cubicBezTo>
                  <a:cubicBezTo>
                    <a:pt x="1000122" y="2277652"/>
                    <a:pt x="1057787" y="2228374"/>
                    <a:pt x="984739" y="2264898"/>
                  </a:cubicBezTo>
                  <a:cubicBezTo>
                    <a:pt x="969617" y="2272459"/>
                    <a:pt x="958076" y="2286374"/>
                    <a:pt x="942536" y="2293034"/>
                  </a:cubicBezTo>
                  <a:cubicBezTo>
                    <a:pt x="924765" y="2300650"/>
                    <a:pt x="904855" y="2301790"/>
                    <a:pt x="886265" y="2307101"/>
                  </a:cubicBezTo>
                  <a:cubicBezTo>
                    <a:pt x="872007" y="2311175"/>
                    <a:pt x="858130" y="2316480"/>
                    <a:pt x="844062" y="2321169"/>
                  </a:cubicBezTo>
                  <a:cubicBezTo>
                    <a:pt x="827144" y="2319631"/>
                    <a:pt x="694766" y="2319507"/>
                    <a:pt x="647114" y="2293034"/>
                  </a:cubicBezTo>
                  <a:cubicBezTo>
                    <a:pt x="617555" y="2276612"/>
                    <a:pt x="590843" y="2255520"/>
                    <a:pt x="562708" y="2236763"/>
                  </a:cubicBezTo>
                  <a:cubicBezTo>
                    <a:pt x="540637" y="2222049"/>
                    <a:pt x="521151" y="2202563"/>
                    <a:pt x="506437" y="2180492"/>
                  </a:cubicBezTo>
                  <a:cubicBezTo>
                    <a:pt x="497059" y="2166424"/>
                    <a:pt x="491504" y="2148851"/>
                    <a:pt x="478302" y="2138289"/>
                  </a:cubicBezTo>
                  <a:cubicBezTo>
                    <a:pt x="466723" y="2129026"/>
                    <a:pt x="450167" y="2128910"/>
                    <a:pt x="436099" y="2124221"/>
                  </a:cubicBezTo>
                  <a:cubicBezTo>
                    <a:pt x="431410" y="2110153"/>
                    <a:pt x="428663" y="2095281"/>
                    <a:pt x="422031" y="2082018"/>
                  </a:cubicBezTo>
                  <a:cubicBezTo>
                    <a:pt x="414470" y="2066896"/>
                    <a:pt x="400763" y="2055265"/>
                    <a:pt x="393896" y="2039815"/>
                  </a:cubicBezTo>
                  <a:cubicBezTo>
                    <a:pt x="381851" y="2012714"/>
                    <a:pt x="375138" y="1983544"/>
                    <a:pt x="365760" y="1955409"/>
                  </a:cubicBezTo>
                  <a:cubicBezTo>
                    <a:pt x="361071" y="1941341"/>
                    <a:pt x="351693" y="1913206"/>
                    <a:pt x="351693" y="1913206"/>
                  </a:cubicBezTo>
                  <a:cubicBezTo>
                    <a:pt x="347004" y="1880381"/>
                    <a:pt x="342007" y="1847599"/>
                    <a:pt x="337625" y="1814732"/>
                  </a:cubicBezTo>
                  <a:cubicBezTo>
                    <a:pt x="332628" y="1777258"/>
                    <a:pt x="341917" y="1735239"/>
                    <a:pt x="323557" y="1702191"/>
                  </a:cubicBezTo>
                  <a:cubicBezTo>
                    <a:pt x="314167" y="1685290"/>
                    <a:pt x="286043" y="1692812"/>
                    <a:pt x="267286" y="1688123"/>
                  </a:cubicBezTo>
                  <a:cubicBezTo>
                    <a:pt x="253218" y="1678744"/>
                    <a:pt x="240205" y="1667548"/>
                    <a:pt x="225083" y="1659987"/>
                  </a:cubicBezTo>
                  <a:cubicBezTo>
                    <a:pt x="211820" y="1653355"/>
                    <a:pt x="194743" y="1654817"/>
                    <a:pt x="182880" y="1645920"/>
                  </a:cubicBezTo>
                  <a:cubicBezTo>
                    <a:pt x="102027" y="1585280"/>
                    <a:pt x="124643" y="1589725"/>
                    <a:pt x="84406" y="1519311"/>
                  </a:cubicBezTo>
                  <a:cubicBezTo>
                    <a:pt x="51005" y="1460859"/>
                    <a:pt x="59023" y="1496576"/>
                    <a:pt x="42203" y="1434904"/>
                  </a:cubicBezTo>
                  <a:cubicBezTo>
                    <a:pt x="32029" y="1397598"/>
                    <a:pt x="23446" y="1359877"/>
                    <a:pt x="14068" y="1322363"/>
                  </a:cubicBezTo>
                  <a:cubicBezTo>
                    <a:pt x="9379" y="1303606"/>
                    <a:pt x="0" y="1266092"/>
                    <a:pt x="0" y="1266092"/>
                  </a:cubicBezTo>
                  <a:cubicBezTo>
                    <a:pt x="4689" y="1172307"/>
                    <a:pt x="6270" y="1078315"/>
                    <a:pt x="14068" y="984738"/>
                  </a:cubicBezTo>
                  <a:cubicBezTo>
                    <a:pt x="15674" y="965470"/>
                    <a:pt x="20520" y="946238"/>
                    <a:pt x="28136" y="928467"/>
                  </a:cubicBezTo>
                  <a:cubicBezTo>
                    <a:pt x="34796" y="912927"/>
                    <a:pt x="47883" y="900944"/>
                    <a:pt x="56271" y="886264"/>
                  </a:cubicBezTo>
                  <a:cubicBezTo>
                    <a:pt x="66675" y="868056"/>
                    <a:pt x="69577" y="844822"/>
                    <a:pt x="84406" y="829994"/>
                  </a:cubicBezTo>
                  <a:cubicBezTo>
                    <a:pt x="108317" y="806083"/>
                    <a:pt x="140677" y="792480"/>
                    <a:pt x="168813" y="773723"/>
                  </a:cubicBezTo>
                  <a:cubicBezTo>
                    <a:pt x="179849" y="766366"/>
                    <a:pt x="187570" y="754966"/>
                    <a:pt x="196948" y="745587"/>
                  </a:cubicBezTo>
                  <a:cubicBezTo>
                    <a:pt x="201637" y="618978"/>
                    <a:pt x="202588" y="492175"/>
                    <a:pt x="211016" y="365760"/>
                  </a:cubicBezTo>
                  <a:cubicBezTo>
                    <a:pt x="212002" y="350964"/>
                    <a:pt x="221009" y="337815"/>
                    <a:pt x="225083" y="323557"/>
                  </a:cubicBezTo>
                  <a:cubicBezTo>
                    <a:pt x="230394" y="304967"/>
                    <a:pt x="230504" y="284579"/>
                    <a:pt x="239151" y="267286"/>
                  </a:cubicBezTo>
                  <a:cubicBezTo>
                    <a:pt x="247956" y="249677"/>
                    <a:pt x="320290" y="137077"/>
                    <a:pt x="351693" y="126609"/>
                  </a:cubicBezTo>
                  <a:cubicBezTo>
                    <a:pt x="379828" y="117231"/>
                    <a:pt x="436099" y="98474"/>
                    <a:pt x="436099" y="98474"/>
                  </a:cubicBezTo>
                  <a:cubicBezTo>
                    <a:pt x="539262" y="103163"/>
                    <a:pt x="642906" y="101539"/>
                    <a:pt x="745588" y="112541"/>
                  </a:cubicBezTo>
                  <a:cubicBezTo>
                    <a:pt x="775077" y="115700"/>
                    <a:pt x="801859" y="131299"/>
                    <a:pt x="829994" y="140677"/>
                  </a:cubicBezTo>
                  <a:cubicBezTo>
                    <a:pt x="844062" y="145366"/>
                    <a:pt x="872197" y="154744"/>
                    <a:pt x="872197" y="154744"/>
                  </a:cubicBezTo>
                  <a:cubicBezTo>
                    <a:pt x="881576" y="145366"/>
                    <a:pt x="888960" y="133433"/>
                    <a:pt x="900333" y="126609"/>
                  </a:cubicBezTo>
                  <a:cubicBezTo>
                    <a:pt x="961065" y="90170"/>
                    <a:pt x="1090503" y="123923"/>
                    <a:pt x="1125416" y="126609"/>
                  </a:cubicBezTo>
                  <a:cubicBezTo>
                    <a:pt x="1159740" y="138050"/>
                    <a:pt x="1182552" y="141542"/>
                    <a:pt x="1209822" y="168812"/>
                  </a:cubicBezTo>
                  <a:cubicBezTo>
                    <a:pt x="1221777" y="180767"/>
                    <a:pt x="1227395" y="197813"/>
                    <a:pt x="1237957" y="211015"/>
                  </a:cubicBezTo>
                  <a:cubicBezTo>
                    <a:pt x="1260866" y="239652"/>
                    <a:pt x="1276959" y="246395"/>
                    <a:pt x="1308296" y="267286"/>
                  </a:cubicBezTo>
                  <a:cubicBezTo>
                    <a:pt x="1326557" y="322071"/>
                    <a:pt x="1332848" y="299004"/>
                    <a:pt x="1294228" y="33762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863080" y="2381400"/>
              <a:ext cx="1669320" cy="1323360"/>
              <a:chOff x="2863080" y="2381400"/>
              <a:chExt cx="1669320" cy="1323360"/>
            </a:xfrm>
          </p:grpSpPr>
          <p:sp>
            <p:nvSpPr>
              <p:cNvPr id="109" name=""/>
              <p:cNvSpPr/>
              <p:nvPr/>
            </p:nvSpPr>
            <p:spPr>
              <a:xfrm flipH="1" rot="1140000">
                <a:off x="3162960" y="2734200"/>
                <a:ext cx="1276200" cy="78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3472800">
                <a:off x="3148920" y="2552040"/>
                <a:ext cx="538920" cy="24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2103000">
                <a:off x="2911320" y="2712600"/>
                <a:ext cx="540000" cy="24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529800">
                <a:off x="2878200" y="3009240"/>
                <a:ext cx="540000" cy="24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 rot="20955000">
              <a:off x="965520" y="3245760"/>
              <a:ext cx="488880" cy="568440"/>
            </a:xfrm>
            <a:custGeom>
              <a:avLst/>
              <a:gdLst/>
              <a:ahLst/>
              <a:rect l="l" t="t" r="r" b="b"/>
              <a:pathLst>
                <a:path w="717452" h="835036">
                  <a:moveTo>
                    <a:pt x="0" y="286396"/>
                  </a:moveTo>
                  <a:cubicBezTo>
                    <a:pt x="14068" y="281707"/>
                    <a:pt x="30624" y="281592"/>
                    <a:pt x="42203" y="272329"/>
                  </a:cubicBezTo>
                  <a:cubicBezTo>
                    <a:pt x="55405" y="261767"/>
                    <a:pt x="59776" y="243328"/>
                    <a:pt x="70338" y="230126"/>
                  </a:cubicBezTo>
                  <a:cubicBezTo>
                    <a:pt x="78624" y="219769"/>
                    <a:pt x="89095" y="211369"/>
                    <a:pt x="98474" y="201990"/>
                  </a:cubicBezTo>
                  <a:cubicBezTo>
                    <a:pt x="158833" y="81270"/>
                    <a:pt x="89276" y="197120"/>
                    <a:pt x="168812" y="117584"/>
                  </a:cubicBezTo>
                  <a:cubicBezTo>
                    <a:pt x="180767" y="105629"/>
                    <a:pt x="186385" y="88583"/>
                    <a:pt x="196947" y="75381"/>
                  </a:cubicBezTo>
                  <a:cubicBezTo>
                    <a:pt x="219854" y="46747"/>
                    <a:pt x="235953" y="39999"/>
                    <a:pt x="267286" y="19110"/>
                  </a:cubicBezTo>
                  <a:cubicBezTo>
                    <a:pt x="362018" y="29636"/>
                    <a:pt x="389724" y="0"/>
                    <a:pt x="422030" y="75381"/>
                  </a:cubicBezTo>
                  <a:cubicBezTo>
                    <a:pt x="429646" y="93152"/>
                    <a:pt x="431409" y="112895"/>
                    <a:pt x="436098" y="131652"/>
                  </a:cubicBezTo>
                  <a:cubicBezTo>
                    <a:pt x="454855" y="126963"/>
                    <a:pt x="473035" y="117584"/>
                    <a:pt x="492369" y="117584"/>
                  </a:cubicBezTo>
                  <a:cubicBezTo>
                    <a:pt x="516279" y="117584"/>
                    <a:pt x="540730" y="122233"/>
                    <a:pt x="562707" y="131652"/>
                  </a:cubicBezTo>
                  <a:cubicBezTo>
                    <a:pt x="574898" y="136877"/>
                    <a:pt x="582557" y="149430"/>
                    <a:pt x="590843" y="159787"/>
                  </a:cubicBezTo>
                  <a:cubicBezTo>
                    <a:pt x="614189" y="188970"/>
                    <a:pt x="625045" y="208192"/>
                    <a:pt x="633046" y="244193"/>
                  </a:cubicBezTo>
                  <a:cubicBezTo>
                    <a:pt x="639234" y="272037"/>
                    <a:pt x="637099" y="301892"/>
                    <a:pt x="647114" y="328599"/>
                  </a:cubicBezTo>
                  <a:cubicBezTo>
                    <a:pt x="651771" y="341018"/>
                    <a:pt x="666964" y="346378"/>
                    <a:pt x="675249" y="356735"/>
                  </a:cubicBezTo>
                  <a:cubicBezTo>
                    <a:pt x="706415" y="395693"/>
                    <a:pt x="702593" y="396566"/>
                    <a:pt x="717452" y="441141"/>
                  </a:cubicBezTo>
                  <a:cubicBezTo>
                    <a:pt x="712763" y="469276"/>
                    <a:pt x="716140" y="500035"/>
                    <a:pt x="703384" y="525547"/>
                  </a:cubicBezTo>
                  <a:cubicBezTo>
                    <a:pt x="673661" y="584992"/>
                    <a:pt x="533921" y="540957"/>
                    <a:pt x="520504" y="539615"/>
                  </a:cubicBezTo>
                  <a:cubicBezTo>
                    <a:pt x="525193" y="553683"/>
                    <a:pt x="534572" y="566989"/>
                    <a:pt x="534572" y="581818"/>
                  </a:cubicBezTo>
                  <a:cubicBezTo>
                    <a:pt x="534572" y="626266"/>
                    <a:pt x="524560" y="697933"/>
                    <a:pt x="492369" y="736562"/>
                  </a:cubicBezTo>
                  <a:cubicBezTo>
                    <a:pt x="471391" y="761736"/>
                    <a:pt x="436769" y="769164"/>
                    <a:pt x="407963" y="778766"/>
                  </a:cubicBezTo>
                  <a:cubicBezTo>
                    <a:pt x="370449" y="774077"/>
                    <a:pt x="326393" y="786378"/>
                    <a:pt x="295421" y="764698"/>
                  </a:cubicBezTo>
                  <a:cubicBezTo>
                    <a:pt x="271125" y="747691"/>
                    <a:pt x="267286" y="680292"/>
                    <a:pt x="267286" y="680292"/>
                  </a:cubicBezTo>
                  <a:cubicBezTo>
                    <a:pt x="253357" y="722078"/>
                    <a:pt x="244454" y="773462"/>
                    <a:pt x="211015" y="806901"/>
                  </a:cubicBezTo>
                  <a:cubicBezTo>
                    <a:pt x="199060" y="818856"/>
                    <a:pt x="182880" y="825658"/>
                    <a:pt x="168812" y="835036"/>
                  </a:cubicBezTo>
                  <a:cubicBezTo>
                    <a:pt x="150055" y="830347"/>
                    <a:pt x="127639" y="833047"/>
                    <a:pt x="112541" y="820969"/>
                  </a:cubicBezTo>
                  <a:cubicBezTo>
                    <a:pt x="100962" y="811706"/>
                    <a:pt x="107371" y="790629"/>
                    <a:pt x="98474" y="778766"/>
                  </a:cubicBezTo>
                  <a:cubicBezTo>
                    <a:pt x="92183" y="770377"/>
                    <a:pt x="79717" y="769387"/>
                    <a:pt x="70338" y="76469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s patatas fritas bonita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98760" y="916200"/>
            <a:ext cx="1382760" cy="4380480"/>
            <a:chOff x="1598760" y="916200"/>
            <a:chExt cx="1382760" cy="4380480"/>
          </a:xfrm>
        </p:grpSpPr>
        <p:sp>
          <p:nvSpPr>
            <p:cNvPr id="116" name=""/>
            <p:cNvSpPr/>
            <p:nvPr/>
          </p:nvSpPr>
          <p:spPr>
            <a:xfrm rot="21114000">
              <a:off x="1893960" y="1012320"/>
              <a:ext cx="792000" cy="4249800"/>
            </a:xfrm>
            <a:prstGeom prst="cube">
              <a:avLst>
                <a:gd name="adj" fmla="val 25000"/>
              </a:avLst>
            </a:prstGeom>
            <a:solidFill>
              <a:srgbClr val="f8e46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643400" y="1253160"/>
              <a:ext cx="294840" cy="343080"/>
              <a:chOff x="1643400" y="1253160"/>
              <a:chExt cx="294840" cy="343080"/>
            </a:xfrm>
          </p:grpSpPr>
          <p:sp>
            <p:nvSpPr>
              <p:cNvPr id="118" name=""/>
              <p:cNvSpPr/>
              <p:nvPr/>
            </p:nvSpPr>
            <p:spPr>
              <a:xfrm rot="21114000">
                <a:off x="1684800" y="1287360"/>
                <a:ext cx="234000" cy="29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1114000">
                <a:off x="1726920" y="1384560"/>
                <a:ext cx="162000" cy="181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1114000">
                <a:off x="1818360" y="1463400"/>
                <a:ext cx="5400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730400">
                <a:off x="1716120" y="1212840"/>
                <a:ext cx="125640" cy="25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e46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1114000">
                <a:off x="1669680" y="1343520"/>
                <a:ext cx="38160" cy="31320"/>
              </a:xfrm>
              <a:custGeom>
                <a:avLst/>
                <a:gdLst/>
                <a:ahLst/>
                <a:rect l="l" t="t" r="r" b="b"/>
                <a:pathLst>
                  <a:path w="38292" h="40481">
                    <a:moveTo>
                      <a:pt x="-27244" y="-25055"/>
                    </a:moveTo>
                    <a:cubicBezTo>
                      <a:pt x="-29625" y="-26643"/>
                      <a:pt x="-32600" y="-27583"/>
                      <a:pt x="31148" y="-29818"/>
                    </a:cubicBezTo>
                    <a:cubicBezTo>
                      <a:pt x="29580" y="-31778"/>
                      <a:pt x="30542" y="30350"/>
                      <a:pt x="28767" y="28575"/>
                    </a:cubicBezTo>
                    <a:cubicBezTo>
                      <a:pt x="20580" y="20388"/>
                      <a:pt x="16318" y="19663"/>
                      <a:pt x="7335" y="16668"/>
                    </a:cubicBezTo>
                    <a:cubicBezTo>
                      <a:pt x="2679" y="9684"/>
                      <a:pt x="2164" y="10269"/>
                      <a:pt x="192" y="2381"/>
                    </a:cubicBezTo>
                    <a:cubicBezTo>
                      <a:pt x="0" y="1611"/>
                      <a:pt x="192" y="794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1114000">
                <a:off x="1652400" y="1384560"/>
                <a:ext cx="40320" cy="9000"/>
              </a:xfrm>
              <a:custGeom>
                <a:avLst/>
                <a:gdLst/>
                <a:ahLst/>
                <a:rect l="l" t="t" r="r" b="b"/>
                <a:pathLst>
                  <a:path w="40482" h="11906">
                    <a:moveTo>
                      <a:pt x="-25054" y="11906"/>
                    </a:moveTo>
                    <a:cubicBezTo>
                      <a:pt x="29072" y="10276"/>
                      <a:pt x="19988" y="9993"/>
                      <a:pt x="9525" y="4762"/>
                    </a:cubicBezTo>
                    <a:cubicBezTo>
                      <a:pt x="6350" y="3175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1114000">
                <a:off x="1712160" y="1327320"/>
                <a:ext cx="19800" cy="33120"/>
              </a:xfrm>
              <a:custGeom>
                <a:avLst/>
                <a:gdLst/>
                <a:ahLst/>
                <a:rect l="l" t="t" r="r" b="b"/>
                <a:pathLst>
                  <a:path w="20054" h="42863">
                    <a:moveTo>
                      <a:pt x="20054" y="-22673"/>
                    </a:moveTo>
                    <a:cubicBezTo>
                      <a:pt x="18118" y="-28482"/>
                      <a:pt x="17526" y="-32346"/>
                      <a:pt x="12911" y="28575"/>
                    </a:cubicBezTo>
                    <a:cubicBezTo>
                      <a:pt x="10887" y="26551"/>
                      <a:pt x="8148" y="25400"/>
                      <a:pt x="5767" y="23813"/>
                    </a:cubicBezTo>
                    <a:cubicBezTo>
                      <a:pt x="0" y="6513"/>
                      <a:pt x="1004" y="14545"/>
                      <a:pt x="100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1114000">
                <a:off x="1753920" y="1309680"/>
                <a:ext cx="2160" cy="34920"/>
              </a:xfrm>
              <a:custGeom>
                <a:avLst/>
                <a:gdLst/>
                <a:ahLst/>
                <a:rect l="l" t="t" r="r" b="b"/>
                <a:pathLst>
                  <a:path w="2474" h="45244">
                    <a:moveTo>
                      <a:pt x="2474" y="-20292"/>
                    </a:moveTo>
                    <a:cubicBezTo>
                      <a:pt x="0" y="3178"/>
                      <a:pt x="93" y="18280"/>
                      <a:pt x="9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1114000">
                <a:off x="1791720" y="1307880"/>
                <a:ext cx="7200" cy="29520"/>
              </a:xfrm>
              <a:custGeom>
                <a:avLst/>
                <a:gdLst/>
                <a:ahLst/>
                <a:rect l="l" t="t" r="r" b="b"/>
                <a:pathLst>
                  <a:path w="7369" h="38100">
                    <a:moveTo>
                      <a:pt x="0" y="-27436"/>
                    </a:moveTo>
                    <a:cubicBezTo>
                      <a:pt x="794" y="-31405"/>
                      <a:pt x="1503" y="30145"/>
                      <a:pt x="2381" y="26194"/>
                    </a:cubicBezTo>
                    <a:cubicBezTo>
                      <a:pt x="4460" y="16839"/>
                      <a:pt x="5708" y="14811"/>
                      <a:pt x="7144" y="4762"/>
                    </a:cubicBezTo>
                    <a:cubicBezTo>
                      <a:pt x="7369" y="3191"/>
                      <a:pt x="7144" y="1587"/>
                      <a:pt x="71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1114000">
                <a:off x="1832760" y="1309320"/>
                <a:ext cx="17640" cy="30960"/>
              </a:xfrm>
              <a:custGeom>
                <a:avLst/>
                <a:gdLst/>
                <a:ahLst/>
                <a:rect l="l" t="t" r="r" b="b"/>
                <a:pathLst>
                  <a:path w="17712" h="39853">
                    <a:moveTo>
                      <a:pt x="0" y="-25683"/>
                    </a:moveTo>
                    <a:cubicBezTo>
                      <a:pt x="1588" y="-30445"/>
                      <a:pt x="1979" y="29743"/>
                      <a:pt x="4763" y="25566"/>
                    </a:cubicBezTo>
                    <a:cubicBezTo>
                      <a:pt x="6350" y="23185"/>
                      <a:pt x="8363" y="21037"/>
                      <a:pt x="9525" y="18422"/>
                    </a:cubicBezTo>
                    <a:cubicBezTo>
                      <a:pt x="17712" y="0"/>
                      <a:pt x="10052" y="8370"/>
                      <a:pt x="16669" y="175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1114000">
                <a:off x="1872000" y="1332360"/>
                <a:ext cx="25920" cy="20880"/>
              </a:xfrm>
              <a:custGeom>
                <a:avLst/>
                <a:gdLst/>
                <a:ahLst/>
                <a:rect l="l" t="t" r="r" b="b"/>
                <a:pathLst>
                  <a:path w="26194" h="26884">
                    <a:moveTo>
                      <a:pt x="0" y="23812"/>
                    </a:moveTo>
                    <a:cubicBezTo>
                      <a:pt x="2381" y="24606"/>
                      <a:pt x="4730" y="26884"/>
                      <a:pt x="7144" y="26194"/>
                    </a:cubicBezTo>
                    <a:cubicBezTo>
                      <a:pt x="14441" y="24109"/>
                      <a:pt x="17725" y="17466"/>
                      <a:pt x="21431" y="11906"/>
                    </a:cubicBezTo>
                    <a:cubicBezTo>
                      <a:pt x="24084" y="1292"/>
                      <a:pt x="21497" y="4695"/>
                      <a:pt x="2619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 rot="21114000">
              <a:off x="1952280" y="1248840"/>
              <a:ext cx="23400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21114000">
              <a:off x="1994040" y="1346760"/>
              <a:ext cx="162000" cy="18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21114000">
              <a:off x="2085840" y="1425600"/>
              <a:ext cx="54000" cy="4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15897000">
              <a:off x="2001240" y="1171800"/>
              <a:ext cx="126000" cy="25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e4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rot="21114000">
              <a:off x="2137680" y="1276920"/>
              <a:ext cx="38160" cy="31320"/>
            </a:xfrm>
            <a:custGeom>
              <a:avLst/>
              <a:gdLst/>
              <a:ahLst/>
              <a:rect l="l" t="t" r="r" b="b"/>
              <a:pathLst>
                <a:path w="38292" h="40481">
                  <a:moveTo>
                    <a:pt x="-27244" y="-25055"/>
                  </a:moveTo>
                  <a:cubicBezTo>
                    <a:pt x="-29625" y="-26643"/>
                    <a:pt x="-32600" y="-27583"/>
                    <a:pt x="31148" y="-29818"/>
                  </a:cubicBezTo>
                  <a:cubicBezTo>
                    <a:pt x="29580" y="-31778"/>
                    <a:pt x="30542" y="30350"/>
                    <a:pt x="28767" y="28575"/>
                  </a:cubicBezTo>
                  <a:cubicBezTo>
                    <a:pt x="20580" y="20388"/>
                    <a:pt x="16318" y="19663"/>
                    <a:pt x="7335" y="16668"/>
                  </a:cubicBezTo>
                  <a:cubicBezTo>
                    <a:pt x="2679" y="9684"/>
                    <a:pt x="2164" y="10269"/>
                    <a:pt x="192" y="2381"/>
                  </a:cubicBezTo>
                  <a:cubicBezTo>
                    <a:pt x="0" y="1611"/>
                    <a:pt x="192" y="794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rot="21114000">
              <a:off x="2160720" y="1312200"/>
              <a:ext cx="40320" cy="9000"/>
            </a:xfrm>
            <a:custGeom>
              <a:avLst/>
              <a:gdLst/>
              <a:ahLst/>
              <a:rect l="l" t="t" r="r" b="b"/>
              <a:pathLst>
                <a:path w="40482" h="11906">
                  <a:moveTo>
                    <a:pt x="-25054" y="11906"/>
                  </a:moveTo>
                  <a:cubicBezTo>
                    <a:pt x="29072" y="10276"/>
                    <a:pt x="19988" y="9993"/>
                    <a:pt x="9525" y="4762"/>
                  </a:cubicBezTo>
                  <a:cubicBezTo>
                    <a:pt x="6350" y="3175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rot="21114000">
              <a:off x="2110320" y="1270440"/>
              <a:ext cx="19800" cy="33120"/>
            </a:xfrm>
            <a:custGeom>
              <a:avLst/>
              <a:gdLst/>
              <a:ahLst/>
              <a:rect l="l" t="t" r="r" b="b"/>
              <a:pathLst>
                <a:path w="20054" h="42863">
                  <a:moveTo>
                    <a:pt x="20054" y="-22673"/>
                  </a:moveTo>
                  <a:cubicBezTo>
                    <a:pt x="18118" y="-28482"/>
                    <a:pt x="17526" y="-32346"/>
                    <a:pt x="12911" y="28575"/>
                  </a:cubicBezTo>
                  <a:cubicBezTo>
                    <a:pt x="10887" y="26551"/>
                    <a:pt x="8148" y="25400"/>
                    <a:pt x="5767" y="23813"/>
                  </a:cubicBezTo>
                  <a:cubicBezTo>
                    <a:pt x="0" y="6513"/>
                    <a:pt x="1004" y="14545"/>
                    <a:pt x="10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rot="21114000">
              <a:off x="2083680" y="1262520"/>
              <a:ext cx="2160" cy="34920"/>
            </a:xfrm>
            <a:custGeom>
              <a:avLst/>
              <a:gdLst/>
              <a:ahLst/>
              <a:rect l="l" t="t" r="r" b="b"/>
              <a:pathLst>
                <a:path w="2474" h="45244">
                  <a:moveTo>
                    <a:pt x="2474" y="-20292"/>
                  </a:moveTo>
                  <a:cubicBezTo>
                    <a:pt x="0" y="3178"/>
                    <a:pt x="93" y="18280"/>
                    <a:pt x="9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21114000">
              <a:off x="2040480" y="1271880"/>
              <a:ext cx="7200" cy="29520"/>
            </a:xfrm>
            <a:custGeom>
              <a:avLst/>
              <a:gdLst/>
              <a:ahLst/>
              <a:rect l="l" t="t" r="r" b="b"/>
              <a:pathLst>
                <a:path w="7369" h="38100">
                  <a:moveTo>
                    <a:pt x="0" y="-27436"/>
                  </a:moveTo>
                  <a:cubicBezTo>
                    <a:pt x="794" y="-31405"/>
                    <a:pt x="1503" y="30145"/>
                    <a:pt x="2381" y="26194"/>
                  </a:cubicBezTo>
                  <a:cubicBezTo>
                    <a:pt x="4460" y="16839"/>
                    <a:pt x="5708" y="14811"/>
                    <a:pt x="7144" y="4762"/>
                  </a:cubicBezTo>
                  <a:cubicBezTo>
                    <a:pt x="7369" y="3191"/>
                    <a:pt x="7144" y="1587"/>
                    <a:pt x="7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21114000">
              <a:off x="1991160" y="1286280"/>
              <a:ext cx="17640" cy="30600"/>
            </a:xfrm>
            <a:custGeom>
              <a:avLst/>
              <a:gdLst/>
              <a:ahLst/>
              <a:rect l="l" t="t" r="r" b="b"/>
              <a:pathLst>
                <a:path w="17712" h="39853">
                  <a:moveTo>
                    <a:pt x="0" y="-25683"/>
                  </a:moveTo>
                  <a:cubicBezTo>
                    <a:pt x="1588" y="-30445"/>
                    <a:pt x="1979" y="29743"/>
                    <a:pt x="4763" y="25566"/>
                  </a:cubicBezTo>
                  <a:cubicBezTo>
                    <a:pt x="6350" y="23185"/>
                    <a:pt x="8363" y="21037"/>
                    <a:pt x="9525" y="18422"/>
                  </a:cubicBezTo>
                  <a:cubicBezTo>
                    <a:pt x="17712" y="0"/>
                    <a:pt x="10052" y="8370"/>
                    <a:pt x="16669" y="17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21114000">
              <a:off x="1950840" y="1320840"/>
              <a:ext cx="25920" cy="20880"/>
            </a:xfrm>
            <a:custGeom>
              <a:avLst/>
              <a:gdLst/>
              <a:ahLst/>
              <a:rect l="l" t="t" r="r" b="b"/>
              <a:pathLst>
                <a:path w="26194" h="26884">
                  <a:moveTo>
                    <a:pt x="0" y="23812"/>
                  </a:moveTo>
                  <a:cubicBezTo>
                    <a:pt x="2381" y="24606"/>
                    <a:pt x="4730" y="26884"/>
                    <a:pt x="7144" y="26194"/>
                  </a:cubicBezTo>
                  <a:cubicBezTo>
                    <a:pt x="14441" y="24109"/>
                    <a:pt x="17725" y="17466"/>
                    <a:pt x="21431" y="11906"/>
                  </a:cubicBezTo>
                  <a:cubicBezTo>
                    <a:pt x="24084" y="1292"/>
                    <a:pt x="21497" y="4695"/>
                    <a:pt x="2619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5714000">
              <a:off x="1888560" y="1473120"/>
              <a:ext cx="167760" cy="39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38" y="2382"/>
                    <a:pt x="13276" y="5080"/>
                    <a:pt x="13276" y="10800"/>
                  </a:cubicBezTo>
                  <a:cubicBezTo>
                    <a:pt x="13276" y="16520"/>
                    <a:pt x="17438" y="192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ff00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4914000">
              <a:off x="2095560" y="903600"/>
              <a:ext cx="209520" cy="270000"/>
            </a:xfrm>
            <a:custGeom>
              <a:avLst/>
              <a:gdLst>
                <a:gd name="textAreaLeft" fmla="*/ 46080 w 209520"/>
                <a:gd name="textAreaRight" fmla="*/ 163440 w 209520"/>
                <a:gd name="textAreaTop" fmla="*/ 59400 h 270000"/>
                <a:gd name="textAreaBottom" fmla="*/ 21060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5714000">
              <a:off x="1685880" y="962280"/>
              <a:ext cx="209520" cy="270000"/>
            </a:xfrm>
            <a:custGeom>
              <a:avLst/>
              <a:gdLst>
                <a:gd name="textAreaLeft" fmla="*/ 46080 w 209520"/>
                <a:gd name="textAreaRight" fmla="*/ 163440 w 209520"/>
                <a:gd name="textAreaTop" fmla="*/ 59400 h 270000"/>
                <a:gd name="textAreaBottom" fmla="*/ 21060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1114000">
              <a:off x="1905840" y="977040"/>
              <a:ext cx="180000" cy="1814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088520" y="340920"/>
            <a:ext cx="1296360" cy="4875480"/>
            <a:chOff x="4088520" y="340920"/>
            <a:chExt cx="1296360" cy="4875480"/>
          </a:xfrm>
        </p:grpSpPr>
        <p:sp>
          <p:nvSpPr>
            <p:cNvPr id="145" name=""/>
            <p:cNvSpPr/>
            <p:nvPr/>
          </p:nvSpPr>
          <p:spPr>
            <a:xfrm rot="369000">
              <a:off x="4340520" y="440640"/>
              <a:ext cx="792360" cy="4746600"/>
            </a:xfrm>
            <a:prstGeom prst="cube">
              <a:avLst>
                <a:gd name="adj" fmla="val 25000"/>
              </a:avLst>
            </a:prstGeom>
            <a:solidFill>
              <a:srgbClr val="f8e46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570560" y="654120"/>
              <a:ext cx="268200" cy="361440"/>
              <a:chOff x="4570560" y="654120"/>
              <a:chExt cx="268200" cy="361440"/>
            </a:xfrm>
          </p:grpSpPr>
          <p:sp>
            <p:nvSpPr>
              <p:cNvPr id="147" name=""/>
              <p:cNvSpPr/>
              <p:nvPr/>
            </p:nvSpPr>
            <p:spPr>
              <a:xfrm rot="369000">
                <a:off x="4587480" y="676080"/>
                <a:ext cx="234360" cy="32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369000">
                <a:off x="4618440" y="785160"/>
                <a:ext cx="162000" cy="20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369000">
                <a:off x="4707000" y="882360"/>
                <a:ext cx="54000" cy="4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585400">
                <a:off x="4636800" y="604800"/>
                <a:ext cx="140400" cy="252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e46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369000">
                <a:off x="4595400" y="71136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38292" h="40481">
                    <a:moveTo>
                      <a:pt x="-27244" y="-25055"/>
                    </a:moveTo>
                    <a:cubicBezTo>
                      <a:pt x="-29625" y="-26643"/>
                      <a:pt x="-32600" y="-27583"/>
                      <a:pt x="31148" y="-29818"/>
                    </a:cubicBezTo>
                    <a:cubicBezTo>
                      <a:pt x="29580" y="-31778"/>
                      <a:pt x="30542" y="30350"/>
                      <a:pt x="28767" y="28575"/>
                    </a:cubicBezTo>
                    <a:cubicBezTo>
                      <a:pt x="20580" y="20388"/>
                      <a:pt x="16318" y="19663"/>
                      <a:pt x="7335" y="16668"/>
                    </a:cubicBezTo>
                    <a:cubicBezTo>
                      <a:pt x="2679" y="9684"/>
                      <a:pt x="2164" y="10269"/>
                      <a:pt x="192" y="2381"/>
                    </a:cubicBezTo>
                    <a:cubicBezTo>
                      <a:pt x="0" y="1611"/>
                      <a:pt x="192" y="794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369000">
                <a:off x="4570920" y="752400"/>
                <a:ext cx="40320" cy="10080"/>
              </a:xfrm>
              <a:custGeom>
                <a:avLst/>
                <a:gdLst/>
                <a:ahLst/>
                <a:rect l="l" t="t" r="r" b="b"/>
                <a:pathLst>
                  <a:path w="40482" h="11906">
                    <a:moveTo>
                      <a:pt x="-25054" y="11906"/>
                    </a:moveTo>
                    <a:cubicBezTo>
                      <a:pt x="29072" y="10276"/>
                      <a:pt x="19988" y="9993"/>
                      <a:pt x="9525" y="4762"/>
                    </a:cubicBezTo>
                    <a:cubicBezTo>
                      <a:pt x="6350" y="3175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69000">
                <a:off x="4640400" y="703080"/>
                <a:ext cx="19800" cy="37080"/>
              </a:xfrm>
              <a:custGeom>
                <a:avLst/>
                <a:gdLst/>
                <a:ahLst/>
                <a:rect l="l" t="t" r="r" b="b"/>
                <a:pathLst>
                  <a:path w="20054" h="42863">
                    <a:moveTo>
                      <a:pt x="20054" y="-22673"/>
                    </a:moveTo>
                    <a:cubicBezTo>
                      <a:pt x="18118" y="-28482"/>
                      <a:pt x="17526" y="-32346"/>
                      <a:pt x="12911" y="28575"/>
                    </a:cubicBezTo>
                    <a:cubicBezTo>
                      <a:pt x="10887" y="26551"/>
                      <a:pt x="8148" y="25400"/>
                      <a:pt x="5767" y="23813"/>
                    </a:cubicBezTo>
                    <a:cubicBezTo>
                      <a:pt x="0" y="6513"/>
                      <a:pt x="1004" y="14545"/>
                      <a:pt x="100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69000">
                <a:off x="4685760" y="692280"/>
                <a:ext cx="2160" cy="39240"/>
              </a:xfrm>
              <a:custGeom>
                <a:avLst/>
                <a:gdLst/>
                <a:ahLst/>
                <a:rect l="l" t="t" r="r" b="b"/>
                <a:pathLst>
                  <a:path w="2474" h="45244">
                    <a:moveTo>
                      <a:pt x="2474" y="-20292"/>
                    </a:moveTo>
                    <a:cubicBezTo>
                      <a:pt x="0" y="3178"/>
                      <a:pt x="93" y="18280"/>
                      <a:pt x="9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369000">
                <a:off x="4723920" y="700560"/>
                <a:ext cx="7200" cy="32760"/>
              </a:xfrm>
              <a:custGeom>
                <a:avLst/>
                <a:gdLst/>
                <a:ahLst/>
                <a:rect l="l" t="t" r="r" b="b"/>
                <a:pathLst>
                  <a:path w="7369" h="38100">
                    <a:moveTo>
                      <a:pt x="0" y="-27436"/>
                    </a:moveTo>
                    <a:cubicBezTo>
                      <a:pt x="794" y="-31405"/>
                      <a:pt x="1503" y="30145"/>
                      <a:pt x="2381" y="26194"/>
                    </a:cubicBezTo>
                    <a:cubicBezTo>
                      <a:pt x="4460" y="16839"/>
                      <a:pt x="5708" y="14811"/>
                      <a:pt x="7144" y="4762"/>
                    </a:cubicBezTo>
                    <a:cubicBezTo>
                      <a:pt x="7369" y="3191"/>
                      <a:pt x="7144" y="1587"/>
                      <a:pt x="71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369000">
                <a:off x="4762800" y="714240"/>
                <a:ext cx="17640" cy="34560"/>
              </a:xfrm>
              <a:custGeom>
                <a:avLst/>
                <a:gdLst/>
                <a:ahLst/>
                <a:rect l="l" t="t" r="r" b="b"/>
                <a:pathLst>
                  <a:path w="17712" h="39853">
                    <a:moveTo>
                      <a:pt x="0" y="-25683"/>
                    </a:moveTo>
                    <a:cubicBezTo>
                      <a:pt x="1588" y="-30445"/>
                      <a:pt x="1979" y="29743"/>
                      <a:pt x="4763" y="25566"/>
                    </a:cubicBezTo>
                    <a:cubicBezTo>
                      <a:pt x="6350" y="23185"/>
                      <a:pt x="8363" y="21037"/>
                      <a:pt x="9525" y="18422"/>
                    </a:cubicBezTo>
                    <a:cubicBezTo>
                      <a:pt x="17712" y="0"/>
                      <a:pt x="10052" y="8370"/>
                      <a:pt x="16669" y="175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369000">
                <a:off x="4795920" y="750960"/>
                <a:ext cx="25920" cy="23040"/>
              </a:xfrm>
              <a:custGeom>
                <a:avLst/>
                <a:gdLst/>
                <a:ahLst/>
                <a:rect l="l" t="t" r="r" b="b"/>
                <a:pathLst>
                  <a:path w="26194" h="26884">
                    <a:moveTo>
                      <a:pt x="0" y="23812"/>
                    </a:moveTo>
                    <a:cubicBezTo>
                      <a:pt x="2381" y="24606"/>
                      <a:pt x="4730" y="26884"/>
                      <a:pt x="7144" y="26194"/>
                    </a:cubicBezTo>
                    <a:cubicBezTo>
                      <a:pt x="14441" y="24109"/>
                      <a:pt x="17725" y="17466"/>
                      <a:pt x="21431" y="11906"/>
                    </a:cubicBezTo>
                    <a:cubicBezTo>
                      <a:pt x="24084" y="1292"/>
                      <a:pt x="21497" y="4695"/>
                      <a:pt x="2619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flipH="1" rot="368400">
              <a:off x="4856040" y="704880"/>
              <a:ext cx="234000" cy="32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368400">
              <a:off x="4887000" y="813960"/>
              <a:ext cx="162000" cy="20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rot="368400">
              <a:off x="4975200" y="911520"/>
              <a:ext cx="54000" cy="46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16752000">
              <a:off x="4923360" y="635400"/>
              <a:ext cx="140400" cy="25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e4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368400">
              <a:off x="5065920" y="761760"/>
              <a:ext cx="38160" cy="34920"/>
            </a:xfrm>
            <a:custGeom>
              <a:avLst/>
              <a:gdLst/>
              <a:ahLst/>
              <a:rect l="l" t="t" r="r" b="b"/>
              <a:pathLst>
                <a:path w="38292" h="40481">
                  <a:moveTo>
                    <a:pt x="-27244" y="-25055"/>
                  </a:moveTo>
                  <a:cubicBezTo>
                    <a:pt x="-29625" y="-26643"/>
                    <a:pt x="-32600" y="-27583"/>
                    <a:pt x="31148" y="-29818"/>
                  </a:cubicBezTo>
                  <a:cubicBezTo>
                    <a:pt x="29580" y="-31778"/>
                    <a:pt x="30542" y="30350"/>
                    <a:pt x="28767" y="28575"/>
                  </a:cubicBezTo>
                  <a:cubicBezTo>
                    <a:pt x="20580" y="20388"/>
                    <a:pt x="16318" y="19663"/>
                    <a:pt x="7335" y="16668"/>
                  </a:cubicBezTo>
                  <a:cubicBezTo>
                    <a:pt x="2679" y="9684"/>
                    <a:pt x="2164" y="10269"/>
                    <a:pt x="192" y="2381"/>
                  </a:cubicBezTo>
                  <a:cubicBezTo>
                    <a:pt x="0" y="1611"/>
                    <a:pt x="192" y="794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368400">
              <a:off x="5082120" y="807120"/>
              <a:ext cx="40320" cy="10080"/>
            </a:xfrm>
            <a:custGeom>
              <a:avLst/>
              <a:gdLst/>
              <a:ahLst/>
              <a:rect l="l" t="t" r="r" b="b"/>
              <a:pathLst>
                <a:path w="40482" h="11906">
                  <a:moveTo>
                    <a:pt x="-25054" y="11906"/>
                  </a:moveTo>
                  <a:cubicBezTo>
                    <a:pt x="29072" y="10276"/>
                    <a:pt x="19988" y="9993"/>
                    <a:pt x="9525" y="4762"/>
                  </a:cubicBezTo>
                  <a:cubicBezTo>
                    <a:pt x="6350" y="3175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368400">
              <a:off x="5041080" y="745920"/>
              <a:ext cx="19800" cy="37080"/>
            </a:xfrm>
            <a:custGeom>
              <a:avLst/>
              <a:gdLst/>
              <a:ahLst/>
              <a:rect l="l" t="t" r="r" b="b"/>
              <a:pathLst>
                <a:path w="20054" h="42863">
                  <a:moveTo>
                    <a:pt x="20054" y="-22673"/>
                  </a:moveTo>
                  <a:cubicBezTo>
                    <a:pt x="18118" y="-28482"/>
                    <a:pt x="17526" y="-32346"/>
                    <a:pt x="12911" y="28575"/>
                  </a:cubicBezTo>
                  <a:cubicBezTo>
                    <a:pt x="10887" y="26551"/>
                    <a:pt x="8148" y="25400"/>
                    <a:pt x="5767" y="23813"/>
                  </a:cubicBezTo>
                  <a:cubicBezTo>
                    <a:pt x="0" y="6513"/>
                    <a:pt x="1004" y="14545"/>
                    <a:pt x="10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368400">
              <a:off x="5016600" y="727920"/>
              <a:ext cx="2160" cy="39240"/>
            </a:xfrm>
            <a:custGeom>
              <a:avLst/>
              <a:gdLst/>
              <a:ahLst/>
              <a:rect l="l" t="t" r="r" b="b"/>
              <a:pathLst>
                <a:path w="2474" h="45244">
                  <a:moveTo>
                    <a:pt x="2474" y="-20292"/>
                  </a:moveTo>
                  <a:cubicBezTo>
                    <a:pt x="0" y="3178"/>
                    <a:pt x="93" y="18280"/>
                    <a:pt x="9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368400">
              <a:off x="4973400" y="727200"/>
              <a:ext cx="7200" cy="32760"/>
            </a:xfrm>
            <a:custGeom>
              <a:avLst/>
              <a:gdLst/>
              <a:ahLst/>
              <a:rect l="l" t="t" r="r" b="b"/>
              <a:pathLst>
                <a:path w="7369" h="38100">
                  <a:moveTo>
                    <a:pt x="0" y="-27436"/>
                  </a:moveTo>
                  <a:cubicBezTo>
                    <a:pt x="794" y="-31405"/>
                    <a:pt x="1503" y="30145"/>
                    <a:pt x="2381" y="26194"/>
                  </a:cubicBezTo>
                  <a:cubicBezTo>
                    <a:pt x="4460" y="16839"/>
                    <a:pt x="5708" y="14811"/>
                    <a:pt x="7144" y="4762"/>
                  </a:cubicBezTo>
                  <a:cubicBezTo>
                    <a:pt x="7369" y="3191"/>
                    <a:pt x="7144" y="1587"/>
                    <a:pt x="7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368400">
              <a:off x="4921560" y="731520"/>
              <a:ext cx="17640" cy="34560"/>
            </a:xfrm>
            <a:custGeom>
              <a:avLst/>
              <a:gdLst/>
              <a:ahLst/>
              <a:rect l="l" t="t" r="r" b="b"/>
              <a:pathLst>
                <a:path w="17712" h="39853">
                  <a:moveTo>
                    <a:pt x="0" y="-25683"/>
                  </a:moveTo>
                  <a:cubicBezTo>
                    <a:pt x="1588" y="-30445"/>
                    <a:pt x="1979" y="29743"/>
                    <a:pt x="4763" y="25566"/>
                  </a:cubicBezTo>
                  <a:cubicBezTo>
                    <a:pt x="6350" y="23185"/>
                    <a:pt x="8363" y="21037"/>
                    <a:pt x="9525" y="18422"/>
                  </a:cubicBezTo>
                  <a:cubicBezTo>
                    <a:pt x="17712" y="0"/>
                    <a:pt x="10052" y="8370"/>
                    <a:pt x="16669" y="17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368400">
              <a:off x="4875120" y="759240"/>
              <a:ext cx="25920" cy="23040"/>
            </a:xfrm>
            <a:custGeom>
              <a:avLst/>
              <a:gdLst/>
              <a:ahLst/>
              <a:rect l="l" t="t" r="r" b="b"/>
              <a:pathLst>
                <a:path w="26194" h="26884">
                  <a:moveTo>
                    <a:pt x="0" y="23812"/>
                  </a:moveTo>
                  <a:cubicBezTo>
                    <a:pt x="2381" y="24606"/>
                    <a:pt x="4730" y="26884"/>
                    <a:pt x="7144" y="26194"/>
                  </a:cubicBezTo>
                  <a:cubicBezTo>
                    <a:pt x="14441" y="24109"/>
                    <a:pt x="17725" y="17466"/>
                    <a:pt x="21431" y="11906"/>
                  </a:cubicBezTo>
                  <a:cubicBezTo>
                    <a:pt x="24084" y="1292"/>
                    <a:pt x="21497" y="4695"/>
                    <a:pt x="2619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569000">
              <a:off x="4714560" y="943920"/>
              <a:ext cx="187200" cy="39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38" y="2382"/>
                    <a:pt x="13276" y="5080"/>
                    <a:pt x="13276" y="10800"/>
                  </a:cubicBezTo>
                  <a:cubicBezTo>
                    <a:pt x="13276" y="16520"/>
                    <a:pt x="17438" y="192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ff00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769000">
              <a:off x="5075640" y="380520"/>
              <a:ext cx="234000" cy="270000"/>
            </a:xfrm>
            <a:custGeom>
              <a:avLst/>
              <a:gdLst>
                <a:gd name="textAreaLeft" fmla="*/ 51480 w 234000"/>
                <a:gd name="textAreaRight" fmla="*/ 182520 w 234000"/>
                <a:gd name="textAreaTop" fmla="*/ 59400 h 270000"/>
                <a:gd name="textAreaBottom" fmla="*/ 21060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569000">
              <a:off x="4663800" y="336600"/>
              <a:ext cx="234000" cy="270000"/>
            </a:xfrm>
            <a:custGeom>
              <a:avLst/>
              <a:gdLst>
                <a:gd name="textAreaLeft" fmla="*/ 51480 w 234000"/>
                <a:gd name="textAreaRight" fmla="*/ 182520 w 234000"/>
                <a:gd name="textAreaTop" fmla="*/ 59400 h 270000"/>
                <a:gd name="textAreaBottom" fmla="*/ 21060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369000">
              <a:off x="4896720" y="392400"/>
              <a:ext cx="180000" cy="2026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236640" y="885600"/>
            <a:ext cx="1633680" cy="4566240"/>
            <a:chOff x="6236640" y="885600"/>
            <a:chExt cx="1633680" cy="4566240"/>
          </a:xfrm>
        </p:grpSpPr>
        <p:sp>
          <p:nvSpPr>
            <p:cNvPr id="174" name=""/>
            <p:cNvSpPr/>
            <p:nvPr/>
          </p:nvSpPr>
          <p:spPr>
            <a:xfrm rot="710400">
              <a:off x="6684840" y="975240"/>
              <a:ext cx="736920" cy="4448160"/>
            </a:xfrm>
            <a:prstGeom prst="cube">
              <a:avLst>
                <a:gd name="adj" fmla="val 25000"/>
              </a:avLst>
            </a:prstGeom>
            <a:solidFill>
              <a:srgbClr val="f8e46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7070760" y="1171440"/>
              <a:ext cx="276480" cy="357120"/>
              <a:chOff x="7070760" y="1171440"/>
              <a:chExt cx="276480" cy="357120"/>
            </a:xfrm>
          </p:grpSpPr>
          <p:sp>
            <p:nvSpPr>
              <p:cNvPr id="176" name=""/>
              <p:cNvSpPr/>
              <p:nvPr/>
            </p:nvSpPr>
            <p:spPr>
              <a:xfrm rot="710400">
                <a:off x="7099560" y="1201680"/>
                <a:ext cx="217800" cy="30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710400">
                <a:off x="7124400" y="1303560"/>
                <a:ext cx="150840" cy="19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710400">
                <a:off x="7204680" y="1397880"/>
                <a:ext cx="50040" cy="43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5926800">
                <a:off x="7155360" y="1136880"/>
                <a:ext cx="131760" cy="23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e46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710400">
                <a:off x="7117560" y="1227600"/>
                <a:ext cx="35640" cy="32760"/>
              </a:xfrm>
              <a:custGeom>
                <a:avLst/>
                <a:gdLst/>
                <a:ahLst/>
                <a:rect l="l" t="t" r="r" b="b"/>
                <a:pathLst>
                  <a:path w="38292" h="40481">
                    <a:moveTo>
                      <a:pt x="-27244" y="-25055"/>
                    </a:moveTo>
                    <a:cubicBezTo>
                      <a:pt x="-29625" y="-26643"/>
                      <a:pt x="-32600" y="-27583"/>
                      <a:pt x="31148" y="-29818"/>
                    </a:cubicBezTo>
                    <a:cubicBezTo>
                      <a:pt x="29580" y="-31778"/>
                      <a:pt x="30542" y="30350"/>
                      <a:pt x="28767" y="28575"/>
                    </a:cubicBezTo>
                    <a:cubicBezTo>
                      <a:pt x="20580" y="20388"/>
                      <a:pt x="16318" y="19663"/>
                      <a:pt x="7335" y="16668"/>
                    </a:cubicBezTo>
                    <a:cubicBezTo>
                      <a:pt x="2679" y="9684"/>
                      <a:pt x="2164" y="10269"/>
                      <a:pt x="192" y="2381"/>
                    </a:cubicBezTo>
                    <a:cubicBezTo>
                      <a:pt x="0" y="1611"/>
                      <a:pt x="192" y="794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710400">
                <a:off x="7092720" y="1263600"/>
                <a:ext cx="37440" cy="9360"/>
              </a:xfrm>
              <a:custGeom>
                <a:avLst/>
                <a:gdLst/>
                <a:ahLst/>
                <a:rect l="l" t="t" r="r" b="b"/>
                <a:pathLst>
                  <a:path w="40482" h="11906">
                    <a:moveTo>
                      <a:pt x="-25054" y="11906"/>
                    </a:moveTo>
                    <a:cubicBezTo>
                      <a:pt x="29072" y="10276"/>
                      <a:pt x="19988" y="9993"/>
                      <a:pt x="9525" y="4762"/>
                    </a:cubicBezTo>
                    <a:cubicBezTo>
                      <a:pt x="6350" y="3175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710400">
                <a:off x="7160400" y="1222920"/>
                <a:ext cx="18360" cy="34560"/>
              </a:xfrm>
              <a:custGeom>
                <a:avLst/>
                <a:gdLst/>
                <a:ahLst/>
                <a:rect l="l" t="t" r="r" b="b"/>
                <a:pathLst>
                  <a:path w="20054" h="42863">
                    <a:moveTo>
                      <a:pt x="20054" y="-22673"/>
                    </a:moveTo>
                    <a:cubicBezTo>
                      <a:pt x="18118" y="-28482"/>
                      <a:pt x="17526" y="-32346"/>
                      <a:pt x="12911" y="28575"/>
                    </a:cubicBezTo>
                    <a:cubicBezTo>
                      <a:pt x="10887" y="26551"/>
                      <a:pt x="8148" y="25400"/>
                      <a:pt x="5767" y="23813"/>
                    </a:cubicBezTo>
                    <a:cubicBezTo>
                      <a:pt x="0" y="6513"/>
                      <a:pt x="1004" y="14545"/>
                      <a:pt x="100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710400">
                <a:off x="7203240" y="1216080"/>
                <a:ext cx="2160" cy="36720"/>
              </a:xfrm>
              <a:custGeom>
                <a:avLst/>
                <a:gdLst/>
                <a:ahLst/>
                <a:rect l="l" t="t" r="r" b="b"/>
                <a:pathLst>
                  <a:path w="2474" h="45244">
                    <a:moveTo>
                      <a:pt x="2474" y="-20292"/>
                    </a:moveTo>
                    <a:cubicBezTo>
                      <a:pt x="0" y="3178"/>
                      <a:pt x="93" y="18280"/>
                      <a:pt x="9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710400">
                <a:off x="7237440" y="1227960"/>
                <a:ext cx="6840" cy="30960"/>
              </a:xfrm>
              <a:custGeom>
                <a:avLst/>
                <a:gdLst/>
                <a:ahLst/>
                <a:rect l="l" t="t" r="r" b="b"/>
                <a:pathLst>
                  <a:path w="7369" h="38100">
                    <a:moveTo>
                      <a:pt x="0" y="-27436"/>
                    </a:moveTo>
                    <a:cubicBezTo>
                      <a:pt x="794" y="-31405"/>
                      <a:pt x="1503" y="30145"/>
                      <a:pt x="2381" y="26194"/>
                    </a:cubicBezTo>
                    <a:cubicBezTo>
                      <a:pt x="4460" y="16839"/>
                      <a:pt x="5708" y="14811"/>
                      <a:pt x="7144" y="4762"/>
                    </a:cubicBezTo>
                    <a:cubicBezTo>
                      <a:pt x="7369" y="3191"/>
                      <a:pt x="7144" y="1587"/>
                      <a:pt x="71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710400">
                <a:off x="7272720" y="1244520"/>
                <a:ext cx="16200" cy="32400"/>
              </a:xfrm>
              <a:custGeom>
                <a:avLst/>
                <a:gdLst/>
                <a:ahLst/>
                <a:rect l="l" t="t" r="r" b="b"/>
                <a:pathLst>
                  <a:path w="17712" h="39853">
                    <a:moveTo>
                      <a:pt x="0" y="-25683"/>
                    </a:moveTo>
                    <a:cubicBezTo>
                      <a:pt x="1588" y="-30445"/>
                      <a:pt x="1979" y="29743"/>
                      <a:pt x="4763" y="25566"/>
                    </a:cubicBezTo>
                    <a:cubicBezTo>
                      <a:pt x="6350" y="23185"/>
                      <a:pt x="8363" y="21037"/>
                      <a:pt x="9525" y="18422"/>
                    </a:cubicBezTo>
                    <a:cubicBezTo>
                      <a:pt x="17712" y="0"/>
                      <a:pt x="10052" y="8370"/>
                      <a:pt x="16669" y="175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710400">
                <a:off x="7300440" y="1282680"/>
                <a:ext cx="24120" cy="21600"/>
              </a:xfrm>
              <a:custGeom>
                <a:avLst/>
                <a:gdLst/>
                <a:ahLst/>
                <a:rect l="l" t="t" r="r" b="b"/>
                <a:pathLst>
                  <a:path w="26194" h="26884">
                    <a:moveTo>
                      <a:pt x="0" y="23812"/>
                    </a:moveTo>
                    <a:cubicBezTo>
                      <a:pt x="2381" y="24606"/>
                      <a:pt x="4730" y="26884"/>
                      <a:pt x="7144" y="26194"/>
                    </a:cubicBezTo>
                    <a:cubicBezTo>
                      <a:pt x="14441" y="24109"/>
                      <a:pt x="17725" y="17466"/>
                      <a:pt x="21431" y="11906"/>
                    </a:cubicBezTo>
                    <a:cubicBezTo>
                      <a:pt x="24084" y="1292"/>
                      <a:pt x="21497" y="4695"/>
                      <a:pt x="2619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rot="709800">
              <a:off x="7345440" y="1253160"/>
              <a:ext cx="217800" cy="30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09800">
              <a:off x="7370280" y="1355040"/>
              <a:ext cx="150480" cy="19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709800">
              <a:off x="7449840" y="1449720"/>
              <a:ext cx="50040" cy="4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rot="17093400">
              <a:off x="7417800" y="1191240"/>
              <a:ext cx="131040" cy="23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e4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rot="709800">
              <a:off x="7548840" y="1317240"/>
              <a:ext cx="35640" cy="32760"/>
            </a:xfrm>
            <a:custGeom>
              <a:avLst/>
              <a:gdLst/>
              <a:ahLst/>
              <a:rect l="l" t="t" r="r" b="b"/>
              <a:pathLst>
                <a:path w="38292" h="40481">
                  <a:moveTo>
                    <a:pt x="-27244" y="-25055"/>
                  </a:moveTo>
                  <a:cubicBezTo>
                    <a:pt x="-29625" y="-26643"/>
                    <a:pt x="-32600" y="-27583"/>
                    <a:pt x="31148" y="-29818"/>
                  </a:cubicBezTo>
                  <a:cubicBezTo>
                    <a:pt x="29580" y="-31778"/>
                    <a:pt x="30542" y="30350"/>
                    <a:pt x="28767" y="28575"/>
                  </a:cubicBezTo>
                  <a:cubicBezTo>
                    <a:pt x="20580" y="20388"/>
                    <a:pt x="16318" y="19663"/>
                    <a:pt x="7335" y="16668"/>
                  </a:cubicBezTo>
                  <a:cubicBezTo>
                    <a:pt x="2679" y="9684"/>
                    <a:pt x="2164" y="10269"/>
                    <a:pt x="192" y="2381"/>
                  </a:cubicBezTo>
                  <a:cubicBezTo>
                    <a:pt x="0" y="1611"/>
                    <a:pt x="192" y="794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709800">
              <a:off x="7560360" y="1361520"/>
              <a:ext cx="37440" cy="9360"/>
            </a:xfrm>
            <a:custGeom>
              <a:avLst/>
              <a:gdLst/>
              <a:ahLst/>
              <a:rect l="l" t="t" r="r" b="b"/>
              <a:pathLst>
                <a:path w="40482" h="11906">
                  <a:moveTo>
                    <a:pt x="-25054" y="11906"/>
                  </a:moveTo>
                  <a:cubicBezTo>
                    <a:pt x="29072" y="10276"/>
                    <a:pt x="19988" y="9993"/>
                    <a:pt x="9525" y="4762"/>
                  </a:cubicBezTo>
                  <a:cubicBezTo>
                    <a:pt x="6350" y="3175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709800">
              <a:off x="7527240" y="1299240"/>
              <a:ext cx="18360" cy="34560"/>
            </a:xfrm>
            <a:custGeom>
              <a:avLst/>
              <a:gdLst/>
              <a:ahLst/>
              <a:rect l="l" t="t" r="r" b="b"/>
              <a:pathLst>
                <a:path w="20054" h="42863">
                  <a:moveTo>
                    <a:pt x="20054" y="-22673"/>
                  </a:moveTo>
                  <a:cubicBezTo>
                    <a:pt x="18118" y="-28482"/>
                    <a:pt x="17526" y="-32346"/>
                    <a:pt x="12911" y="28575"/>
                  </a:cubicBezTo>
                  <a:cubicBezTo>
                    <a:pt x="10887" y="26551"/>
                    <a:pt x="8148" y="25400"/>
                    <a:pt x="5767" y="23813"/>
                  </a:cubicBezTo>
                  <a:cubicBezTo>
                    <a:pt x="0" y="6513"/>
                    <a:pt x="1004" y="14545"/>
                    <a:pt x="10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709800">
              <a:off x="7506000" y="1279440"/>
              <a:ext cx="2160" cy="36720"/>
            </a:xfrm>
            <a:custGeom>
              <a:avLst/>
              <a:gdLst/>
              <a:ahLst/>
              <a:rect l="l" t="t" r="r" b="b"/>
              <a:pathLst>
                <a:path w="2474" h="45244">
                  <a:moveTo>
                    <a:pt x="2474" y="-20292"/>
                  </a:moveTo>
                  <a:cubicBezTo>
                    <a:pt x="0" y="3178"/>
                    <a:pt x="93" y="18280"/>
                    <a:pt x="9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rot="709800">
              <a:off x="7466040" y="1275840"/>
              <a:ext cx="6840" cy="30960"/>
            </a:xfrm>
            <a:custGeom>
              <a:avLst/>
              <a:gdLst/>
              <a:ahLst/>
              <a:rect l="l" t="t" r="r" b="b"/>
              <a:pathLst>
                <a:path w="7369" h="38100">
                  <a:moveTo>
                    <a:pt x="0" y="-27436"/>
                  </a:moveTo>
                  <a:cubicBezTo>
                    <a:pt x="794" y="-31405"/>
                    <a:pt x="1503" y="30145"/>
                    <a:pt x="2381" y="26194"/>
                  </a:cubicBezTo>
                  <a:cubicBezTo>
                    <a:pt x="4460" y="16839"/>
                    <a:pt x="5708" y="14811"/>
                    <a:pt x="7144" y="4762"/>
                  </a:cubicBezTo>
                  <a:cubicBezTo>
                    <a:pt x="7369" y="3191"/>
                    <a:pt x="7144" y="1587"/>
                    <a:pt x="7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rot="709800">
              <a:off x="7418520" y="1274760"/>
              <a:ext cx="16200" cy="32040"/>
            </a:xfrm>
            <a:custGeom>
              <a:avLst/>
              <a:gdLst/>
              <a:ahLst/>
              <a:rect l="l" t="t" r="r" b="b"/>
              <a:pathLst>
                <a:path w="17712" h="39853">
                  <a:moveTo>
                    <a:pt x="0" y="-25683"/>
                  </a:moveTo>
                  <a:cubicBezTo>
                    <a:pt x="1588" y="-30445"/>
                    <a:pt x="1979" y="29743"/>
                    <a:pt x="4763" y="25566"/>
                  </a:cubicBezTo>
                  <a:cubicBezTo>
                    <a:pt x="6350" y="23185"/>
                    <a:pt x="8363" y="21037"/>
                    <a:pt x="9525" y="18422"/>
                  </a:cubicBezTo>
                  <a:cubicBezTo>
                    <a:pt x="17712" y="0"/>
                    <a:pt x="10052" y="8370"/>
                    <a:pt x="16669" y="17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rot="709800">
              <a:off x="7373160" y="1297440"/>
              <a:ext cx="24120" cy="21600"/>
            </a:xfrm>
            <a:custGeom>
              <a:avLst/>
              <a:gdLst/>
              <a:ahLst/>
              <a:rect l="l" t="t" r="r" b="b"/>
              <a:pathLst>
                <a:path w="26194" h="26884">
                  <a:moveTo>
                    <a:pt x="0" y="23812"/>
                  </a:moveTo>
                  <a:cubicBezTo>
                    <a:pt x="2381" y="24606"/>
                    <a:pt x="4730" y="26884"/>
                    <a:pt x="7144" y="26194"/>
                  </a:cubicBezTo>
                  <a:cubicBezTo>
                    <a:pt x="14441" y="24109"/>
                    <a:pt x="17725" y="17466"/>
                    <a:pt x="21431" y="11906"/>
                  </a:cubicBezTo>
                  <a:cubicBezTo>
                    <a:pt x="24084" y="1292"/>
                    <a:pt x="21497" y="4695"/>
                    <a:pt x="2619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910400">
              <a:off x="7188840" y="1461960"/>
              <a:ext cx="175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38" y="2382"/>
                    <a:pt x="13276" y="5080"/>
                    <a:pt x="13276" y="10800"/>
                  </a:cubicBezTo>
                  <a:cubicBezTo>
                    <a:pt x="13276" y="16520"/>
                    <a:pt x="17438" y="192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ff00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6110400">
              <a:off x="7581240" y="972360"/>
              <a:ext cx="219240" cy="251280"/>
            </a:xfrm>
            <a:custGeom>
              <a:avLst/>
              <a:gdLst>
                <a:gd name="textAreaLeft" fmla="*/ 48240 w 219240"/>
                <a:gd name="textAreaRight" fmla="*/ 171000 w 219240"/>
                <a:gd name="textAreaTop" fmla="*/ 55080 h 251280"/>
                <a:gd name="textAreaBottom" fmla="*/ 196200 h 2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910400">
              <a:off x="7203960" y="892800"/>
              <a:ext cx="219240" cy="251280"/>
            </a:xfrm>
            <a:custGeom>
              <a:avLst/>
              <a:gdLst>
                <a:gd name="textAreaLeft" fmla="*/ 48240 w 219240"/>
                <a:gd name="textAreaRight" fmla="*/ 171000 w 219240"/>
                <a:gd name="textAreaTop" fmla="*/ 55080 h 251280"/>
                <a:gd name="textAreaBottom" fmla="*/ 196200 h 2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710400">
              <a:off x="7418520" y="963360"/>
              <a:ext cx="167400" cy="1900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0:12:52Z</dcterms:created>
  <dc:creator>Clare</dc:creator>
  <dc:description/>
  <dc:language>en-US</dc:language>
  <cp:lastModifiedBy>Clare</cp:lastModifiedBy>
  <dcterms:modified xsi:type="dcterms:W3CDTF">2011-05-19T14:32:04Z</dcterms:modified>
  <cp:revision>8</cp:revision>
  <dc:subject/>
  <dc:title>Slide 1</dc:title>
</cp:coreProperties>
</file>