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BC7F-919C-4990-A8F9-4206C2E70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C265-86B1-4CC1-B185-8B02D0FD5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A470-0A9C-4C06-8704-FC334DF29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EBB2-CBC4-47B1-8B8D-3AFC8E80F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A345-9F73-4E82-83F6-1FE345C3C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98B3-4824-421B-99EF-1646F8EAB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9EF9-1F65-4538-A9B9-5090F30B1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A9EF-EB3E-4F36-A5FA-B9C11150B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27C5-9251-4D00-B4E5-87B7688C5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28DF-6B41-4BF8-8687-E5B2C17FB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24DC-7799-4BC5-9F5C-2A6F4BA46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0003-E4D1-45A8-BB3A-47F79EBA2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4F7BB-CABC-4432-9FD7-043949B0EB1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1268280"/>
            <a:ext cx="8424720" cy="411588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guantes (m.pl.)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medias (f.pl.)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malla (f.sg.)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jersey con capucha (m.)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alcetines (m.pl.)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unteras (f.pl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50920" y="189000"/>
            <a:ext cx="8424720" cy="76428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arolina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50920" y="189000"/>
            <a:ext cx="8424720" cy="76428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arolina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50920" y="1125360"/>
            <a:ext cx="2376360" cy="23767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ARO RÍTMICA"/>
          <p:cNvPicPr/>
          <p:nvPr/>
        </p:nvPicPr>
        <p:blipFill>
          <a:blip r:embed="rId3"/>
          <a:stretch/>
        </p:blipFill>
        <p:spPr>
          <a:xfrm>
            <a:off x="3276720" y="1125360"/>
            <a:ext cx="2376360" cy="23767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CINTA RÍTMICA 4mts"/>
          <p:cNvPicPr/>
          <p:nvPr/>
        </p:nvPicPr>
        <p:blipFill>
          <a:blip r:embed="rId4"/>
          <a:stretch/>
        </p:blipFill>
        <p:spPr>
          <a:xfrm>
            <a:off x="6300720" y="1125360"/>
            <a:ext cx="2400480" cy="24004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CUERDA RÍTMICA "/>
          <p:cNvPicPr/>
          <p:nvPr/>
        </p:nvPicPr>
        <p:blipFill>
          <a:blip r:embed="rId5"/>
          <a:stretch/>
        </p:blipFill>
        <p:spPr>
          <a:xfrm>
            <a:off x="1763640" y="4005360"/>
            <a:ext cx="2376720" cy="23763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PELOTA GIMNASIA RITMICA COMPETICIÓN"/>
          <p:cNvPicPr/>
          <p:nvPr/>
        </p:nvPicPr>
        <p:blipFill>
          <a:blip r:embed="rId6"/>
          <a:stretch/>
        </p:blipFill>
        <p:spPr>
          <a:xfrm>
            <a:off x="4716360" y="4005360"/>
            <a:ext cx="2376720" cy="23763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50920" y="3429000"/>
            <a:ext cx="2376360" cy="5205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las maz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76720" y="3429000"/>
            <a:ext cx="2376360" cy="5205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l a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300720" y="3429000"/>
            <a:ext cx="2376720" cy="5205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la cin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63640" y="6338880"/>
            <a:ext cx="2376720" cy="5205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la cuer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16360" y="6338880"/>
            <a:ext cx="2376720" cy="5205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la pelo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0920" y="1268280"/>
            <a:ext cx="8424720" cy="411588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Traje de neopreno (m.)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gorra (f.sg.)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zapatillas de deporte (f.pl.)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gafas de sol (f.pl.)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amiseta (f.)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antalones cortos (m.pl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50920" y="189000"/>
            <a:ext cx="8424720" cy="76428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David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0920" y="189000"/>
            <a:ext cx="8424720" cy="76428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David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250920" y="1197000"/>
            <a:ext cx="3889440" cy="24303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50920" y="3645000"/>
            <a:ext cx="3889440" cy="5205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la cano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3"/>
          <a:srcRect l="0" t="13385" r="0" b="20471"/>
          <a:stretch/>
        </p:blipFill>
        <p:spPr>
          <a:xfrm>
            <a:off x="5076720" y="1197000"/>
            <a:ext cx="3305160" cy="17114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5076720" y="2924280"/>
            <a:ext cx="3311640" cy="5205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los re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12-05-05T20:55:03Z</dcterms:modified>
  <cp:revision>201</cp:revision>
  <dc:subject/>
  <dc:title>TITLE</dc:title>
</cp:coreProperties>
</file>