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51F3-F236-4853-A1EA-759748E11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DE00-5B6A-4DF2-92E7-52B321BC1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8F90-79A3-4655-9288-F3F097C69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2C3F-3696-415C-94E9-31664DA85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14D3-E17E-4E00-9B72-58401B7CE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2E1F-C9C2-4A06-B5E6-EFBC4D0C4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B851-BA34-401E-89D1-13FAB9335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6F57-3460-4FDB-A2F2-603617755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5ABF-3353-402D-9F7D-727C95332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C6D5-B8F8-4FDC-91F4-61327F52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22A0-8B13-4414-AF96-EC4BB7CC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CA2F-DF31-448C-8F64-978E75F7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592BE-8AFF-4AFE-90DD-0EE8863F3E1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268280"/>
            <a:ext cx="8424720" cy="41158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uantes (m.pl.)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edias (f.pl.)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alla (f.sg.)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ersey con capucha (m.)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alcetines (m.pl.)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unteras (f.pl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0920" y="189000"/>
            <a:ext cx="8424720" cy="764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arolin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189000"/>
            <a:ext cx="8424720" cy="764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arolin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50920" y="1125360"/>
            <a:ext cx="2376360" cy="2376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ARO RÍTMICA"/>
          <p:cNvPicPr/>
          <p:nvPr/>
        </p:nvPicPr>
        <p:blipFill>
          <a:blip r:embed="rId3"/>
          <a:stretch/>
        </p:blipFill>
        <p:spPr>
          <a:xfrm>
            <a:off x="3276720" y="1125360"/>
            <a:ext cx="2376360" cy="2376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CINTA RÍTMICA 4mts"/>
          <p:cNvPicPr/>
          <p:nvPr/>
        </p:nvPicPr>
        <p:blipFill>
          <a:blip r:embed="rId4"/>
          <a:stretch/>
        </p:blipFill>
        <p:spPr>
          <a:xfrm>
            <a:off x="6300720" y="1125360"/>
            <a:ext cx="2400480" cy="24004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CUERDA RÍTMICA "/>
          <p:cNvPicPr/>
          <p:nvPr/>
        </p:nvPicPr>
        <p:blipFill>
          <a:blip r:embed="rId5"/>
          <a:stretch/>
        </p:blipFill>
        <p:spPr>
          <a:xfrm>
            <a:off x="1763640" y="4005360"/>
            <a:ext cx="2376720" cy="2376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PELOTA GIMNASIA RITMICA COMPETICIÓN"/>
          <p:cNvPicPr/>
          <p:nvPr/>
        </p:nvPicPr>
        <p:blipFill>
          <a:blip r:embed="rId6"/>
          <a:stretch/>
        </p:blipFill>
        <p:spPr>
          <a:xfrm>
            <a:off x="4716360" y="4005360"/>
            <a:ext cx="2376720" cy="2376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50920" y="3429000"/>
            <a:ext cx="2376360" cy="52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as maz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76720" y="3429000"/>
            <a:ext cx="2376360" cy="52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 a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300720" y="3429000"/>
            <a:ext cx="2376720" cy="52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a ci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6338880"/>
            <a:ext cx="2376720" cy="52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a cuer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16360" y="6338880"/>
            <a:ext cx="2376720" cy="52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a pelo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1268280"/>
            <a:ext cx="8424720" cy="41158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raje de neopreno (m.)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orra (f.sg.)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zapatillas de deporte (f.pl.)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afas de sol (f.pl.)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amiseta (f.)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antalones cortos (m.pl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0920" y="189000"/>
            <a:ext cx="8424720" cy="764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avid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189000"/>
            <a:ext cx="8424720" cy="764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avid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50920" y="1197000"/>
            <a:ext cx="3889440" cy="2430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50920" y="3645000"/>
            <a:ext cx="3889440" cy="52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a can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rcRect l="0" t="13385" r="0" b="20471"/>
          <a:stretch/>
        </p:blipFill>
        <p:spPr>
          <a:xfrm>
            <a:off x="5076720" y="1197000"/>
            <a:ext cx="3305160" cy="17114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076720" y="2924280"/>
            <a:ext cx="3311640" cy="52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os re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2-05-05T20:55:03Z</dcterms:modified>
  <cp:revision>201</cp:revision>
  <dc:subject/>
  <dc:title>TITLE</dc:title>
</cp:coreProperties>
</file>