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EA92-9FE5-4192-A610-BD2744618FC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D9DB-27E4-41B7-B268-D437D57A252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08C5-594D-4869-AE96-221E7D7960A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246-D5D0-4408-A1FA-787E3C6E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5A6-92C5-4277-A463-4BE0E48D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C5D-68F7-416C-BA10-5A6A1537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34DC-41BD-4645-A0E6-C57AE174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A15D-B680-4CF3-9BE8-192EA92C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1D19-FE3C-47FA-B42D-9E0C01A6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D72A-943B-4600-9D87-9F5A9368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DA80-B47E-4E68-9963-36EE524C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95D3-77B3-4D72-B421-E1296811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1FE9-85F2-4BF1-A0CC-8306770A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FA90-F666-4060-8393-6AA68AF6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634-641D-4168-9F76-5D4419DF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8985-4902-409D-854C-45BCF1CC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2B4A-F4EE-44B4-B0DF-CA4D4135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5AE4-A044-4A52-B69B-5307F85A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5BE8-1BC5-43D5-B5F6-F1A776A8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DF5C-4557-4148-84A4-8A443FBE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9EF-4E1A-4680-A31A-8351905E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D72-918B-4C0B-954B-B4BBC1FB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BB6-B8F1-41B0-AD3C-F934F463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B06-333D-4BAA-8E52-B744F3B4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369F-7051-422F-A780-945892CC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7C53-33CB-4DB2-840D-982AE7B1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B34-8988-4820-9262-19F2A218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0520-94A9-41F6-8749-ACEC7E450B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4AC8-E372-4FEE-BA09-5BAA500CBF4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3.xml"/><Relationship Id="rId20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08000" y="115920"/>
          <a:ext cx="8928000" cy="6626160"/>
        </p:xfrm>
        <a:graphic>
          <a:graphicData uri="http://schemas.openxmlformats.org/drawingml/2006/table">
            <a:tbl>
              <a:tblPr/>
              <a:tblGrid>
                <a:gridCol w="2976480"/>
                <a:gridCol w="2975040"/>
                <a:gridCol w="2976480"/>
              </a:tblGrid>
              <a:tr h="609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yea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7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ter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less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9c9"/>
                    </a:solidFill>
                  </a:tcPr>
                </a:tc>
              </a:tr>
              <a:tr h="234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two eyes and one nos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18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raining and it’s windy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34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a blue mouth and a small hea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76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foggy in the north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022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brown hair and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green ey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32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sunny in th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south-east but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it’s cold in th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east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 rot="20621400">
            <a:off x="39240" y="88740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 rot="20621400">
            <a:off x="33120" y="302112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 rot="20621400">
            <a:off x="37800" y="254808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 rot="20621400">
            <a:off x="33480" y="535932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 rot="20621400">
            <a:off x="39600" y="485604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6"/>
          <a:stretch/>
        </p:blipFill>
        <p:spPr>
          <a:xfrm rot="20621400">
            <a:off x="57240" y="434808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4" descr=""/>
          <p:cNvPicPr/>
          <p:nvPr/>
        </p:nvPicPr>
        <p:blipFill>
          <a:blip r:embed="rId7"/>
          <a:stretch/>
        </p:blipFill>
        <p:spPr>
          <a:xfrm rot="20621400">
            <a:off x="3060360" y="88704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5" descr=""/>
          <p:cNvPicPr/>
          <p:nvPr/>
        </p:nvPicPr>
        <p:blipFill>
          <a:blip r:embed="rId8"/>
          <a:stretch/>
        </p:blipFill>
        <p:spPr>
          <a:xfrm rot="20621400">
            <a:off x="3053880" y="302112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6" descr=""/>
          <p:cNvPicPr/>
          <p:nvPr/>
        </p:nvPicPr>
        <p:blipFill>
          <a:blip r:embed="rId9"/>
          <a:stretch/>
        </p:blipFill>
        <p:spPr>
          <a:xfrm rot="20621400">
            <a:off x="3058920" y="254772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7" descr=""/>
          <p:cNvPicPr/>
          <p:nvPr/>
        </p:nvPicPr>
        <p:blipFill>
          <a:blip r:embed="rId10"/>
          <a:stretch/>
        </p:blipFill>
        <p:spPr>
          <a:xfrm rot="20621400">
            <a:off x="3054240" y="535932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8" descr=""/>
          <p:cNvPicPr/>
          <p:nvPr/>
        </p:nvPicPr>
        <p:blipFill>
          <a:blip r:embed="rId11"/>
          <a:stretch/>
        </p:blipFill>
        <p:spPr>
          <a:xfrm rot="20621400">
            <a:off x="3060720" y="4855680"/>
            <a:ext cx="484200" cy="687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9" descr=""/>
          <p:cNvPicPr/>
          <p:nvPr/>
        </p:nvPicPr>
        <p:blipFill>
          <a:blip r:embed="rId12"/>
          <a:stretch/>
        </p:blipFill>
        <p:spPr>
          <a:xfrm rot="20621400">
            <a:off x="3078000" y="434808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1" descr=""/>
          <p:cNvPicPr/>
          <p:nvPr/>
        </p:nvPicPr>
        <p:blipFill>
          <a:blip r:embed="rId13"/>
          <a:stretch/>
        </p:blipFill>
        <p:spPr>
          <a:xfrm rot="20621400">
            <a:off x="6011640" y="88740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2" descr=""/>
          <p:cNvPicPr/>
          <p:nvPr/>
        </p:nvPicPr>
        <p:blipFill>
          <a:blip r:embed="rId14"/>
          <a:stretch/>
        </p:blipFill>
        <p:spPr>
          <a:xfrm rot="20621400">
            <a:off x="6006600" y="302076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3" descr=""/>
          <p:cNvPicPr/>
          <p:nvPr/>
        </p:nvPicPr>
        <p:blipFill>
          <a:blip r:embed="rId15"/>
          <a:stretch/>
        </p:blipFill>
        <p:spPr>
          <a:xfrm rot="20621400">
            <a:off x="6009840" y="254808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4" descr=""/>
          <p:cNvPicPr/>
          <p:nvPr/>
        </p:nvPicPr>
        <p:blipFill>
          <a:blip r:embed="rId16"/>
          <a:stretch/>
        </p:blipFill>
        <p:spPr>
          <a:xfrm rot="20621400">
            <a:off x="6006960" y="5358960"/>
            <a:ext cx="484200" cy="68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5" descr=""/>
          <p:cNvPicPr/>
          <p:nvPr/>
        </p:nvPicPr>
        <p:blipFill>
          <a:blip r:embed="rId17"/>
          <a:stretch/>
        </p:blipFill>
        <p:spPr>
          <a:xfrm rot="20621400">
            <a:off x="6012000" y="485604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6" descr=""/>
          <p:cNvPicPr/>
          <p:nvPr/>
        </p:nvPicPr>
        <p:blipFill>
          <a:blip r:embed="rId18"/>
          <a:stretch/>
        </p:blipFill>
        <p:spPr>
          <a:xfrm rot="20621400">
            <a:off x="6031080" y="4348080"/>
            <a:ext cx="48564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8000" y="115920"/>
          <a:ext cx="8928000" cy="6626160"/>
        </p:xfrm>
        <a:graphic>
          <a:graphicData uri="http://schemas.openxmlformats.org/drawingml/2006/table">
            <a:tbl>
              <a:tblPr/>
              <a:tblGrid>
                <a:gridCol w="2976480"/>
                <a:gridCol w="2975040"/>
                <a:gridCol w="2976480"/>
              </a:tblGrid>
              <a:tr h="548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yea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7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ter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less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9c9"/>
                    </a:solidFill>
                  </a:tcPr>
                </a:tc>
              </a:tr>
              <a:tr h="2071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two eyes and one nos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18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raining and it’s windy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071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a blue mouth and a small hea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76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foggy in the north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665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brown hair and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green ey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32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sunny in th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south-east but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it’s cold in th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east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 rot="20621400">
            <a:off x="39240" y="88740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 rot="20621400">
            <a:off x="33120" y="302112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 rot="20621400">
            <a:off x="37800" y="254808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 rot="20621400">
            <a:off x="33480" y="535932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5"/>
          <a:stretch/>
        </p:blipFill>
        <p:spPr>
          <a:xfrm rot="20621400">
            <a:off x="39600" y="485604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6"/>
          <a:stretch/>
        </p:blipFill>
        <p:spPr>
          <a:xfrm rot="20621400">
            <a:off x="57240" y="434808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4" descr=""/>
          <p:cNvPicPr/>
          <p:nvPr/>
        </p:nvPicPr>
        <p:blipFill>
          <a:blip r:embed="rId7"/>
          <a:stretch/>
        </p:blipFill>
        <p:spPr>
          <a:xfrm rot="20621400">
            <a:off x="3060360" y="88704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5" descr=""/>
          <p:cNvPicPr/>
          <p:nvPr/>
        </p:nvPicPr>
        <p:blipFill>
          <a:blip r:embed="rId8"/>
          <a:stretch/>
        </p:blipFill>
        <p:spPr>
          <a:xfrm rot="20621400">
            <a:off x="3053880" y="302112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6" descr=""/>
          <p:cNvPicPr/>
          <p:nvPr/>
        </p:nvPicPr>
        <p:blipFill>
          <a:blip r:embed="rId9"/>
          <a:stretch/>
        </p:blipFill>
        <p:spPr>
          <a:xfrm rot="20621400">
            <a:off x="3058920" y="254772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7" descr=""/>
          <p:cNvPicPr/>
          <p:nvPr/>
        </p:nvPicPr>
        <p:blipFill>
          <a:blip r:embed="rId10"/>
          <a:stretch/>
        </p:blipFill>
        <p:spPr>
          <a:xfrm rot="20621400">
            <a:off x="3054240" y="535932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8" descr=""/>
          <p:cNvPicPr/>
          <p:nvPr/>
        </p:nvPicPr>
        <p:blipFill>
          <a:blip r:embed="rId11"/>
          <a:stretch/>
        </p:blipFill>
        <p:spPr>
          <a:xfrm rot="20621400">
            <a:off x="3060720" y="4855680"/>
            <a:ext cx="484200" cy="687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9" descr=""/>
          <p:cNvPicPr/>
          <p:nvPr/>
        </p:nvPicPr>
        <p:blipFill>
          <a:blip r:embed="rId12"/>
          <a:stretch/>
        </p:blipFill>
        <p:spPr>
          <a:xfrm rot="20621400">
            <a:off x="3078000" y="434808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1" descr=""/>
          <p:cNvPicPr/>
          <p:nvPr/>
        </p:nvPicPr>
        <p:blipFill>
          <a:blip r:embed="rId13"/>
          <a:stretch/>
        </p:blipFill>
        <p:spPr>
          <a:xfrm rot="20621400">
            <a:off x="6011640" y="88740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2" descr=""/>
          <p:cNvPicPr/>
          <p:nvPr/>
        </p:nvPicPr>
        <p:blipFill>
          <a:blip r:embed="rId14"/>
          <a:stretch/>
        </p:blipFill>
        <p:spPr>
          <a:xfrm rot="20621400">
            <a:off x="6006600" y="302076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3" descr=""/>
          <p:cNvPicPr/>
          <p:nvPr/>
        </p:nvPicPr>
        <p:blipFill>
          <a:blip r:embed="rId15"/>
          <a:stretch/>
        </p:blipFill>
        <p:spPr>
          <a:xfrm rot="20621400">
            <a:off x="6009840" y="254808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4" descr=""/>
          <p:cNvPicPr/>
          <p:nvPr/>
        </p:nvPicPr>
        <p:blipFill>
          <a:blip r:embed="rId16"/>
          <a:stretch/>
        </p:blipFill>
        <p:spPr>
          <a:xfrm rot="20621400">
            <a:off x="6006960" y="5358960"/>
            <a:ext cx="484200" cy="687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5" descr=""/>
          <p:cNvPicPr/>
          <p:nvPr/>
        </p:nvPicPr>
        <p:blipFill>
          <a:blip r:embed="rId17"/>
          <a:stretch/>
        </p:blipFill>
        <p:spPr>
          <a:xfrm rot="20621400">
            <a:off x="6012000" y="485604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6" descr=""/>
          <p:cNvPicPr/>
          <p:nvPr/>
        </p:nvPicPr>
        <p:blipFill>
          <a:blip r:embed="rId18"/>
          <a:stretch/>
        </p:blipFill>
        <p:spPr>
          <a:xfrm rot="20621400">
            <a:off x="6031080" y="4348080"/>
            <a:ext cx="485640" cy="6876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179280" y="134136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os ojos y una nari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22"/>
          <p:cNvSpPr/>
          <p:nvPr/>
        </p:nvSpPr>
        <p:spPr>
          <a:xfrm>
            <a:off x="179280" y="2924280"/>
            <a:ext cx="2811600" cy="128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una boca azul y una cabeza pequeñ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23"/>
          <p:cNvSpPr/>
          <p:nvPr/>
        </p:nvSpPr>
        <p:spPr>
          <a:xfrm>
            <a:off x="198360" y="494172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el pelo marrón y los ojos verd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24"/>
          <p:cNvSpPr/>
          <p:nvPr/>
        </p:nvSpPr>
        <p:spPr>
          <a:xfrm>
            <a:off x="3184560" y="134136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ciento ochenta y cuatr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25"/>
          <p:cNvSpPr/>
          <p:nvPr/>
        </p:nvSpPr>
        <p:spPr>
          <a:xfrm>
            <a:off x="3184560" y="314172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setecientos sesenta y do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26"/>
          <p:cNvSpPr/>
          <p:nvPr/>
        </p:nvSpPr>
        <p:spPr>
          <a:xfrm>
            <a:off x="3200400" y="494496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s mil doscientos cinc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27"/>
          <p:cNvSpPr/>
          <p:nvPr/>
        </p:nvSpPr>
        <p:spPr>
          <a:xfrm>
            <a:off x="6156360" y="134136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Llueve y hace viento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28"/>
          <p:cNvSpPr/>
          <p:nvPr/>
        </p:nvSpPr>
        <p:spPr>
          <a:xfrm>
            <a:off x="6156360" y="314172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Hay niebla en el norte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29"/>
          <p:cNvSpPr/>
          <p:nvPr/>
        </p:nvSpPr>
        <p:spPr>
          <a:xfrm>
            <a:off x="6175440" y="4941720"/>
            <a:ext cx="2811240" cy="16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Hace sol en el sureste pero hace frío en el este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6-23T08:35:54Z</dcterms:modified>
  <cp:revision>192</cp:revision>
  <dc:subject/>
  <dc:title>TITLE</dc:title>
</cp:coreProperties>
</file>