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1697-FA8A-4C83-8FC0-8B1BCB12B07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ABFF-7BF4-4F1B-A13E-A358C64D40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3787-182D-47B9-AB59-8B39B1DEB3B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169-EAFA-4F54-B395-5B4E45D9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A25-5F2F-44E8-8003-9D98A99D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512-649D-4A57-8EBA-4223709B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521D-B1FB-4F10-B9CB-D4A35716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C5A3-C14D-45B3-B39D-125F92B0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6E15-17BA-473B-A384-1B025FA7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0246-9C7A-41EB-A14F-B7121168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08B2-9244-4E90-B1F0-7F70D53F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E483-5242-4F49-B40C-CF165AEE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556E-FD90-451A-9E20-BBC011B1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4E1A-7097-4BCF-9740-10AFF308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54D-9DF1-411A-BDBB-E955372A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BA76-5A66-4B23-8019-8633913D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A3D1-0034-475F-A90A-E58468D4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957F-64B0-400D-8709-3F1DF7B1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D09F-C1C0-4901-B872-9B97A402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EEF6-0661-44AE-A46C-FBD2528C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2A7-57F2-4F50-9295-8ECC6382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CDC-1531-4F47-9D16-ED04802A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2DB-2758-4EB0-BCA8-BF4682E5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DE8-787A-4C82-9654-1BE65949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BA6-59EB-465C-B596-BACCCAB0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2B1D-1FCC-4343-8E56-EAC66C9C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DCDF-6381-4675-887D-486ABEDC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1E64-F256-4948-AEF0-22CF1CE8053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D46D-6F12-42BD-A8B8-F61DF9BDEA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3.xml"/><Relationship Id="rId20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8000" y="115920"/>
          <a:ext cx="8928000" cy="662616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609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yea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7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ter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less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9c9"/>
                    </a:solidFill>
                  </a:tcPr>
                </a:tc>
              </a:tr>
              <a:tr h="234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two eyes and one nos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18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raining and it’s windy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34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a blue mouth and a small hea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76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foggy in the north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022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brown hair and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green ey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32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sunny in th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south-east but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it’s cold in th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east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 rot="20621400">
            <a:off x="39240" y="88740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 rot="20621400">
            <a:off x="33120" y="302112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 rot="20621400">
            <a:off x="37800" y="254808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 rot="20621400">
            <a:off x="33480" y="535932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 rot="20621400">
            <a:off x="39600" y="485604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6"/>
          <a:stretch/>
        </p:blipFill>
        <p:spPr>
          <a:xfrm rot="20621400">
            <a:off x="57240" y="434808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4" descr=""/>
          <p:cNvPicPr/>
          <p:nvPr/>
        </p:nvPicPr>
        <p:blipFill>
          <a:blip r:embed="rId7"/>
          <a:stretch/>
        </p:blipFill>
        <p:spPr>
          <a:xfrm rot="20621400">
            <a:off x="3060360" y="88704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5" descr=""/>
          <p:cNvPicPr/>
          <p:nvPr/>
        </p:nvPicPr>
        <p:blipFill>
          <a:blip r:embed="rId8"/>
          <a:stretch/>
        </p:blipFill>
        <p:spPr>
          <a:xfrm rot="20621400">
            <a:off x="3053880" y="302112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6" descr=""/>
          <p:cNvPicPr/>
          <p:nvPr/>
        </p:nvPicPr>
        <p:blipFill>
          <a:blip r:embed="rId9"/>
          <a:stretch/>
        </p:blipFill>
        <p:spPr>
          <a:xfrm rot="20621400">
            <a:off x="3058920" y="254772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7" descr=""/>
          <p:cNvPicPr/>
          <p:nvPr/>
        </p:nvPicPr>
        <p:blipFill>
          <a:blip r:embed="rId10"/>
          <a:stretch/>
        </p:blipFill>
        <p:spPr>
          <a:xfrm rot="20621400">
            <a:off x="3054240" y="535932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8" descr=""/>
          <p:cNvPicPr/>
          <p:nvPr/>
        </p:nvPicPr>
        <p:blipFill>
          <a:blip r:embed="rId11"/>
          <a:stretch/>
        </p:blipFill>
        <p:spPr>
          <a:xfrm rot="20621400">
            <a:off x="3060720" y="4855680"/>
            <a:ext cx="484200" cy="687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9" descr=""/>
          <p:cNvPicPr/>
          <p:nvPr/>
        </p:nvPicPr>
        <p:blipFill>
          <a:blip r:embed="rId12"/>
          <a:stretch/>
        </p:blipFill>
        <p:spPr>
          <a:xfrm rot="20621400">
            <a:off x="3078000" y="434808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1" descr=""/>
          <p:cNvPicPr/>
          <p:nvPr/>
        </p:nvPicPr>
        <p:blipFill>
          <a:blip r:embed="rId13"/>
          <a:stretch/>
        </p:blipFill>
        <p:spPr>
          <a:xfrm rot="20621400">
            <a:off x="6011640" y="88740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2" descr=""/>
          <p:cNvPicPr/>
          <p:nvPr/>
        </p:nvPicPr>
        <p:blipFill>
          <a:blip r:embed="rId14"/>
          <a:stretch/>
        </p:blipFill>
        <p:spPr>
          <a:xfrm rot="20621400">
            <a:off x="6006600" y="302076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3" descr=""/>
          <p:cNvPicPr/>
          <p:nvPr/>
        </p:nvPicPr>
        <p:blipFill>
          <a:blip r:embed="rId15"/>
          <a:stretch/>
        </p:blipFill>
        <p:spPr>
          <a:xfrm rot="20621400">
            <a:off x="6009840" y="254808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4" descr=""/>
          <p:cNvPicPr/>
          <p:nvPr/>
        </p:nvPicPr>
        <p:blipFill>
          <a:blip r:embed="rId16"/>
          <a:stretch/>
        </p:blipFill>
        <p:spPr>
          <a:xfrm rot="20621400">
            <a:off x="6006960" y="5358960"/>
            <a:ext cx="484200" cy="68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5" descr=""/>
          <p:cNvPicPr/>
          <p:nvPr/>
        </p:nvPicPr>
        <p:blipFill>
          <a:blip r:embed="rId17"/>
          <a:stretch/>
        </p:blipFill>
        <p:spPr>
          <a:xfrm rot="20621400">
            <a:off x="6012000" y="485604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6" descr=""/>
          <p:cNvPicPr/>
          <p:nvPr/>
        </p:nvPicPr>
        <p:blipFill>
          <a:blip r:embed="rId18"/>
          <a:stretch/>
        </p:blipFill>
        <p:spPr>
          <a:xfrm rot="20621400">
            <a:off x="6031080" y="4348080"/>
            <a:ext cx="48564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8000" y="115920"/>
          <a:ext cx="8928000" cy="662616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548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yea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7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ter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less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9c9"/>
                    </a:solidFill>
                  </a:tcPr>
                </a:tc>
              </a:tr>
              <a:tr h="2071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two eyes and one nos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18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raining and it’s windy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071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a blue mouth and a small hea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76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foggy in the north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665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brown hair and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green ey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32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sunny in th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south-east but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it’s cold in th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east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 rot="20621400">
            <a:off x="39240" y="88740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 rot="20621400">
            <a:off x="33120" y="302112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 rot="20621400">
            <a:off x="37800" y="254808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 rot="20621400">
            <a:off x="33480" y="535932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 rot="20621400">
            <a:off x="39600" y="485604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6"/>
          <a:stretch/>
        </p:blipFill>
        <p:spPr>
          <a:xfrm rot="20621400">
            <a:off x="57240" y="434808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4" descr=""/>
          <p:cNvPicPr/>
          <p:nvPr/>
        </p:nvPicPr>
        <p:blipFill>
          <a:blip r:embed="rId7"/>
          <a:stretch/>
        </p:blipFill>
        <p:spPr>
          <a:xfrm rot="20621400">
            <a:off x="3060360" y="88704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5" descr=""/>
          <p:cNvPicPr/>
          <p:nvPr/>
        </p:nvPicPr>
        <p:blipFill>
          <a:blip r:embed="rId8"/>
          <a:stretch/>
        </p:blipFill>
        <p:spPr>
          <a:xfrm rot="20621400">
            <a:off x="3053880" y="302112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6" descr=""/>
          <p:cNvPicPr/>
          <p:nvPr/>
        </p:nvPicPr>
        <p:blipFill>
          <a:blip r:embed="rId9"/>
          <a:stretch/>
        </p:blipFill>
        <p:spPr>
          <a:xfrm rot="20621400">
            <a:off x="3058920" y="254772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7" descr=""/>
          <p:cNvPicPr/>
          <p:nvPr/>
        </p:nvPicPr>
        <p:blipFill>
          <a:blip r:embed="rId10"/>
          <a:stretch/>
        </p:blipFill>
        <p:spPr>
          <a:xfrm rot="20621400">
            <a:off x="3054240" y="535932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8" descr=""/>
          <p:cNvPicPr/>
          <p:nvPr/>
        </p:nvPicPr>
        <p:blipFill>
          <a:blip r:embed="rId11"/>
          <a:stretch/>
        </p:blipFill>
        <p:spPr>
          <a:xfrm rot="20621400">
            <a:off x="3060720" y="4855680"/>
            <a:ext cx="484200" cy="687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9" descr=""/>
          <p:cNvPicPr/>
          <p:nvPr/>
        </p:nvPicPr>
        <p:blipFill>
          <a:blip r:embed="rId12"/>
          <a:stretch/>
        </p:blipFill>
        <p:spPr>
          <a:xfrm rot="20621400">
            <a:off x="3078000" y="434808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1" descr=""/>
          <p:cNvPicPr/>
          <p:nvPr/>
        </p:nvPicPr>
        <p:blipFill>
          <a:blip r:embed="rId13"/>
          <a:stretch/>
        </p:blipFill>
        <p:spPr>
          <a:xfrm rot="20621400">
            <a:off x="6011640" y="88740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2" descr=""/>
          <p:cNvPicPr/>
          <p:nvPr/>
        </p:nvPicPr>
        <p:blipFill>
          <a:blip r:embed="rId14"/>
          <a:stretch/>
        </p:blipFill>
        <p:spPr>
          <a:xfrm rot="20621400">
            <a:off x="6006600" y="302076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3" descr=""/>
          <p:cNvPicPr/>
          <p:nvPr/>
        </p:nvPicPr>
        <p:blipFill>
          <a:blip r:embed="rId15"/>
          <a:stretch/>
        </p:blipFill>
        <p:spPr>
          <a:xfrm rot="20621400">
            <a:off x="6009840" y="254808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4" descr=""/>
          <p:cNvPicPr/>
          <p:nvPr/>
        </p:nvPicPr>
        <p:blipFill>
          <a:blip r:embed="rId16"/>
          <a:stretch/>
        </p:blipFill>
        <p:spPr>
          <a:xfrm rot="20621400">
            <a:off x="6006960" y="5358960"/>
            <a:ext cx="484200" cy="687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5" descr=""/>
          <p:cNvPicPr/>
          <p:nvPr/>
        </p:nvPicPr>
        <p:blipFill>
          <a:blip r:embed="rId17"/>
          <a:stretch/>
        </p:blipFill>
        <p:spPr>
          <a:xfrm rot="20621400">
            <a:off x="6012000" y="485604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6" descr=""/>
          <p:cNvPicPr/>
          <p:nvPr/>
        </p:nvPicPr>
        <p:blipFill>
          <a:blip r:embed="rId18"/>
          <a:stretch/>
        </p:blipFill>
        <p:spPr>
          <a:xfrm rot="20621400">
            <a:off x="6031080" y="4348080"/>
            <a:ext cx="485640" cy="6876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179280" y="134136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os ojos y una nari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22"/>
          <p:cNvSpPr/>
          <p:nvPr/>
        </p:nvSpPr>
        <p:spPr>
          <a:xfrm>
            <a:off x="179280" y="2924280"/>
            <a:ext cx="2811600" cy="128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una boca azul y una cabeza pequeñ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23"/>
          <p:cNvSpPr/>
          <p:nvPr/>
        </p:nvSpPr>
        <p:spPr>
          <a:xfrm>
            <a:off x="198360" y="494172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el pelo marrón y los ojos verd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24"/>
          <p:cNvSpPr/>
          <p:nvPr/>
        </p:nvSpPr>
        <p:spPr>
          <a:xfrm>
            <a:off x="3184560" y="134136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ciento ochenta y cuatr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25"/>
          <p:cNvSpPr/>
          <p:nvPr/>
        </p:nvSpPr>
        <p:spPr>
          <a:xfrm>
            <a:off x="3184560" y="314172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setecientos sesenta y do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26"/>
          <p:cNvSpPr/>
          <p:nvPr/>
        </p:nvSpPr>
        <p:spPr>
          <a:xfrm>
            <a:off x="3200400" y="494496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s mil doscientos cinc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27"/>
          <p:cNvSpPr/>
          <p:nvPr/>
        </p:nvSpPr>
        <p:spPr>
          <a:xfrm>
            <a:off x="6156360" y="134136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Llueve y hace viento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28"/>
          <p:cNvSpPr/>
          <p:nvPr/>
        </p:nvSpPr>
        <p:spPr>
          <a:xfrm>
            <a:off x="6156360" y="314172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Hay niebla en el norte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29"/>
          <p:cNvSpPr/>
          <p:nvPr/>
        </p:nvSpPr>
        <p:spPr>
          <a:xfrm>
            <a:off x="6175440" y="4941720"/>
            <a:ext cx="2811240" cy="16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Hace sol en el sureste pero hace frío en el este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6-23T08:35:54Z</dcterms:modified>
  <cp:revision>192</cp:revision>
  <dc:subject/>
  <dc:title>TITLE</dc:title>
</cp:coreProperties>
</file>