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C32-EAB7-48A0-8D2A-4A402C2E5B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73B0-1C75-4566-8EA1-217417D861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F842-1205-43E7-8539-B80E3FA83A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839-5B47-4ECB-B404-8E75CE3C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305-F361-4565-93A9-8AD544C8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0B1-C59B-4BBA-936B-E0BD0A33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180-7387-4385-903D-F39ED409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2B8-0C7C-486F-9736-C49D59E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2B5F-A7FA-4BA3-9380-F5F80166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5B78-4BE4-49CF-9F23-0170534D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2975-D6A7-48D1-87D3-EBE82150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AB6-BF42-443E-88C4-D7676A8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6484-B7EF-4DC9-B33E-57E5CE3C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0AB2-9C42-4F71-B59A-443D7E1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D8F-935E-47F0-BA21-45788BA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7B06-991D-471A-9355-AED15CDD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62BC-846C-468C-8416-94D9407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21D-1B70-4BEA-BC56-AEF7A07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88A1-AA72-4AEB-A84A-FCE77EA8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55F-2C81-42F9-B6F8-88AFD797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1114-94F8-41AD-84D1-3678A290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ECA1-C4BA-4762-AFEC-FBF6CC41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3367-1B9C-49D9-9ABB-CC3454E2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7EF9-ADF7-4815-BFF0-775D7992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833E-75E0-48C9-963A-A78F7D1A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31A-CE4A-42A2-B1F5-05AD162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F33F-D19D-486D-9D4A-23AD6B87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4AA7-965A-4D11-9715-35ECE2D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510D-9803-4F2F-B09A-A501CFB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DB08-D1A8-442C-A259-F4D25E1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06C1-C0EF-4891-9846-DC41ED66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8B32-3B4C-4CB7-852E-0472EA02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D364-CDD6-4314-8FA9-15F847E8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68D-D0E1-42EB-BA28-593ED9AA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383-D970-4B95-B37C-D512CA8C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B4A-F879-47A7-9791-1FAAD41B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1C3-6584-4D82-9622-AF06A85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A67-6CFD-4B57-BECC-84D7B29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90D-7969-46D4-8E23-7E234A1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DF3E-2F83-48DF-9C20-EA0F37D922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B29C-1400-462B-B516-17B4D11477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27B-D9F3-44F7-A4B8-0446CAEB738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609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market and a libr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y car and by b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 there is a park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on foot and by boa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02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there is not a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ank but ther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s a museu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to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upermarket by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ik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548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market and a libr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y car and by b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 there is a park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on foot and by boa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6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there is not a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ank but ther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s a museu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to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upermarket by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ik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17928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Llueve y hace vient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17928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y niebla en el nor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198360" y="4941720"/>
            <a:ext cx="2811600" cy="16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ce sol en el sureste pero hace frío en el es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4"/>
          <p:cNvSpPr/>
          <p:nvPr/>
        </p:nvSpPr>
        <p:spPr>
          <a:xfrm>
            <a:off x="31845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 mercado y una bibliotec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31845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 mi pueblo hay un parqu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6"/>
          <p:cNvSpPr/>
          <p:nvPr/>
        </p:nvSpPr>
        <p:spPr>
          <a:xfrm>
            <a:off x="3200400" y="4944960"/>
            <a:ext cx="2811600" cy="16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 mi pueblo no hay un banco pero hay un muse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7"/>
          <p:cNvSpPr/>
          <p:nvPr/>
        </p:nvSpPr>
        <p:spPr>
          <a:xfrm>
            <a:off x="61563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 coche y en autobú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61563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oy a pie y en barc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29"/>
          <p:cNvSpPr/>
          <p:nvPr/>
        </p:nvSpPr>
        <p:spPr>
          <a:xfrm>
            <a:off x="6175440" y="4941720"/>
            <a:ext cx="281124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oy al supermercado en bici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23T08:29:38Z</dcterms:modified>
  <cp:revision>291</cp:revision>
  <dc:subject/>
  <dc:title>TITLE</dc:title>
</cp:coreProperties>
</file>