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238B-E66B-43B3-9BCF-F8FADE76C6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4293-1438-4FE3-BEC2-1A18BFCA89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00C-4EE3-4C2F-BDB3-68DCF4B8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EEF-7423-4765-A6AA-D434577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BA9-DEA7-4981-B5EB-57E3407E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146-BF3F-4059-85E0-6408AE93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7AD0-DF31-474C-933D-DE734B17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69B0-15BF-4299-989C-06EF33C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F38F-954D-4E11-8870-C52F188B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1866-A50D-4D35-A326-3255957C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C939-461D-446B-81C0-97574F8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9868-D3B1-4671-8CED-111163F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4D08-6BAD-4F27-AFB4-E24D19B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9B5-E0D0-4529-981B-69653AB6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75F0-5944-42D7-983A-EDFCDDC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D6E9-BB00-4809-ADF4-9EA5F88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CCDC-92D4-4A6D-9461-F4F03DF2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CFC-C8C0-4AF7-AF87-75D92AA0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131F-A9F3-4E2A-AAB7-7FF16635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E9A7-FC39-41EB-A0E4-BCEAADE3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8012-6ED8-49FF-B9AF-2B08750D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31E5-7C10-408B-90D0-464BFF3F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D60D-7C8A-4128-BD8B-C3E71CF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495D-C789-4CDC-9F75-D5BCF9F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F72-6EF7-4CE8-8A3A-CE4CF0F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DC1D-DE1F-461E-821A-D338087F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7E70-B566-4FD8-A882-552D907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7EA0-C7F7-4A05-B73F-AE873A7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3C38-4AB4-42B8-9D88-CED5591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6D8E-141D-4588-A649-BB0BB329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AA32-133D-4854-8505-6CC2D6F7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B1E9-032E-4AC1-BCCA-686EDC06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8A0-20A4-4445-961A-01191790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24E-09EA-4A8C-8516-F98A19A6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47F-8DB4-4A22-A86B-3E1F0A5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F54-7F61-40AB-8D7C-2F03A76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6E5-67BB-40EF-B8A2-8508DE5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F48-71B8-4FB1-8107-1E80A828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88E6-D9F6-46F9-A20A-EFB3D683DB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FCB5-E70E-4B8A-9BEB-72B0AB1E70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BF87-C41B-4A2B-969C-D97CEC8EAE7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4360" y="1484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cognat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79280" y="2781360"/>
            <a:ext cx="878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 Spanish word that looks very similar to an English word means the same as that English wor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9280" y="537372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fútbol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tenis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gimna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08000" y="115920"/>
            <a:ext cx="892800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les de chicos están en peligro cuando usan internet.  Los riesgos más comunes son la gente deshonesta, los virus informáticos y las adicciones a la tecnologí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ra evitar los riesgos, debes mantener tu información privada, solamente visible para tus amigo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54:10Z</dcterms:modified>
  <cp:revision>224</cp:revision>
  <dc:subject/>
  <dc:title>TITLE</dc:title>
</cp:coreProperties>
</file>