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F535-91AB-4A3A-9E14-1C2140D65C8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5AB1-6666-40EE-BB4E-5775E911639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C4DB-A878-4BDD-ACB1-D8D5BDE20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4D97-A902-4701-AFE9-28709D6C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80F3-727F-46D2-AB8F-F62E33B5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68FB-B05D-4BA5-B442-0701191C8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087F-F51C-4AF1-B3CB-CC1258FA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399E-B96A-4774-B2D2-85313B5F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48E3-0C14-48D8-8613-BC7478C6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2402-FC6E-4317-A077-0AE7DF48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E606-7449-4048-BEBD-A508C7E9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9D7A-F6AA-43FE-AFD4-F5932E0C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F13C-16DB-4445-9E2C-46033BA6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4106-2C43-4AF0-8095-99889487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7698-F171-462D-A5F5-E9595D72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0086-A656-449C-8062-B3B11539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6634-E447-400F-BC41-EDF4F06A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B8CD-15E7-404F-8544-04E92BB9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A0E9-78B1-4B85-B0B9-CAD75700D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9CF00-A4DA-48F1-817F-16B26090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B638E-3DBA-4B0D-B4AE-CBE98750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7A26E-714D-4054-9946-A4FE3A25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F6662-2971-4196-B1D1-B2672506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73301-7849-453E-A005-CD90BFF1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2287-2CD5-458D-981B-9FFDF039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C40F2-02D8-4269-9519-7ADA7A8E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677EF-B43F-4724-B65D-80E62DD3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BAD64-B485-4830-AF04-25C40586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65738-6258-4709-83BB-BDA0F3A8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9A781-4D2E-46A4-932E-9C8A901C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8016D-10DD-4CAC-94FB-9C8673B93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3B203-008C-49B0-B6D5-8433AB321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845C-88E7-413B-AB95-250185BA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2096-2729-4FD7-AE81-A608E830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C63C-4657-42F8-A9FF-F83340B9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0E7A-0AA7-4912-ABC8-1E7A5522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266C-DA84-406C-AD09-122F450B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1613-0E59-48C1-A8F3-E3A3040A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2CD0-1FF6-409D-9027-C849CCA95EA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64AA-87E5-4E07-B09D-9F21C81D9B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9325-7389-42EF-B963-29F54D46600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4360" y="14842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cognate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79280" y="2781360"/>
            <a:ext cx="8785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a Spanish word that looks very similar to an English word means the same as that English word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79280" y="537372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fútbol</a:t>
            </a: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tenis</a:t>
            </a: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gimnas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108000" y="115920"/>
            <a:ext cx="8928000" cy="55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iles de chicos están en peligro cuando usan internet.  Los riesgos más comunes son la gente deshonesta, los virus informáticos y las adicciones a la tecnología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ara evitar los riesgos, debes mantener tu información privada, solamente visible para tus amigo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4-01-10T09:54:10Z</dcterms:modified>
  <cp:revision>224</cp:revision>
  <dc:subject/>
  <dc:title>TITLE</dc:title>
</cp:coreProperties>
</file>