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A2A-8217-4F93-BA0D-A1F6C976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C25-B136-4241-8C90-C052D00C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6D1-253E-4B83-BCC8-1E87CDB8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C45-7D50-4DAD-B3E7-FCA6614A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042-5B02-4F14-8EB9-8575EC5F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7214-0FC9-4CC2-ABF4-866C7267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E3D-8868-4BA6-BCAB-802AD4DC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166D-4DB4-47BC-A66A-ED9D8C6D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F4B-15C4-4CAC-A3E1-9A75C32C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B045-7B53-4741-B7A1-8E89594E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64C-EF74-46BA-80AA-72E97D3E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B295-BA95-49B4-A48C-E8A03005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5738-36AA-4C19-BC83-FFED36F94AA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os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9280" y="692280"/>
          <a:ext cx="8785440" cy="6087960"/>
        </p:xfrm>
        <a:graphic>
          <a:graphicData uri="http://schemas.openxmlformats.org/drawingml/2006/table">
            <a:tbl>
              <a:tblPr/>
              <a:tblGrid>
                <a:gridCol w="601920"/>
                <a:gridCol w="1950840"/>
                <a:gridCol w="2703600"/>
                <a:gridCol w="1441440"/>
                <a:gridCol w="1008000"/>
                <a:gridCol w="1079640"/>
              </a:tblGrid>
              <a:tr h="794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 think it mean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 will be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 wi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 los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arill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zu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anc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i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ró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anj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gr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j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s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d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olet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os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9280" y="620640"/>
          <a:ext cx="8785440" cy="6068880"/>
        </p:xfrm>
        <a:graphic>
          <a:graphicData uri="http://schemas.openxmlformats.org/drawingml/2006/table">
            <a:tbl>
              <a:tblPr/>
              <a:tblGrid>
                <a:gridCol w="601920"/>
                <a:gridCol w="1950840"/>
                <a:gridCol w="2703600"/>
                <a:gridCol w="1441440"/>
                <a:gridCol w="1150920"/>
                <a:gridCol w="936720"/>
              </a:tblGrid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t mea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 will b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 w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 lo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arill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zu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anc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i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ró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anj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gr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j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s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d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olet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2771640" y="141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84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ff"/>
                </a:solidFill>
                <a:latin typeface="Comic Sans M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276640"/>
            <a:ext cx="1368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7"/>
                </a:solidFill>
                <a:latin typeface="Comic Sans MS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2708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77777"/>
                </a:solidFill>
                <a:latin typeface="Comic Sans MS"/>
              </a:rPr>
              <a:t>g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3141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6633"/>
                </a:solidFill>
                <a:latin typeface="Comic Sans MS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3573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Comic Sans MS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400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437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486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Comic Sans MS"/>
              </a:rPr>
              <a:t>p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5373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580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99"/>
                </a:solidFill>
                <a:latin typeface="Comic Sans MS"/>
              </a:rPr>
              <a:t>pur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3-11T19:38:15Z</dcterms:modified>
  <cp:revision>165</cp:revision>
  <dc:subject/>
  <dc:title>TITLE</dc:title>
</cp:coreProperties>
</file>