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925-A59A-4B9F-938E-B1B539B6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325-E66C-45FC-946B-22CDD84A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D3A-2C79-49DD-B6EB-B1929864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324-A7FD-4C54-A2B9-C9969FA0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677-CA25-436D-A16B-0F5FB91F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1AD-C8CE-439F-BC8D-17A05A95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F99C-E3A7-4BC2-BBAD-109728EE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522-F85D-4684-87C9-E8CD55AD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5FE-C707-4AEB-92DA-4D4238BA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A0D-B2F0-4AEA-B57C-D1C95964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13D-6F7D-418B-9CEA-24EA116B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2E9C-3DFB-4536-948C-498EF5B4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A134-F56E-4B29-BB56-7411C6C4AE6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os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9280" y="692280"/>
          <a:ext cx="8785440" cy="6087960"/>
        </p:xfrm>
        <a:graphic>
          <a:graphicData uri="http://schemas.openxmlformats.org/drawingml/2006/table">
            <a:tbl>
              <a:tblPr/>
              <a:tblGrid>
                <a:gridCol w="601920"/>
                <a:gridCol w="1950840"/>
                <a:gridCol w="2703600"/>
                <a:gridCol w="1441440"/>
                <a:gridCol w="1008000"/>
                <a:gridCol w="1079640"/>
              </a:tblGrid>
              <a:tr h="794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 think it mean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 will be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 wi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 los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arill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zu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anc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i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ró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anj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gr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j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s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d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olet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7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os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9280" y="620640"/>
          <a:ext cx="8785440" cy="6068880"/>
        </p:xfrm>
        <a:graphic>
          <a:graphicData uri="http://schemas.openxmlformats.org/drawingml/2006/table">
            <a:tbl>
              <a:tblPr/>
              <a:tblGrid>
                <a:gridCol w="601920"/>
                <a:gridCol w="1950840"/>
                <a:gridCol w="2703600"/>
                <a:gridCol w="1441440"/>
                <a:gridCol w="1150920"/>
                <a:gridCol w="936720"/>
              </a:tblGrid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t mea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 will b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 w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 lo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arill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zu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anc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i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ró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anj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gr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j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s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d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olet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2771640" y="141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84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ff"/>
                </a:solidFill>
                <a:latin typeface="Comic Sans M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276640"/>
            <a:ext cx="1368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7"/>
                </a:solidFill>
                <a:latin typeface="Comic Sans MS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2708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77777"/>
                </a:solidFill>
                <a:latin typeface="Comic Sans MS"/>
              </a:rPr>
              <a:t>g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3141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6633"/>
                </a:solidFill>
                <a:latin typeface="Comic Sans MS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3573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Comic Sans MS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400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437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486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Comic Sans MS"/>
              </a:rPr>
              <a:t>p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5373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580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99"/>
                </a:solidFill>
                <a:latin typeface="Comic Sans MS"/>
              </a:rPr>
              <a:t>pur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3-11T19:38:15Z</dcterms:modified>
  <cp:revision>165</cp:revision>
  <dc:subject/>
  <dc:title>TITLE</dc:title>
</cp:coreProperties>
</file>