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AA3-0AB0-40D6-AC48-9F39AB6E30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E7E-705E-4679-B6C1-3C3DA79200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gic number 7 plus or min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40F-A784-45F3-A82C-455A2EA2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E12-DA09-4CD9-BBF1-1C611409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F08-646B-48C0-9121-0DC8D122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879-F763-402F-8669-CFBC2376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62E-8B5D-4238-9E1F-3308C83F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E30-0D00-43DE-B2D1-86FFD94E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298-17F0-468B-8BB8-23550FC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106-ECDC-4C65-8454-37E1ECB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A35-1E05-4478-B50B-8575C1AE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737-78ED-4272-858A-ED7D177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435-690B-4671-A1F6-02F96323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842-ED8F-45EB-822B-04A4471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C5D-0E52-4BEE-88C0-9510C10A29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28000" y="6453360"/>
            <a:ext cx="1116000" cy="404640"/>
          </a:xfrm>
          <a:prstGeom prst="rect">
            <a:avLst/>
          </a:prstGeom>
          <a:solidFill>
            <a:srgbClr val="911d11"/>
          </a:solidFill>
          <a:ln w="9360">
            <a:solidFill>
              <a:srgbClr val="911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492280"/>
            <a:ext cx="806436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Comic Sans MS"/>
              </a:rPr>
              <a:t>los color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981000"/>
            <a:ext cx="194472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981000"/>
            <a:ext cx="1944360" cy="187164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981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3500280"/>
            <a:ext cx="1944720" cy="187200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500280"/>
            <a:ext cx="1944720" cy="1872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500280"/>
            <a:ext cx="1944360" cy="187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2268360" y="2421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-2187720"/>
            <a:ext cx="1944720" cy="187164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468000" y="2205000"/>
            <a:ext cx="194436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96360" y="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2268360" y="0"/>
            <a:ext cx="194436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2268360" y="465300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731664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2187720"/>
            <a:ext cx="194472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-2116080"/>
            <a:ext cx="194472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7389720"/>
            <a:ext cx="1944720" cy="1871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40720" y="450864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35:21Z</dcterms:modified>
  <cp:revision>56</cp:revision>
  <dc:subject/>
  <dc:title>TITLE</dc:title>
</cp:coreProperties>
</file>