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A49B-871F-4674-9A1E-BAD9654EB3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4049-3F31-48B3-B737-FE9DF2780B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gic number 7 plus or min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971-C491-4C85-B123-73F78A0C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785-558C-4B4F-9B3C-98D0EC9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E18-9B45-4AC0-ABF8-F11BB9F1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144-0182-4A10-9837-B82E3785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909-B775-4023-B3D3-BF2D115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1CE-DD70-4532-B1E1-7F1D1EE2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3E5-2C5A-409A-A4F3-24500DF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572-66E9-4F2E-A6B7-5705787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A53-9C0B-4336-9D02-C8DB32CF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CE8-5395-45A3-94CF-E7DF658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5A0-8434-4C1F-94AB-25EC083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17D-17B9-41E4-8996-F43D643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F4F7-B61E-4EBE-A659-189EA9C017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28000" y="6453360"/>
            <a:ext cx="1116000" cy="404640"/>
          </a:xfrm>
          <a:prstGeom prst="rect">
            <a:avLst/>
          </a:prstGeom>
          <a:solidFill>
            <a:srgbClr val="911d11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492280"/>
            <a:ext cx="806436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Comic Sans MS"/>
              </a:rPr>
              <a:t>los color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981000"/>
            <a:ext cx="194472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981000"/>
            <a:ext cx="1944360" cy="187164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981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3500280"/>
            <a:ext cx="1944720" cy="187200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500280"/>
            <a:ext cx="1944720" cy="1872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500280"/>
            <a:ext cx="1944360" cy="187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2268360" y="2421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-2187720"/>
            <a:ext cx="1944720" cy="187164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468000" y="2205000"/>
            <a:ext cx="194436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96360" y="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2268360" y="0"/>
            <a:ext cx="194436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2268360" y="465300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731664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2187720"/>
            <a:ext cx="194472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-2116080"/>
            <a:ext cx="194472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7389720"/>
            <a:ext cx="1944720" cy="1871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40720" y="450864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35:21Z</dcterms:modified>
  <cp:revision>56</cp:revision>
  <dc:subject/>
  <dc:title>TITLE</dc:title>
</cp:coreProperties>
</file>