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6E67-5860-4F87-9F52-66007E08B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065E-8465-4114-BFB8-EE1C5CB0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9FA9-D763-43D0-9D22-B48ACA4DD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6C40-C559-4D1E-9090-6CCFD050F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A544-0BF8-4D21-AC3B-2BC2A921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D202-FA2D-45B9-AFDE-B1918D64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9003-0E1B-4DDC-906C-695C72DC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9127-5421-4007-9E14-0FC6F61A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8F6D-501F-48B5-9C30-CCF1543A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6F48-14E6-4CD1-9EA8-E20CFFED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7248-867D-4287-979C-E1B1425A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A9E6-F61A-4F9F-ACA2-671B5F8C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6ED3-6F83-4E9C-8E7D-6408BAC448A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43280" y="3357720"/>
            <a:ext cx="1944720" cy="1871640"/>
          </a:xfrm>
          <a:prstGeom prst="rect">
            <a:avLst/>
          </a:prstGeom>
          <a:solidFill>
            <a:srgbClr val="800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24000" y="3357720"/>
            <a:ext cx="1944720" cy="1871640"/>
          </a:xfrm>
          <a:prstGeom prst="rect">
            <a:avLst/>
          </a:prstGeom>
          <a:solidFill>
            <a:srgbClr val="ff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64000" y="981000"/>
            <a:ext cx="1944720" cy="1871640"/>
          </a:xfrm>
          <a:prstGeom prst="rect">
            <a:avLst/>
          </a:prstGeom>
          <a:solidFill>
            <a:srgbClr val="f76e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56360" y="981000"/>
            <a:ext cx="1944720" cy="1871640"/>
          </a:xfrm>
          <a:prstGeom prst="rect">
            <a:avLst/>
          </a:prstGeom>
          <a:solidFill>
            <a:srgbClr val="9933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981000"/>
            <a:ext cx="1944720" cy="187164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612360" y="2349360"/>
            <a:ext cx="1944720" cy="1871640"/>
          </a:xfrm>
          <a:prstGeom prst="rect">
            <a:avLst/>
          </a:prstGeom>
          <a:solidFill>
            <a:srgbClr val="800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2197080" y="-936720"/>
            <a:ext cx="1944720" cy="1871640"/>
          </a:xfrm>
          <a:prstGeom prst="rect">
            <a:avLst/>
          </a:prstGeom>
          <a:solidFill>
            <a:srgbClr val="ff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2268360" y="1773360"/>
            <a:ext cx="1944360" cy="1871640"/>
          </a:xfrm>
          <a:prstGeom prst="rect">
            <a:avLst/>
          </a:prstGeom>
          <a:solidFill>
            <a:srgbClr val="f76e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2268360" y="4724280"/>
            <a:ext cx="1944360" cy="1871640"/>
          </a:xfrm>
          <a:prstGeom prst="rect">
            <a:avLst/>
          </a:prstGeom>
          <a:solidFill>
            <a:srgbClr val="9933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540720" y="0"/>
            <a:ext cx="1944720" cy="187164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63640" y="7245360"/>
            <a:ext cx="1944720" cy="187164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7245360"/>
            <a:ext cx="1944360" cy="1871640"/>
          </a:xfrm>
          <a:prstGeom prst="rect">
            <a:avLst/>
          </a:prstGeom>
          <a:solidFill>
            <a:srgbClr val="800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4000" y="7245360"/>
            <a:ext cx="1944720" cy="1871640"/>
          </a:xfrm>
          <a:prstGeom prst="rect">
            <a:avLst/>
          </a:prstGeom>
          <a:solidFill>
            <a:srgbClr val="ff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95640" y="-2116080"/>
            <a:ext cx="1944720" cy="1871640"/>
          </a:xfrm>
          <a:prstGeom prst="rect">
            <a:avLst/>
          </a:prstGeom>
          <a:solidFill>
            <a:srgbClr val="f76e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56360" y="-2187720"/>
            <a:ext cx="1944720" cy="1871640"/>
          </a:xfrm>
          <a:prstGeom prst="rect">
            <a:avLst/>
          </a:prstGeom>
          <a:solidFill>
            <a:srgbClr val="9933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36528 1 E">
                                      <p:cBhvr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48148E-006 L 1.35834 -0.11528 E">
                                      <p:cBhvr>
                                        <p:cTn id="32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0.01135 C -0.02482 -0.00509 -0.11163 -0.02129 -0.14184 -0.02129 C -0.33385 -0.02129 -0.53142 0.23403 -0.53142 0.48959 C -0.53142 0.36065 -0.63003 0.23403 -0.72343 0.23403 C -0.82222 0.23403 -0.91562 0.36273 -0.91562 0.48959 C -0.91562 0.42593 -0.96493 0.36065 -1.01441 0.36065 C -1.06371 0.36065 -1.11319 0.42408 -1.11319 0.48959 C -1.11319 0.45672 -1.13784 0.42593 -1.16232 0.42593 C -1.18698 0.42593 -1.21163 0.45857 -1.21163 0.48959 C -1.21163 0.47315 -1.22448 0.45672 -1.23628 0.45672 C -1.24288 0.45672 -1.26111 0.47315 -1.26111 0.48959 C -1.26111 0.48125 -1.26753 0.47315 -1.27396 0.47315 C -1.27396 0.47107 -1.2868 0.48125 -1.2868 0.48959 C -1.2868 0.48519 -1.2868 0.48125 -1.29323 0.48125 C -1.29323 0.48334 -1.29965 0.48565 -1.29965 0.48959 C -1.29965 0.48727 -1.29965 0.48519 -1.29965 0.48334 C -1.30607 0.48334 -1.30607 0.48565 -1.30607 0.48773 C -1.3125 0.48773 -1.3125 0.48565 -1.3125 0.48334 C -1.31909 0.48334 -1.31909 0.48565 -1.31909 0.48773 E">
                                      <p:cBhvr>
                                        <p:cTn id="36" dur="1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6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594 2.59259E-006 C 0.09306 0.01065 0.04445 0.02129 0.02309 0.03472 C 0.00157 0.0493 -0.00955 0.06666 -0.01979 0.08403 C -0.03107 0.10139 -0.01979 0.11597 -0.00955 0.13194 C 0.00157 0.14676 0.01754 0.16273 0.05573 0.17592 C 0.08733 0.18935 0.1415 0.2 0.2 0.2081 C 0.254 0.21597 0.31841 0.22129 0.38264 0.22407 C 0.44705 0.22662 0.51129 0.22662 0.57101 0.22407 C 0.63525 0.22129 0.69393 0.21458 0.74254 0.20393 C 0.79098 0.19467 0.83386 0.18264 0.85521 0.16805 C 0.8823 0.15463 0.89254 0.13611 0.89254 0.12129 C 0.89809 0.10671 0.89254 0.08935 0.86545 0.07477 C 0.83941 0.06134 0.79098 0.05069 0.72657 0.04537 C 0.66129 0.04143 0.59705 0.04676 0.55417 0.05602 C 0.51684 0.06528 0.48993 0.08009 0.4842 0.09722 C 0.4842 0.11458 0.48993 0.13055 0.51684 0.14398 C 0.54393 0.1574 0.53837 0.15995 0.64549 0.17731 C 0.74254 0.19606 0.83941 0.19074 0.89809 0.1919 C 0.95677 0.1919 1.00539 0.18657 1.06407 0.18125 C 1.12934 0.17477 1.18247 0.16273 1.22066 0.15208 C 1.25782 0.14143 1.27379 0.12801 1.29514 0.10671 C 1.31111 0.08541 1.31111 0.07477 1.31111 0.05856 C 1.31111 0.04259 1.31111 0.02662 1.31111 0.01065 E">
                                      <p:cBhvr>
                                        <p:cTn id="40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48148E-006 C -0.01563 0.00139 -0.03629 0.00046 -0.05209 0.00833 C -0.06459 0.01458 -0.07657 0.02338 -0.08959 0.02777 C -0.12118 0.05902 -0.07292 0.0125 -0.10834 0.04166 C -0.14844 0.07453 -0.10469 0.04305 -0.1375 0.07199 C -0.15799 0.09027 -0.14236 0.06967 -0.1625 0.09166 C -0.17049 0.10046 -0.17535 0.11342 -0.18334 0.12222 C -0.18698 0.12615 -0.19167 0.12777 -0.19584 0.13032 C -0.20486 0.15439 -0.22049 0.16134 -0.23542 0.175 C -0.27257 0.20902 -0.30504 0.25092 -0.34167 0.28611 C -0.36233 0.32731 -0.33525 0.27754 -0.36459 0.31666 C -0.36875 0.32222 -0.37101 0.33009 -0.375 0.33611 C -0.38143 0.34583 -0.39011 0.35324 -0.39584 0.36389 C -0.39931 0.37037 -0.40209 0.37777 -0.40625 0.38333 C -0.41181 0.39074 -0.425 0.40277 -0.425 0.40277 C -0.43229 0.42199 -0.44497 0.43773 -0.45625 0.45277 C -0.46181 0.46018 -0.46198 0.47222 -0.46667 0.48055 C -0.4757 0.49652 -0.47136 0.4875 -0.47917 0.50833 C -0.48212 0.52754 -0.48889 0.54097 -0.49584 0.55833 C -0.50295 0.57615 -0.50886 0.59375 -0.51667 0.61111 C -0.52136 0.64213 -0.51476 0.60879 -0.525 0.63611 C -0.52917 0.64722 -0.52969 0.6581 -0.53542 0.66944 C -0.5382 0.68379 -0.5382 0.69143 -0.54792 0.7 C -0.55452 0.67384 -0.54809 0.70139 -0.55209 0.63889 C -0.55434 0.60393 -0.55782 0.56828 -0.56042 0.53333 C -0.56632 0.45324 -0.57205 0.37407 -0.58125 0.29444 C -0.58403 0.2199 -0.59566 0.14676 -0.60209 0.07199 C -0.61111 -0.03311 -0.60243 0.01713 -0.6125 -0.03611 C -0.61459 -0.07917 -0.61945 -0.12107 -0.62292 -0.16412 C -0.625 -0.18912 -0.62622 -0.21297 -0.63334 -0.23635 C -0.63403 -0.24352 -0.63438 -0.25093 -0.63542 -0.25834 C -0.63646 -0.26598 -0.63872 -0.27315 -0.63959 -0.28056 C -0.64462 -0.32824 -0.63664 -0.30324 -0.64584 -0.32778 C -0.64879 -0.36644 -0.65261 -0.40625 -0.65834 -0.44445 C -0.66025 -0.45672 -0.66511 -0.46806 -0.66667 -0.48056 C -0.6724 -0.52593 -0.67917 -0.57014 -0.67917 -0.61667 E">
                                      <p:cBhvr>
                                        <p:cTn id="44" dur="1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4.07407E-006 L 0.36632 -1.34375 E">
                                      <p:cBhvr>
                                        <p:cTn id="48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07407E-006 L 0.13785 -1.36481 E">
                                      <p:cBhvr>
                                        <p:cTn id="50" dur="1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0069 L -0.02344 -0.37013 C -0.02795 -0.44953 -0.04236 -0.56203 -0.06285 -0.67986 C -0.08594 -0.8125 -0.10972 -0.91875 -0.1316 -0.99143 L -0.23282 -1.33773 E">
                                      <p:cBhvr>
                                        <p:cTn id="54" dur="1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7.40741E-007 L -0.2559 1.32292 E">
                                      <p:cBhvr>
                                        <p:cTn id="58" dur="1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59259E-006 L -0.73628 1.37547 E">
                                      <p:cBhvr>
                                        <p:cTn id="60" dur="1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3-13T08:38:44Z</dcterms:modified>
  <cp:revision>64</cp:revision>
  <dc:subject/>
  <dc:title>TITLE</dc:title>
</cp:coreProperties>
</file>