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F83-0AFD-4477-BF66-DFBAB45CCD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ACB-8A0A-4D73-86F2-95F9C19978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57B-D036-4412-9891-BB142AD4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D8E-8930-497B-94C5-E46D7FEE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E59-FD0B-414E-A558-7E635379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06D-8441-435D-AB40-7095943D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14C-32D5-4DB1-8B01-7E6F2B8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C29-EA5A-46C6-A265-7BE5CCF0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94B-BABE-4C26-89F5-5D4375D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6BD-84AA-4E1E-B672-C5C86920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610-0170-4FAC-8600-87299FB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2BC-B93E-46C3-81C6-42AA305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04B-A472-4F63-8B3A-E69154D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71B-1B7B-4E07-B5C4-80391C9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2EBE-6DBE-4561-B1FB-FF799F04CE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5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92d05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09:10Z</dcterms:modified>
  <cp:revision>151</cp:revision>
  <dc:subject/>
  <dc:title>TITLE</dc:title>
</cp:coreProperties>
</file>