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ECE-1F48-4B0F-98AF-8D83191FB6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DC5-C394-4308-87A4-7C39E61482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07A-0D0D-46D8-BA45-C6598CB9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8E5-FE1F-456D-ABE9-E84D479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22A-AFE4-44DA-8E43-001539FF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395-B9A9-45B4-87A3-2636F36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795-91D8-40E8-990B-7C55A5E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0A3-C64A-4879-93E2-4A1CFBB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1BF-0CCF-4201-9D28-E7BB067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446-652A-4761-86E0-D761B1F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73F-B06F-4081-9F60-40E505F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A81-C624-49BE-BBC0-E56D121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889-B39A-4969-94FE-8F1A1A1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4E2-0B90-4D24-9FB6-86EDB5B2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3379-C751-48CA-AA3D-264DFD0DE1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5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92d05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09:10Z</dcterms:modified>
  <cp:revision>151</cp:revision>
  <dc:subject/>
  <dc:title>TITLE</dc:title>
</cp:coreProperties>
</file>