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1CB-16EF-445E-ACEC-190A1C67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923-1283-4365-8553-A94F1B7C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263-AB91-4BC8-8C3B-78DB362C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9C40-2B07-4BA5-9FA5-CA196DD4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80F-85C0-42C8-B3F6-30CEC945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9BD-C51B-4B00-8294-5E03633D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48D-A9BF-4082-B76E-79D731A5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2C1-66BB-48B0-9CA7-F9B0260E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B01-43B8-41C5-BB1A-DBD1B27D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CC4-98D6-48F9-AFE8-561D1081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D50-1A9D-4F3A-A4CF-2AD17A2C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5A9-85B2-4817-BA02-F372AEC1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01FC-8E70-4DB8-814A-0A7CD7CF02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ghtbulblanguages.co.uk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rcRect l="0" t="0" r="0" b="824"/>
          <a:stretch/>
        </p:blipFill>
        <p:spPr>
          <a:xfrm>
            <a:off x="0" y="0"/>
            <a:ext cx="9171000" cy="6308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971640" y="765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203640" y="7668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5435640" y="836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7812000" y="836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808200" y="306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3203640" y="306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435640" y="30891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7740720" y="30891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868320" y="5084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3263760" y="5084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5497560" y="510552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7800840" y="510552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5964120" y="2333520"/>
            <a:ext cx="5050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1592280" y="226224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5989680" y="433692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1589040" y="15228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3924360" y="433872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3672000" y="15228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4"/>
          <p:cNvSpPr/>
          <p:nvPr/>
        </p:nvSpPr>
        <p:spPr>
          <a:xfrm>
            <a:off x="3732120" y="227808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5"/>
          <p:cNvSpPr/>
          <p:nvPr/>
        </p:nvSpPr>
        <p:spPr>
          <a:xfrm>
            <a:off x="8282160" y="2349360"/>
            <a:ext cx="5029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6"/>
          <p:cNvSpPr/>
          <p:nvPr/>
        </p:nvSpPr>
        <p:spPr>
          <a:xfrm>
            <a:off x="1353960" y="441468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27"/>
          <p:cNvSpPr/>
          <p:nvPr/>
        </p:nvSpPr>
        <p:spPr>
          <a:xfrm>
            <a:off x="5989680" y="165240"/>
            <a:ext cx="7970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8101080" y="163440"/>
            <a:ext cx="79668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29"/>
          <p:cNvSpPr/>
          <p:nvPr/>
        </p:nvSpPr>
        <p:spPr>
          <a:xfrm>
            <a:off x="8097840" y="4414680"/>
            <a:ext cx="7970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3624120" y="6597720"/>
            <a:ext cx="5472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 Light Bulb Languages 2019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2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9-12-13T11:42:48Z</dcterms:modified>
  <cp:revision>134</cp:revision>
  <dc:subject/>
  <dc:title>TITLE</dc:title>
</cp:coreProperties>
</file>