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FD5-DBCC-4311-86D4-1CA67CB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C80-F398-4768-95D9-B3B6D1DB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EB6-5925-46A3-B6C1-36BC353A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CA1-0D63-4739-B459-E25E52FD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067-001C-4781-9CF3-96439BE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213-2C3F-4EDF-9129-8FCFE43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B2C-4AFF-4781-823C-90F48E0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9E0-4FC6-4528-B66A-A702053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CB8-2F3F-4CF9-A446-5218A889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2CC-1E85-4F6E-825E-B7ED02C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052-E6C1-48F6-9CC4-43ABC1E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46F-9B7B-4B29-AD5D-8BA65EF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9B2-0857-4D01-A5E2-6F800310A6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0" t="0" r="0" b="824"/>
          <a:stretch/>
        </p:blipFill>
        <p:spPr>
          <a:xfrm>
            <a:off x="0" y="0"/>
            <a:ext cx="9171000" cy="630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7164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203640" y="7668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435640" y="836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7812000" y="836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808200" y="306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203640" y="306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435640" y="3089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7740720" y="3089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868320" y="508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3263760" y="508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5497560" y="51055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800840" y="51055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964120" y="233352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592280" y="22622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989680" y="433692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1589040" y="1522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3924360" y="433872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3672000" y="1522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732120" y="22780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5989680" y="1652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624120" y="6597720"/>
            <a:ext cx="547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 2019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13T11:42:48Z</dcterms:modified>
  <cp:revision>134</cp:revision>
  <dc:subject/>
  <dc:title>TITLE</dc:title>
</cp:coreProperties>
</file>