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2E7-F7E0-4C8E-9169-DC78634583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C9FE-4238-4BD4-8CD0-54D2EFA8D0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49C-91A9-4163-9E68-7B207174A3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0443-A4AC-420A-B40D-4929779E15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89C-2BC8-4A11-B715-7FC3FC11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F4A-6679-4FC1-B6AA-E9E63599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B85-0680-4E54-BC45-E4221A1E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B8C-3AA2-497C-BA04-82250BAA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B30-1202-4443-ADB5-D5B425D1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CE0-0BD6-4800-8B7B-4130115E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865-9D50-4812-A31F-8E528985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205-6653-4604-B7B1-6DB766A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525-6FFA-48B3-BACF-47993134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BC4-936D-4BF6-B47E-E0620D8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488-902C-48BF-A5F5-F1CEE599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620-BD63-4ABA-BE57-5D352DF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1FC6-A925-4BBC-ACD6-3F51773A7E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86680" y="1557360"/>
            <a:ext cx="2857320" cy="38098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627280" y="26028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 cómo te llama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92280"/>
            <a:ext cx="5184720" cy="2737080"/>
          </a:xfrm>
          <a:prstGeom prst="wedgeRoundRectCallout">
            <a:avLst>
              <a:gd name="adj1" fmla="val 61574"/>
              <a:gd name="adj2" fmla="val -597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9973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la, me llamo David Beckh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26028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 cómo te llama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492280"/>
            <a:ext cx="5184720" cy="2737080"/>
          </a:xfrm>
          <a:prstGeom prst="wedgeRoundRectCallout">
            <a:avLst>
              <a:gd name="adj1" fmla="val 61574"/>
              <a:gd name="adj2" fmla="val -597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78136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la, me llamo Spongebob Squarepa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649600" cy="39020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26028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 cómo te llama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492280"/>
            <a:ext cx="5184720" cy="2737080"/>
          </a:xfrm>
          <a:prstGeom prst="wedgeRoundRectCallout">
            <a:avLst>
              <a:gd name="adj1" fmla="val 61574"/>
              <a:gd name="adj2" fmla="val -597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9973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la, me llamo Ashley Tisd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595600" cy="41526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5:55Z</dcterms:modified>
  <cp:revision>63</cp:revision>
  <dc:subject/>
  <dc:title>TITLE</dc:title>
</cp:coreProperties>
</file>