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3271-9C7D-4893-85D1-0CEF1ACEB81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E8FA-EB12-434A-9B2D-CDA822E833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8CAA-5E55-4AC4-84E0-75EE37AA453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2A40-A7FD-453A-92EE-E80BBCA3AE2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898-36C5-4A36-9E77-8E447F73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E72-FD13-4187-88A5-709DE875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9C4-7050-4255-8A4C-10963715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4BF-FD32-4503-BE1E-8A154FF0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3EC8-3612-48B6-B9FB-71E0C57E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037-F4E6-4A88-9FE6-79B0BC2C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886-95C6-4CB3-9640-026D8A56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A824-6A94-4026-A286-10493468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DE6D-E9AE-4472-B010-FD42A009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68C-84DF-4A7F-948B-8ECE803A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34B3-3161-43B7-8C76-D965EC45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2BB-8787-4138-B59D-751B15C1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95D4-5CE0-4924-8CDD-6866606D3C8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286680" y="1557360"/>
            <a:ext cx="2857320" cy="380988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2627280" y="260280"/>
            <a:ext cx="65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d9"/>
                </a:solidFill>
                <a:latin typeface="Comic Sans MS"/>
              </a:rPr>
              <a:t>¿ cómo te llama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92280"/>
            <a:ext cx="5184720" cy="2737080"/>
          </a:xfrm>
          <a:prstGeom prst="wedgeRoundRectCallout">
            <a:avLst>
              <a:gd name="adj1" fmla="val 61574"/>
              <a:gd name="adj2" fmla="val -5972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9973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la, me llamo David Beckha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260280"/>
            <a:ext cx="65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d9"/>
                </a:solidFill>
                <a:latin typeface="Comic Sans MS"/>
              </a:rPr>
              <a:t>¿ cómo te llama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492280"/>
            <a:ext cx="5184720" cy="2737080"/>
          </a:xfrm>
          <a:prstGeom prst="wedgeRoundRectCallout">
            <a:avLst>
              <a:gd name="adj1" fmla="val 61574"/>
              <a:gd name="adj2" fmla="val -5972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2781360"/>
            <a:ext cx="44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la, me llamo Spongebob Squarepa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227640" y="1773360"/>
            <a:ext cx="2649600" cy="390204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27280" y="260280"/>
            <a:ext cx="65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d9"/>
                </a:solidFill>
                <a:latin typeface="Comic Sans MS"/>
              </a:rPr>
              <a:t>¿ cómo te llama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492280"/>
            <a:ext cx="5184720" cy="2737080"/>
          </a:xfrm>
          <a:prstGeom prst="wedgeRoundRectCallout">
            <a:avLst>
              <a:gd name="adj1" fmla="val 61574"/>
              <a:gd name="adj2" fmla="val -5972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9973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la, me llamo Ashley Tisd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227640" y="1773360"/>
            <a:ext cx="2595600" cy="415260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09-29T07:35:55Z</dcterms:modified>
  <cp:revision>63</cp:revision>
  <dc:subject/>
  <dc:title>TITLE</dc:title>
</cp:coreProperties>
</file>