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409B-AB49-462F-9591-FC6F3EB6B36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D10D-DC02-46A8-83FC-9BBFB7E433C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9E9A-EF05-48C3-A592-5288F8D2C73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6CC9-C6BB-44B2-813F-BC80E6F38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5140-08EE-43EE-9D60-6ABCA82E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9823-68DC-44B8-B5CD-FE529164C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6AC7-1765-4819-A621-13C6319CB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449B-20E6-477F-9D16-37084819C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5654-D521-407F-851F-2C4414BE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5844-2E5F-488D-B84E-7B941848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6492-F3A9-43AD-9B93-FDCE726B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D581-5377-443C-85C8-A68CD0A5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99E5-C008-4B94-A840-394B59DA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0B1F-4327-4561-A536-F358C86E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DE6E-3251-43C1-A795-27A8F07C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A4B68-1D01-4B80-B5C1-0E45C519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BDEC-AB44-4202-A06A-88FB75C2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6AC8-467A-4A7A-8F13-AB1204FF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5737-A50B-4DA9-8604-B9C721EF9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BCBB-3948-481A-9281-1D996D366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6C8AA-FF45-4151-8035-AC08CFEFE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41CEF-DA14-4F0C-8039-2D069860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B5227-3C30-4D45-87EE-D9D49D75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989C5-B46B-47E9-83D7-13C9736D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51669-14D0-4CC1-84BE-95692227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FDD2-78FB-4FEF-AD75-83B49A4D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C00C0-FF55-4E36-A492-DD3A8E96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B64FB-14BD-496C-A718-243DB3ED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055C2-32D7-450E-BF70-F8BCAFC2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CDE47-C0B8-4EE0-8664-672403F3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B213C-D7BB-408F-98D7-5C335D0E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7501D-3EF3-4988-B1A3-6565C6A58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D93E6-9264-4D4D-B41D-4111F8923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C12F-666C-4A72-9C8F-BD5FA052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42E8-715D-478C-A145-7227448C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2426-7415-43E4-A11F-5A23A80A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C5A1-D693-41FB-B1CE-1CAC89E8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27B5-5A9F-4B0B-8A18-0A418CB4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C860-0FF6-415F-B0B0-41396E04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D495-94C3-4F50-B7E3-957CF931526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36A0-8FCC-4C21-9F07-CE3C56BEE68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F865-1367-415D-9982-1DF892A9FD7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342900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áqu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67280" y="54936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pag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573408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fic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27280" y="501336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tecl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566100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salu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0360" y="155736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pint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0" y="436572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choc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19640" y="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escrib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42920" y="249228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escuch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148428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rat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278136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apl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03640" y="386064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ca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36572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pa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48000" y="595008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orden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342900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áqu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67280" y="54936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pag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573408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fic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27280" y="501336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tecl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566100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salu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940360" y="155736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pint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96000" y="436572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choc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19640" y="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escrib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42920" y="249228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escuch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148428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rat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278136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apl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03640" y="386064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ca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436572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pa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48000" y="595008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orden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5661000"/>
            <a:ext cx="2808360" cy="863640"/>
          </a:xfrm>
          <a:prstGeom prst="ellipse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16000" y="2492280"/>
            <a:ext cx="2808360" cy="863640"/>
          </a:xfrm>
          <a:prstGeom prst="ellipse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40360" y="620640"/>
            <a:ext cx="2808000" cy="863640"/>
          </a:xfrm>
          <a:prstGeom prst="ellipse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4365720"/>
            <a:ext cx="2808360" cy="863640"/>
          </a:xfrm>
          <a:prstGeom prst="ellipse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12000" y="1628640"/>
            <a:ext cx="2808000" cy="863640"/>
          </a:xfrm>
          <a:prstGeom prst="ellipse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227640" y="0"/>
            <a:ext cx="2808360" cy="863640"/>
          </a:xfrm>
          <a:prstGeom prst="ellipse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92360" y="189000"/>
            <a:ext cx="115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33cccc"/>
                </a:solidFill>
                <a:latin typeface="Comic Sans MS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4-01-10T09:52:50Z</dcterms:modified>
  <cp:revision>275</cp:revision>
  <dc:subject/>
  <dc:title>TITLE</dc:title>
</cp:coreProperties>
</file>