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26E4-F62F-43FE-95E0-49E3CA6C01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1AE1-3987-48FF-9725-9B5AF5DE5A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1FFD-0505-49E8-8337-8A53EE8C05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CDE-CC82-459E-A21F-FB73C2F0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753-7C9D-4E2C-B916-F013FD6A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B76-C065-4613-8A9D-9F64C032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2B5-AAAD-4A69-8647-D8144439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6254-D902-48F0-A9F9-E0CAF00B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966B-D88F-40C2-B0BB-C6D27530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FE9C-DAFA-42F1-A6F9-7EB300B8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149B-1240-45EE-89E0-4BFD906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664-EF87-48AA-9C19-08389619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E05F-D353-44EA-8A8B-364C86A0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4430-E19B-4B03-8AA2-2B259226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67C-23FB-483C-8140-E4B8C321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B8E3-F246-4888-B9CB-D3BBA8D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FFDF-D7EF-47D6-90F4-F118FFA3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1681-B20D-43E9-8821-1FBD099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5128-AC41-432D-BF01-32A789BB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67DE-6983-4FB5-ADD2-EDE4E6FE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670D-F049-4C25-9493-0122842E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7556-9D41-4089-AB19-80E4A61A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E3D8-9975-4A1D-9579-A74AEBEE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ECC4-ED54-4346-9ABA-0980ABAD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E8598-6D88-44EE-97D6-42B5C186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A4A-D331-4C3D-8270-47D43A0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9D2A-812E-4B97-B640-EFB67B36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6553-3446-4133-A4E9-893C0565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DC6C-BAE1-4EF8-92D3-2DC90C1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14A2-921F-43E0-B4AD-B553A9B7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5145-7759-4E80-8579-22A4FAB0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314E-27D7-4A15-9F19-0787919D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3FEE-4820-4865-99B2-BFAA078A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FBC-5E50-4044-897E-2E6AAC5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C6D-FC62-4797-8481-65074CF9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1AC-582F-4695-97E7-670D574C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4A5-4535-46A1-9CFE-7E04ABE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250-8F3A-4B2F-AF43-8FFB6C5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E5A-A908-40D1-802D-A783EBD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8392-45D0-4CA6-A244-24B83034A8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52CC-F096-4BC1-A661-A9954380B2E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5BB6-0E1D-4712-971F-B84201D6A89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429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g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7340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fi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5013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ec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661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alu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0360" y="1557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in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43657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ho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9640" y="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scrib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4922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scu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14842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at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781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86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365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59500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rde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429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549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g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57340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fi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5013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ec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661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alu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1557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in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43657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ho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9640" y="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scrib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4922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scu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4842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at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781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386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65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595008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orde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5661000"/>
            <a:ext cx="280836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2492280"/>
            <a:ext cx="280836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620640"/>
            <a:ext cx="280800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365720"/>
            <a:ext cx="280836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1628640"/>
            <a:ext cx="280800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7640" y="0"/>
            <a:ext cx="2808360" cy="86364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18900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33cccc"/>
                </a:solidFill>
                <a:latin typeface="Comic Sans MS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52:50Z</dcterms:modified>
  <cp:revision>275</cp:revision>
  <dc:subject/>
  <dc:title>TITLE</dc:title>
</cp:coreProperties>
</file>