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7F1-0349-46D9-8BEA-85368604A4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1AD-AFFC-48D7-9663-181F6735C9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2A72-99E5-46DD-AB0B-E9FADC125B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ACE-8A98-40A9-BA5E-5714C919AB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5985-252A-4B1A-A2BB-B58E9BAE20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50AC-B35D-42B8-AF80-13C1E03AC2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8F3-11AC-4A9C-86AA-72B54ACC02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983-366C-4AED-84A5-F00A00A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A8F-AFC9-4AF6-A01E-9364776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F74-1A5B-4FA8-B990-8DC50D7F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945-74F7-4390-AFFC-F5CAAAF5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A93-2F29-4A93-A7FC-69FBD9A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0CD-6122-4AED-ABE2-2752B15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7E8-48E8-495B-9E86-DB44FF82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D7C-3666-46F0-A167-275686B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8E4-4B9A-48BF-A48A-F46C1134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7E6-9BEE-46BC-8E7F-A1199DB9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58D-AEDD-443D-A223-A8B0C7A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0D8-E0F7-4CE0-AE85-51D08F2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560-FAB8-4F59-BFB0-7D44BB1B88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dinosaur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392200" y="1413000"/>
            <a:ext cx="2148120" cy="232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572000" y="4284720"/>
            <a:ext cx="21477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>
            <a:off x="1406520" y="4297320"/>
            <a:ext cx="2146320" cy="232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5796000" y="1103400"/>
            <a:ext cx="21477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unicorn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9080" y="119700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3567240" y="1208160"/>
            <a:ext cx="1636560" cy="17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908000" y="3200400"/>
            <a:ext cx="1636920" cy="17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42920" y="501336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3184560" y="501336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6372360" y="4900680"/>
            <a:ext cx="163800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4448160" y="314172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8"/>
          <a:stretch/>
        </p:blipFill>
        <p:spPr>
          <a:xfrm>
            <a:off x="6948360" y="1197000"/>
            <a:ext cx="163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maripos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7320" y="2133720"/>
            <a:ext cx="1884240" cy="156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179280" y="508788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6315120" y="3692520"/>
            <a:ext cx="1884240" cy="156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4"/>
          <a:stretch/>
        </p:blipFill>
        <p:spPr>
          <a:xfrm>
            <a:off x="3851280" y="515628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5"/>
          <a:stretch/>
        </p:blipFill>
        <p:spPr>
          <a:xfrm>
            <a:off x="1817640" y="3701880"/>
            <a:ext cx="1884240" cy="157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6"/>
          <a:stretch/>
        </p:blipFill>
        <p:spPr>
          <a:xfrm>
            <a:off x="6319800" y="123840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7"/>
          <a:stretch/>
        </p:blipFill>
        <p:spPr>
          <a:xfrm>
            <a:off x="2793960" y="1957320"/>
            <a:ext cx="18860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pingüin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26802" t="1768" r="0" b="4906"/>
          <a:stretch/>
        </p:blipFill>
        <p:spPr>
          <a:xfrm>
            <a:off x="993600" y="1628640"/>
            <a:ext cx="2448000" cy="245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26802" t="1768" r="0" b="4906"/>
          <a:stretch/>
        </p:blipFill>
        <p:spPr>
          <a:xfrm>
            <a:off x="3203640" y="4149720"/>
            <a:ext cx="244800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26802" t="1768" r="0" b="4906"/>
          <a:stretch/>
        </p:blipFill>
        <p:spPr>
          <a:xfrm>
            <a:off x="5148360" y="1484280"/>
            <a:ext cx="2448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libr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063880" y="1773360"/>
            <a:ext cx="50148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dinosaur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0952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967040" y="2327400"/>
            <a:ext cx="1623960" cy="167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723420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tretch/>
        </p:blipFill>
        <p:spPr>
          <a:xfrm>
            <a:off x="547848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5"/>
          <a:stretch/>
        </p:blipFill>
        <p:spPr>
          <a:xfrm>
            <a:off x="3722760" y="232740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6"/>
          <a:stretch/>
        </p:blipFill>
        <p:spPr>
          <a:xfrm>
            <a:off x="24300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7"/>
          <a:stretch/>
        </p:blipFill>
        <p:spPr>
          <a:xfrm>
            <a:off x="199872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8"/>
          <a:stretch/>
        </p:blipFill>
        <p:spPr>
          <a:xfrm>
            <a:off x="726768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9"/>
          <a:stretch/>
        </p:blipFill>
        <p:spPr>
          <a:xfrm>
            <a:off x="5510160" y="436572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10"/>
          <a:stretch/>
        </p:blipFill>
        <p:spPr>
          <a:xfrm>
            <a:off x="3754440" y="4365720"/>
            <a:ext cx="16257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2:40Z</dcterms:modified>
  <cp:revision>127</cp:revision>
  <dc:subject/>
  <dc:title>TITLE</dc:title>
</cp:coreProperties>
</file>