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9F0E-3BAE-45EE-B607-59DA2A3A57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0301-6D9E-47EE-8AA9-C88E31B1A41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C872-9D79-43C9-90FD-0CB30A099E0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F560-5A3D-4237-9BB4-D94021F4F0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58F7-D90A-4237-BF1B-4140E6341C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1F68-A826-48ED-AB3A-8FA08B5FBA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68AE-3DB2-4D71-91C2-0D4F1C4E78D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9BC-3D17-4A74-9643-775A561D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EE5-6B8A-4F88-9AD6-54B98E36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66E-CD37-4E8C-B05C-155E1F46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27C-F07F-4D00-A09F-1433762C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0B9-5E88-4EBA-984D-994DF605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74E-1572-49A1-96D9-EA043C20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C24-3E49-4271-BD99-D37B6BFE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BE1-347C-4316-91F6-BDAE8862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184-291F-4450-AE7E-C47F0C9D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A08-B332-4AAA-B059-11B7EA15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99C-5D5A-4A3A-A135-211B8183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ADD-C587-4A9F-9BF3-AEB9F1A7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27ED-74BE-45D6-A7FF-2F5F5F729B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os dinosaurio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392200" y="1413000"/>
            <a:ext cx="2148120" cy="232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4572000" y="4284720"/>
            <a:ext cx="2147760" cy="232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"/>
          <p:cNvPicPr/>
          <p:nvPr/>
        </p:nvPicPr>
        <p:blipFill>
          <a:blip r:embed="rId3"/>
          <a:stretch/>
        </p:blipFill>
        <p:spPr>
          <a:xfrm>
            <a:off x="1406520" y="4297320"/>
            <a:ext cx="2146320" cy="2325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4"/>
          <a:stretch/>
        </p:blipFill>
        <p:spPr>
          <a:xfrm>
            <a:off x="5796000" y="1103400"/>
            <a:ext cx="214776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os unicornio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89080" y="1197000"/>
            <a:ext cx="1636560" cy="170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3567240" y="1208160"/>
            <a:ext cx="1636560" cy="1701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1908000" y="3200400"/>
            <a:ext cx="1636920" cy="170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4"/>
          <a:stretch/>
        </p:blipFill>
        <p:spPr>
          <a:xfrm>
            <a:off x="142920" y="5013360"/>
            <a:ext cx="1638360" cy="170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5"/>
          <a:stretch/>
        </p:blipFill>
        <p:spPr>
          <a:xfrm>
            <a:off x="3184560" y="5013360"/>
            <a:ext cx="1636560" cy="17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"/>
          <p:cNvPicPr/>
          <p:nvPr/>
        </p:nvPicPr>
        <p:blipFill>
          <a:blip r:embed="rId6"/>
          <a:stretch/>
        </p:blipFill>
        <p:spPr>
          <a:xfrm>
            <a:off x="6372360" y="4900680"/>
            <a:ext cx="1638000" cy="17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"/>
          <p:cNvPicPr/>
          <p:nvPr/>
        </p:nvPicPr>
        <p:blipFill>
          <a:blip r:embed="rId7"/>
          <a:stretch/>
        </p:blipFill>
        <p:spPr>
          <a:xfrm>
            <a:off x="4448160" y="3141720"/>
            <a:ext cx="1636560" cy="170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"/>
          <p:cNvPicPr/>
          <p:nvPr/>
        </p:nvPicPr>
        <p:blipFill>
          <a:blip r:embed="rId8"/>
          <a:stretch/>
        </p:blipFill>
        <p:spPr>
          <a:xfrm>
            <a:off x="6948360" y="1197000"/>
            <a:ext cx="1636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as mariposa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57320" y="2133720"/>
            <a:ext cx="1884240" cy="1568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2"/>
          <a:stretch/>
        </p:blipFill>
        <p:spPr>
          <a:xfrm>
            <a:off x="179280" y="5087880"/>
            <a:ext cx="1886040" cy="1569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3"/>
          <a:stretch/>
        </p:blipFill>
        <p:spPr>
          <a:xfrm>
            <a:off x="6315120" y="3692520"/>
            <a:ext cx="1884240" cy="1569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"/>
          <p:cNvPicPr/>
          <p:nvPr/>
        </p:nvPicPr>
        <p:blipFill>
          <a:blip r:embed="rId4"/>
          <a:stretch/>
        </p:blipFill>
        <p:spPr>
          <a:xfrm>
            <a:off x="3851280" y="5156280"/>
            <a:ext cx="1886040" cy="1569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"/>
          <p:cNvPicPr/>
          <p:nvPr/>
        </p:nvPicPr>
        <p:blipFill>
          <a:blip r:embed="rId5"/>
          <a:stretch/>
        </p:blipFill>
        <p:spPr>
          <a:xfrm>
            <a:off x="1817640" y="3701880"/>
            <a:ext cx="1884240" cy="1570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" descr=""/>
          <p:cNvPicPr/>
          <p:nvPr/>
        </p:nvPicPr>
        <p:blipFill>
          <a:blip r:embed="rId6"/>
          <a:stretch/>
        </p:blipFill>
        <p:spPr>
          <a:xfrm>
            <a:off x="6319800" y="1238400"/>
            <a:ext cx="1886040" cy="1569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1" descr=""/>
          <p:cNvPicPr/>
          <p:nvPr/>
        </p:nvPicPr>
        <p:blipFill>
          <a:blip r:embed="rId7"/>
          <a:stretch/>
        </p:blipFill>
        <p:spPr>
          <a:xfrm>
            <a:off x="2793960" y="1957320"/>
            <a:ext cx="18860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os pingüino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rcRect l="26802" t="1768" r="0" b="4906"/>
          <a:stretch/>
        </p:blipFill>
        <p:spPr>
          <a:xfrm>
            <a:off x="993600" y="1628640"/>
            <a:ext cx="2448000" cy="2454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rcRect l="26802" t="1768" r="0" b="4906"/>
          <a:stretch/>
        </p:blipFill>
        <p:spPr>
          <a:xfrm>
            <a:off x="3203640" y="4149720"/>
            <a:ext cx="2448000" cy="2452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rcRect l="26802" t="1768" r="0" b="4906"/>
          <a:stretch/>
        </p:blipFill>
        <p:spPr>
          <a:xfrm>
            <a:off x="5148360" y="1484280"/>
            <a:ext cx="244800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os libro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063880" y="1773360"/>
            <a:ext cx="50148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79280" y="189000"/>
            <a:ext cx="640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a"/>
                </a:solidFill>
                <a:latin typeface="National First Font"/>
              </a:rPr>
              <a:t>¿Cuántos dinosaurio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09520" y="2327400"/>
            <a:ext cx="1625760" cy="1677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1967040" y="2327400"/>
            <a:ext cx="1623960" cy="1677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7234200" y="2327400"/>
            <a:ext cx="1625760" cy="1677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4"/>
          <a:stretch/>
        </p:blipFill>
        <p:spPr>
          <a:xfrm>
            <a:off x="5478480" y="2327400"/>
            <a:ext cx="1625760" cy="167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5"/>
          <a:stretch/>
        </p:blipFill>
        <p:spPr>
          <a:xfrm>
            <a:off x="3722760" y="2327400"/>
            <a:ext cx="1625400" cy="1677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6"/>
          <a:stretch/>
        </p:blipFill>
        <p:spPr>
          <a:xfrm>
            <a:off x="243000" y="4365720"/>
            <a:ext cx="1625400" cy="1677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"/>
          <p:cNvPicPr/>
          <p:nvPr/>
        </p:nvPicPr>
        <p:blipFill>
          <a:blip r:embed="rId7"/>
          <a:stretch/>
        </p:blipFill>
        <p:spPr>
          <a:xfrm>
            <a:off x="1998720" y="4365720"/>
            <a:ext cx="1625400" cy="1677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"/>
          <p:cNvPicPr/>
          <p:nvPr/>
        </p:nvPicPr>
        <p:blipFill>
          <a:blip r:embed="rId8"/>
          <a:stretch/>
        </p:blipFill>
        <p:spPr>
          <a:xfrm>
            <a:off x="7267680" y="4365720"/>
            <a:ext cx="1625400" cy="167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"/>
          <p:cNvPicPr/>
          <p:nvPr/>
        </p:nvPicPr>
        <p:blipFill>
          <a:blip r:embed="rId9"/>
          <a:stretch/>
        </p:blipFill>
        <p:spPr>
          <a:xfrm>
            <a:off x="5510160" y="4365720"/>
            <a:ext cx="1625760" cy="1677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10"/>
          <a:stretch/>
        </p:blipFill>
        <p:spPr>
          <a:xfrm>
            <a:off x="3754440" y="4365720"/>
            <a:ext cx="16257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02:40Z</dcterms:modified>
  <cp:revision>127</cp:revision>
  <dc:subject/>
  <dc:title>TITLE</dc:title>
</cp:coreProperties>
</file>