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8679-A2F0-4673-9116-31E8F077D3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D919-D12E-4A99-9DCD-D8CFCA56D9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4FC6-669C-4DBA-BDDA-DEA94BA4C6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3632-C501-4DC6-9527-EC5651BA59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E68F-80B5-42EC-9687-AAE04E0393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2523-0E20-437B-B20C-F69F5360441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2C1D-FD77-422C-A1A8-E40DEFCB2B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B623-9D18-41E6-A680-2ECB3496CD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A9E1-28B3-4761-AD25-5B520A9823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20A-A38F-4768-BE19-054DA942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863-0774-44A5-AA6E-E63575AE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618-5B44-472F-B346-11B55CC0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C9E-F2D6-4B64-9558-2C1AFEEE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897-41CC-403A-925E-3FF274B3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7BF-934D-4BC8-B4E4-AE8A6737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2B5-69AF-4BEE-B000-DE83C8D2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80B-78C8-4B5D-A0E6-B6460A2F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7F5-9B5F-4315-B33E-86AD215D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B5A-284D-4F32-842E-D4B42372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96F-6768-4A23-8DD6-86EDAD11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E41-A88B-4645-8F2C-AA45306A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8D80-6D7C-417A-9986-D406F14A41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915400" cy="3529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123840" y="115920"/>
            <a:ext cx="57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042920" y="250920"/>
            <a:ext cx="7980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WC Musica Bta"/>
                <a:ea typeface="WC Musica Bta"/>
              </a:rPr>
              <a:t>jjjjjjjjjjjjjjjjjjjjjjjj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915400" cy="35290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123840" y="115920"/>
            <a:ext cx="7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042920" y="250920"/>
            <a:ext cx="83534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a"/>
                </a:solidFill>
                <a:latin typeface="Webdings"/>
                <a:ea typeface="Webdings"/>
              </a:rPr>
              <a:t>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915400" cy="35290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123840" y="115920"/>
            <a:ext cx="7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042920" y="250920"/>
            <a:ext cx="83534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a"/>
                </a:solidFill>
                <a:latin typeface="Webdings"/>
                <a:ea typeface="Webdings"/>
              </a:rPr>
              <a:t>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915400" cy="3529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23840" y="115920"/>
            <a:ext cx="7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042920" y="2509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Webdings"/>
                <a:ea typeface="Webdings"/>
              </a:rPr>
              <a:t>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915400" cy="3529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123840" y="115920"/>
            <a:ext cx="7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Comic Sans MS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042920" y="25092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Webdings"/>
                <a:ea typeface="Webdings"/>
              </a:rPr>
              <a:t>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915400" cy="3529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123840" y="115920"/>
            <a:ext cx="7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Comic Sans MS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042920" y="250920"/>
            <a:ext cx="83534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Efon"/>
                <a:ea typeface="WC Musica Bta"/>
              </a:rPr>
              <a:t>============================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915400" cy="3529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123840" y="115920"/>
            <a:ext cx="7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Comic Sans MS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038240" y="189000"/>
            <a:ext cx="835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Efon"/>
                <a:ea typeface="WC Musica Bta"/>
              </a:rPr>
              <a:t>UUUUUUUUUUUUUUUUUUUUUUUUUUUUUUU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915400" cy="3529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123840" y="115920"/>
            <a:ext cx="7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Comic Sans MS"/>
              </a:rPr>
              <a:t>8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900000" y="189000"/>
            <a:ext cx="835200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Efon"/>
                <a:ea typeface="WC Musica Bta"/>
              </a:rPr>
              <a:t>CCCCCCCCCCCCCCCCCCCCCCCCCCCCCCCCCCC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2:36:02Z</dcterms:modified>
  <cp:revision>113</cp:revision>
  <dc:subject/>
  <dc:title>TITLE</dc:title>
</cp:coreProperties>
</file>