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5D13-923B-413F-9C86-5947953210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3873-6FF5-4ABF-BE89-747B284484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882B-07C0-400C-8278-41B1AF2416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ED5F-8A3C-42EE-921B-AB6D6611D0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4BC2-5562-41B3-A41B-D1F7B037E2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DCC2-9F05-4988-885D-FA1DC86971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3B9D-AB60-4F4E-A159-04FFCC7778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9A12-4EAC-4DFB-9B20-5554C6A4DA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A761-CDDC-4A03-90D1-85DB805BDC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CC7-1AE1-4805-8C38-EE77A6A2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74F-A19B-4CC7-8BCF-39EC988D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5C4-59F8-4A36-88B3-50ADA21D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D7C-E9C2-4866-AA0E-68030028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29C-DF4F-47BF-845D-6C27DB21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668-F757-4080-B744-F35BB694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4CF-6C2D-4BBE-AE9F-8C16B578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2A2-19B4-49A3-AF4D-3AF463D6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2DA-E8D3-4416-958C-969F364C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142-814A-463B-A76C-86C3F93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C52-078D-40DF-B243-2B6D258C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00B-66E8-42E6-8C59-A929A9C5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22E1-FFD8-4C27-8B7A-8DA8635C59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123840" y="115920"/>
            <a:ext cx="57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042920" y="250920"/>
            <a:ext cx="7980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WC Musica Bta"/>
                <a:ea typeface="WC Musica Bta"/>
              </a:rPr>
              <a:t>jjjjjjjjjjjjjjjjjjjjjjjj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042920" y="250920"/>
            <a:ext cx="83534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Webdings"/>
                <a:ea typeface="Webdings"/>
              </a:rPr>
              <a:t>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042920" y="250920"/>
            <a:ext cx="83534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a"/>
                </a:solidFill>
                <a:latin typeface="Webdings"/>
                <a:ea typeface="Webdings"/>
              </a:rPr>
              <a:t>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042920" y="250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Webdings"/>
                <a:ea typeface="Webdings"/>
              </a:rPr>
              <a:t>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042920" y="25092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Webdings"/>
                <a:ea typeface="Webdings"/>
              </a:rPr>
              <a:t>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042920" y="250920"/>
            <a:ext cx="8353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Efon"/>
                <a:ea typeface="WC Musica Bta"/>
              </a:rPr>
              <a:t>============================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038240" y="189000"/>
            <a:ext cx="83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Efon"/>
                <a:ea typeface="WC Musica Bta"/>
              </a:rPr>
              <a:t>UUUUUUUUUUUUUUUUUUUUUUUUUUUUUUU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8915400" cy="3529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123840" y="115920"/>
            <a:ext cx="7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Comic Sans MS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900000" y="189000"/>
            <a:ext cx="835200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Efon"/>
                <a:ea typeface="WC Musica Bta"/>
              </a:rPr>
              <a:t>CCCCCCCCCCCCCCCCCCCCCCCCCCCCCCCCCCC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2:36:02Z</dcterms:modified>
  <cp:revision>113</cp:revision>
  <dc:subject/>
  <dc:title>TITLE</dc:title>
</cp:coreProperties>
</file>