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F55-C47A-40A8-8D39-E5DFA682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C69-3BD4-4EA2-97D0-E0AF980A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C0B-2F43-49AD-9E42-B0ED6DD2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B65-896B-417A-9CF3-EB316935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683-A0F0-483E-A3C6-D6813528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B04-40A6-49EE-AF17-B109377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E9F-FD44-4A07-B789-CEEC28F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3A24-C767-4E4E-8FC0-493B92D1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5FA-45BC-48B6-8452-03D08F1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475B-BE89-4FBB-8A52-50DF92D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85D4-FDB1-41B5-A4BD-B351503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0D3-CBB8-4186-A9D0-E0B386D5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C5A-7924-40E9-9A32-A24D4AC1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479-6C94-4ECA-9B6B-B41B89F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783-DE28-4E5B-812C-6925D36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C39-9FF8-409F-BC80-FEEAFD16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E80-3736-47E2-A7EA-046FCAAB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DE2F-4F51-4E02-A848-F287AFED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1CAF-412A-41AB-B342-56348E1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A056-E5D9-4053-AC6D-965BC55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4DDC-6C9E-4F86-B4C4-FD0D09BB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CA5E-A597-4566-ACFA-32170A78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D4B-2F0D-4F8B-BE0B-4103CCF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1653-319D-4A74-A7BB-7E97CD8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2374-CE11-491E-8A16-B6CF01C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8313-12AC-4799-BBD9-015B7678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76B5-E1F3-45FC-BB04-64B5B47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923A-CF39-4CBC-AC5E-FF29D1B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7960-6CEA-43E4-866F-E1D75D3A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D9B0-DFFC-4F4B-B81F-7CE7835E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643-45FC-4516-B3F9-92ACCB5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41-9D59-4B47-A85D-CB20999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D42-4112-4632-8FCF-63D5DEF1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DBB-9E3A-434E-B2D7-49EFFA0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903-F6CC-4F6F-A263-BD535041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0EA-CA24-4FBE-AE89-E4665DE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4FA-3260-4ACB-A641-FD78D0484C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6A9-4315-46D7-BFE6-99767F01386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0D42-3019-40EA-A7ED-01A950EEF40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6:32Z</dcterms:modified>
  <cp:revision>223</cp:revision>
  <dc:subject/>
  <dc:title>TITLE</dc:title>
</cp:coreProperties>
</file>