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8BA-5B12-4493-9B21-1361B595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0B2-3754-44AE-8300-9DB88F3F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11D-8D5E-476A-9168-79486012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63E-1B3E-4F4E-BC5A-6C017127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DD14-E729-425A-8275-9F09793B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57CD-F0E9-4422-8181-E69BE011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AA10-2923-4E82-8256-06ACA2FA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96F6-34C0-45F2-9C9B-369A17D6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2B15-A45B-48FC-B4DA-06FD1DD1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B6D8-3943-4418-92A5-AC734D31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683B-0EE0-4431-9C73-6BBF3285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DB6-687A-430D-A30A-8874BF0B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F06B-77C7-42F2-9848-56AB1B14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3662-EF97-443A-80B0-8DCD2F74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BDA1-77D6-4F93-A765-5F23B3C7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CC4C-ECD9-47E4-B751-62E0EEE6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A37A-63A2-42B3-B689-493725BB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4D5B-B9DA-45B9-9AA2-07A24177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F12B-131C-4DD7-ADB8-3839D1EB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3B25-7180-4F63-A448-82F8D1EA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0BDBF-4D83-4D9A-BD0D-414BC362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82ED6-B68A-467D-BDEC-3A715CC7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A20-5494-46FD-947F-0DCC5D95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4A83-14BF-4140-BF4B-415601EA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66E0-5737-453D-AFEB-3EFBBE48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200E-9621-4486-8269-4B0C47E1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0BD6-2502-44B4-8BB6-64A339C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E2700-E822-430D-A6F8-F3B1DD51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54C6-21F0-44FF-9BAF-8386BA87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7F93-5EAF-4880-880C-66170572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C00-5DF8-4412-82D5-E6DAE179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E34-9353-492B-99AD-D238010D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4DD-AE59-4285-BDDD-C9268099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961-6860-4EBB-B9D9-746C62DB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93E-CD20-4FC9-ABD0-DC53B8A3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AB1-7866-4F2F-8799-949D5176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5ABF-5AE5-4B34-977B-4AA81C9E41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6017-73FD-44AA-9905-7079A83F2C8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933D-B0C6-4A35-BE35-42C61273629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05T19:36:32Z</dcterms:modified>
  <cp:revision>223</cp:revision>
  <dc:subject/>
  <dc:title>TITLE</dc:title>
</cp:coreProperties>
</file>