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939-09C9-4DD4-BD21-850DEA4CA2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8A17-CB11-41AD-BA00-13C1814ADA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3E6-A801-470C-A4CC-0B9AB39CE4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3FF7-7FCA-456E-BEDB-3BFBF0CC17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0593-0439-45F7-B56D-1044BD22D4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C932-FE1F-4A42-95D1-8826646E62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100-6ADF-46EC-981E-353146EB77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2C9A-DEB7-45F4-BCB0-C483398657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FA9-5C76-44BA-88A1-90DA5A2F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3B0-DD55-4811-AEB8-7212426E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AB4-D07F-497E-8359-0FC05A7C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E70-49C2-4EE0-A840-551F5952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988-6BC8-4F8F-97D9-68A598A9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853-51FC-4B92-8222-89CA7E6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73D-15A0-49DB-AC72-3B360587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869-77CB-45EC-A177-BE401F0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E70-AE78-4AA8-AE7F-03ACDBE1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109-BA94-43C2-A82A-85CDC11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26E-EF0D-485E-A671-BCE32CC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F3D-F6DC-4AA7-836A-FC92271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EE1-0007-4495-BC68-7CCF6D1D67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598" r="0" b="22793"/>
          <a:stretch/>
        </p:blipFill>
        <p:spPr>
          <a:xfrm>
            <a:off x="1287360" y="1467000"/>
            <a:ext cx="3002040" cy="178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0" t="17598" r="0" b="22793"/>
          <a:stretch/>
        </p:blipFill>
        <p:spPr>
          <a:xfrm>
            <a:off x="2787480" y="4762440"/>
            <a:ext cx="3002040" cy="17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17598" r="0" b="22793"/>
          <a:stretch/>
        </p:blipFill>
        <p:spPr>
          <a:xfrm>
            <a:off x="4594320" y="2682720"/>
            <a:ext cx="3002040" cy="178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rcRect l="0" t="17598" r="0" b="22793"/>
          <a:stretch/>
        </p:blipFill>
        <p:spPr>
          <a:xfrm>
            <a:off x="1157400" y="3548160"/>
            <a:ext cx="3001680" cy="178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rcRect l="0" t="17598" r="0" b="22793"/>
          <a:stretch/>
        </p:blipFill>
        <p:spPr>
          <a:xfrm>
            <a:off x="4594320" y="981000"/>
            <a:ext cx="3002040" cy="1789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4859280" y="630864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a"/>
                </a:solidFill>
                <a:latin typeface="Arial Rounded MT Bold"/>
              </a:rPr>
              <a:t>all images © Light Bulb Languages 202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40277" r="0" b="45257"/>
          <a:stretch/>
        </p:blipFill>
        <p:spPr>
          <a:xfrm rot="866400">
            <a:off x="2384280" y="151128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40277" r="0" b="45257"/>
          <a:stretch/>
        </p:blipFill>
        <p:spPr>
          <a:xfrm rot="866400">
            <a:off x="2887200" y="225756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rcRect l="0" t="40277" r="0" b="45257"/>
          <a:stretch/>
        </p:blipFill>
        <p:spPr>
          <a:xfrm rot="866400">
            <a:off x="2384280" y="271620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rcRect l="0" t="40277" r="0" b="45257"/>
          <a:stretch/>
        </p:blipFill>
        <p:spPr>
          <a:xfrm rot="866400">
            <a:off x="2887200" y="346248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rcRect l="0" t="40277" r="0" b="45257"/>
          <a:stretch/>
        </p:blipFill>
        <p:spPr>
          <a:xfrm rot="866400">
            <a:off x="2384280" y="392112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6"/>
          <a:srcRect l="0" t="40277" r="0" b="45257"/>
          <a:stretch/>
        </p:blipFill>
        <p:spPr>
          <a:xfrm rot="866400">
            <a:off x="2887200" y="466740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rcRect l="0" t="40277" r="0" b="45257"/>
          <a:stretch/>
        </p:blipFill>
        <p:spPr>
          <a:xfrm rot="866400">
            <a:off x="2383920" y="5124600"/>
            <a:ext cx="4338720" cy="62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8"/>
          <a:srcRect l="0" t="40277" r="0" b="45257"/>
          <a:stretch/>
        </p:blipFill>
        <p:spPr>
          <a:xfrm rot="866400">
            <a:off x="2887560" y="5870520"/>
            <a:ext cx="4338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a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18985" r="0" b="16218"/>
          <a:stretch/>
        </p:blipFill>
        <p:spPr>
          <a:xfrm>
            <a:off x="2244600" y="1268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18985" r="0" b="16218"/>
          <a:stretch/>
        </p:blipFill>
        <p:spPr>
          <a:xfrm>
            <a:off x="4921200" y="4724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rcRect l="0" t="18985" r="0" b="16218"/>
          <a:stretch/>
        </p:blipFill>
        <p:spPr>
          <a:xfrm>
            <a:off x="1920960" y="4724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rcRect l="0" t="18985" r="0" b="16218"/>
          <a:stretch/>
        </p:blipFill>
        <p:spPr>
          <a:xfrm>
            <a:off x="4921200" y="299736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0" t="18985" r="0" b="16218"/>
          <a:stretch/>
        </p:blipFill>
        <p:spPr>
          <a:xfrm>
            <a:off x="2170080" y="299736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6"/>
          <a:srcRect l="0" t="18985" r="0" b="16218"/>
          <a:stretch/>
        </p:blipFill>
        <p:spPr>
          <a:xfrm>
            <a:off x="4889520" y="1420920"/>
            <a:ext cx="1882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0" t="14422" r="0" b="9405"/>
          <a:stretch/>
        </p:blipFill>
        <p:spPr>
          <a:xfrm>
            <a:off x="1415880" y="1724040"/>
            <a:ext cx="155124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rcRect l="0" t="14422" r="0" b="9405"/>
          <a:stretch/>
        </p:blipFill>
        <p:spPr>
          <a:xfrm>
            <a:off x="2957400" y="1700280"/>
            <a:ext cx="155124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14422" r="0" b="9405"/>
          <a:stretch/>
        </p:blipFill>
        <p:spPr>
          <a:xfrm>
            <a:off x="139860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4"/>
          <a:srcRect l="0" t="14422" r="0" b="9405"/>
          <a:stretch/>
        </p:blipFill>
        <p:spPr>
          <a:xfrm>
            <a:off x="297180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5"/>
          <a:srcRect l="0" t="14422" r="0" b="9405"/>
          <a:stretch/>
        </p:blipFill>
        <p:spPr>
          <a:xfrm>
            <a:off x="242424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6"/>
          <a:srcRect l="0" t="14422" r="0" b="9405"/>
          <a:stretch/>
        </p:blipFill>
        <p:spPr>
          <a:xfrm>
            <a:off x="403560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7"/>
          <a:srcRect l="0" t="14422" r="0" b="9405"/>
          <a:stretch/>
        </p:blipFill>
        <p:spPr>
          <a:xfrm>
            <a:off x="454356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8"/>
          <a:srcRect l="0" t="14422" r="0" b="9405"/>
          <a:stretch/>
        </p:blipFill>
        <p:spPr>
          <a:xfrm>
            <a:off x="5710320" y="45417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9"/>
          <a:srcRect l="0" t="14422" r="0" b="9405"/>
          <a:stretch/>
        </p:blipFill>
        <p:spPr>
          <a:xfrm>
            <a:off x="6116760" y="311616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10"/>
          <a:srcRect l="0" t="14422" r="0" b="9405"/>
          <a:stretch/>
        </p:blipFill>
        <p:spPr>
          <a:xfrm>
            <a:off x="6040440" y="176364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11"/>
          <a:srcRect l="0" t="14422" r="0" b="9405"/>
          <a:stretch/>
        </p:blipFill>
        <p:spPr>
          <a:xfrm>
            <a:off x="4498920" y="1724040"/>
            <a:ext cx="1550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a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0" t="33974" r="0" b="43308"/>
          <a:stretch/>
        </p:blipFill>
        <p:spPr>
          <a:xfrm>
            <a:off x="609480" y="134136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rcRect l="0" t="33974" r="0" b="43308"/>
          <a:stretch/>
        </p:blipFill>
        <p:spPr>
          <a:xfrm>
            <a:off x="4626000" y="1738440"/>
            <a:ext cx="3906720" cy="75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rcRect l="0" t="33974" r="0" b="43308"/>
          <a:stretch/>
        </p:blipFill>
        <p:spPr>
          <a:xfrm>
            <a:off x="609480" y="2136600"/>
            <a:ext cx="3905280" cy="74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rcRect l="0" t="33974" r="0" b="43308"/>
          <a:stretch/>
        </p:blipFill>
        <p:spPr>
          <a:xfrm>
            <a:off x="4626000" y="2533680"/>
            <a:ext cx="39067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rcRect l="0" t="33974" r="0" b="43308"/>
          <a:stretch/>
        </p:blipFill>
        <p:spPr>
          <a:xfrm>
            <a:off x="609480" y="293040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6"/>
          <a:srcRect l="0" t="33974" r="0" b="43308"/>
          <a:stretch/>
        </p:blipFill>
        <p:spPr>
          <a:xfrm>
            <a:off x="4626000" y="3327480"/>
            <a:ext cx="39067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7"/>
          <a:srcRect l="0" t="33974" r="0" b="43308"/>
          <a:stretch/>
        </p:blipFill>
        <p:spPr>
          <a:xfrm>
            <a:off x="609480" y="372420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8"/>
          <a:srcRect l="0" t="33974" r="0" b="43308"/>
          <a:stretch/>
        </p:blipFill>
        <p:spPr>
          <a:xfrm>
            <a:off x="4626000" y="4121280"/>
            <a:ext cx="3906720" cy="75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9"/>
          <a:srcRect l="0" t="33974" r="0" b="43308"/>
          <a:stretch/>
        </p:blipFill>
        <p:spPr>
          <a:xfrm>
            <a:off x="609480" y="4519440"/>
            <a:ext cx="3905280" cy="74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10"/>
          <a:srcRect l="0" t="33974" r="0" b="43308"/>
          <a:stretch/>
        </p:blipFill>
        <p:spPr>
          <a:xfrm>
            <a:off x="4626000" y="4916520"/>
            <a:ext cx="3906720" cy="74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11"/>
          <a:srcRect l="0" t="33974" r="0" b="43308"/>
          <a:stretch/>
        </p:blipFill>
        <p:spPr>
          <a:xfrm>
            <a:off x="609480" y="5313240"/>
            <a:ext cx="3905280" cy="75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12"/>
          <a:srcRect l="0" t="33974" r="0" b="43308"/>
          <a:stretch/>
        </p:blipFill>
        <p:spPr>
          <a:xfrm>
            <a:off x="4626000" y="5710320"/>
            <a:ext cx="390672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5383800">
            <a:off x="2089080" y="3317760"/>
            <a:ext cx="4033800" cy="51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2"/>
          <a:srcRect l="0" t="43644" r="0" b="43631"/>
          <a:stretch/>
        </p:blipFill>
        <p:spPr>
          <a:xfrm rot="5383800">
            <a:off x="1227960" y="3367800"/>
            <a:ext cx="4035240" cy="512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3"/>
          <a:srcRect l="0" t="43644" r="0" b="43631"/>
          <a:stretch/>
        </p:blipFill>
        <p:spPr>
          <a:xfrm rot="5383800">
            <a:off x="367200" y="3418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"/>
          <p:cNvPicPr/>
          <p:nvPr/>
        </p:nvPicPr>
        <p:blipFill>
          <a:blip r:embed="rId4"/>
          <a:srcRect l="0" t="43644" r="0" b="43631"/>
          <a:stretch/>
        </p:blipFill>
        <p:spPr>
          <a:xfrm rot="5383800">
            <a:off x="-495000" y="3468600"/>
            <a:ext cx="4035240" cy="51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5"/>
          <a:srcRect l="0" t="43644" r="0" b="43631"/>
          <a:stretch/>
        </p:blipFill>
        <p:spPr>
          <a:xfrm rot="5383800">
            <a:off x="-1356480" y="3499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6"/>
          <a:srcRect l="0" t="43644" r="0" b="43631"/>
          <a:stretch/>
        </p:blipFill>
        <p:spPr>
          <a:xfrm rot="5383800">
            <a:off x="6394320" y="3425760"/>
            <a:ext cx="403380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7"/>
          <a:srcRect l="0" t="43644" r="0" b="43631"/>
          <a:stretch/>
        </p:blipFill>
        <p:spPr>
          <a:xfrm rot="5383800">
            <a:off x="5531400" y="347580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8"/>
          <a:srcRect l="0" t="43644" r="0" b="43631"/>
          <a:stretch/>
        </p:blipFill>
        <p:spPr>
          <a:xfrm rot="5383800">
            <a:off x="4671000" y="3526560"/>
            <a:ext cx="4035240" cy="5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9"/>
          <a:srcRect l="0" t="43644" r="0" b="43631"/>
          <a:stretch/>
        </p:blipFill>
        <p:spPr>
          <a:xfrm rot="5383800">
            <a:off x="3810600" y="3577320"/>
            <a:ext cx="4035240" cy="51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10"/>
          <a:srcRect l="0" t="43644" r="0" b="43631"/>
          <a:stretch/>
        </p:blipFill>
        <p:spPr>
          <a:xfrm rot="5383800">
            <a:off x="2948760" y="3607560"/>
            <a:ext cx="40352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28440" y="-10008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a"/>
                </a:solidFill>
                <a:latin typeface="National First Font"/>
              </a:rPr>
              <a:t>¿Cuántos ha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rcRect l="0" t="18987" r="0" b="16212"/>
          <a:stretch/>
        </p:blipFill>
        <p:spPr>
          <a:xfrm>
            <a:off x="-17640" y="1152360"/>
            <a:ext cx="1492560" cy="96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rcRect l="0" t="40279" r="0" b="45258"/>
          <a:stretch/>
        </p:blipFill>
        <p:spPr>
          <a:xfrm rot="21367200">
            <a:off x="1039320" y="2104920"/>
            <a:ext cx="3905280" cy="565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rcRect l="0" t="14428" r="0" b="9423"/>
          <a:stretch/>
        </p:blipFill>
        <p:spPr>
          <a:xfrm>
            <a:off x="6454800" y="5624640"/>
            <a:ext cx="1230120" cy="93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rcRect l="0" t="33971" r="0" b="43308"/>
          <a:stretch/>
        </p:blipFill>
        <p:spPr>
          <a:xfrm>
            <a:off x="4114800" y="4522680"/>
            <a:ext cx="3378240" cy="6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rcRect l="0" t="17606" r="0" b="22789"/>
          <a:stretch/>
        </p:blipFill>
        <p:spPr>
          <a:xfrm>
            <a:off x="212760" y="5040360"/>
            <a:ext cx="2552760" cy="152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"/>
          <p:cNvPicPr/>
          <p:nvPr/>
        </p:nvPicPr>
        <p:blipFill>
          <a:blip r:embed="rId6"/>
          <a:srcRect l="0" t="43644" r="0" b="43631"/>
          <a:stretch/>
        </p:blipFill>
        <p:spPr>
          <a:xfrm rot="624000">
            <a:off x="4938840" y="1984320"/>
            <a:ext cx="3781440" cy="48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"/>
          <p:cNvPicPr/>
          <p:nvPr/>
        </p:nvPicPr>
        <p:blipFill>
          <a:blip r:embed="rId7"/>
          <a:srcRect l="0" t="43644" r="0" b="43631"/>
          <a:stretch/>
        </p:blipFill>
        <p:spPr>
          <a:xfrm rot="268800">
            <a:off x="3207960" y="6137280"/>
            <a:ext cx="3780000" cy="4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8"/>
          <a:srcRect l="0" t="17606" r="0" b="22789"/>
          <a:stretch/>
        </p:blipFill>
        <p:spPr>
          <a:xfrm>
            <a:off x="-42840" y="3959280"/>
            <a:ext cx="2550960" cy="151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9"/>
          <a:srcRect l="0" t="17606" r="0" b="22789"/>
          <a:stretch/>
        </p:blipFill>
        <p:spPr>
          <a:xfrm>
            <a:off x="6472080" y="3002040"/>
            <a:ext cx="2551320" cy="152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10"/>
          <a:srcRect l="0" t="33971" r="0" b="43308"/>
          <a:stretch/>
        </p:blipFill>
        <p:spPr>
          <a:xfrm>
            <a:off x="2805120" y="1128600"/>
            <a:ext cx="3378240" cy="66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11"/>
          <a:srcRect l="0" t="33971" r="0" b="43308"/>
          <a:stretch/>
        </p:blipFill>
        <p:spPr>
          <a:xfrm>
            <a:off x="3122640" y="5199120"/>
            <a:ext cx="337824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12"/>
          <a:srcRect l="0" t="33971" r="0" b="43308"/>
          <a:stretch/>
        </p:blipFill>
        <p:spPr>
          <a:xfrm>
            <a:off x="3038400" y="2708280"/>
            <a:ext cx="3378240" cy="66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13"/>
          <a:srcRect l="0" t="14428" r="0" b="9423"/>
          <a:stretch/>
        </p:blipFill>
        <p:spPr>
          <a:xfrm>
            <a:off x="2954160" y="3521160"/>
            <a:ext cx="1229040" cy="93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14"/>
          <a:srcRect l="0" t="14428" r="0" b="9423"/>
          <a:stretch/>
        </p:blipFill>
        <p:spPr>
          <a:xfrm>
            <a:off x="36360" y="2708280"/>
            <a:ext cx="1229040" cy="93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15"/>
          <a:srcRect l="0" t="14428" r="0" b="9423"/>
          <a:stretch/>
        </p:blipFill>
        <p:spPr>
          <a:xfrm>
            <a:off x="2340000" y="4251240"/>
            <a:ext cx="1228680" cy="9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16"/>
          <a:srcRect l="0" t="14428" r="0" b="9423"/>
          <a:stretch/>
        </p:blipFill>
        <p:spPr>
          <a:xfrm>
            <a:off x="7837560" y="4386240"/>
            <a:ext cx="122868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17"/>
          <a:srcRect l="0" t="18987" r="0" b="16212"/>
          <a:stretch/>
        </p:blipFill>
        <p:spPr>
          <a:xfrm>
            <a:off x="-42840" y="3452760"/>
            <a:ext cx="1492200" cy="96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18"/>
          <a:srcRect l="0" t="18987" r="0" b="16212"/>
          <a:stretch/>
        </p:blipFill>
        <p:spPr>
          <a:xfrm>
            <a:off x="1442880" y="1257480"/>
            <a:ext cx="1492560" cy="966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19"/>
          <a:srcRect l="0" t="18987" r="0" b="16212"/>
          <a:stretch/>
        </p:blipFill>
        <p:spPr>
          <a:xfrm>
            <a:off x="1547640" y="5862600"/>
            <a:ext cx="1492560" cy="968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0"/>
          <a:srcRect l="0" t="18987" r="0" b="16212"/>
          <a:stretch/>
        </p:blipFill>
        <p:spPr>
          <a:xfrm>
            <a:off x="1382760" y="2693880"/>
            <a:ext cx="14922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1"/>
          <a:srcRect l="0" t="18987" r="0" b="16212"/>
          <a:stretch/>
        </p:blipFill>
        <p:spPr>
          <a:xfrm>
            <a:off x="6256440" y="2486160"/>
            <a:ext cx="1492200" cy="96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2"/>
          <a:srcRect l="0" t="18987" r="0" b="16212"/>
          <a:stretch/>
        </p:blipFill>
        <p:spPr>
          <a:xfrm>
            <a:off x="4311720" y="3443400"/>
            <a:ext cx="149220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0:28Z</dcterms:modified>
  <cp:revision>139</cp:revision>
  <dc:subject/>
  <dc:title>TITLE</dc:title>
</cp:coreProperties>
</file>