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FA15-B7F4-4412-A74F-03CF7EF8ED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91FD-469C-494D-845C-A6ED961262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B8AC-58AD-4882-9CFC-73C8143E06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ECD9-8F92-4D22-A724-96330A1AD4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2AAE-23E6-4342-96DD-2B09AB9C33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3E4E-E3EF-4B59-A3AA-9BB11E66A8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8EC2-16B3-4837-B4E8-7012DD1E01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E390-4006-422A-B3B3-C494CBADE0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7B5-56FD-4F84-8969-83FB35F3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94A-82EE-4D11-BEEC-1989113B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F0D-63F3-46D4-BD8D-0C6DC99D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2E5-6790-49EB-8842-EA16F0C4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705-FFE2-4F74-84A7-C325589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2D2-37DB-46F9-9CA5-CED7343E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5C2-3746-4A7C-B2F8-D192E6B1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093-39F3-45B2-B034-F4F85442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D8B-4BBB-4F74-AB45-85533A76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08D-56A2-4B19-9BF4-56E18FEF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CD2-4C32-4A96-AF40-93DA0341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E8C-E370-42EC-AC05-F369C1F2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BBFE-5801-4579-822C-CF55449ECB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o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598" r="0" b="22793"/>
          <a:stretch/>
        </p:blipFill>
        <p:spPr>
          <a:xfrm>
            <a:off x="1287360" y="1467000"/>
            <a:ext cx="3002040" cy="178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0" t="17598" r="0" b="22793"/>
          <a:stretch/>
        </p:blipFill>
        <p:spPr>
          <a:xfrm>
            <a:off x="2787480" y="4762440"/>
            <a:ext cx="3002040" cy="178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rcRect l="0" t="17598" r="0" b="22793"/>
          <a:stretch/>
        </p:blipFill>
        <p:spPr>
          <a:xfrm>
            <a:off x="4594320" y="2682720"/>
            <a:ext cx="3002040" cy="178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rcRect l="0" t="17598" r="0" b="22793"/>
          <a:stretch/>
        </p:blipFill>
        <p:spPr>
          <a:xfrm>
            <a:off x="1157400" y="3548160"/>
            <a:ext cx="3001680" cy="178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rcRect l="0" t="17598" r="0" b="22793"/>
          <a:stretch/>
        </p:blipFill>
        <p:spPr>
          <a:xfrm>
            <a:off x="4594320" y="981000"/>
            <a:ext cx="3002040" cy="1789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4859280" y="630864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all images © Light Bulb Languages 202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o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0" t="40277" r="0" b="45257"/>
          <a:stretch/>
        </p:blipFill>
        <p:spPr>
          <a:xfrm rot="866400">
            <a:off x="2384280" y="1511280"/>
            <a:ext cx="4338720" cy="62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0" t="40277" r="0" b="45257"/>
          <a:stretch/>
        </p:blipFill>
        <p:spPr>
          <a:xfrm rot="866400">
            <a:off x="2887200" y="2257560"/>
            <a:ext cx="4338720" cy="62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rcRect l="0" t="40277" r="0" b="45257"/>
          <a:stretch/>
        </p:blipFill>
        <p:spPr>
          <a:xfrm rot="866400">
            <a:off x="2384280" y="2716200"/>
            <a:ext cx="4338720" cy="62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4"/>
          <a:srcRect l="0" t="40277" r="0" b="45257"/>
          <a:stretch/>
        </p:blipFill>
        <p:spPr>
          <a:xfrm rot="866400">
            <a:off x="2887200" y="3462480"/>
            <a:ext cx="4338720" cy="62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5"/>
          <a:srcRect l="0" t="40277" r="0" b="45257"/>
          <a:stretch/>
        </p:blipFill>
        <p:spPr>
          <a:xfrm rot="866400">
            <a:off x="2384280" y="3921120"/>
            <a:ext cx="4338720" cy="62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6"/>
          <a:srcRect l="0" t="40277" r="0" b="45257"/>
          <a:stretch/>
        </p:blipFill>
        <p:spPr>
          <a:xfrm rot="866400">
            <a:off x="2887200" y="4667400"/>
            <a:ext cx="4338720" cy="626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7"/>
          <a:srcRect l="0" t="40277" r="0" b="45257"/>
          <a:stretch/>
        </p:blipFill>
        <p:spPr>
          <a:xfrm rot="866400">
            <a:off x="2383920" y="5124600"/>
            <a:ext cx="4338720" cy="626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8"/>
          <a:srcRect l="0" t="40277" r="0" b="45257"/>
          <a:stretch/>
        </p:blipFill>
        <p:spPr>
          <a:xfrm rot="866400">
            <a:off x="2887560" y="5870520"/>
            <a:ext cx="4338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a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18985" r="0" b="16218"/>
          <a:stretch/>
        </p:blipFill>
        <p:spPr>
          <a:xfrm>
            <a:off x="2244600" y="126828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rcRect l="0" t="18985" r="0" b="16218"/>
          <a:stretch/>
        </p:blipFill>
        <p:spPr>
          <a:xfrm>
            <a:off x="4921200" y="472428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rcRect l="0" t="18985" r="0" b="16218"/>
          <a:stretch/>
        </p:blipFill>
        <p:spPr>
          <a:xfrm>
            <a:off x="1920960" y="472428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rcRect l="0" t="18985" r="0" b="16218"/>
          <a:stretch/>
        </p:blipFill>
        <p:spPr>
          <a:xfrm>
            <a:off x="4921200" y="299736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0" t="18985" r="0" b="16218"/>
          <a:stretch/>
        </p:blipFill>
        <p:spPr>
          <a:xfrm>
            <a:off x="2170080" y="299736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6"/>
          <a:srcRect l="0" t="18985" r="0" b="16218"/>
          <a:stretch/>
        </p:blipFill>
        <p:spPr>
          <a:xfrm>
            <a:off x="4889520" y="1420920"/>
            <a:ext cx="18828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o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0" t="14422" r="0" b="9405"/>
          <a:stretch/>
        </p:blipFill>
        <p:spPr>
          <a:xfrm>
            <a:off x="1415880" y="1724040"/>
            <a:ext cx="155124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rcRect l="0" t="14422" r="0" b="9405"/>
          <a:stretch/>
        </p:blipFill>
        <p:spPr>
          <a:xfrm>
            <a:off x="2957400" y="1700280"/>
            <a:ext cx="1551240" cy="118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14422" r="0" b="9405"/>
          <a:stretch/>
        </p:blipFill>
        <p:spPr>
          <a:xfrm>
            <a:off x="1398600" y="31161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4"/>
          <a:srcRect l="0" t="14422" r="0" b="9405"/>
          <a:stretch/>
        </p:blipFill>
        <p:spPr>
          <a:xfrm>
            <a:off x="2971800" y="31161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5"/>
          <a:srcRect l="0" t="14422" r="0" b="9405"/>
          <a:stretch/>
        </p:blipFill>
        <p:spPr>
          <a:xfrm>
            <a:off x="2424240" y="45417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6"/>
          <a:srcRect l="0" t="14422" r="0" b="9405"/>
          <a:stretch/>
        </p:blipFill>
        <p:spPr>
          <a:xfrm>
            <a:off x="4035600" y="45417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7"/>
          <a:srcRect l="0" t="14422" r="0" b="9405"/>
          <a:stretch/>
        </p:blipFill>
        <p:spPr>
          <a:xfrm>
            <a:off x="4543560" y="31161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8"/>
          <a:srcRect l="0" t="14422" r="0" b="9405"/>
          <a:stretch/>
        </p:blipFill>
        <p:spPr>
          <a:xfrm>
            <a:off x="5710320" y="45417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9"/>
          <a:srcRect l="0" t="14422" r="0" b="9405"/>
          <a:stretch/>
        </p:blipFill>
        <p:spPr>
          <a:xfrm>
            <a:off x="6116760" y="31161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10"/>
          <a:srcRect l="0" t="14422" r="0" b="9405"/>
          <a:stretch/>
        </p:blipFill>
        <p:spPr>
          <a:xfrm>
            <a:off x="6040440" y="176364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11"/>
          <a:srcRect l="0" t="14422" r="0" b="9405"/>
          <a:stretch/>
        </p:blipFill>
        <p:spPr>
          <a:xfrm>
            <a:off x="4498920" y="1724040"/>
            <a:ext cx="15508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a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rcRect l="0" t="33974" r="0" b="43308"/>
          <a:stretch/>
        </p:blipFill>
        <p:spPr>
          <a:xfrm>
            <a:off x="609480" y="1341360"/>
            <a:ext cx="3905280" cy="750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rcRect l="0" t="33974" r="0" b="43308"/>
          <a:stretch/>
        </p:blipFill>
        <p:spPr>
          <a:xfrm>
            <a:off x="4626000" y="1738440"/>
            <a:ext cx="3906720" cy="75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rcRect l="0" t="33974" r="0" b="43308"/>
          <a:stretch/>
        </p:blipFill>
        <p:spPr>
          <a:xfrm>
            <a:off x="609480" y="2136600"/>
            <a:ext cx="3905280" cy="74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rcRect l="0" t="33974" r="0" b="43308"/>
          <a:stretch/>
        </p:blipFill>
        <p:spPr>
          <a:xfrm>
            <a:off x="4626000" y="2533680"/>
            <a:ext cx="3906720" cy="7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rcRect l="0" t="33974" r="0" b="43308"/>
          <a:stretch/>
        </p:blipFill>
        <p:spPr>
          <a:xfrm>
            <a:off x="609480" y="2930400"/>
            <a:ext cx="3905280" cy="750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6"/>
          <a:srcRect l="0" t="33974" r="0" b="43308"/>
          <a:stretch/>
        </p:blipFill>
        <p:spPr>
          <a:xfrm>
            <a:off x="4626000" y="3327480"/>
            <a:ext cx="3906720" cy="7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7"/>
          <a:srcRect l="0" t="33974" r="0" b="43308"/>
          <a:stretch/>
        </p:blipFill>
        <p:spPr>
          <a:xfrm>
            <a:off x="609480" y="3724200"/>
            <a:ext cx="3905280" cy="75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8"/>
          <a:srcRect l="0" t="33974" r="0" b="43308"/>
          <a:stretch/>
        </p:blipFill>
        <p:spPr>
          <a:xfrm>
            <a:off x="4626000" y="4121280"/>
            <a:ext cx="3906720" cy="75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9"/>
          <a:srcRect l="0" t="33974" r="0" b="43308"/>
          <a:stretch/>
        </p:blipFill>
        <p:spPr>
          <a:xfrm>
            <a:off x="609480" y="4519440"/>
            <a:ext cx="3905280" cy="74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10"/>
          <a:srcRect l="0" t="33974" r="0" b="43308"/>
          <a:stretch/>
        </p:blipFill>
        <p:spPr>
          <a:xfrm>
            <a:off x="4626000" y="4916520"/>
            <a:ext cx="3906720" cy="74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11"/>
          <a:srcRect l="0" t="33974" r="0" b="43308"/>
          <a:stretch/>
        </p:blipFill>
        <p:spPr>
          <a:xfrm>
            <a:off x="609480" y="5313240"/>
            <a:ext cx="3905280" cy="75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12"/>
          <a:srcRect l="0" t="33974" r="0" b="43308"/>
          <a:stretch/>
        </p:blipFill>
        <p:spPr>
          <a:xfrm>
            <a:off x="4626000" y="5710320"/>
            <a:ext cx="390672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o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rcRect l="0" t="43644" r="0" b="43631"/>
          <a:stretch/>
        </p:blipFill>
        <p:spPr>
          <a:xfrm rot="5383800">
            <a:off x="2089080" y="3317760"/>
            <a:ext cx="4033800" cy="51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"/>
          <p:cNvPicPr/>
          <p:nvPr/>
        </p:nvPicPr>
        <p:blipFill>
          <a:blip r:embed="rId2"/>
          <a:srcRect l="0" t="43644" r="0" b="43631"/>
          <a:stretch/>
        </p:blipFill>
        <p:spPr>
          <a:xfrm rot="5383800">
            <a:off x="1227960" y="3367800"/>
            <a:ext cx="4035240" cy="512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"/>
          <p:cNvPicPr/>
          <p:nvPr/>
        </p:nvPicPr>
        <p:blipFill>
          <a:blip r:embed="rId3"/>
          <a:srcRect l="0" t="43644" r="0" b="43631"/>
          <a:stretch/>
        </p:blipFill>
        <p:spPr>
          <a:xfrm rot="5383800">
            <a:off x="367200" y="3418560"/>
            <a:ext cx="4035240" cy="51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"/>
          <p:cNvPicPr/>
          <p:nvPr/>
        </p:nvPicPr>
        <p:blipFill>
          <a:blip r:embed="rId4"/>
          <a:srcRect l="0" t="43644" r="0" b="43631"/>
          <a:stretch/>
        </p:blipFill>
        <p:spPr>
          <a:xfrm rot="5383800">
            <a:off x="-495000" y="3468600"/>
            <a:ext cx="4035240" cy="51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5"/>
          <a:srcRect l="0" t="43644" r="0" b="43631"/>
          <a:stretch/>
        </p:blipFill>
        <p:spPr>
          <a:xfrm rot="5383800">
            <a:off x="-1356480" y="3499560"/>
            <a:ext cx="4035240" cy="51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6"/>
          <a:srcRect l="0" t="43644" r="0" b="43631"/>
          <a:stretch/>
        </p:blipFill>
        <p:spPr>
          <a:xfrm rot="5383800">
            <a:off x="6394320" y="3425760"/>
            <a:ext cx="4033800" cy="51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7"/>
          <a:srcRect l="0" t="43644" r="0" b="43631"/>
          <a:stretch/>
        </p:blipFill>
        <p:spPr>
          <a:xfrm rot="5383800">
            <a:off x="5531400" y="3475800"/>
            <a:ext cx="4035240" cy="5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8"/>
          <a:srcRect l="0" t="43644" r="0" b="43631"/>
          <a:stretch/>
        </p:blipFill>
        <p:spPr>
          <a:xfrm rot="5383800">
            <a:off x="4671000" y="3526560"/>
            <a:ext cx="4035240" cy="5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9"/>
          <a:srcRect l="0" t="43644" r="0" b="43631"/>
          <a:stretch/>
        </p:blipFill>
        <p:spPr>
          <a:xfrm rot="5383800">
            <a:off x="3810600" y="3577320"/>
            <a:ext cx="4035240" cy="512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10"/>
          <a:srcRect l="0" t="43644" r="0" b="43631"/>
          <a:stretch/>
        </p:blipFill>
        <p:spPr>
          <a:xfrm rot="5383800">
            <a:off x="2948760" y="3607560"/>
            <a:ext cx="40352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o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rcRect l="0" t="18987" r="0" b="16212"/>
          <a:stretch/>
        </p:blipFill>
        <p:spPr>
          <a:xfrm>
            <a:off x="-17640" y="1152360"/>
            <a:ext cx="1492560" cy="966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rcRect l="0" t="40279" r="0" b="45258"/>
          <a:stretch/>
        </p:blipFill>
        <p:spPr>
          <a:xfrm rot="21367200">
            <a:off x="1039320" y="2104920"/>
            <a:ext cx="3905280" cy="565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rcRect l="0" t="14428" r="0" b="9423"/>
          <a:stretch/>
        </p:blipFill>
        <p:spPr>
          <a:xfrm>
            <a:off x="6454800" y="5624640"/>
            <a:ext cx="1230120" cy="93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rcRect l="0" t="33971" r="0" b="43308"/>
          <a:stretch/>
        </p:blipFill>
        <p:spPr>
          <a:xfrm>
            <a:off x="4114800" y="4522680"/>
            <a:ext cx="3378240" cy="663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rcRect l="0" t="17606" r="0" b="22789"/>
          <a:stretch/>
        </p:blipFill>
        <p:spPr>
          <a:xfrm>
            <a:off x="212760" y="5040360"/>
            <a:ext cx="2552760" cy="152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" descr=""/>
          <p:cNvPicPr/>
          <p:nvPr/>
        </p:nvPicPr>
        <p:blipFill>
          <a:blip r:embed="rId6"/>
          <a:srcRect l="0" t="43644" r="0" b="43631"/>
          <a:stretch/>
        </p:blipFill>
        <p:spPr>
          <a:xfrm rot="624000">
            <a:off x="4938840" y="1984320"/>
            <a:ext cx="3781440" cy="480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" descr=""/>
          <p:cNvPicPr/>
          <p:nvPr/>
        </p:nvPicPr>
        <p:blipFill>
          <a:blip r:embed="rId7"/>
          <a:srcRect l="0" t="43644" r="0" b="43631"/>
          <a:stretch/>
        </p:blipFill>
        <p:spPr>
          <a:xfrm rot="268800">
            <a:off x="3207960" y="6137280"/>
            <a:ext cx="3780000" cy="48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8"/>
          <a:srcRect l="0" t="17606" r="0" b="22789"/>
          <a:stretch/>
        </p:blipFill>
        <p:spPr>
          <a:xfrm>
            <a:off x="-42840" y="3959280"/>
            <a:ext cx="2550960" cy="1519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9"/>
          <a:srcRect l="0" t="17606" r="0" b="22789"/>
          <a:stretch/>
        </p:blipFill>
        <p:spPr>
          <a:xfrm>
            <a:off x="6472080" y="3002040"/>
            <a:ext cx="2551320" cy="1520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10"/>
          <a:srcRect l="0" t="33971" r="0" b="43308"/>
          <a:stretch/>
        </p:blipFill>
        <p:spPr>
          <a:xfrm>
            <a:off x="2805120" y="1128600"/>
            <a:ext cx="3378240" cy="66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11"/>
          <a:srcRect l="0" t="33971" r="0" b="43308"/>
          <a:stretch/>
        </p:blipFill>
        <p:spPr>
          <a:xfrm>
            <a:off x="3122640" y="5199120"/>
            <a:ext cx="3378240" cy="66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12"/>
          <a:srcRect l="0" t="33971" r="0" b="43308"/>
          <a:stretch/>
        </p:blipFill>
        <p:spPr>
          <a:xfrm>
            <a:off x="3038400" y="2708280"/>
            <a:ext cx="3378240" cy="66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13"/>
          <a:srcRect l="0" t="14428" r="0" b="9423"/>
          <a:stretch/>
        </p:blipFill>
        <p:spPr>
          <a:xfrm>
            <a:off x="2954160" y="3521160"/>
            <a:ext cx="1229040" cy="93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14"/>
          <a:srcRect l="0" t="14428" r="0" b="9423"/>
          <a:stretch/>
        </p:blipFill>
        <p:spPr>
          <a:xfrm>
            <a:off x="36360" y="2708280"/>
            <a:ext cx="1229040" cy="93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15"/>
          <a:srcRect l="0" t="14428" r="0" b="9423"/>
          <a:stretch/>
        </p:blipFill>
        <p:spPr>
          <a:xfrm>
            <a:off x="2340000" y="4251240"/>
            <a:ext cx="1228680" cy="93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16"/>
          <a:srcRect l="0" t="14428" r="0" b="9423"/>
          <a:stretch/>
        </p:blipFill>
        <p:spPr>
          <a:xfrm>
            <a:off x="7837560" y="4386240"/>
            <a:ext cx="122868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17"/>
          <a:srcRect l="0" t="18987" r="0" b="16212"/>
          <a:stretch/>
        </p:blipFill>
        <p:spPr>
          <a:xfrm>
            <a:off x="-42840" y="3452760"/>
            <a:ext cx="1492200" cy="968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18"/>
          <a:srcRect l="0" t="18987" r="0" b="16212"/>
          <a:stretch/>
        </p:blipFill>
        <p:spPr>
          <a:xfrm>
            <a:off x="1442880" y="1257480"/>
            <a:ext cx="1492560" cy="966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19"/>
          <a:srcRect l="0" t="18987" r="0" b="16212"/>
          <a:stretch/>
        </p:blipFill>
        <p:spPr>
          <a:xfrm>
            <a:off x="1547640" y="5862600"/>
            <a:ext cx="1492560" cy="968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0"/>
          <a:srcRect l="0" t="18987" r="0" b="16212"/>
          <a:stretch/>
        </p:blipFill>
        <p:spPr>
          <a:xfrm>
            <a:off x="1382760" y="2693880"/>
            <a:ext cx="14922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1"/>
          <a:srcRect l="0" t="18987" r="0" b="16212"/>
          <a:stretch/>
        </p:blipFill>
        <p:spPr>
          <a:xfrm>
            <a:off x="6256440" y="2486160"/>
            <a:ext cx="1492200" cy="966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2"/>
          <a:srcRect l="0" t="18987" r="0" b="16212"/>
          <a:stretch/>
        </p:blipFill>
        <p:spPr>
          <a:xfrm>
            <a:off x="4311720" y="3443400"/>
            <a:ext cx="1492200" cy="9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10:28Z</dcterms:modified>
  <cp:revision>139</cp:revision>
  <dc:subject/>
  <dc:title>TITLE</dc:title>
</cp:coreProperties>
</file>