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F303-D602-472B-9057-7C0BEC53A28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9BE4-F252-4E5E-A24B-0CCDA1C2E9B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3B5C-13CB-4C33-9A1A-980E09EF56D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11FE-F52F-4BA0-8A05-9D68A7C6D41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2392-2C86-4A75-8EF8-BAB8A250615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7EEF-A373-45CC-9521-328F8360EF0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9E28-F570-488D-97CC-145F54B4624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35E5-AB97-4826-A1A8-EB5F5BAF6D9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F9EF-4D05-4E21-85DC-B278D8D8D03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7F1B-E85B-449F-8698-6C51848C8C0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F43C-6A78-407B-99D9-9610F75D93B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F1AB-D445-4ED6-BA1E-BF84DB2BEA4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F518-9587-4C23-BF24-D5E71308234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8B17-F074-4BF4-8259-568C5B54B7A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3552-C24E-4487-AB84-6CEB7DFE30C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D91A-DADA-429E-9BCA-DC159781522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7B8D-07D2-4C02-97B2-E66BF91488E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2B30-D454-444A-9ABF-00D6A2894ED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9562-C705-413E-AE37-E14A277EEE9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6515-10BD-4E4C-9DEE-8D3ABA062B2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30C7-8699-4BA4-B69A-0B1F60E45BF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27BA-990A-4D88-AAC1-D82116201E3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4953-A546-49B3-A1ED-2D979143DFF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717A-3F0D-4D95-804F-34A22769F2A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04D4-5C60-419D-802A-3DAFDF1925B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F5EF-0BC2-4C07-9D85-7D68DBF6F0E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4C2F-B5A1-4CB3-821B-7C3947DC0FB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D4CC-D06E-4D95-BC67-C8FAC0FAB01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F873-67F7-49F7-9E4B-974D973CC8D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A7C2-17BE-4A62-A8FB-1BE72777BE3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BE86-CD81-4A09-A453-420A6AB5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232D-17DC-4A9C-A8D1-1F83B67E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EA16-217D-4C33-A028-DC8BBAC7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CB21-FF2B-4FF0-8705-20D6DD8A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39EC-64DA-4F2B-B6A9-4D621041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B899-E942-4B4A-95EF-9627947B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CE15-98CC-4E62-B82B-C3819C63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B450-00B0-4AF7-ACAE-EFE4DE0C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B290-0C81-416D-8EBB-88851E64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4494-3421-4B4A-929B-99B7EE5D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F4DE-3D25-4DA3-B235-D5F9824A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A907-28E5-49B6-B598-C7CDC739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ADE1-790B-4F8D-9A4A-3EC2B881965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89154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1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4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7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0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6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9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73240" y="1989000"/>
          <a:ext cx="6797520" cy="1568520"/>
        </p:xfrm>
        <a:graphic>
          <a:graphicData uri="http://schemas.openxmlformats.org/drawingml/2006/table">
            <a:tbl>
              <a:tblPr/>
              <a:tblGrid>
                <a:gridCol w="1700280"/>
                <a:gridCol w="1698480"/>
                <a:gridCol w="1700280"/>
                <a:gridCol w="1698480"/>
              </a:tblGrid>
              <a:tr h="1568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2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5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1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4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0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9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4000" y="189000"/>
          <a:ext cx="8496000" cy="4705200"/>
        </p:xfrm>
        <a:graphic>
          <a:graphicData uri="http://schemas.openxmlformats.org/drawingml/2006/table">
            <a:tbl>
              <a:tblPr/>
              <a:tblGrid>
                <a:gridCol w="1698480"/>
                <a:gridCol w="1700280"/>
                <a:gridCol w="1698480"/>
                <a:gridCol w="1700280"/>
                <a:gridCol w="1698480"/>
              </a:tblGrid>
              <a:tr h="1568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8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8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24000" y="476280"/>
          <a:ext cx="8496000" cy="5689440"/>
        </p:xfrm>
        <a:graphic>
          <a:graphicData uri="http://schemas.openxmlformats.org/drawingml/2006/table">
            <a:tbl>
              <a:tblPr/>
              <a:tblGrid>
                <a:gridCol w="1698480"/>
                <a:gridCol w="1700280"/>
                <a:gridCol w="1698480"/>
                <a:gridCol w="1700280"/>
                <a:gridCol w="1698480"/>
              </a:tblGrid>
              <a:tr h="1138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7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6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8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7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24000" y="476280"/>
          <a:ext cx="8496000" cy="5689440"/>
        </p:xfrm>
        <a:graphic>
          <a:graphicData uri="http://schemas.openxmlformats.org/drawingml/2006/table">
            <a:tbl>
              <a:tblPr/>
              <a:tblGrid>
                <a:gridCol w="1698480"/>
                <a:gridCol w="1700280"/>
                <a:gridCol w="1698480"/>
                <a:gridCol w="1700280"/>
                <a:gridCol w="1698480"/>
              </a:tblGrid>
              <a:tr h="1138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7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6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3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8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3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3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3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3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3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7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3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3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3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3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0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3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0-19T07:29:54Z</dcterms:modified>
  <cp:revision>106</cp:revision>
  <dc:subject/>
  <dc:title>TITLE</dc:title>
</cp:coreProperties>
</file>