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2DB-F0D0-4D9F-878B-E2D31F88EE0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B80-1995-4CDE-A40E-8FDDF5A93C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5572-F27E-454A-B6D1-18E87297C1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D03-968C-4B6A-A561-9E63E605DC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212-87CD-4C14-8A3D-5BA2D4A1C1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7FDE-227D-4483-B931-B6D65191D1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AE4-A9B7-49FB-85BD-193C046545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B6B-EB8D-4519-9FC0-CF79CFCDD06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8C0-84BA-4F11-8A31-83C4EFF99A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6115-180D-4F3B-AF0A-5A260B30045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10A3-DBB0-4B1B-98E8-97C5A56D00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1300-E9CA-4529-857C-42C99EF247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AF3-2BC1-46BF-9415-B1122BDA46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DC93-9FAA-4292-B8D4-4B7300CD05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67B-3B3D-4C6F-A538-FE1E129156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E87-26C1-48F4-BD5F-314C50CA57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A12B-77FC-4543-B65C-FB3356E55E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938-98EA-4F43-BDF7-ED54BD8DC5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F79D-1D18-4D43-AEAE-CA974CB3C1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5400-AF76-4CF8-9D8D-34D02D62A9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42E8-5C9E-446F-A551-12615889C59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401-F919-4128-87EF-DC6AD628F5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99F7-EBD8-41CD-B600-AE855488E9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BE36-4802-4DAB-BA3D-4774F42AFA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D8D6-7E32-4F50-80BC-50BF7F84F8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229-82EE-4F98-AFC7-710D7C036F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A5B9-0B40-4E80-850C-C271EADC90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6D1-4B91-4158-B8F2-8EE81642DA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389-2487-4E8A-AC6B-4F10059C52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FFFC-80B0-42A5-8F97-6643690380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D39-A85E-4E88-806C-413A3426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04A-CCFC-4617-BD62-6E77E16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DF6-2F19-409C-9722-B46E1E59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330-88B1-40D3-AB46-0C92F392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5C8-9A06-46AD-91F8-B66EBD4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3BC-405D-4295-9957-0370064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A42-F0A8-4EC7-A86A-4426BD82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50A-A697-40D0-AE98-5D484BB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E53-85A1-4512-A0C4-3A711002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825-6E14-487F-A0A5-A7239D25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9D2-130A-427F-B952-D45CAC1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7D2-FB43-4D0A-B3CF-83C3EA3A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7DC-B499-4D5B-B871-27F1289FB6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915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73240" y="1989000"/>
          <a:ext cx="6797520" cy="1568520"/>
        </p:xfrm>
        <a:graphic>
          <a:graphicData uri="http://schemas.openxmlformats.org/drawingml/2006/table">
            <a:tbl>
              <a:tblPr/>
              <a:tblGrid>
                <a:gridCol w="1700280"/>
                <a:gridCol w="1698480"/>
                <a:gridCol w="1700280"/>
                <a:gridCol w="1698480"/>
              </a:tblGrid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89000"/>
          <a:ext cx="8496000" cy="470520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8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476280"/>
          <a:ext cx="8496000" cy="568944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6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476280"/>
          <a:ext cx="8496000" cy="568944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1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6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2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fffa"/>
                          </a:solidFill>
                          <a:latin typeface="Comic Sans MS"/>
                        </a:rPr>
                        <a:t>3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89000"/>
          <a:ext cx="8642160" cy="64087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280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1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2"/>
          <p:cNvSpPr/>
          <p:nvPr/>
        </p:nvSpPr>
        <p:spPr>
          <a:xfrm>
            <a:off x="7164360" y="5300640"/>
            <a:ext cx="1871640" cy="1413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29:54Z</dcterms:modified>
  <cp:revision>106</cp:revision>
  <dc:subject/>
  <dc:title>TITLE</dc:title>
</cp:coreProperties>
</file>