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5040-2DDA-45C5-8ACA-AE9E52B78D1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3CE9-F652-4050-8D2A-E78E03500F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667-F3D0-4D43-9792-3C3DCDD9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34D-8113-4716-B98A-F4D867E5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D84-5C74-4DF5-A7C2-728E0487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167-CDB3-4168-B3B7-7D20EBC6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81ED-589E-4A9F-B426-F52AE6EB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8D0-CC0C-46BB-B6B7-0529F41A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F45-49D1-462D-9DDC-2368E6EB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066-C4F6-43FF-832B-A44C1C50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485-3AA0-4CD3-8A26-C60127C3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6784-E3DB-4685-BC36-37F2915F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9B6-6C47-4360-AA0C-C00FE761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37D-C430-478E-A280-2273968B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1080-216F-4100-8308-FAAA1B08709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476280"/>
          <a:ext cx="8856720" cy="4551480"/>
        </p:xfrm>
        <a:graphic>
          <a:graphicData uri="http://schemas.openxmlformats.org/drawingml/2006/table">
            <a:tbl>
              <a:tblPr/>
              <a:tblGrid>
                <a:gridCol w="885960"/>
                <a:gridCol w="885960"/>
                <a:gridCol w="885600"/>
                <a:gridCol w="885960"/>
                <a:gridCol w="884160"/>
                <a:gridCol w="885960"/>
                <a:gridCol w="885600"/>
                <a:gridCol w="885960"/>
                <a:gridCol w="885960"/>
                <a:gridCol w="885600"/>
              </a:tblGrid>
              <a:tr h="1138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6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8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7:30:49Z</dcterms:modified>
  <cp:revision>119</cp:revision>
  <dc:subject/>
  <dc:title>TITLE</dc:title>
</cp:coreProperties>
</file>