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1AA2-B6D0-40C6-8339-94CBA9BB1FE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CECB-1446-4D0C-B8B1-28C78C15E6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BC8-BD37-4BEB-9FDF-80F79930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4E27-C1DE-4E4F-9344-306B9010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587-CB36-4DEC-9D50-912952F6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FA8-51B1-45B1-98CF-74061ED1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382-1F25-43E3-B8F2-9453DDBA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A7F-8D5E-43D1-B87E-B249ADC4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5C8-9047-4574-8D2B-9DF6D764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DCB-8A1A-47B4-B198-61C1A652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16A-BB0F-4AE9-A57A-E045707C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A54-D6D4-4BB0-B5E7-30A6327A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4B8-897C-4450-B094-663AF3A0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528-2B7C-4A97-8316-87E0345C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9CD7-FBFF-470E-989F-A00D74715D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76280"/>
          <a:ext cx="8856720" cy="4551480"/>
        </p:xfrm>
        <a:graphic>
          <a:graphicData uri="http://schemas.openxmlformats.org/drawingml/2006/table">
            <a:tbl>
              <a:tblPr/>
              <a:tblGrid>
                <a:gridCol w="885960"/>
                <a:gridCol w="885960"/>
                <a:gridCol w="885600"/>
                <a:gridCol w="885960"/>
                <a:gridCol w="884160"/>
                <a:gridCol w="885960"/>
                <a:gridCol w="885600"/>
                <a:gridCol w="885960"/>
                <a:gridCol w="885960"/>
                <a:gridCol w="885600"/>
              </a:tblGrid>
              <a:tr h="1138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6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8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" name="Rectangle 2"/>
          <p:cNvSpPr/>
          <p:nvPr/>
        </p:nvSpPr>
        <p:spPr>
          <a:xfrm>
            <a:off x="8172360" y="3933720"/>
            <a:ext cx="971640" cy="14922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7:30:49Z</dcterms:modified>
  <cp:revision>119</cp:revision>
  <dc:subject/>
  <dc:title>TITLE</dc:title>
</cp:coreProperties>
</file>