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BF7-0E2D-4386-ADAA-CCB9CD9FB4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754-1974-4036-9830-FEB2930E44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51E5-1BEF-48EA-9828-DC8F0F37DF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5F0-4DC1-436D-9F89-9D08C73B91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44E2-27AF-4C30-AA09-6BE0D9C91C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49CB-E80E-4AED-87BD-6FC49C6BEB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633-F5B0-4E8D-BE7D-48ABCE0793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5D3-FDCB-48DB-9EAC-DE06B2D3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1C4-CF20-4D89-930F-D60FD54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E91-B19C-43DB-9264-31E9202F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6E-58E8-4523-916E-BB89B078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C51-C738-480C-8C32-905AECB8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2C0-A136-466E-81B1-C43A1191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F77-FC49-4BB9-9CBA-D6238A4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4BA-F3E3-48A0-ADC7-7F77E45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1CC-4A43-450C-BE58-BA901A86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550-DC56-48BE-A269-DC88DBAC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4DC-E3F2-4CB9-8939-A45C451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5B8-2080-4C02-A931-93639CA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1A9-2B09-4CFE-A84D-D13DDACE97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370400" cy="443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3704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61272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867280" y="300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708360" y="300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154764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324000" y="-14400"/>
            <a:ext cx="3614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612720" y="155736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867280" y="156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708360" y="156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1547640" y="1557360"/>
            <a:ext cx="3614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71760" y="380880"/>
            <a:ext cx="600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61272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867280" y="300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3708360" y="300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54764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324000" y="-1440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2843280" y="7920"/>
            <a:ext cx="361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324000" y="1268280"/>
            <a:ext cx="4370400" cy="444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370400" cy="444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233440" y="1268280"/>
            <a:ext cx="43704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0:12Z</dcterms:modified>
  <cp:revision>118</cp:revision>
  <dc:subject/>
  <dc:title>TITLE</dc:title>
</cp:coreProperties>
</file>