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AC8D-EC24-4651-825B-537803C6D5A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47DC-C9C7-4892-9F56-FE50F963961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20D9-E6F9-465D-A96B-4059E954E58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AA1D-121F-4A4A-BBE4-DCAD7CC9248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107B-0E18-4C57-8592-5BE0B82DB89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AB52-E8BD-4177-B4B2-A6F6915183D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D0C3-450A-481A-957C-E33E39FDB02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C1E4-10C5-4E09-9FE8-AC1877B36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8AC4-1B42-4A07-9814-CCC80083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C1F8-33BD-4D4F-BB04-2AA7D9882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ADE3-B05D-47A9-9AC7-C165728AD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BFE1-309A-457F-99EF-56688062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C5D3-5683-4D97-BCA9-A6D1DABE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8226-D319-444D-AE11-F1D9F1F8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219C-57D2-48E4-997E-1189809D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4105-A53B-4A03-94E4-B5842502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079C-A0C8-4DDC-9B4A-41C9D3BF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4B67-53FC-4191-B142-662D60CA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86AD-4B75-42E4-B3ED-7984F6FF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23EF-D02D-4449-BBAF-31868F3E8BC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4370400" cy="4438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4284720" y="907920"/>
            <a:ext cx="43704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-612720" y="2997360"/>
            <a:ext cx="3614760" cy="367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5867280" y="3006720"/>
            <a:ext cx="3616560" cy="3672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3708360" y="3006720"/>
            <a:ext cx="3614760" cy="367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4"/>
          <a:stretch/>
        </p:blipFill>
        <p:spPr>
          <a:xfrm>
            <a:off x="1547640" y="2997360"/>
            <a:ext cx="3614760" cy="3671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5"/>
          <a:stretch/>
        </p:blipFill>
        <p:spPr>
          <a:xfrm>
            <a:off x="324000" y="-14400"/>
            <a:ext cx="36147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-612720" y="1557360"/>
            <a:ext cx="3614760" cy="3672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5867280" y="1566720"/>
            <a:ext cx="3616560" cy="3672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3708360" y="1566720"/>
            <a:ext cx="3614760" cy="3672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4"/>
          <a:stretch/>
        </p:blipFill>
        <p:spPr>
          <a:xfrm>
            <a:off x="1547640" y="1557360"/>
            <a:ext cx="36147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571760" y="380880"/>
            <a:ext cx="60004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-612720" y="2997360"/>
            <a:ext cx="3614760" cy="3671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5867280" y="3006720"/>
            <a:ext cx="3616560" cy="3672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3708360" y="3006720"/>
            <a:ext cx="3614760" cy="367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4"/>
          <a:stretch/>
        </p:blipFill>
        <p:spPr>
          <a:xfrm>
            <a:off x="1547640" y="2997360"/>
            <a:ext cx="3614760" cy="3671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5"/>
          <a:stretch/>
        </p:blipFill>
        <p:spPr>
          <a:xfrm>
            <a:off x="324000" y="-14400"/>
            <a:ext cx="3614760" cy="3672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6"/>
          <a:stretch/>
        </p:blipFill>
        <p:spPr>
          <a:xfrm>
            <a:off x="2843280" y="7920"/>
            <a:ext cx="36162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324000" y="1268280"/>
            <a:ext cx="4370400" cy="4440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4859280" y="1268280"/>
            <a:ext cx="4370400" cy="4440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2233440" y="1268280"/>
            <a:ext cx="437040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0T14:00:12Z</dcterms:modified>
  <cp:revision>118</cp:revision>
  <dc:subject/>
  <dc:title>TITLE</dc:title>
</cp:coreProperties>
</file>