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C6A6-46CA-4224-BC28-369683955F7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E532-B344-4A39-8C8F-31FF25F2D3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E57B-A833-4D22-9AFC-4F0EC9FE28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B207-3400-4889-B585-9B57DF91A1C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1F40-CB15-4F4D-93C7-11628C43C7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7E9A-64A9-46B2-B104-A5E3F20239F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DF2C-E53B-49D4-B891-8EDA38912D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Kim’s gam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D5FB-6E9A-499A-8799-75CA2FFC8A1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86B-D41F-41DF-BE9B-B9E54D09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1B66-B8F2-42F7-A508-F1CB3F70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1317-E04E-45DB-8CA9-16A83C16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2C81-90D7-45CF-BDBE-0A52B914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B7B-A3CD-422F-97A7-7FC1E27F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483-9258-4FC4-B3F3-ECD52B9E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F37-2EEB-4EC2-AFF8-517C2CC7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0AC-D730-4373-8775-573E497D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32E-0066-4D01-A768-30A41D5E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D6D-3628-4161-9ED9-08BDF1A9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39E-F0FA-41DB-8D3F-8FA1F07A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2BC-BDBE-418C-B7EF-9D3117AF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3D15-ACE4-451C-B8F2-718FC04FE59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64000" y="333360"/>
            <a:ext cx="53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d9"/>
                </a:solidFill>
                <a:latin typeface="Comic Sans MS"/>
              </a:rPr>
              <a:t>¿Cuántos…h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2492280"/>
            <a:ext cx="576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d9"/>
                </a:solidFill>
                <a:latin typeface="Wingdings"/>
                <a:ea typeface="Wingdings"/>
              </a:rPr>
              <a:t>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333360"/>
            <a:ext cx="53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d9"/>
                </a:solidFill>
                <a:latin typeface="Comic Sans MS"/>
              </a:rPr>
              <a:t>¿Cuántos…h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1844640"/>
            <a:ext cx="5761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d9"/>
                </a:solidFill>
                <a:latin typeface="Wingdings"/>
                <a:ea typeface="Wingdings"/>
              </a:rPr>
              <a:t>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333360"/>
            <a:ext cx="53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d9"/>
                </a:solidFill>
                <a:latin typeface="Comic Sans MS"/>
              </a:rPr>
              <a:t>¿Cuántos…h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6360" y="2276640"/>
            <a:ext cx="7667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d9"/>
                </a:solidFill>
                <a:latin typeface="Wingdings"/>
                <a:ea typeface="Wingdings"/>
              </a:rPr>
              <a:t>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333360"/>
            <a:ext cx="53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d9"/>
                </a:solidFill>
                <a:latin typeface="Comic Sans MS"/>
              </a:rPr>
              <a:t>¿Cuántos…h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916280"/>
            <a:ext cx="7667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d9"/>
                </a:solidFill>
                <a:latin typeface="Wingdings"/>
                <a:ea typeface="Wingdings"/>
              </a:rPr>
              <a:t>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333360"/>
            <a:ext cx="53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d9"/>
                </a:solidFill>
                <a:latin typeface="Comic Sans MS"/>
              </a:rPr>
              <a:t>¿Cuántos…h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1916280"/>
            <a:ext cx="6624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d9"/>
                </a:solidFill>
                <a:latin typeface="Wingdings"/>
                <a:ea typeface="Wingdings"/>
              </a:rPr>
              <a:t>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333360"/>
            <a:ext cx="53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d9"/>
                </a:solidFill>
                <a:latin typeface="Comic Sans MS"/>
              </a:rPr>
              <a:t>¿Cuántos…h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76360" y="2276640"/>
            <a:ext cx="7667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d9"/>
                </a:solidFill>
                <a:latin typeface="Wingdings"/>
                <a:ea typeface="Wingdings"/>
              </a:rPr>
              <a:t>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64000" y="333360"/>
            <a:ext cx="53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d9"/>
                </a:solidFill>
                <a:latin typeface="Comic Sans MS"/>
              </a:rPr>
              <a:t>¿Cuántos…h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2276640"/>
            <a:ext cx="8675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d9"/>
                </a:solidFill>
                <a:latin typeface="Wingdings"/>
                <a:ea typeface="Wingdings"/>
              </a:rPr>
              <a:t>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09-29T07:38:19Z</dcterms:modified>
  <cp:revision>63</cp:revision>
  <dc:subject/>
  <dc:title>TITLE</dc:title>
</cp:coreProperties>
</file>