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46A2-5CC6-4ED2-B7AF-FD3C4DB40B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E302-0C08-453F-ABC5-D31AD07A45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253-1ABB-4C06-A42F-891BB05007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A8CC-1690-418F-9CA9-D76B4B76C7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7E0-C28C-4801-97A0-A257890A59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879C-C95E-475B-8290-DBCFE8D489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EFC-0365-4607-994F-8CC52A6808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1188-80A5-47A0-8256-0428336DDF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8CB-934C-4BD9-8FDC-AB15AB62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937-9117-4FF7-AEFA-2989ED9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8ED-47B6-4D53-B091-46D65F1C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EBE-1E7B-47DD-B06E-E852E5D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F5B-A61F-4B5F-AC09-1641A540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60B-0937-457A-970C-AED673FB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783-4FBB-440A-9094-1D82BF8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877-980F-47F9-8795-7921D7D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44D-81D3-4988-BAAE-11F4683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975-ECFD-4C43-8C27-6AA3DD7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4E7-38DC-4F69-BCE2-FD0EBBA9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1FB-78E3-47C5-890C-338FB39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D9B9-B3B0-4A73-9714-727DD963CD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2492280"/>
            <a:ext cx="576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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844640"/>
            <a:ext cx="5761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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2276640"/>
            <a:ext cx="766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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916280"/>
            <a:ext cx="766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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1916280"/>
            <a:ext cx="662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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2276640"/>
            <a:ext cx="766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276640"/>
            <a:ext cx="8675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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8:19Z</dcterms:modified>
  <cp:revision>63</cp:revision>
  <dc:subject/>
  <dc:title>TITLE</dc:title>
</cp:coreProperties>
</file>