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DDDE-E89A-4B4B-BEC1-F68603B764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55AD-7424-426A-9FC5-4624627A04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424-83B4-4237-8844-95A45509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BA2-1040-4B94-8F61-05617E06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26A-F5F6-48A3-A324-38085EE9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3B8-C9F6-45AE-8398-BE1F97BD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4A5-14CA-49F6-9250-1C28A162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811-52CB-415C-A1C9-335E5BCD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48B-B143-4372-A7B5-544DCE3A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F11-454D-4C56-814C-07B4259E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7C7-A8D1-4E5F-B540-4735A0D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38B-A627-4D2A-86B3-C85F96E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10E-C3A7-40A4-97F1-B74038B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6E7-7F24-46CA-B852-BECA41E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37A6-38F5-4EE3-A2BE-EB4310554B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53080"/>
            <a:ext cx="1042920" cy="2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79640" y="155592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44280"/>
          <a:ext cx="8785440" cy="640908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216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lun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octubr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marz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noviemb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abri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juli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mart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diciemb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febrer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juev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ener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doming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agost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may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none of the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22"/>
          <p:cNvSpPr/>
          <p:nvPr/>
        </p:nvSpPr>
        <p:spPr>
          <a:xfrm>
            <a:off x="65120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9"/>
          <p:cNvSpPr/>
          <p:nvPr/>
        </p:nvSpPr>
        <p:spPr>
          <a:xfrm>
            <a:off x="4902120" y="441468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0"/>
          <p:cNvSpPr/>
          <p:nvPr/>
        </p:nvSpPr>
        <p:spPr>
          <a:xfrm>
            <a:off x="657072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31"/>
          <p:cNvSpPr/>
          <p:nvPr/>
        </p:nvSpPr>
        <p:spPr>
          <a:xfrm>
            <a:off x="3146400" y="44146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2"/>
          <p:cNvSpPr/>
          <p:nvPr/>
        </p:nvSpPr>
        <p:spPr>
          <a:xfrm>
            <a:off x="48308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303048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4"/>
          <p:cNvSpPr/>
          <p:nvPr/>
        </p:nvSpPr>
        <p:spPr>
          <a:xfrm>
            <a:off x="6589800" y="447372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35"/>
          <p:cNvSpPr/>
          <p:nvPr/>
        </p:nvSpPr>
        <p:spPr>
          <a:xfrm>
            <a:off x="8282160" y="2349360"/>
            <a:ext cx="5029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36"/>
          <p:cNvSpPr/>
          <p:nvPr/>
        </p:nvSpPr>
        <p:spPr>
          <a:xfrm>
            <a:off x="1353960" y="44146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7"/>
          <p:cNvSpPr/>
          <p:nvPr/>
        </p:nvSpPr>
        <p:spPr>
          <a:xfrm>
            <a:off x="4557600" y="16344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8"/>
          <p:cNvSpPr/>
          <p:nvPr/>
        </p:nvSpPr>
        <p:spPr>
          <a:xfrm>
            <a:off x="8101080" y="16344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39"/>
          <p:cNvSpPr/>
          <p:nvPr/>
        </p:nvSpPr>
        <p:spPr>
          <a:xfrm>
            <a:off x="8097840" y="441468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2754360" y="2349360"/>
            <a:ext cx="7952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41"/>
          <p:cNvSpPr/>
          <p:nvPr/>
        </p:nvSpPr>
        <p:spPr>
          <a:xfrm>
            <a:off x="1031760" y="163440"/>
            <a:ext cx="7956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42"/>
          <p:cNvSpPr/>
          <p:nvPr/>
        </p:nvSpPr>
        <p:spPr>
          <a:xfrm>
            <a:off x="1017720" y="234936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06T13:54:12Z</dcterms:modified>
  <cp:revision>122</cp:revision>
  <dc:subject/>
  <dc:title>TITLE</dc:title>
</cp:coreProperties>
</file>