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6010-DEA4-477D-80BF-6BE869B8C4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1A2B-3D23-450C-8278-350AE11A267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EB73-5B6B-418A-8A8B-CB737FE9CD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3203-6748-4438-AAC4-C95EFA13377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5B27-1585-4BD5-928B-89396F34D3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CE32-263F-4275-AE21-6EBBC22A122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590C-1FDD-460D-8BE4-EA37C48BB87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6BB5-800D-479A-A2FA-9969BA4B777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C461-033A-4213-A7B0-95AE8A9B25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F0FD-B1E6-4918-9E86-8A95CF0680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2460-B3A9-461E-9D0D-039CAEB08F3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03CD-4DF2-47A0-B680-111E76BF35A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E484-1161-4828-8E4F-D25E187844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221-1BD5-4BFA-8F46-AAD88153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3C19-344B-4AEF-BA16-9480804D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1A35-6F32-4841-AB45-54226C8A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2E0-A20F-4C3F-9424-B8A416DE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B3C0-7E74-4066-AC2B-A8D4EC6D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AF47-751F-463C-93FB-80F56A7A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55D7-3B1D-410C-9819-02C72E76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2D43-C4EC-4242-BB24-71A53E5E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469F-25F7-4EF9-B070-E04C395C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1B3F-803A-4F4E-AAC4-371DA660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8770-8624-4F31-B167-B9B0EEF4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7B3-3C2C-4D67-8E91-DEFD9EB1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73DD-BC83-4E2F-A292-50AB6331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BB97-45DA-41C2-938E-6FF5C66A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630A-2FA9-4088-9F6A-F66DE8DC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11AA-2D7E-43A6-83E0-D643552C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ECBB-C369-4061-B40E-6E3D490A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1E13B-8135-482F-9839-480C28FC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2A594-B31D-47B4-B69F-CA6282EE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0572A-2659-486A-8453-666845B1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CAEE1-A3C4-44FE-AC60-288804A2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A80F1-E040-49AB-9312-A286068C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076-C7F3-436B-8D84-E641C84C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C4FAF-C91B-4BF8-B3BD-921BF167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9619B-2557-4B9C-A5EB-F835CE5D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12601-E0BE-4E58-82CF-51D20B2A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D0721-5BEE-4C79-B05C-1F19C77D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1FC99-87B8-46DE-BA9D-E8B9970B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3DC8-9102-4490-B40B-F736378E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C626A-A5F7-4253-9295-44DC9EF3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EA1-F22E-48EC-8266-9DE9CB4D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289B-04AD-47B8-B7A4-0C0CF8FA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732-0FFD-4539-B5A2-7D91844C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957-03C5-4CA2-A6EB-711B3EED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3F9-0B95-4948-844D-945FC5BA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F54-CCA8-4BA3-B5DA-BD442782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E697-357A-423F-A3B7-7009ADE442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3144-73BD-487E-B355-A34A280C176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E50C-F509-424B-B6B7-7428009C752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www.sunderlandschools.org/mfl-sunderland/resources/PrimarySpanish/los-meses.mp3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843280" y="1268280"/>
            <a:ext cx="57211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30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____ el _______ de _____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373720"/>
            <a:ext cx="20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jue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3640" y="5373720"/>
            <a:ext cx="20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cin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5373720"/>
            <a:ext cx="20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692360" y="189000"/>
            <a:ext cx="58323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30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____ el _______ de _____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373720"/>
            <a:ext cx="21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vier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5373720"/>
            <a:ext cx="20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04000" y="5373720"/>
            <a:ext cx="23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febr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570888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30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____  el _____ de _____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373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miérc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3640" y="5373720"/>
            <a:ext cx="20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di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04000" y="5373720"/>
            <a:ext cx="23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octu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619280" y="260280"/>
            <a:ext cx="576108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260280"/>
            <a:ext cx="4537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lunes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martes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miércoles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jueves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viernes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sábado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domin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3573360"/>
            <a:ext cx="288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áb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184464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u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7628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ar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530064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érco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3860640"/>
            <a:ext cx="32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domin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59280" y="189000"/>
            <a:ext cx="30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vier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206064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jue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836640"/>
            <a:ext cx="50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u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92360" y="335772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puen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260280"/>
            <a:ext cx="352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vier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2349360"/>
            <a:ext cx="50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oming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03640" y="5759280"/>
            <a:ext cx="38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nuev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ába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3429000"/>
            <a:ext cx="42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juev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1268280"/>
            <a:ext cx="50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miérco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436572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mar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1700280"/>
            <a:ext cx="53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botel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32360" y="5013360"/>
            <a:ext cx="42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5759280"/>
            <a:ext cx="42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repas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6720" y="2349360"/>
            <a:ext cx="374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aj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5" dur="1" fill="hold"/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57466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1279440"/>
            <a:ext cx="331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enero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febrero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marzo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abril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mayo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jun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19640" y="1279440"/>
            <a:ext cx="39243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julio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agosto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setiembre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octubre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noviembre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diciemb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57942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rId3"/>
          </p:cNvPr>
          <p:cNvSpPr/>
          <p:nvPr/>
        </p:nvSpPr>
        <p:spPr>
          <a:xfrm>
            <a:off x="468360" y="5805360"/>
            <a:ext cx="790560" cy="648000"/>
          </a:xfrm>
          <a:custGeom>
            <a:avLst/>
            <a:gdLst>
              <a:gd name="textAreaLeft" fmla="*/ 41760 w 790560"/>
              <a:gd name="textAreaRight" fmla="*/ 748800 w 7905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349" h="21600">
                <a:moveTo>
                  <a:pt x="0" y="0"/>
                </a:moveTo>
                <a:lnTo>
                  <a:pt x="26349" y="0"/>
                </a:lnTo>
                <a:lnTo>
                  <a:pt x="26349" y="21600"/>
                </a:lnTo>
                <a:lnTo>
                  <a:pt x="0" y="21600"/>
                </a:lnTo>
                <a:close/>
              </a:path>
              <a:path fill="lightenLess" w="26349" h="21600">
                <a:moveTo>
                  <a:pt x="0" y="0"/>
                </a:moveTo>
                <a:lnTo>
                  <a:pt x="26349" y="0"/>
                </a:lnTo>
                <a:lnTo>
                  <a:pt x="24949" y="1400"/>
                </a:lnTo>
                <a:lnTo>
                  <a:pt x="1400" y="1400"/>
                </a:lnTo>
                <a:close/>
              </a:path>
              <a:path fill="darken" w="26349" h="21600">
                <a:moveTo>
                  <a:pt x="26349" y="0"/>
                </a:moveTo>
                <a:lnTo>
                  <a:pt x="26349" y="21600"/>
                </a:lnTo>
                <a:lnTo>
                  <a:pt x="24949" y="20200"/>
                </a:lnTo>
                <a:lnTo>
                  <a:pt x="24949" y="1400"/>
                </a:lnTo>
                <a:close/>
              </a:path>
              <a:path fill="darkenLess" w="26349" h="21600">
                <a:moveTo>
                  <a:pt x="26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49" y="20200"/>
                </a:lnTo>
                <a:close/>
              </a:path>
              <a:path fill="lighten" w="26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49" h="21600">
                <a:moveTo>
                  <a:pt x="6168" y="8406"/>
                </a:moveTo>
                <a:lnTo>
                  <a:pt x="10598" y="8406"/>
                </a:lnTo>
                <a:lnTo>
                  <a:pt x="15020" y="3794"/>
                </a:lnTo>
                <a:lnTo>
                  <a:pt x="15020" y="17806"/>
                </a:lnTo>
                <a:lnTo>
                  <a:pt x="10598" y="13194"/>
                </a:lnTo>
                <a:lnTo>
                  <a:pt x="6168" y="13194"/>
                </a:lnTo>
                <a:close/>
              </a:path>
              <a:path fill="darken" w="26349" h="21600">
                <a:moveTo>
                  <a:pt x="16674" y="10800"/>
                </a:moveTo>
                <a:lnTo>
                  <a:pt x="20181" y="10800"/>
                </a:lnTo>
              </a:path>
              <a:path fill="darken" w="26349" h="21600">
                <a:moveTo>
                  <a:pt x="16674" y="8406"/>
                </a:moveTo>
                <a:lnTo>
                  <a:pt x="20181" y="5639"/>
                </a:lnTo>
              </a:path>
              <a:path fill="darken" w="26349" h="21600">
                <a:moveTo>
                  <a:pt x="16674" y="13194"/>
                </a:moveTo>
                <a:lnTo>
                  <a:pt x="20181" y="15961"/>
                </a:lnTo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92360" y="2565360"/>
            <a:ext cx="583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m_y_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33336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f_ br_ r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94172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_t_ _mbr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92360" y="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n_r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2421000"/>
            <a:ext cx="52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 g_st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484280"/>
            <a:ext cx="58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m_ rz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3357720"/>
            <a:ext cx="28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j_l_ 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4360" y="1413000"/>
            <a:ext cx="41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br_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189000"/>
            <a:ext cx="34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j_n_ 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4653000"/>
            <a:ext cx="37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ct_br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35280" y="3357720"/>
            <a:ext cx="52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_ c_ _mbr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5516640"/>
            <a:ext cx="590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n_ v_ _mbr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9" dur="1" fill="hold"/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60721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10-23T09:04:29Z</dcterms:modified>
  <cp:revision>263</cp:revision>
  <dc:subject/>
  <dc:title>TITLE</dc:title>
</cp:coreProperties>
</file>