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71C-B137-4873-BBDD-117659A619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8FB-A58C-466A-AA87-60F1BC2081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ABC1-8238-48B5-9DD3-F72189F544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74CF-2810-4FA8-9DD5-26F405B7CA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329-E687-4704-9751-54873CF95A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10D1-4BAA-4E1C-A8A6-D8EAE67406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962-CF13-4231-8F3B-651BFF220F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C0D-10BB-4C54-A17C-75D737862F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07B-9174-400A-B053-21C37D1DF3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0309-57F1-4D85-98BE-389FC7E887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AE42-887B-47F9-9FB5-9EE5DD5C24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C6F-15AE-4E98-BBAD-21BA5EF7F8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616-DF8E-42CB-B1C5-742007CFE7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A2B-FFCB-487E-BB3C-C5460A50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ECC-0DB1-4180-B65F-ADDC44B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433-7BFA-4302-86F6-F709F9B9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72B-B5BE-483A-AECD-46DD1C39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6C6-C7CB-47F4-B116-935257F7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215-BB53-4F2D-90FE-46C5204C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FD9D-BBDA-48BD-ACE0-78D46343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89C8-5894-4621-AE15-B79D59E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E7D8-89F3-4B24-A380-8FF6941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40F1-EF04-472F-9C8D-BBF6486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37F8-028D-4AEA-9825-90B2D1E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1E6-7A8A-4E61-BEFC-89C94B0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D38-CCD2-4B2A-ADF1-E70711E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C55D-71FE-453E-AE1C-1427096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5A90-6C9C-42E1-AAAA-E638DA0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ED1-599A-4D52-865E-69AE2A32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03E-9627-4FE6-A4E3-1A8A35C2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685B-72BA-4A5B-86F8-78C1DEB5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C6B7-5890-4CBB-B8BE-E03FC3C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D4A4-F776-4CE8-B53E-33D50973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C1DA-A56C-47AB-B017-52CD2B61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5045-F52E-4AE7-B45C-158E17C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7EF-CD8F-4CF5-9F54-42FF166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7EE5-DBE2-4BD4-89C4-F7982C0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C8D6-8448-469F-B9AC-DC1484D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DEE6-4158-40CE-9FC2-0B1EC40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24E8-82D7-4C30-8746-E755705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FB19-E15C-4CAB-BE69-FCF4B0F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7D91-4E60-45AA-BA0B-FF1FD4A6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0B5D-DFCF-4C00-997E-9AD6C7BA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46A-F58D-4FCA-80EE-23B4327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AE3-AC1F-4F13-9713-E1CFACA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C91-67CB-43F9-9D85-DB6DA650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BF3-6ED8-4C51-A415-819D033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493-E4B9-4EFE-9D96-FF8813E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5A2-3F01-41FD-95AC-24F2439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966D-3C85-4A8D-B7A4-D8E8D6C9EE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0F65-B1D7-40B7-9A63-2B5964C3C0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77D6-8160-4CE6-8D87-E3ECD4B7F6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sunderlandschools.org/mfl-sunderland/resources/PrimarySpanish/los-meses.mp3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5721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jue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ci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832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7372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ier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fe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57088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 el 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73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iérc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i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610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60280"/>
            <a:ext cx="4537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lun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rt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iércol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ev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viernes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ábad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omi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3573360"/>
            <a:ext cx="28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áb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1844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u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86064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omin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189000"/>
            <a:ext cx="30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ier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0606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u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3357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26028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vier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34936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omin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ába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42900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iérco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4365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ar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2349360"/>
            <a:ext cx="37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7466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279440"/>
            <a:ext cx="33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ner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febrer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rz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abril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may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n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279440"/>
            <a:ext cx="3924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juli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agosto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etiem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octu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noviembre</a:t>
            </a:r>
            <a:br>
              <a:rPr sz="6000"/>
            </a:b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iciem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7942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3"/>
          </p:cNvPr>
          <p:cNvSpPr/>
          <p:nvPr/>
        </p:nvSpPr>
        <p:spPr>
          <a:xfrm>
            <a:off x="468360" y="5805360"/>
            <a:ext cx="790560" cy="64800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49" h="21600">
                <a:moveTo>
                  <a:pt x="0" y="0"/>
                </a:moveTo>
                <a:lnTo>
                  <a:pt x="26349" y="0"/>
                </a:lnTo>
                <a:lnTo>
                  <a:pt x="26349" y="21600"/>
                </a:lnTo>
                <a:lnTo>
                  <a:pt x="0" y="21600"/>
                </a:lnTo>
                <a:close/>
              </a:path>
              <a:path fill="lightenLess" w="26349" h="21600">
                <a:moveTo>
                  <a:pt x="0" y="0"/>
                </a:moveTo>
                <a:lnTo>
                  <a:pt x="26349" y="0"/>
                </a:lnTo>
                <a:lnTo>
                  <a:pt x="24949" y="1400"/>
                </a:lnTo>
                <a:lnTo>
                  <a:pt x="1400" y="1400"/>
                </a:lnTo>
                <a:close/>
              </a:path>
              <a:path fill="darken" w="26349" h="21600">
                <a:moveTo>
                  <a:pt x="26349" y="0"/>
                </a:moveTo>
                <a:lnTo>
                  <a:pt x="26349" y="21600"/>
                </a:lnTo>
                <a:lnTo>
                  <a:pt x="24949" y="20200"/>
                </a:lnTo>
                <a:lnTo>
                  <a:pt x="24949" y="1400"/>
                </a:lnTo>
                <a:close/>
              </a:path>
              <a:path fill="darkenLess" w="26349" h="21600">
                <a:moveTo>
                  <a:pt x="2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9" y="20200"/>
                </a:lnTo>
                <a:close/>
              </a:path>
              <a:path fill="lighten" w="2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9" h="21600">
                <a:moveTo>
                  <a:pt x="6168" y="8406"/>
                </a:moveTo>
                <a:lnTo>
                  <a:pt x="10598" y="8406"/>
                </a:lnTo>
                <a:lnTo>
                  <a:pt x="15020" y="3794"/>
                </a:lnTo>
                <a:lnTo>
                  <a:pt x="15020" y="17806"/>
                </a:lnTo>
                <a:lnTo>
                  <a:pt x="10598" y="13194"/>
                </a:lnTo>
                <a:lnTo>
                  <a:pt x="6168" y="13194"/>
                </a:lnTo>
                <a:close/>
              </a:path>
              <a:path fill="darken" w="26349" h="21600">
                <a:moveTo>
                  <a:pt x="16674" y="10800"/>
                </a:moveTo>
                <a:lnTo>
                  <a:pt x="20181" y="10800"/>
                </a:lnTo>
              </a:path>
              <a:path fill="darken" w="26349" h="21600">
                <a:moveTo>
                  <a:pt x="16674" y="8406"/>
                </a:moveTo>
                <a:lnTo>
                  <a:pt x="20181" y="5639"/>
                </a:lnTo>
              </a:path>
              <a:path fill="darken" w="26349" h="21600">
                <a:moveTo>
                  <a:pt x="16674" y="13194"/>
                </a:moveTo>
                <a:lnTo>
                  <a:pt x="20181" y="15961"/>
                </a:lnTo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565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y_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_ br_ 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t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2360" y="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n_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421000"/>
            <a:ext cx="52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g_st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4842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 rz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35772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_l_ 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1413000"/>
            <a:ext cx="41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br_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9000"/>
            <a:ext cx="34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_n_ 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4653000"/>
            <a:ext cx="37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ct_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3357720"/>
            <a:ext cx="52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c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5516640"/>
            <a:ext cx="590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_ v_ _mbr_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9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60721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0-23T09:04:29Z</dcterms:modified>
  <cp:revision>263</cp:revision>
  <dc:subject/>
  <dc:title>TITLE</dc:title>
</cp:coreProperties>
</file>