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612-443F-4A46-BFF0-18D4F455EB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131E-1FA2-4A13-9DDC-241C06CFDE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0FC-4795-420B-86D1-0C2449D234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355-7F6D-47FE-86F8-C4ADC987BD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47C-1A09-4729-AA01-F9786E5216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994-F52F-4FC6-8005-0AA99C4E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6DF-84B6-4A14-AF7B-C2C7E01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492-897D-4E7A-8C4B-0D7E6D8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D06-6E03-4985-A5A7-F2B85146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8E0-EC02-42A8-B8AA-7FA88E8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479-208C-439B-AFCF-9D958BD2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B5F-2763-47BA-9BA9-86EB92ED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BE9-680A-4390-9A10-02FC27B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274-3A54-4FFB-BEB8-F3D4E56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A7A-C6E5-4A13-87C4-A45B474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996-62F0-4CF5-B328-A8D013A8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BD0-CC93-4098-B565-6A41CBD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978-1A59-4EFD-8D37-6C63567833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260280"/>
            <a:ext cx="3816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I live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he is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he is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they are ca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he is 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he is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a big s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a little 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189000"/>
            <a:ext cx="4932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vivo 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se l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se l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se lla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iene 61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iene trece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una hermana 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un hermano pequ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189000"/>
            <a:ext cx="550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live with my 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e is called Migu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e is 35 years 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19700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ivo con mi pad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321300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 llama Migu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5157720"/>
            <a:ext cx="54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iene treinta y cinco añ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89000"/>
            <a:ext cx="56516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have a big br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is name is Jos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He is 16 years 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97000"/>
            <a:ext cx="68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 hermano may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21300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 llama Jos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5157720"/>
            <a:ext cx="54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iene dieciséis añ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581200" cy="1806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89000"/>
            <a:ext cx="5651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I have 2 sist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hey are called Ana and Ne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11970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dos herma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3789360"/>
            <a:ext cx="63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e llaman Ana y Ne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na tiene ocho años y Nerea tiene cinco añ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8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na is 8 and Nerea is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08720" y="6453360"/>
            <a:ext cx="1835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1268280"/>
            <a:ext cx="5977080" cy="484236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3:44Z</dcterms:modified>
  <cp:revision>125</cp:revision>
  <dc:subject/>
  <dc:title>TITLE</dc:title>
</cp:coreProperties>
</file>