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57E2-1915-4165-8CCB-EE13046508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8EED-414E-409D-A008-73BA653CB7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F4B5-9FEC-4D94-83F9-4C107554A4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79EB-F08D-4EF1-9947-161DFD1231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1F4E-8343-4A82-B209-3F4393D6D4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7A5-5916-43CC-9B96-6C6BFA77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4CC-CF57-4A76-8401-21612897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ED4-ABAC-4BFF-B485-37B5EC1F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39E-5F5B-4802-9873-7B938EEA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E15-3B78-4533-BE7C-85D7DBA4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9BC-5321-47C9-B420-FCD30610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411-8D70-4A02-83BB-E90FACA0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668-24C6-4ADC-960F-F25DD41E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698-50DB-4D01-BCD8-B9E4A235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BBD-2096-4283-BC34-2403A520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4C4-0BB8-45E6-8D43-DD7B3AD8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A88-3B1C-4710-A92F-A9333465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DBCF-DA28-45C6-B283-904082F913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81200" cy="1806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260280"/>
            <a:ext cx="38163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I live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he is ca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he is ca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they are ca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he is 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he is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a big s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a little br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189000"/>
            <a:ext cx="49323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vivo 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se ll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se ll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se lla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iene 61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iene trece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una hermana ma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un hermano peque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308720" y="6453360"/>
            <a:ext cx="1835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2581200" cy="1806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189000"/>
            <a:ext cx="550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I live with my 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He is called Migu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He is 35 years o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119700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o con mi pad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321300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e llama Migu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5157720"/>
            <a:ext cx="54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iene treinta y cinco añ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308720" y="6453360"/>
            <a:ext cx="1835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2581200" cy="180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89000"/>
            <a:ext cx="56516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I have a big br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His name is Jos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He is 16 years o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197000"/>
            <a:ext cx="68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un hermano may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321300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e llama Jos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5157720"/>
            <a:ext cx="54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iene dieciséis añ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308720" y="6453360"/>
            <a:ext cx="1835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2581200" cy="1806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89000"/>
            <a:ext cx="5651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I have 2 sist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They are called Ana and Ner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119700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dos herman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3789360"/>
            <a:ext cx="63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e llaman Ana y Ner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2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na tiene ocho años y Nerea tiene cinco añ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8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Ana is 8 and Nerea is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08720" y="6453360"/>
            <a:ext cx="1835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1268280"/>
            <a:ext cx="5977080" cy="484236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i fam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03:44Z</dcterms:modified>
  <cp:revision>125</cp:revision>
  <dc:subject/>
  <dc:title>TITLE</dc:title>
</cp:coreProperties>
</file>