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FD38-03C8-49FF-9C0B-BDB015F7D7D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6A74-FC79-4D1B-A86E-04B0338B1A5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265B-CCD2-460F-BCBA-C3986862FED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CF98-382F-4387-9CD4-FBDED42C7B2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9DCB-287E-420C-A402-8ACEB6F8B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6FF8-A83B-4760-A1A6-C8F30BEC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E08D-ABE9-4348-BFD2-079705D82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FD8C-BBE4-4D3B-ACBB-D3C2A0C5E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912E-32DA-4102-8F88-F1D5BA22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2F5A-664C-4169-B130-8AF96FF4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6D32-F581-45D4-BB0A-A6B0BB30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E5B4-16AA-4CC5-B944-E8283288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EDF2-90E1-4BDF-9175-8BE203C9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36D4-83F0-4946-9703-E76B5D72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FA91-1440-414A-8F08-B9D0D1DB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B5B2-8FC3-43BD-AD80-1609FCB5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E8C0-AAFF-4D27-AFB2-6AE91001D84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468360" y="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et’s practise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3419640" y="5229360"/>
            <a:ext cx="2089080" cy="576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Freeform 18"/>
          <p:cNvSpPr/>
          <p:nvPr/>
        </p:nvSpPr>
        <p:spPr>
          <a:xfrm>
            <a:off x="1957320" y="977760"/>
            <a:ext cx="4940280" cy="2286000"/>
          </a:xfrm>
          <a:custGeom>
            <a:avLst/>
            <a:gdLst/>
            <a:ahLst/>
            <a:rect l="l" t="t" r="r" b="b"/>
            <a:pathLst>
              <a:path w="3112" h="1440">
                <a:moveTo>
                  <a:pt x="391" y="1320"/>
                </a:moveTo>
                <a:cubicBezTo>
                  <a:pt x="323" y="1303"/>
                  <a:pt x="300" y="1234"/>
                  <a:pt x="271" y="1176"/>
                </a:cubicBezTo>
                <a:cubicBezTo>
                  <a:pt x="251" y="1135"/>
                  <a:pt x="227" y="1096"/>
                  <a:pt x="207" y="1056"/>
                </a:cubicBezTo>
                <a:cubicBezTo>
                  <a:pt x="190" y="1022"/>
                  <a:pt x="184" y="990"/>
                  <a:pt x="151" y="968"/>
                </a:cubicBezTo>
                <a:cubicBezTo>
                  <a:pt x="133" y="913"/>
                  <a:pt x="158" y="980"/>
                  <a:pt x="119" y="912"/>
                </a:cubicBezTo>
                <a:cubicBezTo>
                  <a:pt x="99" y="877"/>
                  <a:pt x="81" y="836"/>
                  <a:pt x="63" y="800"/>
                </a:cubicBezTo>
                <a:cubicBezTo>
                  <a:pt x="52" y="743"/>
                  <a:pt x="59" y="773"/>
                  <a:pt x="39" y="712"/>
                </a:cubicBezTo>
                <a:cubicBezTo>
                  <a:pt x="36" y="704"/>
                  <a:pt x="31" y="688"/>
                  <a:pt x="31" y="688"/>
                </a:cubicBezTo>
                <a:cubicBezTo>
                  <a:pt x="44" y="549"/>
                  <a:pt x="0" y="500"/>
                  <a:pt x="119" y="480"/>
                </a:cubicBezTo>
                <a:cubicBezTo>
                  <a:pt x="136" y="429"/>
                  <a:pt x="144" y="402"/>
                  <a:pt x="199" y="384"/>
                </a:cubicBezTo>
                <a:cubicBezTo>
                  <a:pt x="212" y="387"/>
                  <a:pt x="226" y="389"/>
                  <a:pt x="239" y="392"/>
                </a:cubicBezTo>
                <a:cubicBezTo>
                  <a:pt x="247" y="394"/>
                  <a:pt x="256" y="404"/>
                  <a:pt x="263" y="400"/>
                </a:cubicBezTo>
                <a:cubicBezTo>
                  <a:pt x="283" y="389"/>
                  <a:pt x="295" y="368"/>
                  <a:pt x="311" y="352"/>
                </a:cubicBezTo>
                <a:cubicBezTo>
                  <a:pt x="317" y="346"/>
                  <a:pt x="327" y="348"/>
                  <a:pt x="335" y="344"/>
                </a:cubicBezTo>
                <a:cubicBezTo>
                  <a:pt x="349" y="337"/>
                  <a:pt x="362" y="328"/>
                  <a:pt x="375" y="320"/>
                </a:cubicBezTo>
                <a:cubicBezTo>
                  <a:pt x="448" y="331"/>
                  <a:pt x="485" y="347"/>
                  <a:pt x="551" y="336"/>
                </a:cubicBezTo>
                <a:cubicBezTo>
                  <a:pt x="556" y="309"/>
                  <a:pt x="560" y="282"/>
                  <a:pt x="567" y="256"/>
                </a:cubicBezTo>
                <a:cubicBezTo>
                  <a:pt x="570" y="245"/>
                  <a:pt x="565" y="228"/>
                  <a:pt x="575" y="224"/>
                </a:cubicBezTo>
                <a:cubicBezTo>
                  <a:pt x="608" y="212"/>
                  <a:pt x="644" y="219"/>
                  <a:pt x="679" y="216"/>
                </a:cubicBezTo>
                <a:cubicBezTo>
                  <a:pt x="698" y="187"/>
                  <a:pt x="709" y="163"/>
                  <a:pt x="743" y="152"/>
                </a:cubicBezTo>
                <a:cubicBezTo>
                  <a:pt x="780" y="189"/>
                  <a:pt x="789" y="180"/>
                  <a:pt x="831" y="152"/>
                </a:cubicBezTo>
                <a:cubicBezTo>
                  <a:pt x="871" y="178"/>
                  <a:pt x="851" y="199"/>
                  <a:pt x="895" y="184"/>
                </a:cubicBezTo>
                <a:cubicBezTo>
                  <a:pt x="908" y="132"/>
                  <a:pt x="893" y="153"/>
                  <a:pt x="927" y="176"/>
                </a:cubicBezTo>
                <a:cubicBezTo>
                  <a:pt x="934" y="181"/>
                  <a:pt x="943" y="181"/>
                  <a:pt x="951" y="184"/>
                </a:cubicBezTo>
                <a:cubicBezTo>
                  <a:pt x="983" y="176"/>
                  <a:pt x="1004" y="170"/>
                  <a:pt x="1031" y="152"/>
                </a:cubicBezTo>
                <a:cubicBezTo>
                  <a:pt x="1041" y="114"/>
                  <a:pt x="1032" y="101"/>
                  <a:pt x="1071" y="88"/>
                </a:cubicBezTo>
                <a:cubicBezTo>
                  <a:pt x="1143" y="101"/>
                  <a:pt x="1202" y="127"/>
                  <a:pt x="1271" y="144"/>
                </a:cubicBezTo>
                <a:cubicBezTo>
                  <a:pt x="1303" y="139"/>
                  <a:pt x="1337" y="141"/>
                  <a:pt x="1367" y="128"/>
                </a:cubicBezTo>
                <a:cubicBezTo>
                  <a:pt x="1388" y="119"/>
                  <a:pt x="1415" y="80"/>
                  <a:pt x="1415" y="80"/>
                </a:cubicBezTo>
                <a:cubicBezTo>
                  <a:pt x="1418" y="72"/>
                  <a:pt x="1418" y="63"/>
                  <a:pt x="1423" y="56"/>
                </a:cubicBezTo>
                <a:cubicBezTo>
                  <a:pt x="1468" y="0"/>
                  <a:pt x="1492" y="133"/>
                  <a:pt x="1511" y="152"/>
                </a:cubicBezTo>
                <a:cubicBezTo>
                  <a:pt x="1519" y="160"/>
                  <a:pt x="1532" y="157"/>
                  <a:pt x="1543" y="160"/>
                </a:cubicBezTo>
                <a:cubicBezTo>
                  <a:pt x="1559" y="157"/>
                  <a:pt x="1577" y="160"/>
                  <a:pt x="1591" y="152"/>
                </a:cubicBezTo>
                <a:cubicBezTo>
                  <a:pt x="1611" y="141"/>
                  <a:pt x="1639" y="104"/>
                  <a:pt x="1639" y="104"/>
                </a:cubicBezTo>
                <a:cubicBezTo>
                  <a:pt x="1679" y="114"/>
                  <a:pt x="1701" y="111"/>
                  <a:pt x="1735" y="88"/>
                </a:cubicBezTo>
                <a:cubicBezTo>
                  <a:pt x="1739" y="101"/>
                  <a:pt x="1746" y="128"/>
                  <a:pt x="1759" y="136"/>
                </a:cubicBezTo>
                <a:cubicBezTo>
                  <a:pt x="1773" y="145"/>
                  <a:pt x="1807" y="152"/>
                  <a:pt x="1807" y="152"/>
                </a:cubicBezTo>
                <a:cubicBezTo>
                  <a:pt x="1810" y="184"/>
                  <a:pt x="1806" y="217"/>
                  <a:pt x="1815" y="248"/>
                </a:cubicBezTo>
                <a:cubicBezTo>
                  <a:pt x="1821" y="267"/>
                  <a:pt x="1861" y="250"/>
                  <a:pt x="1895" y="240"/>
                </a:cubicBezTo>
                <a:cubicBezTo>
                  <a:pt x="1958" y="221"/>
                  <a:pt x="1879" y="235"/>
                  <a:pt x="2015" y="224"/>
                </a:cubicBezTo>
                <a:cubicBezTo>
                  <a:pt x="2038" y="207"/>
                  <a:pt x="2056" y="184"/>
                  <a:pt x="2079" y="168"/>
                </a:cubicBezTo>
                <a:cubicBezTo>
                  <a:pt x="2094" y="158"/>
                  <a:pt x="2112" y="154"/>
                  <a:pt x="2127" y="144"/>
                </a:cubicBezTo>
                <a:cubicBezTo>
                  <a:pt x="2244" y="68"/>
                  <a:pt x="2173" y="88"/>
                  <a:pt x="2255" y="72"/>
                </a:cubicBezTo>
                <a:cubicBezTo>
                  <a:pt x="2268" y="92"/>
                  <a:pt x="2283" y="158"/>
                  <a:pt x="2303" y="168"/>
                </a:cubicBezTo>
                <a:cubicBezTo>
                  <a:pt x="2325" y="179"/>
                  <a:pt x="2352" y="176"/>
                  <a:pt x="2375" y="184"/>
                </a:cubicBezTo>
                <a:cubicBezTo>
                  <a:pt x="2394" y="241"/>
                  <a:pt x="2367" y="184"/>
                  <a:pt x="2463" y="216"/>
                </a:cubicBezTo>
                <a:cubicBezTo>
                  <a:pt x="2472" y="219"/>
                  <a:pt x="2471" y="234"/>
                  <a:pt x="2479" y="240"/>
                </a:cubicBezTo>
                <a:cubicBezTo>
                  <a:pt x="2484" y="244"/>
                  <a:pt x="2533" y="255"/>
                  <a:pt x="2535" y="256"/>
                </a:cubicBezTo>
                <a:cubicBezTo>
                  <a:pt x="2544" y="303"/>
                  <a:pt x="2533" y="340"/>
                  <a:pt x="2575" y="368"/>
                </a:cubicBezTo>
                <a:cubicBezTo>
                  <a:pt x="2670" y="357"/>
                  <a:pt x="2645" y="353"/>
                  <a:pt x="2719" y="304"/>
                </a:cubicBezTo>
                <a:cubicBezTo>
                  <a:pt x="2740" y="307"/>
                  <a:pt x="2772" y="293"/>
                  <a:pt x="2783" y="312"/>
                </a:cubicBezTo>
                <a:cubicBezTo>
                  <a:pt x="2868" y="463"/>
                  <a:pt x="2714" y="412"/>
                  <a:pt x="2847" y="456"/>
                </a:cubicBezTo>
                <a:cubicBezTo>
                  <a:pt x="2881" y="490"/>
                  <a:pt x="2873" y="521"/>
                  <a:pt x="2919" y="536"/>
                </a:cubicBezTo>
                <a:cubicBezTo>
                  <a:pt x="2928" y="501"/>
                  <a:pt x="2948" y="474"/>
                  <a:pt x="2959" y="440"/>
                </a:cubicBezTo>
                <a:cubicBezTo>
                  <a:pt x="3049" y="463"/>
                  <a:pt x="2984" y="435"/>
                  <a:pt x="2999" y="624"/>
                </a:cubicBezTo>
                <a:cubicBezTo>
                  <a:pt x="3001" y="646"/>
                  <a:pt x="3011" y="666"/>
                  <a:pt x="3015" y="688"/>
                </a:cubicBezTo>
                <a:cubicBezTo>
                  <a:pt x="3009" y="733"/>
                  <a:pt x="3010" y="738"/>
                  <a:pt x="2999" y="776"/>
                </a:cubicBezTo>
                <a:cubicBezTo>
                  <a:pt x="2997" y="784"/>
                  <a:pt x="2983" y="798"/>
                  <a:pt x="2991" y="800"/>
                </a:cubicBezTo>
                <a:cubicBezTo>
                  <a:pt x="3018" y="805"/>
                  <a:pt x="3061" y="769"/>
                  <a:pt x="3087" y="760"/>
                </a:cubicBezTo>
                <a:cubicBezTo>
                  <a:pt x="3092" y="771"/>
                  <a:pt x="3102" y="780"/>
                  <a:pt x="3103" y="792"/>
                </a:cubicBezTo>
                <a:cubicBezTo>
                  <a:pt x="3112" y="904"/>
                  <a:pt x="3025" y="919"/>
                  <a:pt x="2951" y="968"/>
                </a:cubicBezTo>
                <a:cubicBezTo>
                  <a:pt x="2922" y="1056"/>
                  <a:pt x="2968" y="923"/>
                  <a:pt x="2927" y="1016"/>
                </a:cubicBezTo>
                <a:cubicBezTo>
                  <a:pt x="2906" y="1062"/>
                  <a:pt x="2918" y="1078"/>
                  <a:pt x="2879" y="1104"/>
                </a:cubicBezTo>
                <a:cubicBezTo>
                  <a:pt x="2842" y="1160"/>
                  <a:pt x="2863" y="1141"/>
                  <a:pt x="2823" y="1168"/>
                </a:cubicBezTo>
                <a:cubicBezTo>
                  <a:pt x="2813" y="1184"/>
                  <a:pt x="2793" y="1192"/>
                  <a:pt x="2783" y="1208"/>
                </a:cubicBezTo>
                <a:cubicBezTo>
                  <a:pt x="2757" y="1250"/>
                  <a:pt x="2758" y="1305"/>
                  <a:pt x="2711" y="1336"/>
                </a:cubicBezTo>
                <a:cubicBezTo>
                  <a:pt x="2656" y="1372"/>
                  <a:pt x="2582" y="1385"/>
                  <a:pt x="2519" y="1400"/>
                </a:cubicBezTo>
                <a:cubicBezTo>
                  <a:pt x="2354" y="1439"/>
                  <a:pt x="2442" y="1426"/>
                  <a:pt x="2327" y="1440"/>
                </a:cubicBezTo>
                <a:cubicBezTo>
                  <a:pt x="2207" y="1432"/>
                  <a:pt x="2086" y="1435"/>
                  <a:pt x="1967" y="1416"/>
                </a:cubicBezTo>
                <a:cubicBezTo>
                  <a:pt x="1928" y="1410"/>
                  <a:pt x="1892" y="1388"/>
                  <a:pt x="1855" y="1376"/>
                </a:cubicBezTo>
                <a:cubicBezTo>
                  <a:pt x="1833" y="1369"/>
                  <a:pt x="1767" y="1362"/>
                  <a:pt x="1751" y="1360"/>
                </a:cubicBezTo>
                <a:cubicBezTo>
                  <a:pt x="1709" y="1339"/>
                  <a:pt x="1667" y="1341"/>
                  <a:pt x="1623" y="1328"/>
                </a:cubicBezTo>
                <a:cubicBezTo>
                  <a:pt x="1580" y="1315"/>
                  <a:pt x="1548" y="1303"/>
                  <a:pt x="1503" y="1296"/>
                </a:cubicBezTo>
                <a:cubicBezTo>
                  <a:pt x="1481" y="1297"/>
                  <a:pt x="1339" y="1306"/>
                  <a:pt x="1303" y="1312"/>
                </a:cubicBezTo>
                <a:cubicBezTo>
                  <a:pt x="1246" y="1322"/>
                  <a:pt x="1192" y="1342"/>
                  <a:pt x="1135" y="1352"/>
                </a:cubicBezTo>
                <a:cubicBezTo>
                  <a:pt x="1067" y="1379"/>
                  <a:pt x="991" y="1390"/>
                  <a:pt x="919" y="1408"/>
                </a:cubicBezTo>
                <a:cubicBezTo>
                  <a:pt x="873" y="1419"/>
                  <a:pt x="888" y="1412"/>
                  <a:pt x="847" y="1424"/>
                </a:cubicBezTo>
                <a:cubicBezTo>
                  <a:pt x="831" y="1429"/>
                  <a:pt x="799" y="1440"/>
                  <a:pt x="799" y="1440"/>
                </a:cubicBezTo>
                <a:cubicBezTo>
                  <a:pt x="772" y="1437"/>
                  <a:pt x="745" y="1438"/>
                  <a:pt x="719" y="1432"/>
                </a:cubicBezTo>
                <a:cubicBezTo>
                  <a:pt x="685" y="1425"/>
                  <a:pt x="650" y="1401"/>
                  <a:pt x="615" y="1392"/>
                </a:cubicBezTo>
                <a:cubicBezTo>
                  <a:pt x="605" y="1389"/>
                  <a:pt x="570" y="1382"/>
                  <a:pt x="559" y="1376"/>
                </a:cubicBezTo>
                <a:cubicBezTo>
                  <a:pt x="529" y="1361"/>
                  <a:pt x="543" y="1358"/>
                  <a:pt x="511" y="1352"/>
                </a:cubicBezTo>
                <a:cubicBezTo>
                  <a:pt x="395" y="1330"/>
                  <a:pt x="433" y="1362"/>
                  <a:pt x="391" y="1320"/>
                </a:cubicBezTo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Oval 6"/>
          <p:cNvSpPr/>
          <p:nvPr/>
        </p:nvSpPr>
        <p:spPr>
          <a:xfrm>
            <a:off x="2124000" y="2492280"/>
            <a:ext cx="4608720" cy="295128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Oval 8"/>
          <p:cNvSpPr/>
          <p:nvPr/>
        </p:nvSpPr>
        <p:spPr>
          <a:xfrm>
            <a:off x="2484360" y="1844640"/>
            <a:ext cx="1081080" cy="936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Oval 9"/>
          <p:cNvSpPr/>
          <p:nvPr/>
        </p:nvSpPr>
        <p:spPr>
          <a:xfrm>
            <a:off x="2771640" y="2060640"/>
            <a:ext cx="50328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Oval 10"/>
          <p:cNvSpPr/>
          <p:nvPr/>
        </p:nvSpPr>
        <p:spPr>
          <a:xfrm>
            <a:off x="3851280" y="1628640"/>
            <a:ext cx="1081080" cy="936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Oval 11"/>
          <p:cNvSpPr/>
          <p:nvPr/>
        </p:nvSpPr>
        <p:spPr>
          <a:xfrm>
            <a:off x="4140360" y="1916280"/>
            <a:ext cx="502920" cy="43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Oval 12"/>
          <p:cNvSpPr/>
          <p:nvPr/>
        </p:nvSpPr>
        <p:spPr>
          <a:xfrm>
            <a:off x="5292720" y="1916280"/>
            <a:ext cx="1081080" cy="93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Oval 13"/>
          <p:cNvSpPr/>
          <p:nvPr/>
        </p:nvSpPr>
        <p:spPr>
          <a:xfrm>
            <a:off x="5580000" y="2133720"/>
            <a:ext cx="50328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AutoShape 15"/>
          <p:cNvSpPr/>
          <p:nvPr/>
        </p:nvSpPr>
        <p:spPr>
          <a:xfrm rot="10800000">
            <a:off x="3563640" y="3141720"/>
            <a:ext cx="647640" cy="100800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AutoShape 16"/>
          <p:cNvSpPr/>
          <p:nvPr/>
        </p:nvSpPr>
        <p:spPr>
          <a:xfrm rot="10800000">
            <a:off x="4571640" y="3141720"/>
            <a:ext cx="647640" cy="100800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Arc 17"/>
          <p:cNvSpPr/>
          <p:nvPr/>
        </p:nvSpPr>
        <p:spPr>
          <a:xfrm rot="7287600">
            <a:off x="3504960" y="3127320"/>
            <a:ext cx="2592360" cy="1611360"/>
          </a:xfrm>
          <a:custGeom>
            <a:avLst/>
            <a:gdLst/>
            <a:ahLst/>
            <a:rect l="l" t="t" r="r" b="b"/>
            <a:pathLst>
              <a:path fill="none" w="21600" h="16103">
                <a:moveTo>
                  <a:pt x="14396" y="0"/>
                </a:moveTo>
                <a:cubicBezTo>
                  <a:pt x="18980" y="4098"/>
                  <a:pt x="21600" y="9954"/>
                  <a:pt x="21600" y="16103"/>
                </a:cubicBezTo>
              </a:path>
              <a:path stroke="0" w="21600" h="16103">
                <a:moveTo>
                  <a:pt x="14396" y="0"/>
                </a:moveTo>
                <a:cubicBezTo>
                  <a:pt x="18980" y="4098"/>
                  <a:pt x="21600" y="9954"/>
                  <a:pt x="21600" y="16103"/>
                </a:cubicBezTo>
                <a:lnTo>
                  <a:pt x="0" y="16103"/>
                </a:lnTo>
                <a:lnTo>
                  <a:pt x="14396" y="0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Rectangle 20"/>
          <p:cNvSpPr/>
          <p:nvPr/>
        </p:nvSpPr>
        <p:spPr>
          <a:xfrm>
            <a:off x="3995640" y="4869000"/>
            <a:ext cx="720720" cy="64764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AutoShape 21"/>
          <p:cNvSpPr/>
          <p:nvPr/>
        </p:nvSpPr>
        <p:spPr>
          <a:xfrm rot="10980000">
            <a:off x="5940000" y="2923920"/>
            <a:ext cx="720720" cy="7207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AutoShape 22"/>
          <p:cNvSpPr/>
          <p:nvPr/>
        </p:nvSpPr>
        <p:spPr>
          <a:xfrm rot="14194800">
            <a:off x="6227640" y="3789360"/>
            <a:ext cx="720720" cy="7207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AutoShape 23"/>
          <p:cNvSpPr/>
          <p:nvPr/>
        </p:nvSpPr>
        <p:spPr>
          <a:xfrm rot="17113800">
            <a:off x="5651280" y="4508640"/>
            <a:ext cx="720720" cy="7207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AutoShape 24"/>
          <p:cNvSpPr/>
          <p:nvPr/>
        </p:nvSpPr>
        <p:spPr>
          <a:xfrm rot="4507800">
            <a:off x="2050920" y="3068640"/>
            <a:ext cx="720720" cy="72072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AutoShape 25"/>
          <p:cNvSpPr/>
          <p:nvPr/>
        </p:nvSpPr>
        <p:spPr>
          <a:xfrm rot="1753200">
            <a:off x="1979280" y="3933720"/>
            <a:ext cx="720720" cy="72072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AutoShape 26"/>
          <p:cNvSpPr/>
          <p:nvPr/>
        </p:nvSpPr>
        <p:spPr>
          <a:xfrm rot="21019200">
            <a:off x="2556000" y="4653000"/>
            <a:ext cx="720720" cy="72072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504720" y="507960"/>
            <a:ext cx="2411640" cy="10688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a cabeza blanc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Line 28"/>
          <p:cNvSpPr/>
          <p:nvPr/>
        </p:nvSpPr>
        <p:spPr>
          <a:xfrm>
            <a:off x="2771640" y="1125360"/>
            <a:ext cx="1079640" cy="172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 Box 29"/>
          <p:cNvSpPr/>
          <p:nvPr/>
        </p:nvSpPr>
        <p:spPr>
          <a:xfrm>
            <a:off x="7020000" y="768240"/>
            <a:ext cx="2124000" cy="10688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res ojos amarill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Line 30"/>
          <p:cNvSpPr/>
          <p:nvPr/>
        </p:nvSpPr>
        <p:spPr>
          <a:xfrm flipH="1">
            <a:off x="4716360" y="1628640"/>
            <a:ext cx="2448000" cy="43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31"/>
          <p:cNvSpPr/>
          <p:nvPr/>
        </p:nvSpPr>
        <p:spPr>
          <a:xfrm>
            <a:off x="7308720" y="2351160"/>
            <a:ext cx="1584360" cy="10688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l pelo azu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Line 32"/>
          <p:cNvSpPr/>
          <p:nvPr/>
        </p:nvSpPr>
        <p:spPr>
          <a:xfrm flipH="1" flipV="1">
            <a:off x="6516360" y="2420640"/>
            <a:ext cx="826920" cy="863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0" y="2927520"/>
            <a:ext cx="2448000" cy="10688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s narices verd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Line 34"/>
          <p:cNvSpPr/>
          <p:nvPr/>
        </p:nvSpPr>
        <p:spPr>
          <a:xfrm>
            <a:off x="2050920" y="3789360"/>
            <a:ext cx="1838520" cy="144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35"/>
          <p:cNvSpPr/>
          <p:nvPr/>
        </p:nvSpPr>
        <p:spPr>
          <a:xfrm>
            <a:off x="7236000" y="4221000"/>
            <a:ext cx="1908000" cy="1556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a boca negr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36"/>
          <p:cNvSpPr/>
          <p:nvPr/>
        </p:nvSpPr>
        <p:spPr>
          <a:xfrm flipH="1">
            <a:off x="5292360" y="4581360"/>
            <a:ext cx="2050920" cy="142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 Box 37"/>
          <p:cNvSpPr/>
          <p:nvPr/>
        </p:nvSpPr>
        <p:spPr>
          <a:xfrm>
            <a:off x="0" y="4943520"/>
            <a:ext cx="1979640" cy="1556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 diente marr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Line 38"/>
          <p:cNvSpPr/>
          <p:nvPr/>
        </p:nvSpPr>
        <p:spPr>
          <a:xfrm flipV="1">
            <a:off x="1619280" y="5229360"/>
            <a:ext cx="2521080" cy="57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39"/>
          <p:cNvSpPr/>
          <p:nvPr/>
        </p:nvSpPr>
        <p:spPr>
          <a:xfrm>
            <a:off x="2700360" y="5791320"/>
            <a:ext cx="3959280" cy="10688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res orejas rojas y tres orejas gri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Line 40"/>
          <p:cNvSpPr/>
          <p:nvPr/>
        </p:nvSpPr>
        <p:spPr>
          <a:xfrm flipV="1">
            <a:off x="4643280" y="5157360"/>
            <a:ext cx="129708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4920" y="9360"/>
            <a:ext cx="4897440" cy="690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1"/>
          <p:cNvSpPr/>
          <p:nvPr/>
        </p:nvSpPr>
        <p:spPr>
          <a:xfrm>
            <a:off x="5003640" y="260280"/>
            <a:ext cx="414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a5e9e9"/>
                </a:solidFill>
                <a:uFillTx/>
                <a:latin typeface="Comic Sans MS"/>
              </a:rPr>
              <a:t>Wanted poster pla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a"/>
                </a:solidFill>
                <a:latin typeface="Comic Sans MS"/>
              </a:rPr>
              <a:t>1</a:t>
            </a:r>
            <a:r>
              <a:rPr b="0" lang="en-GB" sz="3600" spc="-1" strike="noStrike">
                <a:solidFill>
                  <a:srgbClr val="ffff63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ff00"/>
                </a:solidFill>
                <a:latin typeface="Comic Sans MS"/>
              </a:rPr>
              <a:t>__</a:t>
            </a:r>
            <a:r>
              <a:rPr b="0" lang="en-GB" sz="3600" spc="-1" strike="noStrike">
                <a:solidFill>
                  <a:srgbClr val="ffff63"/>
                </a:solidFill>
                <a:latin typeface="Comic Sans MS"/>
              </a:rPr>
              <a:t> hea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ff00"/>
                </a:solidFill>
                <a:latin typeface="Comic Sans MS"/>
              </a:rPr>
              <a:t>__</a:t>
            </a:r>
            <a:r>
              <a:rPr b="0" lang="en-GB" sz="3600" spc="-1" strike="noStrike">
                <a:solidFill>
                  <a:srgbClr val="ffff63"/>
                </a:solidFill>
                <a:latin typeface="Comic Sans MS"/>
              </a:rPr>
              <a:t> hai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a"/>
                </a:solidFill>
                <a:latin typeface="Comic Sans MS"/>
              </a:rPr>
              <a:t>__</a:t>
            </a:r>
            <a:r>
              <a:rPr b="0" lang="en-GB" sz="3600" spc="-1" strike="noStrike">
                <a:solidFill>
                  <a:srgbClr val="ffff63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ff00"/>
                </a:solidFill>
                <a:latin typeface="Comic Sans MS"/>
              </a:rPr>
              <a:t>__</a:t>
            </a:r>
            <a:r>
              <a:rPr b="0" lang="en-GB" sz="3600" spc="-1" strike="noStrike">
                <a:solidFill>
                  <a:srgbClr val="ffff63"/>
                </a:solidFill>
                <a:latin typeface="Comic Sans MS"/>
              </a:rPr>
              <a:t> ey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a"/>
                </a:solidFill>
                <a:latin typeface="Comic Sans MS"/>
              </a:rPr>
              <a:t>__</a:t>
            </a:r>
            <a:r>
              <a:rPr b="0" lang="en-GB" sz="3600" spc="-1" strike="noStrike">
                <a:solidFill>
                  <a:srgbClr val="ffff63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ff00"/>
                </a:solidFill>
                <a:latin typeface="Comic Sans MS"/>
              </a:rPr>
              <a:t>__</a:t>
            </a:r>
            <a:r>
              <a:rPr b="0" lang="en-GB" sz="3600" spc="-1" strike="noStrike">
                <a:solidFill>
                  <a:srgbClr val="ffff63"/>
                </a:solidFill>
                <a:latin typeface="Comic Sans MS"/>
              </a:rPr>
              <a:t> nose(s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a"/>
                </a:solidFill>
                <a:latin typeface="Comic Sans MS"/>
              </a:rPr>
              <a:t>__</a:t>
            </a:r>
            <a:r>
              <a:rPr b="0" lang="en-GB" sz="3600" spc="-1" strike="noStrike">
                <a:solidFill>
                  <a:srgbClr val="ffff63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ff00"/>
                </a:solidFill>
                <a:latin typeface="Comic Sans MS"/>
              </a:rPr>
              <a:t>__</a:t>
            </a:r>
            <a:r>
              <a:rPr b="0" lang="en-GB" sz="3600" spc="-1" strike="noStrike">
                <a:solidFill>
                  <a:srgbClr val="ffff63"/>
                </a:solidFill>
                <a:latin typeface="Comic Sans MS"/>
              </a:rPr>
              <a:t> mouth(s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a"/>
                </a:solidFill>
                <a:latin typeface="Comic Sans MS"/>
              </a:rPr>
              <a:t>__</a:t>
            </a:r>
            <a:r>
              <a:rPr b="0" lang="en-GB" sz="3600" spc="-1" strike="noStrike">
                <a:solidFill>
                  <a:srgbClr val="ffff63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ff00"/>
                </a:solidFill>
                <a:latin typeface="Comic Sans MS"/>
              </a:rPr>
              <a:t>__</a:t>
            </a:r>
            <a:r>
              <a:rPr b="0" lang="en-GB" sz="3600" spc="-1" strike="noStrike">
                <a:solidFill>
                  <a:srgbClr val="ffff63"/>
                </a:solidFill>
                <a:latin typeface="Comic Sans MS"/>
              </a:rPr>
              <a:t> teet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a"/>
                </a:solidFill>
                <a:latin typeface="Comic Sans MS"/>
              </a:rPr>
              <a:t>__</a:t>
            </a:r>
            <a:r>
              <a:rPr b="0" lang="en-GB" sz="3600" spc="-1" strike="noStrike">
                <a:solidFill>
                  <a:srgbClr val="ffff63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ff00"/>
                </a:solidFill>
                <a:latin typeface="Comic Sans MS"/>
              </a:rPr>
              <a:t>__</a:t>
            </a:r>
            <a:r>
              <a:rPr b="0" lang="en-GB" sz="3600" spc="-1" strike="noStrike">
                <a:solidFill>
                  <a:srgbClr val="ffff63"/>
                </a:solidFill>
                <a:latin typeface="Comic Sans MS"/>
              </a:rPr>
              <a:t> ear(s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rcRect l="0" t="1058" r="0" b="6666"/>
          <a:stretch/>
        </p:blipFill>
        <p:spPr>
          <a:xfrm>
            <a:off x="1908000" y="0"/>
            <a:ext cx="525636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3-26T10:20:00Z</dcterms:modified>
  <cp:revision>156</cp:revision>
  <dc:subject/>
  <dc:title>TITLE</dc:title>
</cp:coreProperties>
</file>