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00BC-6FC0-4313-A5F3-17DF1D6461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F31B-B796-4FB9-92AA-1C9E9BC8D8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DFA-CA39-46A8-9282-E08C7EDB77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3BE-9463-48A2-A44A-AF760B4D6F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70C-C43E-4F83-A739-05FA06126D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C46-C160-421D-81E0-362C8AFBED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846-05E2-47F1-92A6-C6401162CD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67B-7995-4916-A99F-1E9D09E852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A0F-2EF7-4254-825E-AB8E0AD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D13-8B33-4003-8D6B-26155DA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9BD-8621-4DE3-AD64-425B66DA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EEC-AF04-4D62-A9BE-42C77676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ACB-1B6C-4576-9CE3-563C739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695-4749-4D78-9279-3062898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D4F4-95D1-4479-8B15-1D07392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E59-F988-4E62-9E49-7735571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DE0-49C9-48DC-8489-B8333557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D359-6F34-4849-855C-1C0EFFA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756A-3D96-47A9-BD01-D56EB9A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E47-DF4F-4FFC-AC59-F4FB927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EFF4-85AD-4F14-95E4-2B63D23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FDD6-CC30-4E11-81B4-A105DD6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A681-CFDA-4C0D-BA00-C740D7ED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DAB6-E17E-4358-A9B3-7AD656FF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B322-A643-41E4-AC09-7A7072E8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647C-E20D-4F97-B2C7-35EA88CC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5AB3-670D-4496-9B2F-FFAF396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37A3-07B8-465A-ADFD-A8891703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B070-8A41-409E-8908-B306F722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D7F3-39A4-4056-BE7E-57B7A46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F57-1ED5-4C81-9CF2-6372800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BD61-6F4E-49F1-90C6-5A74CC43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B6B5-7BE2-444B-AF2D-30F3483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CF9D-2835-47D1-A596-79E57B2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648C-271B-4A81-8963-74B97C6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5E41-5AFD-4189-8933-62C533C4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546B-498C-4214-8763-359AF79C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C33F-20B1-4334-8333-3774F014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D2A-4FD5-422C-91FB-092E775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143-86BC-4683-9E3C-843D81B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861-F6EE-49B5-BB3A-3CCB0DA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357-8E5D-488D-A730-DD92507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F76-7A35-44D9-A8F3-C61493A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F82-87B3-412C-9111-8C00C83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130-9DE6-43AA-ABF0-81FDCD3642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12F-F2B5-4012-94E8-04DEBE85E80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767-48DB-469B-9DA4-2ECC80DF187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535480" cy="19065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859280" y="465300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26920" y="2421000"/>
            <a:ext cx="3167280" cy="17143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859280" y="2421000"/>
            <a:ext cx="273708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672000" cy="2760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35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1079640" cy="8114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35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4249440" cy="31939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1873440" cy="14083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4392720" cy="2378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496728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971640" y="765000"/>
            <a:ext cx="1873080" cy="10144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924360" y="692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4T14:40:29Z</dcterms:modified>
  <cp:revision>233</cp:revision>
  <dc:subject/>
  <dc:title>TITLE</dc:title>
</cp:coreProperties>
</file>