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A65-DA98-4C2D-9986-3921748384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106-A1BD-4BE5-AAC8-F7345DA875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38F-A585-45B9-BF9B-3D0F89BE45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39C0-CC39-40C8-A97D-73A5CDB9CA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F581-B9AB-4649-B565-DDDEC85547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4898-AAF4-4600-B59A-8B4229EF46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8787-105E-4EDD-A2CC-10523EC3A9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9DCA-D314-4B54-8398-2BBE1E4E06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BB1-68F4-4D6E-A528-AEFCE6A4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7F8-A95F-4B9D-803B-3963AD5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A9A-4B1F-4059-B2AA-A397E2DB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0B5-ED48-453C-8063-1E130097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AED-B01D-4BAF-86C2-DCFD4568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85A-8EE0-423A-AD0B-8CD48E21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2210-3CD4-4C80-A51E-A06E33BF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3960-AE4A-48C8-B564-E53E6EF4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389-6E72-4989-8E40-7777D70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99BA-71CF-4A7D-9C21-F8EFFE2C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6539-ECED-46A4-92EA-094E947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9A6-C97D-457A-ADB1-3E2113C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7045-9A87-42B8-A6E3-84BE589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DFC7-6318-4E42-AF43-8CF9775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3183-2305-4A90-A033-F248FAC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BFD3-E79E-43EB-8BCF-4259B82C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DD39-DE2D-4CB9-B316-B4ADF62A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8032-B121-4F4A-924F-73E97EF3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1FAE-3EA0-4AFD-B28C-3753D9B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7980-DD5A-42C1-88B1-4B2645E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6B56-2425-4005-86CA-303D7536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9F48-7F64-491B-8742-DF4CFFB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69A-47C1-4B97-AE2F-0B19856F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5807-69FA-4E52-AC18-0710A51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B3F0-28C4-408B-9655-CFD7AB1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AD78-B1B6-4368-87AE-DC57BCC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C727-44D5-410C-B9FD-7081B8E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D205-CCBD-4878-BBF3-0DBB576A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0907-3CB0-4135-90DB-5D3F2A55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10E6-5A55-4EF9-9DF9-EFCA4925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50A-DB39-4D2B-86EE-AD14B925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2D8-1F5B-44CB-BA1C-18A2CF7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A16-A950-4799-B136-E99052C3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7B6-38E5-4A01-9E55-5BB5FD6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2DE-3E4F-4AB8-BE0E-92CB3B68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87E-3A49-4AF3-A5FC-415BAB6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7696-AB6A-488D-A409-BEBD736849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D7E-159E-4AEC-A038-9D93483A697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8EC-8103-4E29-96AA-EBA2860B8A2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535480" cy="19065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859280" y="465300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826920" y="2421000"/>
            <a:ext cx="3167280" cy="17143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859280" y="2421000"/>
            <a:ext cx="273708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672000" cy="2760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356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1079640" cy="8114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979640" y="4437000"/>
            <a:ext cx="2736720" cy="205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35600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biblioteca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4249440" cy="31939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96728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3166920" cy="1714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124000" y="907920"/>
            <a:ext cx="1873440" cy="140832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4967280" y="69228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a plaza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4392720" cy="2378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496728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4941720"/>
            <a:ext cx="2050920" cy="765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376360" cy="17877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21080" cy="1922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1941480" cy="2027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556000" y="4365720"/>
            <a:ext cx="1447560" cy="230184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971640" y="765000"/>
            <a:ext cx="1873080" cy="10144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1547640" y="4365720"/>
            <a:ext cx="2378160" cy="17874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924360" y="692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un río pequ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9-24T14:40:29Z</dcterms:modified>
  <cp:revision>233</cp:revision>
  <dc:subject/>
  <dc:title>TITLE</dc:title>
</cp:coreProperties>
</file>