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8A3-A661-4143-933E-2F22EFFE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E2-4D99-406B-91E8-7CC85D8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725-677E-4DAE-BD21-75411107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ED2-5EC3-4A39-97DD-BBDEED2C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A3F-5DA3-4B9C-81C2-C45B122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BAE-F4C6-4C5E-A8A6-C1FB935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7BF-1AED-46DF-BD3C-DE04E155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21C-43D3-4BBE-BAA5-84F9022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37B-F551-4114-A6A6-1C8DC43B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D1A-30E4-47B4-88D6-04D4868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524-4BFA-42B7-B229-0930E8C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1AF-2359-4A98-9F47-EDF9131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8D3-B90B-42D1-9625-F60205FFE8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77812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573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778120" cy="302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429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3095640" cy="299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1280" y="3573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camis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067280" y="333360"/>
            <a:ext cx="3097080" cy="299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4221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8680" y="5365440"/>
            <a:ext cx="1675080" cy="1235880"/>
            <a:chOff x="238680" y="5365440"/>
            <a:chExt cx="1675080" cy="1235880"/>
          </a:xfrm>
        </p:grpSpPr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 rot="20959200">
              <a:off x="324000" y="5516280"/>
              <a:ext cx="9252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 rot="664200">
              <a:off x="900000" y="5444640"/>
              <a:ext cx="925560" cy="10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4333320" y="5491080"/>
            <a:ext cx="1550160" cy="1093320"/>
            <a:chOff x="4333320" y="5491080"/>
            <a:chExt cx="1550160" cy="1093320"/>
          </a:xfrm>
        </p:grpSpPr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 rot="911400">
              <a:off x="4427280" y="5589360"/>
              <a:ext cx="86364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 rot="21463200">
              <a:off x="5003640" y="5734080"/>
              <a:ext cx="86364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050920" y="537372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ers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537372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60958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o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609588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ma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1:52Z</dcterms:modified>
  <cp:revision>204</cp:revision>
  <dc:subject/>
  <dc:title>TITLE</dc:title>
</cp:coreProperties>
</file>