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1F0-4092-4BA8-A4C3-39E66976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CCC-116C-4B15-AB10-6878B9A2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0FC-51E1-4119-86FD-CDC3E101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E44-E8FD-428C-8EA5-E1E76A95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F08-9890-411D-9306-8895B2B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CBF-9A6F-43FC-B90F-5D46E1CC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228-8396-446F-830B-3BBE2583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408-A7AE-48D3-A390-93B8CA4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404-4E19-46E1-81DB-273B56FF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DBA-5A6C-497E-B774-FF2B109C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55F-DDC5-470C-9267-40F59DB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889-3DBA-425C-A995-25D74C2C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A0CC-B713-426A-962B-CE89BBD058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77812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3573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jer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778120" cy="302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429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333360"/>
            <a:ext cx="3095640" cy="299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1280" y="3573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camis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067280" y="333360"/>
            <a:ext cx="3097080" cy="299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84720" y="4221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8680" y="5365440"/>
            <a:ext cx="1675080" cy="1235880"/>
            <a:chOff x="238680" y="5365440"/>
            <a:chExt cx="1675080" cy="1235880"/>
          </a:xfrm>
        </p:grpSpPr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 rot="20959200">
              <a:off x="324000" y="5516280"/>
              <a:ext cx="9252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 rot="664200">
              <a:off x="900000" y="5444640"/>
              <a:ext cx="925560" cy="10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4333320" y="5491080"/>
            <a:ext cx="1550160" cy="1093320"/>
            <a:chOff x="4333320" y="5491080"/>
            <a:chExt cx="1550160" cy="1093320"/>
          </a:xfrm>
        </p:grpSpPr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 rot="911400">
              <a:off x="4427280" y="5589360"/>
              <a:ext cx="86364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 rot="21463200">
              <a:off x="5003640" y="5734080"/>
              <a:ext cx="863640" cy="8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050920" y="537372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jers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537372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amis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60958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o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609588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mar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05T20:51:52Z</dcterms:modified>
  <cp:revision>204</cp:revision>
  <dc:subject/>
  <dc:title>TITLE</dc:title>
</cp:coreProperties>
</file>