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2F9-89D5-427B-AA7B-BB9108EEE9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EC3-EB94-4E92-86DF-0FCD5B952B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D41B-450B-4D36-AB78-1F6A906142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ABBB-DB7B-4827-BE98-6E3A082B54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68D-1639-4F64-8C54-B050911CD9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187-07C5-4745-8984-1BC829A59C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B60-B391-4AF1-A962-4058192BAE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FD6E-E17E-4BB6-BCB0-97DE664285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3513-8AAC-4FF8-AF16-5977890A89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A6D9-819E-4E6D-A621-0919DF2C2A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29C-8D7E-4D68-B3E8-1D8029D7AF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26BD-52BB-41B3-95FD-2A16F3A848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4C9-E7F0-49BB-BB4D-CD96D2DBED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FAF-E8CD-4894-82CB-50414D3166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113-588E-467C-89F2-26F52228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7B0-C56E-4AB9-87BF-C53017D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9A7-4FA7-48B8-BF5B-DAF69904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79E-5505-4456-962D-876D0A6F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81C-260D-49F7-B321-41996A5B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C85-BB31-4F51-B57F-CC90B112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B72-CE8B-4975-AD89-B35F088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2E8-BDEB-43C1-A50C-9D8226A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272-5C71-4F42-9901-EA006A9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3C8-B4C9-4058-A78C-1E8CA7A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745-DD3D-4214-B607-21A345C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AD2-2E41-404C-89D0-D67DD2E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CDB-F589-4433-9E4A-77D96E5152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larga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276640"/>
            <a:ext cx="878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important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importa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guap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good-loo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próxim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nex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t’s practis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5229360"/>
            <a:ext cx="2089080" cy="57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57320" y="977760"/>
            <a:ext cx="4940280" cy="2286000"/>
          </a:xfrm>
          <a:custGeom>
            <a:avLst/>
            <a:gdLst/>
            <a:ahLst/>
            <a:rect l="l" t="t" r="r" b="b"/>
            <a:pathLst>
              <a:path w="3112" h="1440">
                <a:moveTo>
                  <a:pt x="391" y="1320"/>
                </a:moveTo>
                <a:cubicBezTo>
                  <a:pt x="323" y="1303"/>
                  <a:pt x="300" y="1234"/>
                  <a:pt x="271" y="1176"/>
                </a:cubicBezTo>
                <a:cubicBezTo>
                  <a:pt x="251" y="1135"/>
                  <a:pt x="227" y="1096"/>
                  <a:pt x="207" y="1056"/>
                </a:cubicBezTo>
                <a:cubicBezTo>
                  <a:pt x="190" y="1022"/>
                  <a:pt x="184" y="990"/>
                  <a:pt x="151" y="968"/>
                </a:cubicBezTo>
                <a:cubicBezTo>
                  <a:pt x="133" y="913"/>
                  <a:pt x="158" y="980"/>
                  <a:pt x="119" y="912"/>
                </a:cubicBezTo>
                <a:cubicBezTo>
                  <a:pt x="99" y="877"/>
                  <a:pt x="81" y="836"/>
                  <a:pt x="63" y="800"/>
                </a:cubicBezTo>
                <a:cubicBezTo>
                  <a:pt x="52" y="743"/>
                  <a:pt x="59" y="773"/>
                  <a:pt x="39" y="712"/>
                </a:cubicBezTo>
                <a:cubicBezTo>
                  <a:pt x="36" y="704"/>
                  <a:pt x="31" y="688"/>
                  <a:pt x="31" y="688"/>
                </a:cubicBezTo>
                <a:cubicBezTo>
                  <a:pt x="44" y="549"/>
                  <a:pt x="0" y="500"/>
                  <a:pt x="119" y="480"/>
                </a:cubicBezTo>
                <a:cubicBezTo>
                  <a:pt x="136" y="429"/>
                  <a:pt x="144" y="402"/>
                  <a:pt x="199" y="384"/>
                </a:cubicBezTo>
                <a:cubicBezTo>
                  <a:pt x="212" y="387"/>
                  <a:pt x="226" y="389"/>
                  <a:pt x="239" y="392"/>
                </a:cubicBezTo>
                <a:cubicBezTo>
                  <a:pt x="247" y="394"/>
                  <a:pt x="256" y="404"/>
                  <a:pt x="263" y="400"/>
                </a:cubicBezTo>
                <a:cubicBezTo>
                  <a:pt x="283" y="389"/>
                  <a:pt x="295" y="368"/>
                  <a:pt x="311" y="352"/>
                </a:cubicBezTo>
                <a:cubicBezTo>
                  <a:pt x="317" y="346"/>
                  <a:pt x="327" y="348"/>
                  <a:pt x="335" y="344"/>
                </a:cubicBezTo>
                <a:cubicBezTo>
                  <a:pt x="349" y="337"/>
                  <a:pt x="362" y="328"/>
                  <a:pt x="375" y="320"/>
                </a:cubicBezTo>
                <a:cubicBezTo>
                  <a:pt x="448" y="331"/>
                  <a:pt x="485" y="347"/>
                  <a:pt x="551" y="336"/>
                </a:cubicBezTo>
                <a:cubicBezTo>
                  <a:pt x="556" y="309"/>
                  <a:pt x="560" y="282"/>
                  <a:pt x="567" y="256"/>
                </a:cubicBezTo>
                <a:cubicBezTo>
                  <a:pt x="570" y="245"/>
                  <a:pt x="565" y="228"/>
                  <a:pt x="575" y="224"/>
                </a:cubicBezTo>
                <a:cubicBezTo>
                  <a:pt x="608" y="212"/>
                  <a:pt x="644" y="219"/>
                  <a:pt x="679" y="216"/>
                </a:cubicBezTo>
                <a:cubicBezTo>
                  <a:pt x="698" y="187"/>
                  <a:pt x="709" y="163"/>
                  <a:pt x="743" y="152"/>
                </a:cubicBezTo>
                <a:cubicBezTo>
                  <a:pt x="780" y="189"/>
                  <a:pt x="789" y="180"/>
                  <a:pt x="831" y="152"/>
                </a:cubicBezTo>
                <a:cubicBezTo>
                  <a:pt x="871" y="178"/>
                  <a:pt x="851" y="199"/>
                  <a:pt x="895" y="184"/>
                </a:cubicBezTo>
                <a:cubicBezTo>
                  <a:pt x="908" y="132"/>
                  <a:pt x="893" y="153"/>
                  <a:pt x="927" y="176"/>
                </a:cubicBezTo>
                <a:cubicBezTo>
                  <a:pt x="934" y="181"/>
                  <a:pt x="943" y="181"/>
                  <a:pt x="951" y="184"/>
                </a:cubicBezTo>
                <a:cubicBezTo>
                  <a:pt x="983" y="176"/>
                  <a:pt x="1004" y="170"/>
                  <a:pt x="1031" y="152"/>
                </a:cubicBezTo>
                <a:cubicBezTo>
                  <a:pt x="1041" y="114"/>
                  <a:pt x="1032" y="101"/>
                  <a:pt x="1071" y="88"/>
                </a:cubicBezTo>
                <a:cubicBezTo>
                  <a:pt x="1143" y="101"/>
                  <a:pt x="1202" y="127"/>
                  <a:pt x="1271" y="144"/>
                </a:cubicBezTo>
                <a:cubicBezTo>
                  <a:pt x="1303" y="139"/>
                  <a:pt x="1337" y="141"/>
                  <a:pt x="1367" y="128"/>
                </a:cubicBezTo>
                <a:cubicBezTo>
                  <a:pt x="1388" y="119"/>
                  <a:pt x="1415" y="80"/>
                  <a:pt x="1415" y="80"/>
                </a:cubicBezTo>
                <a:cubicBezTo>
                  <a:pt x="1418" y="72"/>
                  <a:pt x="1418" y="63"/>
                  <a:pt x="1423" y="56"/>
                </a:cubicBezTo>
                <a:cubicBezTo>
                  <a:pt x="1468" y="0"/>
                  <a:pt x="1492" y="133"/>
                  <a:pt x="1511" y="152"/>
                </a:cubicBezTo>
                <a:cubicBezTo>
                  <a:pt x="1519" y="160"/>
                  <a:pt x="1532" y="157"/>
                  <a:pt x="1543" y="160"/>
                </a:cubicBezTo>
                <a:cubicBezTo>
                  <a:pt x="1559" y="157"/>
                  <a:pt x="1577" y="160"/>
                  <a:pt x="1591" y="152"/>
                </a:cubicBezTo>
                <a:cubicBezTo>
                  <a:pt x="1611" y="141"/>
                  <a:pt x="1639" y="104"/>
                  <a:pt x="1639" y="104"/>
                </a:cubicBezTo>
                <a:cubicBezTo>
                  <a:pt x="1679" y="114"/>
                  <a:pt x="1701" y="111"/>
                  <a:pt x="1735" y="88"/>
                </a:cubicBezTo>
                <a:cubicBezTo>
                  <a:pt x="1739" y="101"/>
                  <a:pt x="1746" y="128"/>
                  <a:pt x="1759" y="136"/>
                </a:cubicBezTo>
                <a:cubicBezTo>
                  <a:pt x="1773" y="145"/>
                  <a:pt x="1807" y="152"/>
                  <a:pt x="1807" y="152"/>
                </a:cubicBezTo>
                <a:cubicBezTo>
                  <a:pt x="1810" y="184"/>
                  <a:pt x="1806" y="217"/>
                  <a:pt x="1815" y="248"/>
                </a:cubicBezTo>
                <a:cubicBezTo>
                  <a:pt x="1821" y="267"/>
                  <a:pt x="1861" y="250"/>
                  <a:pt x="1895" y="240"/>
                </a:cubicBezTo>
                <a:cubicBezTo>
                  <a:pt x="1958" y="221"/>
                  <a:pt x="1879" y="235"/>
                  <a:pt x="2015" y="224"/>
                </a:cubicBezTo>
                <a:cubicBezTo>
                  <a:pt x="2038" y="207"/>
                  <a:pt x="2056" y="184"/>
                  <a:pt x="2079" y="168"/>
                </a:cubicBezTo>
                <a:cubicBezTo>
                  <a:pt x="2094" y="158"/>
                  <a:pt x="2112" y="154"/>
                  <a:pt x="2127" y="144"/>
                </a:cubicBezTo>
                <a:cubicBezTo>
                  <a:pt x="2244" y="68"/>
                  <a:pt x="2173" y="88"/>
                  <a:pt x="2255" y="72"/>
                </a:cubicBezTo>
                <a:cubicBezTo>
                  <a:pt x="2268" y="92"/>
                  <a:pt x="2283" y="158"/>
                  <a:pt x="2303" y="168"/>
                </a:cubicBezTo>
                <a:cubicBezTo>
                  <a:pt x="2325" y="179"/>
                  <a:pt x="2352" y="176"/>
                  <a:pt x="2375" y="184"/>
                </a:cubicBezTo>
                <a:cubicBezTo>
                  <a:pt x="2394" y="241"/>
                  <a:pt x="2367" y="184"/>
                  <a:pt x="2463" y="216"/>
                </a:cubicBezTo>
                <a:cubicBezTo>
                  <a:pt x="2472" y="219"/>
                  <a:pt x="2471" y="234"/>
                  <a:pt x="2479" y="240"/>
                </a:cubicBezTo>
                <a:cubicBezTo>
                  <a:pt x="2484" y="244"/>
                  <a:pt x="2533" y="255"/>
                  <a:pt x="2535" y="256"/>
                </a:cubicBezTo>
                <a:cubicBezTo>
                  <a:pt x="2544" y="303"/>
                  <a:pt x="2533" y="340"/>
                  <a:pt x="2575" y="368"/>
                </a:cubicBezTo>
                <a:cubicBezTo>
                  <a:pt x="2670" y="357"/>
                  <a:pt x="2645" y="353"/>
                  <a:pt x="2719" y="304"/>
                </a:cubicBezTo>
                <a:cubicBezTo>
                  <a:pt x="2740" y="307"/>
                  <a:pt x="2772" y="293"/>
                  <a:pt x="2783" y="312"/>
                </a:cubicBezTo>
                <a:cubicBezTo>
                  <a:pt x="2868" y="463"/>
                  <a:pt x="2714" y="412"/>
                  <a:pt x="2847" y="456"/>
                </a:cubicBezTo>
                <a:cubicBezTo>
                  <a:pt x="2881" y="490"/>
                  <a:pt x="2873" y="521"/>
                  <a:pt x="2919" y="536"/>
                </a:cubicBezTo>
                <a:cubicBezTo>
                  <a:pt x="2928" y="501"/>
                  <a:pt x="2948" y="474"/>
                  <a:pt x="2959" y="440"/>
                </a:cubicBezTo>
                <a:cubicBezTo>
                  <a:pt x="3049" y="463"/>
                  <a:pt x="2984" y="435"/>
                  <a:pt x="2999" y="624"/>
                </a:cubicBezTo>
                <a:cubicBezTo>
                  <a:pt x="3001" y="646"/>
                  <a:pt x="3011" y="666"/>
                  <a:pt x="3015" y="688"/>
                </a:cubicBezTo>
                <a:cubicBezTo>
                  <a:pt x="3009" y="733"/>
                  <a:pt x="3010" y="738"/>
                  <a:pt x="2999" y="776"/>
                </a:cubicBezTo>
                <a:cubicBezTo>
                  <a:pt x="2997" y="784"/>
                  <a:pt x="2983" y="798"/>
                  <a:pt x="2991" y="800"/>
                </a:cubicBezTo>
                <a:cubicBezTo>
                  <a:pt x="3018" y="805"/>
                  <a:pt x="3061" y="769"/>
                  <a:pt x="3087" y="760"/>
                </a:cubicBezTo>
                <a:cubicBezTo>
                  <a:pt x="3092" y="771"/>
                  <a:pt x="3102" y="780"/>
                  <a:pt x="3103" y="792"/>
                </a:cubicBezTo>
                <a:cubicBezTo>
                  <a:pt x="3112" y="904"/>
                  <a:pt x="3025" y="919"/>
                  <a:pt x="2951" y="968"/>
                </a:cubicBezTo>
                <a:cubicBezTo>
                  <a:pt x="2922" y="1056"/>
                  <a:pt x="2968" y="923"/>
                  <a:pt x="2927" y="1016"/>
                </a:cubicBezTo>
                <a:cubicBezTo>
                  <a:pt x="2906" y="1062"/>
                  <a:pt x="2918" y="1078"/>
                  <a:pt x="2879" y="1104"/>
                </a:cubicBezTo>
                <a:cubicBezTo>
                  <a:pt x="2842" y="1160"/>
                  <a:pt x="2863" y="1141"/>
                  <a:pt x="2823" y="1168"/>
                </a:cubicBezTo>
                <a:cubicBezTo>
                  <a:pt x="2813" y="1184"/>
                  <a:pt x="2793" y="1192"/>
                  <a:pt x="2783" y="1208"/>
                </a:cubicBezTo>
                <a:cubicBezTo>
                  <a:pt x="2757" y="1250"/>
                  <a:pt x="2758" y="1305"/>
                  <a:pt x="2711" y="1336"/>
                </a:cubicBezTo>
                <a:cubicBezTo>
                  <a:pt x="2656" y="1372"/>
                  <a:pt x="2582" y="1385"/>
                  <a:pt x="2519" y="1400"/>
                </a:cubicBezTo>
                <a:cubicBezTo>
                  <a:pt x="2354" y="1439"/>
                  <a:pt x="2442" y="1426"/>
                  <a:pt x="2327" y="1440"/>
                </a:cubicBezTo>
                <a:cubicBezTo>
                  <a:pt x="2207" y="1432"/>
                  <a:pt x="2086" y="1435"/>
                  <a:pt x="1967" y="1416"/>
                </a:cubicBezTo>
                <a:cubicBezTo>
                  <a:pt x="1928" y="1410"/>
                  <a:pt x="1892" y="1388"/>
                  <a:pt x="1855" y="1376"/>
                </a:cubicBezTo>
                <a:cubicBezTo>
                  <a:pt x="1833" y="1369"/>
                  <a:pt x="1767" y="1362"/>
                  <a:pt x="1751" y="1360"/>
                </a:cubicBezTo>
                <a:cubicBezTo>
                  <a:pt x="1709" y="1339"/>
                  <a:pt x="1667" y="1341"/>
                  <a:pt x="1623" y="1328"/>
                </a:cubicBezTo>
                <a:cubicBezTo>
                  <a:pt x="1580" y="1315"/>
                  <a:pt x="1548" y="1303"/>
                  <a:pt x="1503" y="1296"/>
                </a:cubicBezTo>
                <a:cubicBezTo>
                  <a:pt x="1481" y="1297"/>
                  <a:pt x="1339" y="1306"/>
                  <a:pt x="1303" y="1312"/>
                </a:cubicBezTo>
                <a:cubicBezTo>
                  <a:pt x="1246" y="1322"/>
                  <a:pt x="1192" y="1342"/>
                  <a:pt x="1135" y="1352"/>
                </a:cubicBezTo>
                <a:cubicBezTo>
                  <a:pt x="1067" y="1379"/>
                  <a:pt x="991" y="1390"/>
                  <a:pt x="919" y="1408"/>
                </a:cubicBezTo>
                <a:cubicBezTo>
                  <a:pt x="873" y="1419"/>
                  <a:pt x="888" y="1412"/>
                  <a:pt x="847" y="1424"/>
                </a:cubicBezTo>
                <a:cubicBezTo>
                  <a:pt x="831" y="1429"/>
                  <a:pt x="799" y="1440"/>
                  <a:pt x="799" y="1440"/>
                </a:cubicBezTo>
                <a:cubicBezTo>
                  <a:pt x="772" y="1437"/>
                  <a:pt x="745" y="1438"/>
                  <a:pt x="719" y="1432"/>
                </a:cubicBezTo>
                <a:cubicBezTo>
                  <a:pt x="685" y="1425"/>
                  <a:pt x="650" y="1401"/>
                  <a:pt x="615" y="1392"/>
                </a:cubicBezTo>
                <a:cubicBezTo>
                  <a:pt x="605" y="1389"/>
                  <a:pt x="570" y="1382"/>
                  <a:pt x="559" y="1376"/>
                </a:cubicBezTo>
                <a:cubicBezTo>
                  <a:pt x="529" y="1361"/>
                  <a:pt x="543" y="1358"/>
                  <a:pt x="511" y="1352"/>
                </a:cubicBezTo>
                <a:cubicBezTo>
                  <a:pt x="395" y="1330"/>
                  <a:pt x="433" y="1362"/>
                  <a:pt x="391" y="132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492280"/>
            <a:ext cx="4608720" cy="29512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1844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06064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1628640"/>
            <a:ext cx="10810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1916280"/>
            <a:ext cx="5029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916280"/>
            <a:ext cx="1081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133720"/>
            <a:ext cx="5032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63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4571640" y="3141720"/>
            <a:ext cx="647640" cy="1008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287600">
            <a:off x="2198160" y="245520"/>
            <a:ext cx="5184360" cy="432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98" y="2749"/>
                </a:moveTo>
                <a:arcTo wR="10800" hR="10800" stAng="-2892082" swAng="2892082"/>
                <a:lnTo>
                  <a:pt x="10800" y="10800"/>
                </a:lnTo>
                <a:close/>
              </a:path>
              <a:path fill="none" w="21600" h="21600">
                <a:moveTo>
                  <a:pt x="17998" y="2749"/>
                </a:moveTo>
                <a:arcTo wR="10800" hR="10800" stAng="-2892082" swAng="2892082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869000"/>
            <a:ext cx="720720" cy="647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980000">
            <a:off x="5940000" y="292392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4194800">
            <a:off x="6227640" y="378936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7113800">
            <a:off x="5651280" y="4508640"/>
            <a:ext cx="720720" cy="72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4507800">
            <a:off x="2050920" y="306864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753200">
            <a:off x="1979280" y="393372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019200">
            <a:off x="2556000" y="4653000"/>
            <a:ext cx="720720" cy="72072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9000"/>
            <a:ext cx="3132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cabeza grande y bla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1125360"/>
            <a:ext cx="1079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476280"/>
            <a:ext cx="212400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ojos grandes y amari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1628640"/>
            <a:ext cx="2448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2133720"/>
            <a:ext cx="1584360" cy="1556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pelo corto y 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516360" y="2420640"/>
            <a:ext cx="8269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65360"/>
            <a:ext cx="244800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narices puntiagudas y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789360"/>
            <a:ext cx="183852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4221000"/>
            <a:ext cx="1908000" cy="2043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 boca pequeña y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292360" y="4581360"/>
            <a:ext cx="20509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581360"/>
            <a:ext cx="1979640" cy="2043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diente enorme y mar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19280" y="5229360"/>
            <a:ext cx="252108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5791320"/>
            <a:ext cx="39592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as orejas rojas y unas orejas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3280" y="5157360"/>
            <a:ext cx="129708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roj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cort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verd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marró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naranj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italiana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Ital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jov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you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9000"/>
            <a:ext cx="87854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masculine or feminine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singular or plural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276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7"/>
                </a:solidFill>
                <a:latin typeface="Comic Sans MS"/>
              </a:rPr>
              <a:t>san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14972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healt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4:36Z</dcterms:modified>
  <cp:revision>126</cp:revision>
  <dc:subject/>
  <dc:title>TITLE</dc:title>
</cp:coreProperties>
</file>