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09AB-C9AB-4601-80B5-51E542A863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2CB-A0C3-4064-BDFE-62B6E1AD5B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55CC-4632-40C2-9259-1B94261548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F81-74B5-4046-A907-5345914C3A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38D4-7885-4887-BB7B-9D87AFCA73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3931-2E66-425D-87D0-6221109F8F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E4C-10AA-4EB0-BB61-59D8189C3F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4ED2-A8B6-47C6-A2FF-9C50A3AF98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096D-A8C9-4140-BCDB-AC401FBF82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9325-9376-4A0F-BEC7-34C889B4F6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22FC-9CE1-48E0-AB70-FFB0A49CB3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9FD-A187-4FD2-B705-7DDA6F8A95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926-336A-49E6-A856-CB404BC7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BC1-EE10-42F8-A190-9FC8CA09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B62-4838-42B0-813C-CBC394E3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1E9-382E-41C4-98D0-CE680A34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41C-3066-462D-AF3C-9436865F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C2A-ADC5-48E0-8C44-71DD2E3F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D03-A0C9-48A6-9C79-824ADBB8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274-5F43-4700-AD3A-3B3B18D3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7A7-19B6-4F21-AFA9-886760A3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DE6-D0B7-41BA-8AE1-0466AD7B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F95-BDAE-4375-B008-80E96F2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AA9-C006-4DDE-A71A-2A5F29E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B4AE-8AB7-4EF1-815B-883F3D6F22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2276640"/>
            <a:ext cx="7236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use a bilingual dictionary to find the meaning of a w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125880" y="342900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hou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effor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jok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gri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6"/>
          <p:cNvSpPr/>
          <p:nvPr/>
        </p:nvSpPr>
        <p:spPr>
          <a:xfrm>
            <a:off x="2556000" y="3429000"/>
            <a:ext cx="424800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125880" y="342900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easur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befor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ri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ante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6"/>
          <p:cNvSpPr/>
          <p:nvPr/>
        </p:nvSpPr>
        <p:spPr>
          <a:xfrm>
            <a:off x="2556000" y="4356000"/>
            <a:ext cx="446400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2881080" cy="2784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203640" y="342900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lan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niñ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ez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4"/>
          <p:cNvSpPr/>
          <p:nvPr/>
        </p:nvSpPr>
        <p:spPr>
          <a:xfrm>
            <a:off x="2268360" y="5373720"/>
            <a:ext cx="424836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43280" y="342900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iempr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abej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obogá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191040" y="260280"/>
            <a:ext cx="2651040" cy="2852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6"/>
          <p:cNvSpPr/>
          <p:nvPr/>
        </p:nvSpPr>
        <p:spPr>
          <a:xfrm>
            <a:off x="2392200" y="4356000"/>
            <a:ext cx="424836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843280" y="342900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arid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o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an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348000" y="333360"/>
            <a:ext cx="2570040" cy="2936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268360" y="5373720"/>
            <a:ext cx="424836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916360" y="342900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fa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ezc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dobl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348000" y="195120"/>
            <a:ext cx="2297160" cy="3233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195640" y="3429000"/>
            <a:ext cx="424800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556000" y="3429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kiosc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camiset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auxili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132000" y="192240"/>
            <a:ext cx="2880000" cy="3271680"/>
          </a:xfrm>
          <a:prstGeom prst="rect">
            <a:avLst/>
          </a:prstGeom>
          <a:ln w="0">
            <a:noFill/>
          </a:ln>
        </p:spPr>
      </p:pic>
      <p:sp>
        <p:nvSpPr>
          <p:cNvPr id="74" name="Oval 7"/>
          <p:cNvSpPr/>
          <p:nvPr/>
        </p:nvSpPr>
        <p:spPr>
          <a:xfrm>
            <a:off x="1979640" y="4356000"/>
            <a:ext cx="5329080" cy="1008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700360" y="3429000"/>
            <a:ext cx="53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nurse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quee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st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guarderí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268360" y="3500280"/>
            <a:ext cx="4680000" cy="1008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132000" y="342900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bloc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ti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or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ració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6"/>
          <p:cNvSpPr/>
          <p:nvPr/>
        </p:nvSpPr>
        <p:spPr>
          <a:xfrm>
            <a:off x="2843280" y="5321160"/>
            <a:ext cx="3889440" cy="1008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125880" y="3429000"/>
            <a:ext cx="490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ma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nes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fffffa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a"/>
                </a:solidFill>
                <a:latin typeface="Comic Sans MS"/>
              </a:rPr>
              <a:t>plaste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8028000" y="189000"/>
            <a:ext cx="936720" cy="1008360"/>
          </a:xfrm>
          <a:prstGeom prst="rect">
            <a:avLst/>
          </a:prstGeom>
          <a:solidFill>
            <a:srgbClr val="a5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332000" y="1989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63"/>
                </a:solidFill>
                <a:latin typeface="Comic Sans MS"/>
              </a:rPr>
              <a:t>tirit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6"/>
          <p:cNvSpPr/>
          <p:nvPr/>
        </p:nvSpPr>
        <p:spPr>
          <a:xfrm>
            <a:off x="2627280" y="5321160"/>
            <a:ext cx="4248360" cy="1008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18T08:34:37Z</dcterms:modified>
  <cp:revision>124</cp:revision>
  <dc:subject/>
  <dc:title>TITLE</dc:title>
</cp:coreProperties>
</file>