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93B4-1A72-4378-B151-42F22479BE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79A1-67F2-4EBF-A13D-E365B75083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B8CF-7D5D-4E31-A486-A1F422FD3C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3EA7-AF84-4541-9490-4CABCF573B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54C4-87C2-4CD8-BEA6-E6E07B56B6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007-881B-4B19-97CA-E0544904D1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E7C-D467-410F-A3F2-95597886B5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6DB5-48B7-4112-AD29-CBA714D15B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77E1-BD04-40A7-8622-52A816D989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3DFA-43B3-45A4-9531-D70D942F54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91B7-07E2-43B8-93A3-893DE50B92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B296-E094-4A38-903D-B7753B4F02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FA1-F6D6-45C9-A250-0436AD7D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B82-DCB8-43CC-9C42-4DD16DFE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69C-F583-4EF4-97F6-B3358195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7EC-3E4A-43CE-8EB3-8618C6E2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0CE-C17E-45E5-B241-A3841342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DDB-E162-4A77-B732-0A4E46A8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1C1-7C3B-44C7-A469-244C6DC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2AD-6DEE-4C61-8841-3DAE6523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C93-CD4A-4536-B4CF-C7BEBCDD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667-33B0-411D-AC31-F8A5DFC5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49E-4D57-4381-8EA6-A5480A0D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D60-0DA8-4C92-89B0-484153DD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D2E3-A738-4D09-9713-3303D07C1D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2276640"/>
            <a:ext cx="7236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I ca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se a bilingual dictionary to find the meaning of a w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125880" y="342900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shou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ffor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jok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grit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6"/>
          <p:cNvSpPr/>
          <p:nvPr/>
        </p:nvSpPr>
        <p:spPr>
          <a:xfrm>
            <a:off x="2556000" y="3429000"/>
            <a:ext cx="424800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125880" y="342900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easur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befor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rin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ant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6"/>
          <p:cNvSpPr/>
          <p:nvPr/>
        </p:nvSpPr>
        <p:spPr>
          <a:xfrm>
            <a:off x="2556000" y="4356000"/>
            <a:ext cx="446400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2881080" cy="2784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203640" y="342900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lan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niñ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ez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4"/>
          <p:cNvSpPr/>
          <p:nvPr/>
        </p:nvSpPr>
        <p:spPr>
          <a:xfrm>
            <a:off x="2268360" y="5373720"/>
            <a:ext cx="424836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43280" y="342900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siempr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abej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obogá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191040" y="260280"/>
            <a:ext cx="2651040" cy="2852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6"/>
          <p:cNvSpPr/>
          <p:nvPr/>
        </p:nvSpPr>
        <p:spPr>
          <a:xfrm>
            <a:off x="2392200" y="4356000"/>
            <a:ext cx="424836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2843280" y="342900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arid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o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an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348000" y="333360"/>
            <a:ext cx="2570040" cy="2936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268360" y="5373720"/>
            <a:ext cx="424836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916360" y="342900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fa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ezc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dobl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348000" y="195120"/>
            <a:ext cx="2297160" cy="3233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195640" y="3429000"/>
            <a:ext cx="424800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556000" y="342900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kiosc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camiset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auxili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132000" y="192240"/>
            <a:ext cx="2880000" cy="3271680"/>
          </a:xfrm>
          <a:prstGeom prst="rect">
            <a:avLst/>
          </a:prstGeom>
          <a:ln w="0">
            <a:noFill/>
          </a:ln>
        </p:spPr>
      </p:pic>
      <p:sp>
        <p:nvSpPr>
          <p:cNvPr id="74" name="Oval 7"/>
          <p:cNvSpPr/>
          <p:nvPr/>
        </p:nvSpPr>
        <p:spPr>
          <a:xfrm>
            <a:off x="1979640" y="4356000"/>
            <a:ext cx="532908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700360" y="3429000"/>
            <a:ext cx="53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nurser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quee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st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guarderí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268360" y="3500280"/>
            <a:ext cx="4680000" cy="1008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132000" y="342900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bloc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i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or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ració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6"/>
          <p:cNvSpPr/>
          <p:nvPr/>
        </p:nvSpPr>
        <p:spPr>
          <a:xfrm>
            <a:off x="2843280" y="5321160"/>
            <a:ext cx="3889440" cy="1008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125880" y="342900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ar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nes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laste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tirit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6"/>
          <p:cNvSpPr/>
          <p:nvPr/>
        </p:nvSpPr>
        <p:spPr>
          <a:xfrm>
            <a:off x="2627280" y="5321160"/>
            <a:ext cx="4248360" cy="1008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7-18T08:34:37Z</dcterms:modified>
  <cp:revision>124</cp:revision>
  <dc:subject/>
  <dc:title>TITLE</dc:title>
</cp:coreProperties>
</file>