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8032-460B-46B5-A02F-E579E364DC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2144-454D-4AEB-B0D7-AE6123D77B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60C5-3099-44C1-A15F-93F734026C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25D7-111D-4235-9BD6-E29860507C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935-7C8D-44CF-BBF2-FBA624B4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201-F481-4CA7-916C-7233BE1D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F7B-E286-4B62-BC9F-365C6C25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3F7-A175-4144-8460-7F8C66F9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E0A-F2EB-4D07-B508-C4082DF3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D30-2350-40EE-8454-DD5368EF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3EB-6293-4D4C-90A0-982437A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939-3EE9-41CB-A2A6-67107898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B3B-CA19-4209-BB5E-539C630C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42F-A7B3-41BC-931D-8CAEBD5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CE7-A0A6-4996-BA49-223C4AE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DBA-067D-4849-9C85-B32BAF0F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DAE5-CE5F-4D4C-8805-6392645624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692280"/>
          <a:ext cx="8640720" cy="3673440"/>
        </p:xfrm>
        <a:graphic>
          <a:graphicData uri="http://schemas.openxmlformats.org/drawingml/2006/table">
            <a:tbl>
              <a:tblPr/>
              <a:tblGrid>
                <a:gridCol w="1871640"/>
                <a:gridCol w="2447640"/>
                <a:gridCol w="1873440"/>
                <a:gridCol w="2448000"/>
              </a:tblGrid>
              <a:tr h="106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ylo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e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7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w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r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nf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p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268360" y="83664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go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77336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ins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270828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bú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357336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gira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83664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xilóf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77336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270828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ga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357336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anz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620640"/>
          <a:ext cx="8569080" cy="465768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4176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me of the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rand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ust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an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engu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sh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br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car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340000" y="1125360"/>
            <a:ext cx="2303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bu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162864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big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13372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pia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263700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pingü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3141720"/>
            <a:ext cx="23036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champiñ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364500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bibliote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4149720"/>
            <a:ext cx="2303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s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4653000"/>
            <a:ext cx="2303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buf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71640" y="2133720"/>
            <a:ext cx="287964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890640" cy="98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63640" y="4221000"/>
            <a:ext cx="1900440" cy="951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195640" y="5084640"/>
            <a:ext cx="1050840" cy="98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16360" y="213372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2133720"/>
            <a:ext cx="86328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ff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328464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429264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515772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4292640"/>
            <a:ext cx="86328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ff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84640"/>
            <a:ext cx="115092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5157720"/>
            <a:ext cx="115092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43:34Z</dcterms:modified>
  <cp:revision>144</cp:revision>
  <dc:subject/>
  <dc:title>TITLE</dc:title>
</cp:coreProperties>
</file>