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D98E-F39D-4813-92D3-AED30CB3E2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3CC4-30BB-4FA3-A8CB-EE1140BD65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7553-95B8-420C-95EE-21F971E617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D0DD-BF8C-422C-97F0-18798C39F6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EF6-DF44-4355-8F62-98AD7A5C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751-6765-47EA-ADC5-E766E5C6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797-2B26-4D35-91D4-EAB44797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EDD-689D-471D-9830-112CC33C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C76-D420-4E48-B9ED-0E2D8675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5C2-CE32-4F80-B6E4-4DC45F73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0E0-8979-462E-85CB-BD1F4F4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AF3-778A-4A9E-88E7-424B9506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6AC-B9FC-4CF6-82D3-219E577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F79-93D7-4300-AFA6-0FA81B93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3B1-345B-4E17-9C2C-D3CC9558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82A-A7D6-4950-9F6D-4833234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A26-6259-4A7B-8E54-8A8FCEA6B9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692280"/>
          <a:ext cx="8640720" cy="3673440"/>
        </p:xfrm>
        <a:graphic>
          <a:graphicData uri="http://schemas.openxmlformats.org/drawingml/2006/table">
            <a:tbl>
              <a:tblPr/>
              <a:tblGrid>
                <a:gridCol w="1871640"/>
                <a:gridCol w="2447640"/>
                <a:gridCol w="1873440"/>
                <a:gridCol w="2448000"/>
              </a:tblGrid>
              <a:tr h="106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ylo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w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r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nf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268360" y="83664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go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7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s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270828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bú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35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gira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83664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xilóf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7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270828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ga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5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anz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620640"/>
          <a:ext cx="8569080" cy="465768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4176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me of the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and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ust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an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engu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sh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br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car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340000" y="1125360"/>
            <a:ext cx="2303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162864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bi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13372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pia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263700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pingü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3141720"/>
            <a:ext cx="23036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hampiñ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364500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bibliot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4149720"/>
            <a:ext cx="2303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465300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buf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71640" y="2133720"/>
            <a:ext cx="287964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890640" cy="98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900440" cy="95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195640" y="5084640"/>
            <a:ext cx="1050840" cy="98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16360" y="2133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213372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3284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4292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5157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29264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8464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15772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43:34Z</dcterms:modified>
  <cp:revision>144</cp:revision>
  <dc:subject/>
  <dc:title>TITLE</dc:title>
</cp:coreProperties>
</file>