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519-D8FA-46A2-BCFC-E0DDB2F9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999-9C41-4F31-8193-08586AEF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669-21D5-4DA2-94DC-A156EB40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2E0-E038-4542-A7DB-AE22994C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A505-AF31-49A1-BC5C-7E4DFC8B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C963-3720-4DD3-B7C6-468B1CF4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5F9C-C135-4E61-AD53-4A546FC6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DCD8-C36D-4356-8DB3-16C153AD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43B5-A50B-4D7E-BC10-94426190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3515-CA55-4E47-A90C-05D72862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F52D-B27E-407B-83FB-754BBCC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6EA-5DFA-4D3D-B9C3-410B2A8B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65C5-F417-4729-AB33-9942EE62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7132-5079-4367-BC9B-9E29FBA2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4D9D-9EF1-4077-BBB8-5328505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9554-A227-41FA-8199-1DE40CAA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F327-A038-4996-A00F-BE14FA43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BCED-217E-4413-96FB-4C1E0186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A831-86F9-4239-9F0D-8B68D70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9FBD8-B796-491C-9020-0574C847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60AC-47E1-4498-87CB-D23CF0B8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59D83-2409-40A9-9D68-806E7718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4A7-67B6-416B-A64F-04176DE7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DBE0-A22B-4EC2-8AC5-AFF5F58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DDE1-76C3-45F3-80D3-62208D75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BC62-54FF-47D6-9295-1EE7A76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B0B6-4655-4E16-A82B-5BE53782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146D-8D63-4161-BD3D-8834EE8D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B37F-CD68-4C6C-9EFD-3CB2291F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2BF9-D0FC-4B4C-B76D-2877E933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A51-75E7-40F9-B38E-C2FBA8C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EAA-F326-4398-82E2-B1B66F03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C8A-BD60-41E6-A946-9F353123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45B-2DE0-47B2-A3B3-978C36A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711-D856-444E-8D0B-85E12BE2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A87-94AB-4269-AE45-69CD43A7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06A9-4B6C-4E23-9794-0DA33C6ADA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22E7-F3B5-4839-AB07-F6C8F48659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302F-25EA-4AEA-817C-B9DF25EAF3A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88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88280" cy="374508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1"/>
          <p:cNvSpPr/>
          <p:nvPr/>
        </p:nvSpPr>
        <p:spPr>
          <a:xfrm>
            <a:off x="539640" y="105264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ounded Rectangle 4"/>
          <p:cNvSpPr/>
          <p:nvPr/>
        </p:nvSpPr>
        <p:spPr>
          <a:xfrm>
            <a:off x="2195640" y="2852640"/>
            <a:ext cx="180000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ounded Rectangle 5"/>
          <p:cNvSpPr/>
          <p:nvPr/>
        </p:nvSpPr>
        <p:spPr>
          <a:xfrm>
            <a:off x="4932360" y="3500280"/>
            <a:ext cx="1368360" cy="433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ounded Rectangle 6"/>
          <p:cNvSpPr/>
          <p:nvPr/>
        </p:nvSpPr>
        <p:spPr>
          <a:xfrm>
            <a:off x="6784920" y="1636560"/>
            <a:ext cx="203508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539640" y="163836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ounded Rectangle 8"/>
          <p:cNvSpPr/>
          <p:nvPr/>
        </p:nvSpPr>
        <p:spPr>
          <a:xfrm>
            <a:off x="2195640" y="1071720"/>
            <a:ext cx="1944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ounded Rectangle 9"/>
          <p:cNvSpPr/>
          <p:nvPr/>
        </p:nvSpPr>
        <p:spPr>
          <a:xfrm>
            <a:off x="4533840" y="4076640"/>
            <a:ext cx="205416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le 10"/>
          <p:cNvSpPr/>
          <p:nvPr/>
        </p:nvSpPr>
        <p:spPr>
          <a:xfrm>
            <a:off x="6875640" y="2311560"/>
            <a:ext cx="1944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ounded Rectangle 11"/>
          <p:cNvSpPr/>
          <p:nvPr/>
        </p:nvSpPr>
        <p:spPr>
          <a:xfrm>
            <a:off x="539640" y="2301840"/>
            <a:ext cx="136836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ounded Rectangle 12"/>
          <p:cNvSpPr/>
          <p:nvPr/>
        </p:nvSpPr>
        <p:spPr>
          <a:xfrm>
            <a:off x="2484360" y="2238480"/>
            <a:ext cx="13669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ounded Rectangle 13"/>
          <p:cNvSpPr/>
          <p:nvPr/>
        </p:nvSpPr>
        <p:spPr>
          <a:xfrm>
            <a:off x="4533840" y="1649520"/>
            <a:ext cx="198288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ounded Rectangle 14"/>
          <p:cNvSpPr/>
          <p:nvPr/>
        </p:nvSpPr>
        <p:spPr>
          <a:xfrm>
            <a:off x="7164360" y="4103640"/>
            <a:ext cx="136836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ounded Rectangle 15"/>
          <p:cNvSpPr/>
          <p:nvPr/>
        </p:nvSpPr>
        <p:spPr>
          <a:xfrm>
            <a:off x="560520" y="28861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ounded Rectangle 16"/>
          <p:cNvSpPr/>
          <p:nvPr/>
        </p:nvSpPr>
        <p:spPr>
          <a:xfrm>
            <a:off x="2195640" y="4076640"/>
            <a:ext cx="194472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ounded Rectangle 17"/>
          <p:cNvSpPr/>
          <p:nvPr/>
        </p:nvSpPr>
        <p:spPr>
          <a:xfrm>
            <a:off x="4840200" y="10717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ounded Rectangle 18"/>
          <p:cNvSpPr/>
          <p:nvPr/>
        </p:nvSpPr>
        <p:spPr>
          <a:xfrm>
            <a:off x="6784920" y="2886120"/>
            <a:ext cx="217980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ounded Rectangle 19"/>
          <p:cNvSpPr/>
          <p:nvPr/>
        </p:nvSpPr>
        <p:spPr>
          <a:xfrm>
            <a:off x="539640" y="347040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ounded Rectangle 20"/>
          <p:cNvSpPr/>
          <p:nvPr/>
        </p:nvSpPr>
        <p:spPr>
          <a:xfrm>
            <a:off x="2255760" y="1660680"/>
            <a:ext cx="173988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ounded Rectangle 21"/>
          <p:cNvSpPr/>
          <p:nvPr/>
        </p:nvSpPr>
        <p:spPr>
          <a:xfrm>
            <a:off x="4716360" y="2884320"/>
            <a:ext cx="1584360" cy="433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ounded Rectangle 22"/>
          <p:cNvSpPr/>
          <p:nvPr/>
        </p:nvSpPr>
        <p:spPr>
          <a:xfrm>
            <a:off x="7165800" y="1052640"/>
            <a:ext cx="1368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04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04400" cy="5400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3235320" y="18144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y de Ga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235320" y="23083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Hablo galés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235320" y="28036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¿Eres gales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3235320" y="32972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s de Inglaterr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3235320" y="37908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s británic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3235320" y="4284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Habla inglé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3235320" y="47782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¿Hablas francé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3235320" y="52722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y france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-36360" y="907920"/>
            <a:ext cx="9186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-36360" y="907920"/>
            <a:ext cx="9186840" cy="3745080"/>
          </a:xfrm>
          <a:prstGeom prst="rect">
            <a:avLst/>
          </a:prstGeom>
          <a:ln w="0">
            <a:noFill/>
          </a:ln>
        </p:spPr>
      </p:pic>
      <p:sp>
        <p:nvSpPr>
          <p:cNvPr id="163" name="Rounded Rectangle 4"/>
          <p:cNvSpPr/>
          <p:nvPr/>
        </p:nvSpPr>
        <p:spPr>
          <a:xfrm>
            <a:off x="785880" y="105264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ounded Rectangle 5"/>
          <p:cNvSpPr/>
          <p:nvPr/>
        </p:nvSpPr>
        <p:spPr>
          <a:xfrm>
            <a:off x="2900520" y="1668600"/>
            <a:ext cx="180000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ounded Rectangle 6"/>
          <p:cNvSpPr/>
          <p:nvPr/>
        </p:nvSpPr>
        <p:spPr>
          <a:xfrm>
            <a:off x="4959360" y="2284560"/>
            <a:ext cx="198288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ounded Rectangle 7"/>
          <p:cNvSpPr/>
          <p:nvPr/>
        </p:nvSpPr>
        <p:spPr>
          <a:xfrm>
            <a:off x="7115040" y="1081080"/>
            <a:ext cx="1944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ounded Rectangle 8"/>
          <p:cNvSpPr/>
          <p:nvPr/>
        </p:nvSpPr>
        <p:spPr>
          <a:xfrm>
            <a:off x="785880" y="16495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ounded Rectangle 9"/>
          <p:cNvSpPr/>
          <p:nvPr/>
        </p:nvSpPr>
        <p:spPr>
          <a:xfrm>
            <a:off x="2736720" y="2886120"/>
            <a:ext cx="194328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ounded Rectangle 10"/>
          <p:cNvSpPr/>
          <p:nvPr/>
        </p:nvSpPr>
        <p:spPr>
          <a:xfrm>
            <a:off x="4932360" y="2886120"/>
            <a:ext cx="20541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ounded Rectangle 11"/>
          <p:cNvSpPr/>
          <p:nvPr/>
        </p:nvSpPr>
        <p:spPr>
          <a:xfrm>
            <a:off x="7115040" y="1649520"/>
            <a:ext cx="1944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ounded Rectangle 12"/>
          <p:cNvSpPr/>
          <p:nvPr/>
        </p:nvSpPr>
        <p:spPr>
          <a:xfrm>
            <a:off x="798480" y="2255760"/>
            <a:ext cx="136836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ounded Rectangle 13"/>
          <p:cNvSpPr/>
          <p:nvPr/>
        </p:nvSpPr>
        <p:spPr>
          <a:xfrm>
            <a:off x="3079800" y="228456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ounded Rectangle 14"/>
          <p:cNvSpPr/>
          <p:nvPr/>
        </p:nvSpPr>
        <p:spPr>
          <a:xfrm>
            <a:off x="4959360" y="4100400"/>
            <a:ext cx="198288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ounded Rectangle 15"/>
          <p:cNvSpPr/>
          <p:nvPr/>
        </p:nvSpPr>
        <p:spPr>
          <a:xfrm>
            <a:off x="7108920" y="2255760"/>
            <a:ext cx="195084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ounded Rectangle 16"/>
          <p:cNvSpPr/>
          <p:nvPr/>
        </p:nvSpPr>
        <p:spPr>
          <a:xfrm>
            <a:off x="785880" y="28861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ounded Rectangle 17"/>
          <p:cNvSpPr/>
          <p:nvPr/>
        </p:nvSpPr>
        <p:spPr>
          <a:xfrm>
            <a:off x="2827440" y="1052640"/>
            <a:ext cx="19429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5275440" y="16621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ed Rectangle 19"/>
          <p:cNvSpPr/>
          <p:nvPr/>
        </p:nvSpPr>
        <p:spPr>
          <a:xfrm>
            <a:off x="7118280" y="3487680"/>
            <a:ext cx="194148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ounded Rectangle 20"/>
          <p:cNvSpPr/>
          <p:nvPr/>
        </p:nvSpPr>
        <p:spPr>
          <a:xfrm>
            <a:off x="811080" y="3470400"/>
            <a:ext cx="1368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ounded Rectangle 21"/>
          <p:cNvSpPr/>
          <p:nvPr/>
        </p:nvSpPr>
        <p:spPr>
          <a:xfrm>
            <a:off x="2838600" y="4075200"/>
            <a:ext cx="1739880" cy="433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ounded Rectangle 22"/>
          <p:cNvSpPr/>
          <p:nvPr/>
        </p:nvSpPr>
        <p:spPr>
          <a:xfrm>
            <a:off x="5167440" y="1079640"/>
            <a:ext cx="1584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ounded Rectangle 23"/>
          <p:cNvSpPr/>
          <p:nvPr/>
        </p:nvSpPr>
        <p:spPr>
          <a:xfrm>
            <a:off x="7118280" y="4075200"/>
            <a:ext cx="184644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3:17Z</dcterms:modified>
  <cp:revision>415</cp:revision>
  <dc:subject/>
  <dc:title>TITLE</dc:title>
</cp:coreProperties>
</file>