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C380-2294-4641-980C-E8B1A1C38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C670-527A-4882-B83C-09ABA29C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907A-4B66-4338-BC9C-A8AD41D02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3B30-8748-4015-ABE8-F0634DF36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F2D3-70DD-4FC8-834B-73E763A8E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F4EC-A4D0-435C-A1AC-991FB84A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BCCC-8ACC-432A-9CD8-EF8BF8AC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AFD0-C46E-40CF-A7CB-FC37E284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C4F0-E7B9-4F00-A503-C44FD4F6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243F-C405-45CA-8E9B-670AB7AB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C14F-2C7F-4ED2-8C17-4F6BAD56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63C4-B37A-48A6-BEFE-7B1878A2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092E-CC7A-4CE0-AC19-32B18EC4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4981-BA1C-4E36-8743-EC20742F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213D-E21F-4644-BFDE-ECFD5DDC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BB2D-AAC7-4ED2-AAB4-8C2665E92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ECCC-E30D-432D-B418-9B20E8587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7FCC2-3F53-470A-A046-E80139F9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1984B-1C5B-4BDA-B073-423724BB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D7E5E-3CF7-4725-A2CC-C332BE61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C74CE-E11D-4DB7-B155-096C6622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457D1-B4B4-4721-ABFA-CEC86AB5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666D-D8A5-49F9-8BE8-4896F71B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CC718-6DA4-47A6-8106-53704C76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F6A1C-242B-46AC-8056-CB9E4430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28F49-3184-4956-9402-8F465ABA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CB346-C6C8-4977-8337-F8BCC09E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51F1E-E05B-49CD-A3C1-9E8B7531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0DEE1-22A9-497C-848A-2292F47E3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CFAAB-075B-41BB-A655-3F93A63A7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3A62-E3AC-481F-A654-DD7D2643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48F3-B116-4EE2-A56C-B8687751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AB3C-283C-497C-8EBA-22B16F31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BA74-6984-46D8-8992-EC95BF84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AE32-BF4C-4332-A273-65D3B98F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1749-1441-44F5-92DD-8C61D3CE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DBD4-912E-4794-9D22-A6C49F38335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B306-F11C-4075-97E0-00E3B6DB56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C6F6-42A3-497D-86C9-4E3FE3CBEF5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907920"/>
            <a:ext cx="91882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907920"/>
            <a:ext cx="9188280" cy="374508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1"/>
          <p:cNvSpPr/>
          <p:nvPr/>
        </p:nvSpPr>
        <p:spPr>
          <a:xfrm>
            <a:off x="539640" y="1052640"/>
            <a:ext cx="136836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Rounded Rectangle 4"/>
          <p:cNvSpPr/>
          <p:nvPr/>
        </p:nvSpPr>
        <p:spPr>
          <a:xfrm>
            <a:off x="2195640" y="2852640"/>
            <a:ext cx="1800000" cy="432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Rounded Rectangle 5"/>
          <p:cNvSpPr/>
          <p:nvPr/>
        </p:nvSpPr>
        <p:spPr>
          <a:xfrm>
            <a:off x="4932360" y="3500280"/>
            <a:ext cx="1368360" cy="4334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Rounded Rectangle 6"/>
          <p:cNvSpPr/>
          <p:nvPr/>
        </p:nvSpPr>
        <p:spPr>
          <a:xfrm>
            <a:off x="6784920" y="1636560"/>
            <a:ext cx="2035080" cy="432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Rounded Rectangle 7"/>
          <p:cNvSpPr/>
          <p:nvPr/>
        </p:nvSpPr>
        <p:spPr>
          <a:xfrm>
            <a:off x="539640" y="1638360"/>
            <a:ext cx="136836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Rounded Rectangle 8"/>
          <p:cNvSpPr/>
          <p:nvPr/>
        </p:nvSpPr>
        <p:spPr>
          <a:xfrm>
            <a:off x="2195640" y="1071720"/>
            <a:ext cx="194472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Rounded Rectangle 9"/>
          <p:cNvSpPr/>
          <p:nvPr/>
        </p:nvSpPr>
        <p:spPr>
          <a:xfrm>
            <a:off x="4533840" y="4076640"/>
            <a:ext cx="2054160" cy="432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Rounded Rectangle 10"/>
          <p:cNvSpPr/>
          <p:nvPr/>
        </p:nvSpPr>
        <p:spPr>
          <a:xfrm>
            <a:off x="6875640" y="2311560"/>
            <a:ext cx="194436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Rounded Rectangle 11"/>
          <p:cNvSpPr/>
          <p:nvPr/>
        </p:nvSpPr>
        <p:spPr>
          <a:xfrm>
            <a:off x="539640" y="2301840"/>
            <a:ext cx="1368360" cy="432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c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Rounded Rectangle 12"/>
          <p:cNvSpPr/>
          <p:nvPr/>
        </p:nvSpPr>
        <p:spPr>
          <a:xfrm>
            <a:off x="2484360" y="2238480"/>
            <a:ext cx="136692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c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Rounded Rectangle 13"/>
          <p:cNvSpPr/>
          <p:nvPr/>
        </p:nvSpPr>
        <p:spPr>
          <a:xfrm>
            <a:off x="4533840" y="1649520"/>
            <a:ext cx="198288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c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Rounded Rectangle 14"/>
          <p:cNvSpPr/>
          <p:nvPr/>
        </p:nvSpPr>
        <p:spPr>
          <a:xfrm>
            <a:off x="7164360" y="4103640"/>
            <a:ext cx="1368360" cy="432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c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Rounded Rectangle 15"/>
          <p:cNvSpPr/>
          <p:nvPr/>
        </p:nvSpPr>
        <p:spPr>
          <a:xfrm>
            <a:off x="560520" y="2886120"/>
            <a:ext cx="136836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Rounded Rectangle 16"/>
          <p:cNvSpPr/>
          <p:nvPr/>
        </p:nvSpPr>
        <p:spPr>
          <a:xfrm>
            <a:off x="2195640" y="4076640"/>
            <a:ext cx="1944720" cy="432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Rounded Rectangle 17"/>
          <p:cNvSpPr/>
          <p:nvPr/>
        </p:nvSpPr>
        <p:spPr>
          <a:xfrm>
            <a:off x="4840200" y="1071720"/>
            <a:ext cx="136836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Rounded Rectangle 18"/>
          <p:cNvSpPr/>
          <p:nvPr/>
        </p:nvSpPr>
        <p:spPr>
          <a:xfrm>
            <a:off x="6784920" y="2886120"/>
            <a:ext cx="217980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Rounded Rectangle 19"/>
          <p:cNvSpPr/>
          <p:nvPr/>
        </p:nvSpPr>
        <p:spPr>
          <a:xfrm>
            <a:off x="539640" y="3470400"/>
            <a:ext cx="136836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Rounded Rectangle 20"/>
          <p:cNvSpPr/>
          <p:nvPr/>
        </p:nvSpPr>
        <p:spPr>
          <a:xfrm>
            <a:off x="2255760" y="1660680"/>
            <a:ext cx="173988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Rounded Rectangle 21"/>
          <p:cNvSpPr/>
          <p:nvPr/>
        </p:nvSpPr>
        <p:spPr>
          <a:xfrm>
            <a:off x="4716360" y="2884320"/>
            <a:ext cx="1584360" cy="4334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Rounded Rectangle 22"/>
          <p:cNvSpPr/>
          <p:nvPr/>
        </p:nvSpPr>
        <p:spPr>
          <a:xfrm>
            <a:off x="7165800" y="1052640"/>
            <a:ext cx="136872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0" y="404640"/>
            <a:ext cx="91044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0" y="404640"/>
            <a:ext cx="9104400" cy="54007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"/>
          <p:cNvSpPr/>
          <p:nvPr/>
        </p:nvSpPr>
        <p:spPr>
          <a:xfrm>
            <a:off x="3235320" y="181440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y de Gal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3235320" y="23083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Hablo galés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3235320" y="280368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¿Eres galesa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3235320" y="329724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Es de Inglaterr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3235320" y="379080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Es británic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3235320" y="42847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Habla inglé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3235320" y="477828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¿Hablas francés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3235320" y="527220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y frances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-36360" y="907920"/>
            <a:ext cx="91868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-36360" y="907920"/>
            <a:ext cx="9186840" cy="3745080"/>
          </a:xfrm>
          <a:prstGeom prst="rect">
            <a:avLst/>
          </a:prstGeom>
          <a:ln w="0">
            <a:noFill/>
          </a:ln>
        </p:spPr>
      </p:pic>
      <p:sp>
        <p:nvSpPr>
          <p:cNvPr id="163" name="Rounded Rectangle 4"/>
          <p:cNvSpPr/>
          <p:nvPr/>
        </p:nvSpPr>
        <p:spPr>
          <a:xfrm>
            <a:off x="785880" y="1052640"/>
            <a:ext cx="136836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ounded Rectangle 5"/>
          <p:cNvSpPr/>
          <p:nvPr/>
        </p:nvSpPr>
        <p:spPr>
          <a:xfrm>
            <a:off x="2900520" y="1668600"/>
            <a:ext cx="180000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ounded Rectangle 6"/>
          <p:cNvSpPr/>
          <p:nvPr/>
        </p:nvSpPr>
        <p:spPr>
          <a:xfrm>
            <a:off x="4959360" y="2284560"/>
            <a:ext cx="198288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Rounded Rectangle 7"/>
          <p:cNvSpPr/>
          <p:nvPr/>
        </p:nvSpPr>
        <p:spPr>
          <a:xfrm>
            <a:off x="7115040" y="1081080"/>
            <a:ext cx="194472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ounded Rectangle 8"/>
          <p:cNvSpPr/>
          <p:nvPr/>
        </p:nvSpPr>
        <p:spPr>
          <a:xfrm>
            <a:off x="785880" y="1649520"/>
            <a:ext cx="136836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ounded Rectangle 9"/>
          <p:cNvSpPr/>
          <p:nvPr/>
        </p:nvSpPr>
        <p:spPr>
          <a:xfrm>
            <a:off x="2736720" y="2886120"/>
            <a:ext cx="194328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Rounded Rectangle 10"/>
          <p:cNvSpPr/>
          <p:nvPr/>
        </p:nvSpPr>
        <p:spPr>
          <a:xfrm>
            <a:off x="4932360" y="2886120"/>
            <a:ext cx="205416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ounded Rectangle 11"/>
          <p:cNvSpPr/>
          <p:nvPr/>
        </p:nvSpPr>
        <p:spPr>
          <a:xfrm>
            <a:off x="7115040" y="1649520"/>
            <a:ext cx="194472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ounded Rectangle 12"/>
          <p:cNvSpPr/>
          <p:nvPr/>
        </p:nvSpPr>
        <p:spPr>
          <a:xfrm>
            <a:off x="798480" y="2255760"/>
            <a:ext cx="1368360" cy="432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c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ounded Rectangle 13"/>
          <p:cNvSpPr/>
          <p:nvPr/>
        </p:nvSpPr>
        <p:spPr>
          <a:xfrm>
            <a:off x="3079800" y="2284560"/>
            <a:ext cx="136836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c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ounded Rectangle 14"/>
          <p:cNvSpPr/>
          <p:nvPr/>
        </p:nvSpPr>
        <p:spPr>
          <a:xfrm>
            <a:off x="4959360" y="4100400"/>
            <a:ext cx="1982880" cy="432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c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ounded Rectangle 15"/>
          <p:cNvSpPr/>
          <p:nvPr/>
        </p:nvSpPr>
        <p:spPr>
          <a:xfrm>
            <a:off x="7108920" y="2255760"/>
            <a:ext cx="1950840" cy="432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c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ounded Rectangle 16"/>
          <p:cNvSpPr/>
          <p:nvPr/>
        </p:nvSpPr>
        <p:spPr>
          <a:xfrm>
            <a:off x="785880" y="2886120"/>
            <a:ext cx="136836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ounded Rectangle 17"/>
          <p:cNvSpPr/>
          <p:nvPr/>
        </p:nvSpPr>
        <p:spPr>
          <a:xfrm>
            <a:off x="2827440" y="1052640"/>
            <a:ext cx="194292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ounded Rectangle 18"/>
          <p:cNvSpPr/>
          <p:nvPr/>
        </p:nvSpPr>
        <p:spPr>
          <a:xfrm>
            <a:off x="5275440" y="1662120"/>
            <a:ext cx="136836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ounded Rectangle 19"/>
          <p:cNvSpPr/>
          <p:nvPr/>
        </p:nvSpPr>
        <p:spPr>
          <a:xfrm>
            <a:off x="7118280" y="3487680"/>
            <a:ext cx="1941480" cy="432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ounded Rectangle 20"/>
          <p:cNvSpPr/>
          <p:nvPr/>
        </p:nvSpPr>
        <p:spPr>
          <a:xfrm>
            <a:off x="811080" y="3470400"/>
            <a:ext cx="136872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ounded Rectangle 21"/>
          <p:cNvSpPr/>
          <p:nvPr/>
        </p:nvSpPr>
        <p:spPr>
          <a:xfrm>
            <a:off x="2838600" y="4075200"/>
            <a:ext cx="1739880" cy="4334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ounded Rectangle 22"/>
          <p:cNvSpPr/>
          <p:nvPr/>
        </p:nvSpPr>
        <p:spPr>
          <a:xfrm>
            <a:off x="5167440" y="1079640"/>
            <a:ext cx="158436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Rounded Rectangle 23"/>
          <p:cNvSpPr/>
          <p:nvPr/>
        </p:nvSpPr>
        <p:spPr>
          <a:xfrm>
            <a:off x="7118280" y="4075200"/>
            <a:ext cx="184644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6-07T13:03:17Z</dcterms:modified>
  <cp:revision>415</cp:revision>
  <dc:subject/>
  <dc:title>TITLE</dc:title>
</cp:coreProperties>
</file>