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A22-ABAC-4C09-8E9E-FF882440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8F3-F99C-4B6A-80B0-8F1E6473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548-FFC4-409B-A06D-8E5BFAE1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429-5A11-4971-9F01-A75A108F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146-2774-4867-BF4D-D313A218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F83-C7FC-493D-A21D-20C416E4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371-FC8D-43DC-B9B8-D4116961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EDF-44DB-4C02-B214-00F5A950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E1A-14F5-4197-944A-3460C7DA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A24-02DE-4127-A372-2B2E088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A29-9F7B-4507-9572-276F1601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3C4-E0FE-4894-9FFE-CCE31951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B2C1-3B01-40F0-82FB-C1BCC0A24C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900439294[1]"/>
          <p:cNvPicPr/>
          <p:nvPr/>
        </p:nvPicPr>
        <p:blipFill>
          <a:blip r:embed="rId1"/>
          <a:stretch/>
        </p:blipFill>
        <p:spPr>
          <a:xfrm>
            <a:off x="0" y="1700280"/>
            <a:ext cx="3454560" cy="515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4067280" y="115920"/>
            <a:ext cx="4951440" cy="2290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 llamo David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vo en los Estados Unidos y hablo inglé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MP900443898[1]"/>
          <p:cNvPicPr/>
          <p:nvPr/>
        </p:nvPicPr>
        <p:blipFill>
          <a:blip r:embed="rId1"/>
          <a:stretch/>
        </p:blipFill>
        <p:spPr>
          <a:xfrm>
            <a:off x="0" y="2276640"/>
            <a:ext cx="3057480" cy="4581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 llamo Isabel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vo en México y hablo españ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140360" y="115920"/>
            <a:ext cx="4878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 llamo Elsa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vo en Suiza y hablo alemá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P900448555[1]"/>
          <p:cNvPicPr/>
          <p:nvPr/>
        </p:nvPicPr>
        <p:blipFill>
          <a:blip r:embed="rId1"/>
          <a:srcRect l="12606" t="13485" r="25973" b="7599"/>
          <a:stretch/>
        </p:blipFill>
        <p:spPr>
          <a:xfrm>
            <a:off x="0" y="1341360"/>
            <a:ext cx="2862360" cy="551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4211640" y="115920"/>
            <a:ext cx="48070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916360" y="285264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 llamo Robert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vo en Canadá y hablo francé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P900439330[1]"/>
          <p:cNvPicPr/>
          <p:nvPr/>
        </p:nvPicPr>
        <p:blipFill>
          <a:blip r:embed="rId1"/>
          <a:srcRect l="19280" t="0" r="23926" b="0"/>
          <a:stretch/>
        </p:blipFill>
        <p:spPr>
          <a:xfrm>
            <a:off x="0" y="549360"/>
            <a:ext cx="2400480" cy="630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140360" y="115920"/>
            <a:ext cx="4878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916360" y="2852640"/>
            <a:ext cx="62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 llamo Sonja. 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vo en Sudáfrica y hablo afrika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MP900439331[1]"/>
          <p:cNvPicPr/>
          <p:nvPr/>
        </p:nvPicPr>
        <p:blipFill>
          <a:blip r:embed="rId1"/>
          <a:srcRect l="14274" t="0" r="24809" b="0"/>
          <a:stretch/>
        </p:blipFill>
        <p:spPr>
          <a:xfrm>
            <a:off x="0" y="620640"/>
            <a:ext cx="2608200" cy="623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4211640" y="115920"/>
            <a:ext cx="48070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MP900439331[1]"/>
          <p:cNvPicPr/>
          <p:nvPr/>
        </p:nvPicPr>
        <p:blipFill>
          <a:blip r:embed="rId1"/>
          <a:srcRect l="14274" t="0" r="24809" b="0"/>
          <a:stretch/>
        </p:blipFill>
        <p:spPr>
          <a:xfrm>
            <a:off x="0" y="620640"/>
            <a:ext cx="2608200" cy="623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MP900184976"/>
          <p:cNvPicPr/>
          <p:nvPr/>
        </p:nvPicPr>
        <p:blipFill>
          <a:blip r:embed="rId2"/>
          <a:stretch/>
        </p:blipFill>
        <p:spPr>
          <a:xfrm>
            <a:off x="5532480" y="0"/>
            <a:ext cx="3611520" cy="5445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2340000" y="907920"/>
            <a:ext cx="453564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 Y tú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 Cómo te llama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 Dónde viv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 Qué habla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0:37:03Z</dcterms:created>
  <dc:creator>Clare Seccombe</dc:creator>
  <dc:description/>
  <dc:language>en-US</dc:language>
  <cp:lastModifiedBy>Clare</cp:lastModifiedBy>
  <dcterms:modified xsi:type="dcterms:W3CDTF">2015-02-06T09:30:25Z</dcterms:modified>
  <cp:revision>6</cp:revision>
  <dc:subject/>
  <dc:title>Slide 1</dc:title>
</cp:coreProperties>
</file>