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4A8F-3910-4218-AD98-AC6191FA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981E-20B6-4DFE-B048-2FE139C7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0BB9-9155-4B24-9FB4-1DB13F8C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16C-0705-4503-9D6B-AC673701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CC7-F156-4FF9-A9F4-9CF0AFFF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460-4571-4F25-917D-AD6791B3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BDE9-1652-4A1C-966A-1EE3FB3A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5E0-72CA-46E1-8285-52280D71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104-58CD-4F86-9654-0B04E504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DA2-2253-4795-B7D8-F881A0FB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5DE1-10A2-43C0-8822-34E36669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997-0B84-498E-A2DF-45172850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6338-259A-4143-B2DA-E07CE6120A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P900439294[1]"/>
          <p:cNvPicPr/>
          <p:nvPr/>
        </p:nvPicPr>
        <p:blipFill>
          <a:blip r:embed="rId1"/>
          <a:stretch/>
        </p:blipFill>
        <p:spPr>
          <a:xfrm>
            <a:off x="0" y="1700280"/>
            <a:ext cx="3454560" cy="5157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4067280" y="115920"/>
            <a:ext cx="4951440" cy="2290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916360" y="2852640"/>
            <a:ext cx="60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e llamo David. 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vo en los Estados Unidos y hablo inglé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MP900443898[1]"/>
          <p:cNvPicPr/>
          <p:nvPr/>
        </p:nvPicPr>
        <p:blipFill>
          <a:blip r:embed="rId1"/>
          <a:stretch/>
        </p:blipFill>
        <p:spPr>
          <a:xfrm>
            <a:off x="0" y="2276640"/>
            <a:ext cx="3057480" cy="4581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2916360" y="2852640"/>
            <a:ext cx="60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e llamo Isabel. 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vo en México y hablo españ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4140360" y="115920"/>
            <a:ext cx="4878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916360" y="2852640"/>
            <a:ext cx="60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e llamo Elsa. 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vo en Suiza y hablo alemá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P900448555[1]"/>
          <p:cNvPicPr/>
          <p:nvPr/>
        </p:nvPicPr>
        <p:blipFill>
          <a:blip r:embed="rId1"/>
          <a:srcRect l="12606" t="13485" r="25973" b="7599"/>
          <a:stretch/>
        </p:blipFill>
        <p:spPr>
          <a:xfrm>
            <a:off x="0" y="1341360"/>
            <a:ext cx="2862360" cy="5516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4211640" y="115920"/>
            <a:ext cx="48070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916360" y="2852640"/>
            <a:ext cx="60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e llamo Robert. 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vo en Canadá y hablo francé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P900439330[1]"/>
          <p:cNvPicPr/>
          <p:nvPr/>
        </p:nvPicPr>
        <p:blipFill>
          <a:blip r:embed="rId1"/>
          <a:srcRect l="19280" t="0" r="23926" b="0"/>
          <a:stretch/>
        </p:blipFill>
        <p:spPr>
          <a:xfrm>
            <a:off x="0" y="549360"/>
            <a:ext cx="2400480" cy="630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140360" y="115920"/>
            <a:ext cx="4878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916360" y="2852640"/>
            <a:ext cx="622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e llamo Sonja. 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vo en Sudáfrica y hablo afrikaa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MP900439331[1]"/>
          <p:cNvPicPr/>
          <p:nvPr/>
        </p:nvPicPr>
        <p:blipFill>
          <a:blip r:embed="rId1"/>
          <a:srcRect l="14274" t="0" r="24809" b="0"/>
          <a:stretch/>
        </p:blipFill>
        <p:spPr>
          <a:xfrm>
            <a:off x="0" y="620640"/>
            <a:ext cx="2608200" cy="623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2"/>
          <a:stretch/>
        </p:blipFill>
        <p:spPr>
          <a:xfrm>
            <a:off x="4211640" y="115920"/>
            <a:ext cx="48070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MP900439331[1]"/>
          <p:cNvPicPr/>
          <p:nvPr/>
        </p:nvPicPr>
        <p:blipFill>
          <a:blip r:embed="rId1"/>
          <a:srcRect l="14274" t="0" r="24809" b="0"/>
          <a:stretch/>
        </p:blipFill>
        <p:spPr>
          <a:xfrm>
            <a:off x="0" y="620640"/>
            <a:ext cx="2608200" cy="623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MP900184976"/>
          <p:cNvPicPr/>
          <p:nvPr/>
        </p:nvPicPr>
        <p:blipFill>
          <a:blip r:embed="rId2"/>
          <a:stretch/>
        </p:blipFill>
        <p:spPr>
          <a:xfrm>
            <a:off x="5532480" y="0"/>
            <a:ext cx="3611520" cy="5445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2340000" y="907920"/>
            <a:ext cx="453564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 Y tú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 Cómo te llama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 Dónde viv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 Qué habla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0:37:03Z</dcterms:created>
  <dc:creator>Clare Seccombe</dc:creator>
  <dc:description/>
  <dc:language>en-US</dc:language>
  <cp:lastModifiedBy>Clare</cp:lastModifiedBy>
  <dcterms:modified xsi:type="dcterms:W3CDTF">2015-02-06T09:30:25Z</dcterms:modified>
  <cp:revision>6</cp:revision>
  <dc:subject/>
  <dc:title>Slide 1</dc:title>
</cp:coreProperties>
</file>