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76FA-0B8F-4FE7-A350-9F047B9718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29B8-589E-435C-8AF9-9D1EF10E6E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97BC-A9F4-4803-A01C-F16E0A8180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5E0B-C784-4AAB-A8D9-9F5785D328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BA5F-34B5-44F7-98F5-393BDE8062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944D-5A72-41D0-B0A0-6DDE7DFBB7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01BB-0228-4FBF-9D6E-E89A51F137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94BD-078C-4CA9-9740-1611719B94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4514-0EF2-4735-BBEE-71CA10621E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DB23-57DC-40F6-AF35-FDB0B9ABCA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5BC5-A987-4759-B40B-2F170BA6C6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4ED4-83DB-4E28-9FF7-AF64B481AB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C7DF-1AB0-43DB-8478-0591FF2E5E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E314-4367-45FA-A730-438F6DE43E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42ED-295B-4845-A397-07D6B4A718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98C5-1F5E-45A5-8FFE-A6499200B8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AF3F-2E96-43CF-B2A0-7C6A5D5DC6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2D66-72E8-4BF7-AD5B-B15523EE7C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2904-C67D-43AB-A32F-56D88C995A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089D-DEF6-4528-8523-0BC420D15C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1583-079C-4D31-9AD2-D9FB094D72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39FF-1DBE-41BB-BF0B-7442E6129D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4317-D06B-42D7-A8D8-394591AA51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A36C-BC20-4BDD-81C6-3CF0D9ECE1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9A11-5FC0-4D44-9185-45057BBC11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2D5C-A2D7-4634-B232-885B7499A9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FE5A-746B-4376-A3DE-3C693FCF00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97A8-70A0-416C-B5B2-82DB9EA125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1A48-92C7-4D80-B5EA-37F1B479DE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47D8-2BE5-418B-9A4D-664EDE1A6F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A9C2-09D9-4D0B-9026-C7A6F721B3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6803-FD8A-45E3-A11E-0003BE9B63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7BE5-8459-49D1-8232-3BFEC3F8D6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375D-4B85-4020-81A4-45820230AD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B243-EA6A-4696-9F21-59D926F140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E4DB-F49F-4BB3-85D2-040644EF1C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64A8-EE5C-408C-960C-B9EB6F3948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07B5-1CEE-4025-AE66-C1D0354FF4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2A5E-E295-43D8-8151-7F377D6B2F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0838-35C7-465A-9B36-3551A1D162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03CA-A7F1-4F7B-81EB-BAF11F9AEE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72F7-AD79-44EA-96DB-585001922B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4C82-84E7-4C3A-A004-848E696D35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431C-40D6-4909-8ED2-14E51AB86D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B43B-5D1F-4A6F-9649-72AD0D49BC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72D7-7D06-4E6A-84C4-7E8222F639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2CFA-FB8D-45D1-8265-11886F27DE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3CB6-0D3A-4CDA-B1DB-6BBFFAF712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E3A-00EC-4CC8-BE83-78C585FB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96F-9181-481B-B700-639D5709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5B2-B065-40DD-8357-41E6BD3A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33B-76C9-4F5E-BA97-F43D3C4B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B88-56F1-4F90-B1C3-02C728DA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C90-9F57-4787-81C7-BB3E0E07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53C-29D5-462F-B13C-C5F70927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360-CFCE-4969-9A25-A65DFC7D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FEE-8BB0-4DC1-A233-7C85233A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9C6-6A98-4AAE-9B02-6E030B05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720-1462-48B4-81D0-F631D3E8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490-C49E-4B47-92C8-E0F57625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7178-8ECB-4A14-9930-0E7DE1BED5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39760" y="1197000"/>
            <a:ext cx="2808360" cy="3876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3276720" y="2276640"/>
            <a:ext cx="554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BeeZee"/>
              </a:rPr>
              <a:t>El monstruo hambrient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3"/>
          <a:stretch/>
        </p:blipFill>
        <p:spPr>
          <a:xfrm rot="20805600">
            <a:off x="3095280" y="3127320"/>
            <a:ext cx="1984320" cy="18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 rot="20805600">
            <a:off x="4896000" y="2905200"/>
            <a:ext cx="1984320" cy="180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5"/>
          <a:stretch/>
        </p:blipFill>
        <p:spPr>
          <a:xfrm rot="20805600">
            <a:off x="4032360" y="3414600"/>
            <a:ext cx="198432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3"/>
          <a:stretch/>
        </p:blipFill>
        <p:spPr>
          <a:xfrm rot="20805600">
            <a:off x="3095280" y="3127320"/>
            <a:ext cx="1984320" cy="180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 rot="20805600">
            <a:off x="4896000" y="2905200"/>
            <a:ext cx="1984320" cy="1806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5"/>
          <a:stretch/>
        </p:blipFill>
        <p:spPr>
          <a:xfrm rot="20805600">
            <a:off x="4032360" y="3414600"/>
            <a:ext cx="1984320" cy="1806840"/>
          </a:xfrm>
          <a:prstGeom prst="rect">
            <a:avLst/>
          </a:prstGeom>
          <a:ln w="0">
            <a:noFill/>
          </a:ln>
        </p:spPr>
      </p:pic>
      <p:sp>
        <p:nvSpPr>
          <p:cNvPr id="118" name="Freeform 3"/>
          <p:cNvSpPr/>
          <p:nvPr/>
        </p:nvSpPr>
        <p:spPr>
          <a:xfrm>
            <a:off x="2990880" y="2516040"/>
            <a:ext cx="3308400" cy="1594080"/>
          </a:xfrm>
          <a:custGeom>
            <a:avLst/>
            <a:gdLst/>
            <a:ahLst/>
            <a:rect l="l" t="t" r="r" b="b"/>
            <a:pathLst>
              <a:path w="3309057" h="1593410">
                <a:moveTo>
                  <a:pt x="313765" y="552262"/>
                </a:moveTo>
                <a:cubicBezTo>
                  <a:pt x="295658" y="555280"/>
                  <a:pt x="276859" y="555510"/>
                  <a:pt x="259444" y="561315"/>
                </a:cubicBezTo>
                <a:cubicBezTo>
                  <a:pt x="249122" y="564756"/>
                  <a:pt x="240335" y="572103"/>
                  <a:pt x="232284" y="579422"/>
                </a:cubicBezTo>
                <a:cubicBezTo>
                  <a:pt x="207020" y="602389"/>
                  <a:pt x="183999" y="627707"/>
                  <a:pt x="159856" y="651850"/>
                </a:cubicBezTo>
                <a:cubicBezTo>
                  <a:pt x="152162" y="659544"/>
                  <a:pt x="148830" y="670749"/>
                  <a:pt x="141749" y="679010"/>
                </a:cubicBezTo>
                <a:cubicBezTo>
                  <a:pt x="130639" y="691972"/>
                  <a:pt x="115778" y="701567"/>
                  <a:pt x="105535" y="715224"/>
                </a:cubicBezTo>
                <a:cubicBezTo>
                  <a:pt x="97437" y="726021"/>
                  <a:pt x="94124" y="739720"/>
                  <a:pt x="87428" y="751438"/>
                </a:cubicBezTo>
                <a:cubicBezTo>
                  <a:pt x="82030" y="760885"/>
                  <a:pt x="75357" y="769545"/>
                  <a:pt x="69321" y="778598"/>
                </a:cubicBezTo>
                <a:cubicBezTo>
                  <a:pt x="66303" y="787652"/>
                  <a:pt x="64536" y="797223"/>
                  <a:pt x="60268" y="805759"/>
                </a:cubicBezTo>
                <a:cubicBezTo>
                  <a:pt x="55402" y="815491"/>
                  <a:pt x="45879" y="822693"/>
                  <a:pt x="42161" y="832919"/>
                </a:cubicBezTo>
                <a:cubicBezTo>
                  <a:pt x="33656" y="856306"/>
                  <a:pt x="24054" y="905347"/>
                  <a:pt x="24054" y="905347"/>
                </a:cubicBezTo>
                <a:cubicBezTo>
                  <a:pt x="21036" y="989846"/>
                  <a:pt x="20115" y="1074446"/>
                  <a:pt x="15000" y="1158844"/>
                </a:cubicBezTo>
                <a:cubicBezTo>
                  <a:pt x="10569" y="1231952"/>
                  <a:pt x="-16417" y="1192541"/>
                  <a:pt x="15000" y="1294646"/>
                </a:cubicBezTo>
                <a:cubicBezTo>
                  <a:pt x="23068" y="1320868"/>
                  <a:pt x="78595" y="1339274"/>
                  <a:pt x="96482" y="1339913"/>
                </a:cubicBezTo>
                <a:lnTo>
                  <a:pt x="349979" y="1348967"/>
                </a:lnTo>
                <a:cubicBezTo>
                  <a:pt x="416139" y="1393074"/>
                  <a:pt x="332961" y="1339244"/>
                  <a:pt x="413353" y="1385181"/>
                </a:cubicBezTo>
                <a:cubicBezTo>
                  <a:pt x="422800" y="1390579"/>
                  <a:pt x="431066" y="1397889"/>
                  <a:pt x="440513" y="1403287"/>
                </a:cubicBezTo>
                <a:cubicBezTo>
                  <a:pt x="452231" y="1409983"/>
                  <a:pt x="465497" y="1413908"/>
                  <a:pt x="476727" y="1421394"/>
                </a:cubicBezTo>
                <a:cubicBezTo>
                  <a:pt x="531709" y="1458048"/>
                  <a:pt x="505287" y="1454546"/>
                  <a:pt x="558208" y="1475715"/>
                </a:cubicBezTo>
                <a:cubicBezTo>
                  <a:pt x="575929" y="1482804"/>
                  <a:pt x="595043" y="1486172"/>
                  <a:pt x="612529" y="1493822"/>
                </a:cubicBezTo>
                <a:cubicBezTo>
                  <a:pt x="678868" y="1522845"/>
                  <a:pt x="690392" y="1537883"/>
                  <a:pt x="748331" y="1557196"/>
                </a:cubicBezTo>
                <a:cubicBezTo>
                  <a:pt x="779881" y="1567713"/>
                  <a:pt x="805424" y="1568615"/>
                  <a:pt x="838866" y="1575303"/>
                </a:cubicBezTo>
                <a:cubicBezTo>
                  <a:pt x="938570" y="1595244"/>
                  <a:pt x="784741" y="1573065"/>
                  <a:pt x="947507" y="1593410"/>
                </a:cubicBezTo>
                <a:lnTo>
                  <a:pt x="1056149" y="1584357"/>
                </a:lnTo>
                <a:cubicBezTo>
                  <a:pt x="1105421" y="1579664"/>
                  <a:pt x="1160720" y="1572417"/>
                  <a:pt x="1210058" y="1566250"/>
                </a:cubicBezTo>
                <a:cubicBezTo>
                  <a:pt x="1254239" y="1551523"/>
                  <a:pt x="1283599" y="1547030"/>
                  <a:pt x="1318700" y="1511929"/>
                </a:cubicBezTo>
                <a:cubicBezTo>
                  <a:pt x="1327753" y="1502876"/>
                  <a:pt x="1337664" y="1494605"/>
                  <a:pt x="1345860" y="1484769"/>
                </a:cubicBezTo>
                <a:cubicBezTo>
                  <a:pt x="1361188" y="1466375"/>
                  <a:pt x="1363728" y="1445824"/>
                  <a:pt x="1391127" y="1439501"/>
                </a:cubicBezTo>
                <a:cubicBezTo>
                  <a:pt x="1420679" y="1432681"/>
                  <a:pt x="1451484" y="1433466"/>
                  <a:pt x="1481662" y="1430448"/>
                </a:cubicBezTo>
                <a:cubicBezTo>
                  <a:pt x="1490715" y="1427430"/>
                  <a:pt x="1499506" y="1423464"/>
                  <a:pt x="1508822" y="1421394"/>
                </a:cubicBezTo>
                <a:cubicBezTo>
                  <a:pt x="1593073" y="1402671"/>
                  <a:pt x="1602945" y="1414682"/>
                  <a:pt x="1717052" y="1421394"/>
                </a:cubicBezTo>
                <a:cubicBezTo>
                  <a:pt x="1825945" y="1448619"/>
                  <a:pt x="1762903" y="1436444"/>
                  <a:pt x="1988656" y="1421394"/>
                </a:cubicBezTo>
                <a:cubicBezTo>
                  <a:pt x="2007303" y="1420151"/>
                  <a:pt x="2056853" y="1401614"/>
                  <a:pt x="2070137" y="1394234"/>
                </a:cubicBezTo>
                <a:cubicBezTo>
                  <a:pt x="2083327" y="1386906"/>
                  <a:pt x="2094280" y="1376127"/>
                  <a:pt x="2106351" y="1367074"/>
                </a:cubicBezTo>
                <a:cubicBezTo>
                  <a:pt x="2112387" y="1355003"/>
                  <a:pt x="2116027" y="1341399"/>
                  <a:pt x="2124458" y="1330860"/>
                </a:cubicBezTo>
                <a:cubicBezTo>
                  <a:pt x="2147615" y="1301914"/>
                  <a:pt x="2173984" y="1276692"/>
                  <a:pt x="2205939" y="1258432"/>
                </a:cubicBezTo>
                <a:cubicBezTo>
                  <a:pt x="2217657" y="1251736"/>
                  <a:pt x="2229349" y="1244593"/>
                  <a:pt x="2242153" y="1240325"/>
                </a:cubicBezTo>
                <a:cubicBezTo>
                  <a:pt x="2256751" y="1235459"/>
                  <a:pt x="2272331" y="1234290"/>
                  <a:pt x="2287420" y="1231272"/>
                </a:cubicBezTo>
                <a:cubicBezTo>
                  <a:pt x="2311563" y="1234290"/>
                  <a:pt x="2335910" y="1235973"/>
                  <a:pt x="2359848" y="1240325"/>
                </a:cubicBezTo>
                <a:cubicBezTo>
                  <a:pt x="2369237" y="1242032"/>
                  <a:pt x="2377832" y="1246757"/>
                  <a:pt x="2387008" y="1249379"/>
                </a:cubicBezTo>
                <a:cubicBezTo>
                  <a:pt x="2483122" y="1276840"/>
                  <a:pt x="2354026" y="1234915"/>
                  <a:pt x="2468490" y="1276539"/>
                </a:cubicBezTo>
                <a:cubicBezTo>
                  <a:pt x="2524649" y="1296960"/>
                  <a:pt x="2514382" y="1292960"/>
                  <a:pt x="2568078" y="1303699"/>
                </a:cubicBezTo>
                <a:cubicBezTo>
                  <a:pt x="2613345" y="1300681"/>
                  <a:pt x="2659067" y="1301722"/>
                  <a:pt x="2703880" y="1294646"/>
                </a:cubicBezTo>
                <a:cubicBezTo>
                  <a:pt x="2717211" y="1292541"/>
                  <a:pt x="2729555" y="1284970"/>
                  <a:pt x="2740094" y="1276539"/>
                </a:cubicBezTo>
                <a:cubicBezTo>
                  <a:pt x="2784388" y="1241104"/>
                  <a:pt x="2787739" y="1232230"/>
                  <a:pt x="2812521" y="1195058"/>
                </a:cubicBezTo>
                <a:cubicBezTo>
                  <a:pt x="2814651" y="1186538"/>
                  <a:pt x="2824726" y="1142308"/>
                  <a:pt x="2830628" y="1131684"/>
                </a:cubicBezTo>
                <a:cubicBezTo>
                  <a:pt x="2849450" y="1097804"/>
                  <a:pt x="2872526" y="1065573"/>
                  <a:pt x="2903056" y="1041149"/>
                </a:cubicBezTo>
                <a:cubicBezTo>
                  <a:pt x="2920049" y="1027554"/>
                  <a:pt x="2939270" y="1017006"/>
                  <a:pt x="2957377" y="1004935"/>
                </a:cubicBezTo>
                <a:lnTo>
                  <a:pt x="2984537" y="986828"/>
                </a:lnTo>
                <a:cubicBezTo>
                  <a:pt x="3021848" y="930862"/>
                  <a:pt x="2980422" y="985456"/>
                  <a:pt x="3029804" y="941561"/>
                </a:cubicBezTo>
                <a:cubicBezTo>
                  <a:pt x="3048943" y="924548"/>
                  <a:pt x="3066018" y="905347"/>
                  <a:pt x="3084125" y="887240"/>
                </a:cubicBezTo>
                <a:cubicBezTo>
                  <a:pt x="3093179" y="878187"/>
                  <a:pt x="3103288" y="870078"/>
                  <a:pt x="3111286" y="860080"/>
                </a:cubicBezTo>
                <a:cubicBezTo>
                  <a:pt x="3135428" y="829902"/>
                  <a:pt x="3162276" y="801701"/>
                  <a:pt x="3183713" y="769545"/>
                </a:cubicBezTo>
                <a:cubicBezTo>
                  <a:pt x="3195784" y="751438"/>
                  <a:pt x="3213045" y="735869"/>
                  <a:pt x="3219927" y="715224"/>
                </a:cubicBezTo>
                <a:cubicBezTo>
                  <a:pt x="3232422" y="677741"/>
                  <a:pt x="3223687" y="696004"/>
                  <a:pt x="3247088" y="660903"/>
                </a:cubicBezTo>
                <a:cubicBezTo>
                  <a:pt x="3250497" y="616580"/>
                  <a:pt x="3255904" y="521883"/>
                  <a:pt x="3265195" y="470781"/>
                </a:cubicBezTo>
                <a:cubicBezTo>
                  <a:pt x="3266902" y="461392"/>
                  <a:pt x="3271230" y="452674"/>
                  <a:pt x="3274248" y="443620"/>
                </a:cubicBezTo>
                <a:cubicBezTo>
                  <a:pt x="3277266" y="422495"/>
                  <a:pt x="3279116" y="401171"/>
                  <a:pt x="3283301" y="380246"/>
                </a:cubicBezTo>
                <a:cubicBezTo>
                  <a:pt x="3298316" y="305172"/>
                  <a:pt x="3332859" y="385783"/>
                  <a:pt x="3283301" y="217284"/>
                </a:cubicBezTo>
                <a:cubicBezTo>
                  <a:pt x="3279493" y="204337"/>
                  <a:pt x="3260108" y="202728"/>
                  <a:pt x="3247088" y="199177"/>
                </a:cubicBezTo>
                <a:cubicBezTo>
                  <a:pt x="3226500" y="193562"/>
                  <a:pt x="3204888" y="192770"/>
                  <a:pt x="3183713" y="190123"/>
                </a:cubicBezTo>
                <a:lnTo>
                  <a:pt x="2957377" y="162963"/>
                </a:lnTo>
                <a:cubicBezTo>
                  <a:pt x="2933223" y="160035"/>
                  <a:pt x="2909232" y="155427"/>
                  <a:pt x="2884949" y="153909"/>
                </a:cubicBezTo>
                <a:lnTo>
                  <a:pt x="2613345" y="135802"/>
                </a:lnTo>
                <a:cubicBezTo>
                  <a:pt x="2364214" y="110888"/>
                  <a:pt x="2553105" y="126400"/>
                  <a:pt x="2405115" y="108642"/>
                </a:cubicBezTo>
                <a:lnTo>
                  <a:pt x="2242153" y="90535"/>
                </a:lnTo>
                <a:cubicBezTo>
                  <a:pt x="2214993" y="84499"/>
                  <a:pt x="2188116" y="77002"/>
                  <a:pt x="2160672" y="72428"/>
                </a:cubicBezTo>
                <a:cubicBezTo>
                  <a:pt x="2133716" y="67935"/>
                  <a:pt x="2105868" y="69303"/>
                  <a:pt x="2079191" y="63375"/>
                </a:cubicBezTo>
                <a:cubicBezTo>
                  <a:pt x="2051243" y="57164"/>
                  <a:pt x="2025578" y="42771"/>
                  <a:pt x="1997709" y="36214"/>
                </a:cubicBezTo>
                <a:cubicBezTo>
                  <a:pt x="1974026" y="30641"/>
                  <a:pt x="1949399" y="30377"/>
                  <a:pt x="1925282" y="27161"/>
                </a:cubicBezTo>
                <a:cubicBezTo>
                  <a:pt x="1891453" y="22650"/>
                  <a:pt x="1821934" y="11650"/>
                  <a:pt x="1789480" y="9054"/>
                </a:cubicBezTo>
                <a:cubicBezTo>
                  <a:pt x="1738252" y="4956"/>
                  <a:pt x="1686874" y="3018"/>
                  <a:pt x="1635571" y="0"/>
                </a:cubicBezTo>
                <a:cubicBezTo>
                  <a:pt x="1436395" y="3018"/>
                  <a:pt x="1237068" y="761"/>
                  <a:pt x="1038042" y="9054"/>
                </a:cubicBezTo>
                <a:cubicBezTo>
                  <a:pt x="1018972" y="9849"/>
                  <a:pt x="1002548" y="24023"/>
                  <a:pt x="983721" y="27161"/>
                </a:cubicBezTo>
                <a:lnTo>
                  <a:pt x="929400" y="36214"/>
                </a:lnTo>
                <a:cubicBezTo>
                  <a:pt x="917329" y="42250"/>
                  <a:pt x="905592" y="49005"/>
                  <a:pt x="893187" y="54321"/>
                </a:cubicBezTo>
                <a:cubicBezTo>
                  <a:pt x="884415" y="58080"/>
                  <a:pt x="874962" y="60024"/>
                  <a:pt x="866026" y="63375"/>
                </a:cubicBezTo>
                <a:cubicBezTo>
                  <a:pt x="850809" y="69081"/>
                  <a:pt x="835610" y="74882"/>
                  <a:pt x="820759" y="81482"/>
                </a:cubicBezTo>
                <a:cubicBezTo>
                  <a:pt x="808426" y="86963"/>
                  <a:pt x="796263" y="92892"/>
                  <a:pt x="784545" y="99588"/>
                </a:cubicBezTo>
                <a:cubicBezTo>
                  <a:pt x="775098" y="104986"/>
                  <a:pt x="767117" y="112829"/>
                  <a:pt x="757385" y="117695"/>
                </a:cubicBezTo>
                <a:cubicBezTo>
                  <a:pt x="748849" y="121963"/>
                  <a:pt x="738760" y="122481"/>
                  <a:pt x="730224" y="126749"/>
                </a:cubicBezTo>
                <a:cubicBezTo>
                  <a:pt x="720492" y="131615"/>
                  <a:pt x="712796" y="139990"/>
                  <a:pt x="703064" y="144856"/>
                </a:cubicBezTo>
                <a:cubicBezTo>
                  <a:pt x="694528" y="149124"/>
                  <a:pt x="684439" y="149641"/>
                  <a:pt x="675903" y="153909"/>
                </a:cubicBezTo>
                <a:cubicBezTo>
                  <a:pt x="660164" y="161779"/>
                  <a:pt x="644955" y="170842"/>
                  <a:pt x="630636" y="181070"/>
                </a:cubicBezTo>
                <a:cubicBezTo>
                  <a:pt x="602637" y="201070"/>
                  <a:pt x="581798" y="233563"/>
                  <a:pt x="549155" y="244444"/>
                </a:cubicBezTo>
                <a:lnTo>
                  <a:pt x="521995" y="253497"/>
                </a:lnTo>
                <a:lnTo>
                  <a:pt x="440513" y="307818"/>
                </a:lnTo>
                <a:cubicBezTo>
                  <a:pt x="431460" y="313854"/>
                  <a:pt x="421047" y="318231"/>
                  <a:pt x="413353" y="325925"/>
                </a:cubicBezTo>
                <a:cubicBezTo>
                  <a:pt x="401282" y="337996"/>
                  <a:pt x="390470" y="351475"/>
                  <a:pt x="377139" y="362139"/>
                </a:cubicBezTo>
                <a:cubicBezTo>
                  <a:pt x="360146" y="375734"/>
                  <a:pt x="322818" y="398353"/>
                  <a:pt x="322818" y="398353"/>
                </a:cubicBezTo>
                <a:cubicBezTo>
                  <a:pt x="289621" y="448148"/>
                  <a:pt x="322819" y="405896"/>
                  <a:pt x="277551" y="443620"/>
                </a:cubicBezTo>
                <a:cubicBezTo>
                  <a:pt x="232341" y="481296"/>
                  <a:pt x="270962" y="463924"/>
                  <a:pt x="223230" y="479834"/>
                </a:cubicBezTo>
                <a:cubicBezTo>
                  <a:pt x="204683" y="516927"/>
                  <a:pt x="206168" y="519357"/>
                  <a:pt x="177963" y="552262"/>
                </a:cubicBezTo>
                <a:cubicBezTo>
                  <a:pt x="169631" y="561983"/>
                  <a:pt x="153681" y="566946"/>
                  <a:pt x="150802" y="579422"/>
                </a:cubicBezTo>
                <a:cubicBezTo>
                  <a:pt x="144016" y="608827"/>
                  <a:pt x="150802" y="639779"/>
                  <a:pt x="150802" y="669957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3"/>
          <a:stretch/>
        </p:blipFill>
        <p:spPr>
          <a:xfrm rot="20805600">
            <a:off x="3095280" y="3127320"/>
            <a:ext cx="1984320" cy="1808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4"/>
          <a:stretch/>
        </p:blipFill>
        <p:spPr>
          <a:xfrm rot="20805600">
            <a:off x="4896000" y="2905200"/>
            <a:ext cx="1984320" cy="1806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5"/>
          <a:stretch/>
        </p:blipFill>
        <p:spPr>
          <a:xfrm rot="20805600">
            <a:off x="4032360" y="3414600"/>
            <a:ext cx="1984320" cy="1806840"/>
          </a:xfrm>
          <a:prstGeom prst="rect">
            <a:avLst/>
          </a:prstGeom>
          <a:ln w="0">
            <a:noFill/>
          </a:ln>
        </p:spPr>
      </p:pic>
      <p:sp>
        <p:nvSpPr>
          <p:cNvPr id="127" name="Freeform 3"/>
          <p:cNvSpPr/>
          <p:nvPr/>
        </p:nvSpPr>
        <p:spPr>
          <a:xfrm>
            <a:off x="2990880" y="2516040"/>
            <a:ext cx="3308400" cy="1594080"/>
          </a:xfrm>
          <a:custGeom>
            <a:avLst/>
            <a:gdLst/>
            <a:ahLst/>
            <a:rect l="l" t="t" r="r" b="b"/>
            <a:pathLst>
              <a:path w="3309057" h="1593410">
                <a:moveTo>
                  <a:pt x="313765" y="552262"/>
                </a:moveTo>
                <a:cubicBezTo>
                  <a:pt x="295658" y="555280"/>
                  <a:pt x="276859" y="555510"/>
                  <a:pt x="259444" y="561315"/>
                </a:cubicBezTo>
                <a:cubicBezTo>
                  <a:pt x="249122" y="564756"/>
                  <a:pt x="240335" y="572103"/>
                  <a:pt x="232284" y="579422"/>
                </a:cubicBezTo>
                <a:cubicBezTo>
                  <a:pt x="207020" y="602389"/>
                  <a:pt x="183999" y="627707"/>
                  <a:pt x="159856" y="651850"/>
                </a:cubicBezTo>
                <a:cubicBezTo>
                  <a:pt x="152162" y="659544"/>
                  <a:pt x="148830" y="670749"/>
                  <a:pt x="141749" y="679010"/>
                </a:cubicBezTo>
                <a:cubicBezTo>
                  <a:pt x="130639" y="691972"/>
                  <a:pt x="115778" y="701567"/>
                  <a:pt x="105535" y="715224"/>
                </a:cubicBezTo>
                <a:cubicBezTo>
                  <a:pt x="97437" y="726021"/>
                  <a:pt x="94124" y="739720"/>
                  <a:pt x="87428" y="751438"/>
                </a:cubicBezTo>
                <a:cubicBezTo>
                  <a:pt x="82030" y="760885"/>
                  <a:pt x="75357" y="769545"/>
                  <a:pt x="69321" y="778598"/>
                </a:cubicBezTo>
                <a:cubicBezTo>
                  <a:pt x="66303" y="787652"/>
                  <a:pt x="64536" y="797223"/>
                  <a:pt x="60268" y="805759"/>
                </a:cubicBezTo>
                <a:cubicBezTo>
                  <a:pt x="55402" y="815491"/>
                  <a:pt x="45879" y="822693"/>
                  <a:pt x="42161" y="832919"/>
                </a:cubicBezTo>
                <a:cubicBezTo>
                  <a:pt x="33656" y="856306"/>
                  <a:pt x="24054" y="905347"/>
                  <a:pt x="24054" y="905347"/>
                </a:cubicBezTo>
                <a:cubicBezTo>
                  <a:pt x="21036" y="989846"/>
                  <a:pt x="20115" y="1074446"/>
                  <a:pt x="15000" y="1158844"/>
                </a:cubicBezTo>
                <a:cubicBezTo>
                  <a:pt x="10569" y="1231952"/>
                  <a:pt x="-16417" y="1192541"/>
                  <a:pt x="15000" y="1294646"/>
                </a:cubicBezTo>
                <a:cubicBezTo>
                  <a:pt x="23068" y="1320868"/>
                  <a:pt x="78595" y="1339274"/>
                  <a:pt x="96482" y="1339913"/>
                </a:cubicBezTo>
                <a:lnTo>
                  <a:pt x="349979" y="1348967"/>
                </a:lnTo>
                <a:cubicBezTo>
                  <a:pt x="416139" y="1393074"/>
                  <a:pt x="332961" y="1339244"/>
                  <a:pt x="413353" y="1385181"/>
                </a:cubicBezTo>
                <a:cubicBezTo>
                  <a:pt x="422800" y="1390579"/>
                  <a:pt x="431066" y="1397889"/>
                  <a:pt x="440513" y="1403287"/>
                </a:cubicBezTo>
                <a:cubicBezTo>
                  <a:pt x="452231" y="1409983"/>
                  <a:pt x="465497" y="1413908"/>
                  <a:pt x="476727" y="1421394"/>
                </a:cubicBezTo>
                <a:cubicBezTo>
                  <a:pt x="531709" y="1458048"/>
                  <a:pt x="505287" y="1454546"/>
                  <a:pt x="558208" y="1475715"/>
                </a:cubicBezTo>
                <a:cubicBezTo>
                  <a:pt x="575929" y="1482804"/>
                  <a:pt x="595043" y="1486172"/>
                  <a:pt x="612529" y="1493822"/>
                </a:cubicBezTo>
                <a:cubicBezTo>
                  <a:pt x="678868" y="1522845"/>
                  <a:pt x="690392" y="1537883"/>
                  <a:pt x="748331" y="1557196"/>
                </a:cubicBezTo>
                <a:cubicBezTo>
                  <a:pt x="779881" y="1567713"/>
                  <a:pt x="805424" y="1568615"/>
                  <a:pt x="838866" y="1575303"/>
                </a:cubicBezTo>
                <a:cubicBezTo>
                  <a:pt x="938570" y="1595244"/>
                  <a:pt x="784741" y="1573065"/>
                  <a:pt x="947507" y="1593410"/>
                </a:cubicBezTo>
                <a:lnTo>
                  <a:pt x="1056149" y="1584357"/>
                </a:lnTo>
                <a:cubicBezTo>
                  <a:pt x="1105421" y="1579664"/>
                  <a:pt x="1160720" y="1572417"/>
                  <a:pt x="1210058" y="1566250"/>
                </a:cubicBezTo>
                <a:cubicBezTo>
                  <a:pt x="1254239" y="1551523"/>
                  <a:pt x="1283599" y="1547030"/>
                  <a:pt x="1318700" y="1511929"/>
                </a:cubicBezTo>
                <a:cubicBezTo>
                  <a:pt x="1327753" y="1502876"/>
                  <a:pt x="1337664" y="1494605"/>
                  <a:pt x="1345860" y="1484769"/>
                </a:cubicBezTo>
                <a:cubicBezTo>
                  <a:pt x="1361188" y="1466375"/>
                  <a:pt x="1363728" y="1445824"/>
                  <a:pt x="1391127" y="1439501"/>
                </a:cubicBezTo>
                <a:cubicBezTo>
                  <a:pt x="1420679" y="1432681"/>
                  <a:pt x="1451484" y="1433466"/>
                  <a:pt x="1481662" y="1430448"/>
                </a:cubicBezTo>
                <a:cubicBezTo>
                  <a:pt x="1490715" y="1427430"/>
                  <a:pt x="1499506" y="1423464"/>
                  <a:pt x="1508822" y="1421394"/>
                </a:cubicBezTo>
                <a:cubicBezTo>
                  <a:pt x="1593073" y="1402671"/>
                  <a:pt x="1602945" y="1414682"/>
                  <a:pt x="1717052" y="1421394"/>
                </a:cubicBezTo>
                <a:cubicBezTo>
                  <a:pt x="1825945" y="1448619"/>
                  <a:pt x="1762903" y="1436444"/>
                  <a:pt x="1988656" y="1421394"/>
                </a:cubicBezTo>
                <a:cubicBezTo>
                  <a:pt x="2007303" y="1420151"/>
                  <a:pt x="2056853" y="1401614"/>
                  <a:pt x="2070137" y="1394234"/>
                </a:cubicBezTo>
                <a:cubicBezTo>
                  <a:pt x="2083327" y="1386906"/>
                  <a:pt x="2094280" y="1376127"/>
                  <a:pt x="2106351" y="1367074"/>
                </a:cubicBezTo>
                <a:cubicBezTo>
                  <a:pt x="2112387" y="1355003"/>
                  <a:pt x="2116027" y="1341399"/>
                  <a:pt x="2124458" y="1330860"/>
                </a:cubicBezTo>
                <a:cubicBezTo>
                  <a:pt x="2147615" y="1301914"/>
                  <a:pt x="2173984" y="1276692"/>
                  <a:pt x="2205939" y="1258432"/>
                </a:cubicBezTo>
                <a:cubicBezTo>
                  <a:pt x="2217657" y="1251736"/>
                  <a:pt x="2229349" y="1244593"/>
                  <a:pt x="2242153" y="1240325"/>
                </a:cubicBezTo>
                <a:cubicBezTo>
                  <a:pt x="2256751" y="1235459"/>
                  <a:pt x="2272331" y="1234290"/>
                  <a:pt x="2287420" y="1231272"/>
                </a:cubicBezTo>
                <a:cubicBezTo>
                  <a:pt x="2311563" y="1234290"/>
                  <a:pt x="2335910" y="1235973"/>
                  <a:pt x="2359848" y="1240325"/>
                </a:cubicBezTo>
                <a:cubicBezTo>
                  <a:pt x="2369237" y="1242032"/>
                  <a:pt x="2377832" y="1246757"/>
                  <a:pt x="2387008" y="1249379"/>
                </a:cubicBezTo>
                <a:cubicBezTo>
                  <a:pt x="2483122" y="1276840"/>
                  <a:pt x="2354026" y="1234915"/>
                  <a:pt x="2468490" y="1276539"/>
                </a:cubicBezTo>
                <a:cubicBezTo>
                  <a:pt x="2524649" y="1296960"/>
                  <a:pt x="2514382" y="1292960"/>
                  <a:pt x="2568078" y="1303699"/>
                </a:cubicBezTo>
                <a:cubicBezTo>
                  <a:pt x="2613345" y="1300681"/>
                  <a:pt x="2659067" y="1301722"/>
                  <a:pt x="2703880" y="1294646"/>
                </a:cubicBezTo>
                <a:cubicBezTo>
                  <a:pt x="2717211" y="1292541"/>
                  <a:pt x="2729555" y="1284970"/>
                  <a:pt x="2740094" y="1276539"/>
                </a:cubicBezTo>
                <a:cubicBezTo>
                  <a:pt x="2784388" y="1241104"/>
                  <a:pt x="2787739" y="1232230"/>
                  <a:pt x="2812521" y="1195058"/>
                </a:cubicBezTo>
                <a:cubicBezTo>
                  <a:pt x="2814651" y="1186538"/>
                  <a:pt x="2824726" y="1142308"/>
                  <a:pt x="2830628" y="1131684"/>
                </a:cubicBezTo>
                <a:cubicBezTo>
                  <a:pt x="2849450" y="1097804"/>
                  <a:pt x="2872526" y="1065573"/>
                  <a:pt x="2903056" y="1041149"/>
                </a:cubicBezTo>
                <a:cubicBezTo>
                  <a:pt x="2920049" y="1027554"/>
                  <a:pt x="2939270" y="1017006"/>
                  <a:pt x="2957377" y="1004935"/>
                </a:cubicBezTo>
                <a:lnTo>
                  <a:pt x="2984537" y="986828"/>
                </a:lnTo>
                <a:cubicBezTo>
                  <a:pt x="3021848" y="930862"/>
                  <a:pt x="2980422" y="985456"/>
                  <a:pt x="3029804" y="941561"/>
                </a:cubicBezTo>
                <a:cubicBezTo>
                  <a:pt x="3048943" y="924548"/>
                  <a:pt x="3066018" y="905347"/>
                  <a:pt x="3084125" y="887240"/>
                </a:cubicBezTo>
                <a:cubicBezTo>
                  <a:pt x="3093179" y="878187"/>
                  <a:pt x="3103288" y="870078"/>
                  <a:pt x="3111286" y="860080"/>
                </a:cubicBezTo>
                <a:cubicBezTo>
                  <a:pt x="3135428" y="829902"/>
                  <a:pt x="3162276" y="801701"/>
                  <a:pt x="3183713" y="769545"/>
                </a:cubicBezTo>
                <a:cubicBezTo>
                  <a:pt x="3195784" y="751438"/>
                  <a:pt x="3213045" y="735869"/>
                  <a:pt x="3219927" y="715224"/>
                </a:cubicBezTo>
                <a:cubicBezTo>
                  <a:pt x="3232422" y="677741"/>
                  <a:pt x="3223687" y="696004"/>
                  <a:pt x="3247088" y="660903"/>
                </a:cubicBezTo>
                <a:cubicBezTo>
                  <a:pt x="3250497" y="616580"/>
                  <a:pt x="3255904" y="521883"/>
                  <a:pt x="3265195" y="470781"/>
                </a:cubicBezTo>
                <a:cubicBezTo>
                  <a:pt x="3266902" y="461392"/>
                  <a:pt x="3271230" y="452674"/>
                  <a:pt x="3274248" y="443620"/>
                </a:cubicBezTo>
                <a:cubicBezTo>
                  <a:pt x="3277266" y="422495"/>
                  <a:pt x="3279116" y="401171"/>
                  <a:pt x="3283301" y="380246"/>
                </a:cubicBezTo>
                <a:cubicBezTo>
                  <a:pt x="3298316" y="305172"/>
                  <a:pt x="3332859" y="385783"/>
                  <a:pt x="3283301" y="217284"/>
                </a:cubicBezTo>
                <a:cubicBezTo>
                  <a:pt x="3279493" y="204337"/>
                  <a:pt x="3260108" y="202728"/>
                  <a:pt x="3247088" y="199177"/>
                </a:cubicBezTo>
                <a:cubicBezTo>
                  <a:pt x="3226500" y="193562"/>
                  <a:pt x="3204888" y="192770"/>
                  <a:pt x="3183713" y="190123"/>
                </a:cubicBezTo>
                <a:lnTo>
                  <a:pt x="2957377" y="162963"/>
                </a:lnTo>
                <a:cubicBezTo>
                  <a:pt x="2933223" y="160035"/>
                  <a:pt x="2909232" y="155427"/>
                  <a:pt x="2884949" y="153909"/>
                </a:cubicBezTo>
                <a:lnTo>
                  <a:pt x="2613345" y="135802"/>
                </a:lnTo>
                <a:cubicBezTo>
                  <a:pt x="2364214" y="110888"/>
                  <a:pt x="2553105" y="126400"/>
                  <a:pt x="2405115" y="108642"/>
                </a:cubicBezTo>
                <a:lnTo>
                  <a:pt x="2242153" y="90535"/>
                </a:lnTo>
                <a:cubicBezTo>
                  <a:pt x="2214993" y="84499"/>
                  <a:pt x="2188116" y="77002"/>
                  <a:pt x="2160672" y="72428"/>
                </a:cubicBezTo>
                <a:cubicBezTo>
                  <a:pt x="2133716" y="67935"/>
                  <a:pt x="2105868" y="69303"/>
                  <a:pt x="2079191" y="63375"/>
                </a:cubicBezTo>
                <a:cubicBezTo>
                  <a:pt x="2051243" y="57164"/>
                  <a:pt x="2025578" y="42771"/>
                  <a:pt x="1997709" y="36214"/>
                </a:cubicBezTo>
                <a:cubicBezTo>
                  <a:pt x="1974026" y="30641"/>
                  <a:pt x="1949399" y="30377"/>
                  <a:pt x="1925282" y="27161"/>
                </a:cubicBezTo>
                <a:cubicBezTo>
                  <a:pt x="1891453" y="22650"/>
                  <a:pt x="1821934" y="11650"/>
                  <a:pt x="1789480" y="9054"/>
                </a:cubicBezTo>
                <a:cubicBezTo>
                  <a:pt x="1738252" y="4956"/>
                  <a:pt x="1686874" y="3018"/>
                  <a:pt x="1635571" y="0"/>
                </a:cubicBezTo>
                <a:cubicBezTo>
                  <a:pt x="1436395" y="3018"/>
                  <a:pt x="1237068" y="761"/>
                  <a:pt x="1038042" y="9054"/>
                </a:cubicBezTo>
                <a:cubicBezTo>
                  <a:pt x="1018972" y="9849"/>
                  <a:pt x="1002548" y="24023"/>
                  <a:pt x="983721" y="27161"/>
                </a:cubicBezTo>
                <a:lnTo>
                  <a:pt x="929400" y="36214"/>
                </a:lnTo>
                <a:cubicBezTo>
                  <a:pt x="917329" y="42250"/>
                  <a:pt x="905592" y="49005"/>
                  <a:pt x="893187" y="54321"/>
                </a:cubicBezTo>
                <a:cubicBezTo>
                  <a:pt x="884415" y="58080"/>
                  <a:pt x="874962" y="60024"/>
                  <a:pt x="866026" y="63375"/>
                </a:cubicBezTo>
                <a:cubicBezTo>
                  <a:pt x="850809" y="69081"/>
                  <a:pt x="835610" y="74882"/>
                  <a:pt x="820759" y="81482"/>
                </a:cubicBezTo>
                <a:cubicBezTo>
                  <a:pt x="808426" y="86963"/>
                  <a:pt x="796263" y="92892"/>
                  <a:pt x="784545" y="99588"/>
                </a:cubicBezTo>
                <a:cubicBezTo>
                  <a:pt x="775098" y="104986"/>
                  <a:pt x="767117" y="112829"/>
                  <a:pt x="757385" y="117695"/>
                </a:cubicBezTo>
                <a:cubicBezTo>
                  <a:pt x="748849" y="121963"/>
                  <a:pt x="738760" y="122481"/>
                  <a:pt x="730224" y="126749"/>
                </a:cubicBezTo>
                <a:cubicBezTo>
                  <a:pt x="720492" y="131615"/>
                  <a:pt x="712796" y="139990"/>
                  <a:pt x="703064" y="144856"/>
                </a:cubicBezTo>
                <a:cubicBezTo>
                  <a:pt x="694528" y="149124"/>
                  <a:pt x="684439" y="149641"/>
                  <a:pt x="675903" y="153909"/>
                </a:cubicBezTo>
                <a:cubicBezTo>
                  <a:pt x="660164" y="161779"/>
                  <a:pt x="644955" y="170842"/>
                  <a:pt x="630636" y="181070"/>
                </a:cubicBezTo>
                <a:cubicBezTo>
                  <a:pt x="602637" y="201070"/>
                  <a:pt x="581798" y="233563"/>
                  <a:pt x="549155" y="244444"/>
                </a:cubicBezTo>
                <a:lnTo>
                  <a:pt x="521995" y="253497"/>
                </a:lnTo>
                <a:lnTo>
                  <a:pt x="440513" y="307818"/>
                </a:lnTo>
                <a:cubicBezTo>
                  <a:pt x="431460" y="313854"/>
                  <a:pt x="421047" y="318231"/>
                  <a:pt x="413353" y="325925"/>
                </a:cubicBezTo>
                <a:cubicBezTo>
                  <a:pt x="401282" y="337996"/>
                  <a:pt x="390470" y="351475"/>
                  <a:pt x="377139" y="362139"/>
                </a:cubicBezTo>
                <a:cubicBezTo>
                  <a:pt x="360146" y="375734"/>
                  <a:pt x="322818" y="398353"/>
                  <a:pt x="322818" y="398353"/>
                </a:cubicBezTo>
                <a:cubicBezTo>
                  <a:pt x="289621" y="448148"/>
                  <a:pt x="322819" y="405896"/>
                  <a:pt x="277551" y="443620"/>
                </a:cubicBezTo>
                <a:cubicBezTo>
                  <a:pt x="232341" y="481296"/>
                  <a:pt x="270962" y="463924"/>
                  <a:pt x="223230" y="479834"/>
                </a:cubicBezTo>
                <a:cubicBezTo>
                  <a:pt x="204683" y="516927"/>
                  <a:pt x="206168" y="519357"/>
                  <a:pt x="177963" y="552262"/>
                </a:cubicBezTo>
                <a:cubicBezTo>
                  <a:pt x="169631" y="561983"/>
                  <a:pt x="153681" y="566946"/>
                  <a:pt x="150802" y="579422"/>
                </a:cubicBezTo>
                <a:cubicBezTo>
                  <a:pt x="144016" y="608827"/>
                  <a:pt x="150802" y="639779"/>
                  <a:pt x="150802" y="669957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Freeform 7"/>
          <p:cNvSpPr/>
          <p:nvPr/>
        </p:nvSpPr>
        <p:spPr>
          <a:xfrm>
            <a:off x="2978280" y="2706840"/>
            <a:ext cx="4303440" cy="1955520"/>
          </a:xfrm>
          <a:custGeom>
            <a:avLst/>
            <a:gdLst/>
            <a:ahLst/>
            <a:rect l="l" t="t" r="r" b="b"/>
            <a:pathLst>
              <a:path w="4303460" h="1955549">
                <a:moveTo>
                  <a:pt x="0" y="1222218"/>
                </a:moveTo>
                <a:cubicBezTo>
                  <a:pt x="6036" y="1237307"/>
                  <a:pt x="7703" y="1255000"/>
                  <a:pt x="18107" y="1267485"/>
                </a:cubicBezTo>
                <a:cubicBezTo>
                  <a:pt x="24216" y="1274816"/>
                  <a:pt x="36731" y="1272271"/>
                  <a:pt x="45267" y="1276539"/>
                </a:cubicBezTo>
                <a:cubicBezTo>
                  <a:pt x="118774" y="1313293"/>
                  <a:pt x="20713" y="1278576"/>
                  <a:pt x="108642" y="1303699"/>
                </a:cubicBezTo>
                <a:cubicBezTo>
                  <a:pt x="117818" y="1306321"/>
                  <a:pt x="126626" y="1310131"/>
                  <a:pt x="135802" y="1312753"/>
                </a:cubicBezTo>
                <a:cubicBezTo>
                  <a:pt x="147766" y="1316171"/>
                  <a:pt x="160098" y="1318231"/>
                  <a:pt x="172016" y="1321806"/>
                </a:cubicBezTo>
                <a:cubicBezTo>
                  <a:pt x="190298" y="1327290"/>
                  <a:pt x="207345" y="1338014"/>
                  <a:pt x="226337" y="1339913"/>
                </a:cubicBezTo>
                <a:lnTo>
                  <a:pt x="316871" y="1348966"/>
                </a:lnTo>
                <a:cubicBezTo>
                  <a:pt x="322907" y="1358020"/>
                  <a:pt x="330692" y="1366126"/>
                  <a:pt x="334978" y="1376127"/>
                </a:cubicBezTo>
                <a:cubicBezTo>
                  <a:pt x="356296" y="1425868"/>
                  <a:pt x="328713" y="1399390"/>
                  <a:pt x="362139" y="1439501"/>
                </a:cubicBezTo>
                <a:cubicBezTo>
                  <a:pt x="376445" y="1456668"/>
                  <a:pt x="396108" y="1474592"/>
                  <a:pt x="416460" y="1484768"/>
                </a:cubicBezTo>
                <a:cubicBezTo>
                  <a:pt x="424996" y="1489036"/>
                  <a:pt x="435084" y="1489554"/>
                  <a:pt x="443620" y="1493822"/>
                </a:cubicBezTo>
                <a:cubicBezTo>
                  <a:pt x="453352" y="1498688"/>
                  <a:pt x="460592" y="1508109"/>
                  <a:pt x="470780" y="1511929"/>
                </a:cubicBezTo>
                <a:cubicBezTo>
                  <a:pt x="485188" y="1517332"/>
                  <a:pt x="501026" y="1517644"/>
                  <a:pt x="516048" y="1520982"/>
                </a:cubicBezTo>
                <a:cubicBezTo>
                  <a:pt x="594464" y="1538408"/>
                  <a:pt x="505432" y="1524833"/>
                  <a:pt x="633743" y="1539089"/>
                </a:cubicBezTo>
                <a:cubicBezTo>
                  <a:pt x="642796" y="1545125"/>
                  <a:pt x="653738" y="1549007"/>
                  <a:pt x="660903" y="1557196"/>
                </a:cubicBezTo>
                <a:cubicBezTo>
                  <a:pt x="675233" y="1573574"/>
                  <a:pt x="679010" y="1599446"/>
                  <a:pt x="697117" y="1611517"/>
                </a:cubicBezTo>
                <a:cubicBezTo>
                  <a:pt x="724393" y="1629701"/>
                  <a:pt x="728330" y="1633948"/>
                  <a:pt x="760491" y="1647731"/>
                </a:cubicBezTo>
                <a:cubicBezTo>
                  <a:pt x="769263" y="1651490"/>
                  <a:pt x="778598" y="1653766"/>
                  <a:pt x="787652" y="1656784"/>
                </a:cubicBezTo>
                <a:cubicBezTo>
                  <a:pt x="796705" y="1662820"/>
                  <a:pt x="805080" y="1670025"/>
                  <a:pt x="814812" y="1674891"/>
                </a:cubicBezTo>
                <a:cubicBezTo>
                  <a:pt x="841374" y="1688172"/>
                  <a:pt x="867480" y="1696289"/>
                  <a:pt x="896293" y="1702052"/>
                </a:cubicBezTo>
                <a:cubicBezTo>
                  <a:pt x="914293" y="1705652"/>
                  <a:pt x="932553" y="1707821"/>
                  <a:pt x="950614" y="1711105"/>
                </a:cubicBezTo>
                <a:cubicBezTo>
                  <a:pt x="965754" y="1713858"/>
                  <a:pt x="980587" y="1718460"/>
                  <a:pt x="995881" y="1720159"/>
                </a:cubicBezTo>
                <a:cubicBezTo>
                  <a:pt x="1079390" y="1729438"/>
                  <a:pt x="1231399" y="1734822"/>
                  <a:pt x="1303699" y="1738265"/>
                </a:cubicBezTo>
                <a:cubicBezTo>
                  <a:pt x="1386775" y="1765958"/>
                  <a:pt x="1257452" y="1719668"/>
                  <a:pt x="1367073" y="1774479"/>
                </a:cubicBezTo>
                <a:cubicBezTo>
                  <a:pt x="1378202" y="1780044"/>
                  <a:pt x="1391216" y="1780515"/>
                  <a:pt x="1403287" y="1783533"/>
                </a:cubicBezTo>
                <a:cubicBezTo>
                  <a:pt x="1428252" y="1808498"/>
                  <a:pt x="1428199" y="1811995"/>
                  <a:pt x="1457608" y="1828800"/>
                </a:cubicBezTo>
                <a:cubicBezTo>
                  <a:pt x="1469326" y="1835496"/>
                  <a:pt x="1482377" y="1839754"/>
                  <a:pt x="1493822" y="1846907"/>
                </a:cubicBezTo>
                <a:cubicBezTo>
                  <a:pt x="1545628" y="1879285"/>
                  <a:pt x="1512515" y="1866642"/>
                  <a:pt x="1557196" y="1892174"/>
                </a:cubicBezTo>
                <a:cubicBezTo>
                  <a:pt x="1568914" y="1898870"/>
                  <a:pt x="1581692" y="1903585"/>
                  <a:pt x="1593410" y="1910281"/>
                </a:cubicBezTo>
                <a:cubicBezTo>
                  <a:pt x="1602857" y="1915679"/>
                  <a:pt x="1610838" y="1923522"/>
                  <a:pt x="1620570" y="1928388"/>
                </a:cubicBezTo>
                <a:cubicBezTo>
                  <a:pt x="1629106" y="1932656"/>
                  <a:pt x="1638524" y="1934931"/>
                  <a:pt x="1647731" y="1937442"/>
                </a:cubicBezTo>
                <a:cubicBezTo>
                  <a:pt x="1671740" y="1943990"/>
                  <a:pt x="1720159" y="1955549"/>
                  <a:pt x="1720159" y="1955549"/>
                </a:cubicBezTo>
                <a:cubicBezTo>
                  <a:pt x="1777497" y="1952531"/>
                  <a:pt x="1834992" y="1951693"/>
                  <a:pt x="1892174" y="1946495"/>
                </a:cubicBezTo>
                <a:cubicBezTo>
                  <a:pt x="1901678" y="1945631"/>
                  <a:pt x="1910799" y="1941710"/>
                  <a:pt x="1919335" y="1937442"/>
                </a:cubicBezTo>
                <a:cubicBezTo>
                  <a:pt x="1929067" y="1932576"/>
                  <a:pt x="1936943" y="1924545"/>
                  <a:pt x="1946495" y="1919335"/>
                </a:cubicBezTo>
                <a:cubicBezTo>
                  <a:pt x="1970191" y="1906410"/>
                  <a:pt x="1993316" y="1891657"/>
                  <a:pt x="2018923" y="1883121"/>
                </a:cubicBezTo>
                <a:cubicBezTo>
                  <a:pt x="2027976" y="1880103"/>
                  <a:pt x="2037547" y="1878335"/>
                  <a:pt x="2046083" y="1874067"/>
                </a:cubicBezTo>
                <a:cubicBezTo>
                  <a:pt x="2055815" y="1869201"/>
                  <a:pt x="2063056" y="1859781"/>
                  <a:pt x="2073244" y="1855961"/>
                </a:cubicBezTo>
                <a:cubicBezTo>
                  <a:pt x="2087652" y="1850558"/>
                  <a:pt x="2103583" y="1850639"/>
                  <a:pt x="2118511" y="1846907"/>
                </a:cubicBezTo>
                <a:cubicBezTo>
                  <a:pt x="2127769" y="1844592"/>
                  <a:pt x="2136495" y="1840476"/>
                  <a:pt x="2145671" y="1837854"/>
                </a:cubicBezTo>
                <a:cubicBezTo>
                  <a:pt x="2157635" y="1834436"/>
                  <a:pt x="2169967" y="1832375"/>
                  <a:pt x="2181885" y="1828800"/>
                </a:cubicBezTo>
                <a:cubicBezTo>
                  <a:pt x="2200166" y="1823315"/>
                  <a:pt x="2218099" y="1816729"/>
                  <a:pt x="2236206" y="1810693"/>
                </a:cubicBezTo>
                <a:cubicBezTo>
                  <a:pt x="2245259" y="1807675"/>
                  <a:pt x="2253828" y="1801958"/>
                  <a:pt x="2263366" y="1801640"/>
                </a:cubicBezTo>
                <a:lnTo>
                  <a:pt x="2534970" y="1792586"/>
                </a:lnTo>
                <a:cubicBezTo>
                  <a:pt x="2577527" y="1778400"/>
                  <a:pt x="2620645" y="1765574"/>
                  <a:pt x="2661719" y="1747319"/>
                </a:cubicBezTo>
                <a:cubicBezTo>
                  <a:pt x="2674052" y="1741838"/>
                  <a:pt x="2685528" y="1734528"/>
                  <a:pt x="2697933" y="1729212"/>
                </a:cubicBezTo>
                <a:cubicBezTo>
                  <a:pt x="2712219" y="1723090"/>
                  <a:pt x="2748013" y="1713522"/>
                  <a:pt x="2761307" y="1711105"/>
                </a:cubicBezTo>
                <a:cubicBezTo>
                  <a:pt x="2817715" y="1700849"/>
                  <a:pt x="2888074" y="1695647"/>
                  <a:pt x="2942376" y="1692998"/>
                </a:cubicBezTo>
                <a:cubicBezTo>
                  <a:pt x="3026828" y="1688878"/>
                  <a:pt x="3111374" y="1686963"/>
                  <a:pt x="3195873" y="1683945"/>
                </a:cubicBezTo>
                <a:cubicBezTo>
                  <a:pt x="3213980" y="1677909"/>
                  <a:pt x="3236698" y="1679334"/>
                  <a:pt x="3250194" y="1665838"/>
                </a:cubicBezTo>
                <a:cubicBezTo>
                  <a:pt x="3268054" y="1647978"/>
                  <a:pt x="3308663" y="1603818"/>
                  <a:pt x="3331675" y="1602464"/>
                </a:cubicBezTo>
                <a:lnTo>
                  <a:pt x="3485584" y="1593410"/>
                </a:lnTo>
                <a:cubicBezTo>
                  <a:pt x="3490475" y="1592711"/>
                  <a:pt x="3593850" y="1578446"/>
                  <a:pt x="3603279" y="1575303"/>
                </a:cubicBezTo>
                <a:cubicBezTo>
                  <a:pt x="3613602" y="1571862"/>
                  <a:pt x="3620439" y="1561482"/>
                  <a:pt x="3630440" y="1557196"/>
                </a:cubicBezTo>
                <a:cubicBezTo>
                  <a:pt x="3641877" y="1552295"/>
                  <a:pt x="3654690" y="1551561"/>
                  <a:pt x="3666654" y="1548143"/>
                </a:cubicBezTo>
                <a:cubicBezTo>
                  <a:pt x="3675830" y="1545521"/>
                  <a:pt x="3685043" y="1542848"/>
                  <a:pt x="3693814" y="1539089"/>
                </a:cubicBezTo>
                <a:cubicBezTo>
                  <a:pt x="3706219" y="1533772"/>
                  <a:pt x="3717391" y="1525721"/>
                  <a:pt x="3730028" y="1520982"/>
                </a:cubicBezTo>
                <a:cubicBezTo>
                  <a:pt x="3741679" y="1516613"/>
                  <a:pt x="3754324" y="1515504"/>
                  <a:pt x="3766242" y="1511929"/>
                </a:cubicBezTo>
                <a:cubicBezTo>
                  <a:pt x="3784523" y="1506445"/>
                  <a:pt x="3802455" y="1499858"/>
                  <a:pt x="3820562" y="1493822"/>
                </a:cubicBezTo>
                <a:cubicBezTo>
                  <a:pt x="3829616" y="1490804"/>
                  <a:pt x="3838862" y="1488312"/>
                  <a:pt x="3847723" y="1484768"/>
                </a:cubicBezTo>
                <a:cubicBezTo>
                  <a:pt x="3862812" y="1478733"/>
                  <a:pt x="3877457" y="1471441"/>
                  <a:pt x="3892990" y="1466662"/>
                </a:cubicBezTo>
                <a:cubicBezTo>
                  <a:pt x="3916775" y="1459344"/>
                  <a:pt x="3941810" y="1456425"/>
                  <a:pt x="3965418" y="1448555"/>
                </a:cubicBezTo>
                <a:cubicBezTo>
                  <a:pt x="3974471" y="1445537"/>
                  <a:pt x="3984236" y="1444136"/>
                  <a:pt x="3992578" y="1439501"/>
                </a:cubicBezTo>
                <a:cubicBezTo>
                  <a:pt x="4011601" y="1428932"/>
                  <a:pt x="4028792" y="1415358"/>
                  <a:pt x="4046899" y="1403287"/>
                </a:cubicBezTo>
                <a:cubicBezTo>
                  <a:pt x="4055953" y="1397251"/>
                  <a:pt x="4066366" y="1392874"/>
                  <a:pt x="4074060" y="1385180"/>
                </a:cubicBezTo>
                <a:cubicBezTo>
                  <a:pt x="4144178" y="1315062"/>
                  <a:pt x="4049010" y="1412230"/>
                  <a:pt x="4137434" y="1312753"/>
                </a:cubicBezTo>
                <a:cubicBezTo>
                  <a:pt x="4148776" y="1299994"/>
                  <a:pt x="4161577" y="1288610"/>
                  <a:pt x="4173648" y="1276539"/>
                </a:cubicBezTo>
                <a:cubicBezTo>
                  <a:pt x="4195877" y="1187617"/>
                  <a:pt x="4163695" y="1296445"/>
                  <a:pt x="4209861" y="1204111"/>
                </a:cubicBezTo>
                <a:cubicBezTo>
                  <a:pt x="4218397" y="1187040"/>
                  <a:pt x="4221932" y="1167897"/>
                  <a:pt x="4227968" y="1149790"/>
                </a:cubicBezTo>
                <a:cubicBezTo>
                  <a:pt x="4244894" y="1099013"/>
                  <a:pt x="4234702" y="1131910"/>
                  <a:pt x="4255129" y="1050202"/>
                </a:cubicBezTo>
                <a:lnTo>
                  <a:pt x="4282289" y="941561"/>
                </a:lnTo>
                <a:lnTo>
                  <a:pt x="4291343" y="905347"/>
                </a:lnTo>
                <a:cubicBezTo>
                  <a:pt x="4305625" y="762520"/>
                  <a:pt x="4309272" y="767585"/>
                  <a:pt x="4291343" y="570368"/>
                </a:cubicBezTo>
                <a:cubicBezTo>
                  <a:pt x="4289615" y="551360"/>
                  <a:pt x="4283823" y="531929"/>
                  <a:pt x="4273236" y="516048"/>
                </a:cubicBezTo>
                <a:cubicBezTo>
                  <a:pt x="4248027" y="478234"/>
                  <a:pt x="4262823" y="496581"/>
                  <a:pt x="4227968" y="461727"/>
                </a:cubicBezTo>
                <a:cubicBezTo>
                  <a:pt x="4224950" y="452673"/>
                  <a:pt x="4224877" y="442018"/>
                  <a:pt x="4218915" y="434566"/>
                </a:cubicBezTo>
                <a:cubicBezTo>
                  <a:pt x="4212118" y="426070"/>
                  <a:pt x="4200460" y="422988"/>
                  <a:pt x="4191755" y="416460"/>
                </a:cubicBezTo>
                <a:cubicBezTo>
                  <a:pt x="4176296" y="404866"/>
                  <a:pt x="4162318" y="391327"/>
                  <a:pt x="4146487" y="380246"/>
                </a:cubicBezTo>
                <a:cubicBezTo>
                  <a:pt x="4132071" y="370155"/>
                  <a:pt x="4115297" y="363643"/>
                  <a:pt x="4101220" y="353085"/>
                </a:cubicBezTo>
                <a:cubicBezTo>
                  <a:pt x="4090977" y="345403"/>
                  <a:pt x="4084479" y="333367"/>
                  <a:pt x="4074060" y="325925"/>
                </a:cubicBezTo>
                <a:cubicBezTo>
                  <a:pt x="4063078" y="318081"/>
                  <a:pt x="4049564" y="314514"/>
                  <a:pt x="4037846" y="307818"/>
                </a:cubicBezTo>
                <a:cubicBezTo>
                  <a:pt x="4028399" y="302419"/>
                  <a:pt x="4020132" y="295110"/>
                  <a:pt x="4010685" y="289711"/>
                </a:cubicBezTo>
                <a:cubicBezTo>
                  <a:pt x="3998967" y="283015"/>
                  <a:pt x="3985916" y="278757"/>
                  <a:pt x="3974471" y="271604"/>
                </a:cubicBezTo>
                <a:cubicBezTo>
                  <a:pt x="3961676" y="263607"/>
                  <a:pt x="3951053" y="252441"/>
                  <a:pt x="3938258" y="244444"/>
                </a:cubicBezTo>
                <a:cubicBezTo>
                  <a:pt x="3910827" y="227300"/>
                  <a:pt x="3886495" y="221438"/>
                  <a:pt x="3856776" y="208230"/>
                </a:cubicBezTo>
                <a:cubicBezTo>
                  <a:pt x="3844443" y="202749"/>
                  <a:pt x="3832967" y="195440"/>
                  <a:pt x="3820562" y="190123"/>
                </a:cubicBezTo>
                <a:cubicBezTo>
                  <a:pt x="3811791" y="186364"/>
                  <a:pt x="3802174" y="184828"/>
                  <a:pt x="3793402" y="181069"/>
                </a:cubicBezTo>
                <a:cubicBezTo>
                  <a:pt x="3738198" y="157411"/>
                  <a:pt x="3775082" y="165910"/>
                  <a:pt x="3711921" y="144856"/>
                </a:cubicBezTo>
                <a:cubicBezTo>
                  <a:pt x="3700117" y="140921"/>
                  <a:pt x="3687511" y="139737"/>
                  <a:pt x="3675707" y="135802"/>
                </a:cubicBezTo>
                <a:cubicBezTo>
                  <a:pt x="3660290" y="130663"/>
                  <a:pt x="3646006" y="122365"/>
                  <a:pt x="3630440" y="117695"/>
                </a:cubicBezTo>
                <a:cubicBezTo>
                  <a:pt x="3614633" y="112953"/>
                  <a:pt x="3543735" y="101735"/>
                  <a:pt x="3530852" y="99588"/>
                </a:cubicBezTo>
                <a:cubicBezTo>
                  <a:pt x="3515763" y="93552"/>
                  <a:pt x="3501263" y="85757"/>
                  <a:pt x="3485584" y="81481"/>
                </a:cubicBezTo>
                <a:cubicBezTo>
                  <a:pt x="3467874" y="76651"/>
                  <a:pt x="3449324" y="75712"/>
                  <a:pt x="3431263" y="72428"/>
                </a:cubicBezTo>
                <a:cubicBezTo>
                  <a:pt x="3372830" y="61804"/>
                  <a:pt x="3384359" y="60220"/>
                  <a:pt x="3313568" y="54321"/>
                </a:cubicBezTo>
                <a:cubicBezTo>
                  <a:pt x="3229146" y="47286"/>
                  <a:pt x="3060071" y="36214"/>
                  <a:pt x="3060071" y="36214"/>
                </a:cubicBezTo>
                <a:cubicBezTo>
                  <a:pt x="3038946" y="30178"/>
                  <a:pt x="3018497" y="20832"/>
                  <a:pt x="2996697" y="18107"/>
                </a:cubicBezTo>
                <a:cubicBezTo>
                  <a:pt x="2945702" y="11733"/>
                  <a:pt x="2894080" y="12260"/>
                  <a:pt x="2842788" y="9054"/>
                </a:cubicBezTo>
                <a:lnTo>
                  <a:pt x="2706986" y="0"/>
                </a:lnTo>
                <a:lnTo>
                  <a:pt x="2091351" y="9054"/>
                </a:lnTo>
                <a:cubicBezTo>
                  <a:pt x="2078913" y="9400"/>
                  <a:pt x="2067411" y="16061"/>
                  <a:pt x="2055137" y="18107"/>
                </a:cubicBezTo>
                <a:cubicBezTo>
                  <a:pt x="2031137" y="22107"/>
                  <a:pt x="2006757" y="23461"/>
                  <a:pt x="1982709" y="27161"/>
                </a:cubicBezTo>
                <a:cubicBezTo>
                  <a:pt x="1843431" y="48588"/>
                  <a:pt x="2079430" y="22016"/>
                  <a:pt x="1846907" y="45267"/>
                </a:cubicBezTo>
                <a:cubicBezTo>
                  <a:pt x="1793215" y="56006"/>
                  <a:pt x="1803474" y="52008"/>
                  <a:pt x="1747319" y="72428"/>
                </a:cubicBezTo>
                <a:cubicBezTo>
                  <a:pt x="1732046" y="77982"/>
                  <a:pt x="1717731" y="86259"/>
                  <a:pt x="1702052" y="90535"/>
                </a:cubicBezTo>
                <a:cubicBezTo>
                  <a:pt x="1684342" y="95365"/>
                  <a:pt x="1665838" y="96570"/>
                  <a:pt x="1647731" y="99588"/>
                </a:cubicBezTo>
                <a:cubicBezTo>
                  <a:pt x="1604993" y="120957"/>
                  <a:pt x="1609404" y="120885"/>
                  <a:pt x="1557196" y="135802"/>
                </a:cubicBezTo>
                <a:cubicBezTo>
                  <a:pt x="1533268" y="142639"/>
                  <a:pt x="1508911" y="147873"/>
                  <a:pt x="1484768" y="153909"/>
                </a:cubicBezTo>
                <a:cubicBezTo>
                  <a:pt x="1472697" y="156927"/>
                  <a:pt x="1459684" y="157399"/>
                  <a:pt x="1448555" y="162963"/>
                </a:cubicBezTo>
                <a:cubicBezTo>
                  <a:pt x="1436484" y="168998"/>
                  <a:pt x="1425144" y="176801"/>
                  <a:pt x="1412341" y="181069"/>
                </a:cubicBezTo>
                <a:cubicBezTo>
                  <a:pt x="1391545" y="188001"/>
                  <a:pt x="1340171" y="196479"/>
                  <a:pt x="1312753" y="208230"/>
                </a:cubicBezTo>
                <a:cubicBezTo>
                  <a:pt x="1300348" y="213547"/>
                  <a:pt x="1288944" y="221021"/>
                  <a:pt x="1276539" y="226337"/>
                </a:cubicBezTo>
                <a:cubicBezTo>
                  <a:pt x="1225751" y="248103"/>
                  <a:pt x="1273220" y="219179"/>
                  <a:pt x="1213164" y="253497"/>
                </a:cubicBezTo>
                <a:cubicBezTo>
                  <a:pt x="1203717" y="258895"/>
                  <a:pt x="1196005" y="267318"/>
                  <a:pt x="1186004" y="271604"/>
                </a:cubicBezTo>
                <a:cubicBezTo>
                  <a:pt x="1174567" y="276506"/>
                  <a:pt x="1161343" y="276037"/>
                  <a:pt x="1149790" y="280658"/>
                </a:cubicBezTo>
                <a:cubicBezTo>
                  <a:pt x="1130994" y="288176"/>
                  <a:pt x="1113968" y="299596"/>
                  <a:pt x="1095469" y="307818"/>
                </a:cubicBezTo>
                <a:cubicBezTo>
                  <a:pt x="1086748" y="311694"/>
                  <a:pt x="1077362" y="313853"/>
                  <a:pt x="1068309" y="316871"/>
                </a:cubicBezTo>
                <a:cubicBezTo>
                  <a:pt x="990474" y="368762"/>
                  <a:pt x="1088953" y="306549"/>
                  <a:pt x="1013988" y="344032"/>
                </a:cubicBezTo>
                <a:cubicBezTo>
                  <a:pt x="1004256" y="348898"/>
                  <a:pt x="996560" y="357273"/>
                  <a:pt x="986828" y="362139"/>
                </a:cubicBezTo>
                <a:cubicBezTo>
                  <a:pt x="978292" y="366407"/>
                  <a:pt x="968203" y="366924"/>
                  <a:pt x="959667" y="371192"/>
                </a:cubicBezTo>
                <a:cubicBezTo>
                  <a:pt x="943928" y="379062"/>
                  <a:pt x="930419" y="391071"/>
                  <a:pt x="914400" y="398353"/>
                </a:cubicBezTo>
                <a:cubicBezTo>
                  <a:pt x="887458" y="410599"/>
                  <a:pt x="853051" y="418217"/>
                  <a:pt x="823865" y="425513"/>
                </a:cubicBezTo>
                <a:cubicBezTo>
                  <a:pt x="793687" y="443620"/>
                  <a:pt x="761111" y="458227"/>
                  <a:pt x="733331" y="479834"/>
                </a:cubicBezTo>
                <a:cubicBezTo>
                  <a:pt x="706171" y="500959"/>
                  <a:pt x="683797" y="530429"/>
                  <a:pt x="651850" y="543208"/>
                </a:cubicBezTo>
                <a:cubicBezTo>
                  <a:pt x="619847" y="556009"/>
                  <a:pt x="604459" y="558558"/>
                  <a:pt x="579422" y="579422"/>
                </a:cubicBezTo>
                <a:cubicBezTo>
                  <a:pt x="569586" y="587619"/>
                  <a:pt x="562680" y="599140"/>
                  <a:pt x="552261" y="606582"/>
                </a:cubicBezTo>
                <a:cubicBezTo>
                  <a:pt x="468981" y="666068"/>
                  <a:pt x="564379" y="577872"/>
                  <a:pt x="479834" y="651850"/>
                </a:cubicBezTo>
                <a:cubicBezTo>
                  <a:pt x="426959" y="698116"/>
                  <a:pt x="465357" y="680819"/>
                  <a:pt x="416460" y="697117"/>
                </a:cubicBezTo>
                <a:cubicBezTo>
                  <a:pt x="404389" y="706170"/>
                  <a:pt x="392801" y="715907"/>
                  <a:pt x="380246" y="724277"/>
                </a:cubicBezTo>
                <a:cubicBezTo>
                  <a:pt x="365604" y="734038"/>
                  <a:pt x="349297" y="741210"/>
                  <a:pt x="334978" y="751438"/>
                </a:cubicBezTo>
                <a:cubicBezTo>
                  <a:pt x="306979" y="771437"/>
                  <a:pt x="284273" y="799424"/>
                  <a:pt x="253497" y="814812"/>
                </a:cubicBezTo>
                <a:cubicBezTo>
                  <a:pt x="234759" y="824181"/>
                  <a:pt x="206577" y="836400"/>
                  <a:pt x="190123" y="851026"/>
                </a:cubicBezTo>
                <a:cubicBezTo>
                  <a:pt x="139384" y="896128"/>
                  <a:pt x="145215" y="891227"/>
                  <a:pt x="117695" y="932507"/>
                </a:cubicBezTo>
                <a:cubicBezTo>
                  <a:pt x="114677" y="944578"/>
                  <a:pt x="112060" y="956757"/>
                  <a:pt x="108642" y="968721"/>
                </a:cubicBezTo>
                <a:cubicBezTo>
                  <a:pt x="106020" y="977897"/>
                  <a:pt x="100202" y="986358"/>
                  <a:pt x="99588" y="995881"/>
                </a:cubicBezTo>
                <a:cubicBezTo>
                  <a:pt x="94144" y="1080258"/>
                  <a:pt x="95979" y="1165001"/>
                  <a:pt x="90535" y="1249378"/>
                </a:cubicBezTo>
                <a:cubicBezTo>
                  <a:pt x="89921" y="1258902"/>
                  <a:pt x="83353" y="1267181"/>
                  <a:pt x="81481" y="1276539"/>
                </a:cubicBezTo>
                <a:cubicBezTo>
                  <a:pt x="80297" y="1282457"/>
                  <a:pt x="81481" y="1288610"/>
                  <a:pt x="81481" y="129464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ounded Rectangular Callout 11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3"/>
          <a:stretch/>
        </p:blipFill>
        <p:spPr>
          <a:xfrm>
            <a:off x="3305160" y="1496880"/>
            <a:ext cx="2052720" cy="306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4"/>
          <a:stretch/>
        </p:blipFill>
        <p:spPr>
          <a:xfrm>
            <a:off x="5292720" y="149688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3"/>
          <a:stretch/>
        </p:blipFill>
        <p:spPr>
          <a:xfrm>
            <a:off x="3305160" y="1496880"/>
            <a:ext cx="2052720" cy="306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4"/>
          <a:stretch/>
        </p:blipFill>
        <p:spPr>
          <a:xfrm>
            <a:off x="5292720" y="1496880"/>
            <a:ext cx="205092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3"/>
          <p:cNvSpPr/>
          <p:nvPr/>
        </p:nvSpPr>
        <p:spPr>
          <a:xfrm>
            <a:off x="3168720" y="1131840"/>
            <a:ext cx="2363760" cy="2163960"/>
          </a:xfrm>
          <a:custGeom>
            <a:avLst/>
            <a:gdLst/>
            <a:ahLst/>
            <a:rect l="l" t="t" r="r" b="b"/>
            <a:pathLst>
              <a:path w="2362954" h="2163778">
                <a:moveTo>
                  <a:pt x="443620" y="135802"/>
                </a:moveTo>
                <a:cubicBezTo>
                  <a:pt x="430040" y="162962"/>
                  <a:pt x="387357" y="204721"/>
                  <a:pt x="362138" y="226337"/>
                </a:cubicBezTo>
                <a:cubicBezTo>
                  <a:pt x="350682" y="236157"/>
                  <a:pt x="337381" y="243677"/>
                  <a:pt x="325925" y="253497"/>
                </a:cubicBezTo>
                <a:cubicBezTo>
                  <a:pt x="316204" y="261830"/>
                  <a:pt x="309007" y="272976"/>
                  <a:pt x="298764" y="280658"/>
                </a:cubicBezTo>
                <a:cubicBezTo>
                  <a:pt x="281078" y="293922"/>
                  <a:pt x="245314" y="310111"/>
                  <a:pt x="226337" y="325925"/>
                </a:cubicBezTo>
                <a:cubicBezTo>
                  <a:pt x="216501" y="334122"/>
                  <a:pt x="209012" y="344888"/>
                  <a:pt x="199176" y="353085"/>
                </a:cubicBezTo>
                <a:cubicBezTo>
                  <a:pt x="190817" y="360051"/>
                  <a:pt x="180721" y="364664"/>
                  <a:pt x="172016" y="371192"/>
                </a:cubicBezTo>
                <a:cubicBezTo>
                  <a:pt x="156557" y="382786"/>
                  <a:pt x="142207" y="395812"/>
                  <a:pt x="126748" y="407406"/>
                </a:cubicBezTo>
                <a:cubicBezTo>
                  <a:pt x="118043" y="413934"/>
                  <a:pt x="107676" y="418234"/>
                  <a:pt x="99588" y="425513"/>
                </a:cubicBezTo>
                <a:cubicBezTo>
                  <a:pt x="64882" y="456749"/>
                  <a:pt x="39541" y="478537"/>
                  <a:pt x="18107" y="516048"/>
                </a:cubicBezTo>
                <a:cubicBezTo>
                  <a:pt x="11411" y="527766"/>
                  <a:pt x="6036" y="540191"/>
                  <a:pt x="0" y="552262"/>
                </a:cubicBezTo>
                <a:cubicBezTo>
                  <a:pt x="3018" y="639779"/>
                  <a:pt x="879" y="727626"/>
                  <a:pt x="9053" y="814812"/>
                </a:cubicBezTo>
                <a:cubicBezTo>
                  <a:pt x="10069" y="825645"/>
                  <a:pt x="22874" y="831971"/>
                  <a:pt x="27160" y="841972"/>
                </a:cubicBezTo>
                <a:cubicBezTo>
                  <a:pt x="32062" y="853409"/>
                  <a:pt x="31312" y="866749"/>
                  <a:pt x="36214" y="878186"/>
                </a:cubicBezTo>
                <a:cubicBezTo>
                  <a:pt x="48115" y="905955"/>
                  <a:pt x="62286" y="909473"/>
                  <a:pt x="81481" y="932507"/>
                </a:cubicBezTo>
                <a:cubicBezTo>
                  <a:pt x="128634" y="989091"/>
                  <a:pt x="56584" y="930997"/>
                  <a:pt x="153909" y="995881"/>
                </a:cubicBezTo>
                <a:cubicBezTo>
                  <a:pt x="162962" y="1001917"/>
                  <a:pt x="170298" y="1012449"/>
                  <a:pt x="181069" y="1013988"/>
                </a:cubicBezTo>
                <a:cubicBezTo>
                  <a:pt x="232348" y="1021314"/>
                  <a:pt x="237976" y="1019900"/>
                  <a:pt x="280657" y="1032095"/>
                </a:cubicBezTo>
                <a:cubicBezTo>
                  <a:pt x="289833" y="1034717"/>
                  <a:pt x="299282" y="1036881"/>
                  <a:pt x="307818" y="1041149"/>
                </a:cubicBezTo>
                <a:cubicBezTo>
                  <a:pt x="317550" y="1046015"/>
                  <a:pt x="325925" y="1053220"/>
                  <a:pt x="334978" y="1059256"/>
                </a:cubicBezTo>
                <a:cubicBezTo>
                  <a:pt x="341014" y="1071327"/>
                  <a:pt x="348073" y="1082938"/>
                  <a:pt x="353085" y="1095469"/>
                </a:cubicBezTo>
                <a:cubicBezTo>
                  <a:pt x="378694" y="1159492"/>
                  <a:pt x="364237" y="1132644"/>
                  <a:pt x="380245" y="1186004"/>
                </a:cubicBezTo>
                <a:cubicBezTo>
                  <a:pt x="385729" y="1204286"/>
                  <a:pt x="394609" y="1221609"/>
                  <a:pt x="398352" y="1240325"/>
                </a:cubicBezTo>
                <a:cubicBezTo>
                  <a:pt x="401370" y="1255414"/>
                  <a:pt x="403357" y="1270746"/>
                  <a:pt x="407406" y="1285592"/>
                </a:cubicBezTo>
                <a:cubicBezTo>
                  <a:pt x="412428" y="1304006"/>
                  <a:pt x="419477" y="1321806"/>
                  <a:pt x="425513" y="1339913"/>
                </a:cubicBezTo>
                <a:lnTo>
                  <a:pt x="434566" y="1367073"/>
                </a:lnTo>
                <a:cubicBezTo>
                  <a:pt x="431548" y="1388198"/>
                  <a:pt x="430688" y="1409746"/>
                  <a:pt x="425513" y="1430448"/>
                </a:cubicBezTo>
                <a:cubicBezTo>
                  <a:pt x="421572" y="1446214"/>
                  <a:pt x="414674" y="1461179"/>
                  <a:pt x="407406" y="1475715"/>
                </a:cubicBezTo>
                <a:cubicBezTo>
                  <a:pt x="385279" y="1519969"/>
                  <a:pt x="391623" y="1484524"/>
                  <a:pt x="380245" y="1530036"/>
                </a:cubicBezTo>
                <a:cubicBezTo>
                  <a:pt x="376513" y="1544964"/>
                  <a:pt x="375241" y="1560457"/>
                  <a:pt x="371192" y="1575303"/>
                </a:cubicBezTo>
                <a:cubicBezTo>
                  <a:pt x="366170" y="1593717"/>
                  <a:pt x="359121" y="1611517"/>
                  <a:pt x="353085" y="1629624"/>
                </a:cubicBezTo>
                <a:cubicBezTo>
                  <a:pt x="350067" y="1638677"/>
                  <a:pt x="345601" y="1647371"/>
                  <a:pt x="344032" y="1656784"/>
                </a:cubicBezTo>
                <a:cubicBezTo>
                  <a:pt x="341014" y="1674891"/>
                  <a:pt x="338262" y="1693044"/>
                  <a:pt x="334978" y="1711105"/>
                </a:cubicBezTo>
                <a:cubicBezTo>
                  <a:pt x="332225" y="1726245"/>
                  <a:pt x="328101" y="1741139"/>
                  <a:pt x="325925" y="1756372"/>
                </a:cubicBezTo>
                <a:cubicBezTo>
                  <a:pt x="322060" y="1783425"/>
                  <a:pt x="319889" y="1810693"/>
                  <a:pt x="316871" y="1837854"/>
                </a:cubicBezTo>
                <a:cubicBezTo>
                  <a:pt x="318598" y="1860307"/>
                  <a:pt x="315437" y="1943627"/>
                  <a:pt x="334978" y="1982709"/>
                </a:cubicBezTo>
                <a:cubicBezTo>
                  <a:pt x="347188" y="2007130"/>
                  <a:pt x="369500" y="2028759"/>
                  <a:pt x="389299" y="2046083"/>
                </a:cubicBezTo>
                <a:cubicBezTo>
                  <a:pt x="400655" y="2056019"/>
                  <a:pt x="411503" y="2067640"/>
                  <a:pt x="425513" y="2073244"/>
                </a:cubicBezTo>
                <a:cubicBezTo>
                  <a:pt x="442557" y="2080062"/>
                  <a:pt x="461834" y="2078697"/>
                  <a:pt x="479834" y="2082297"/>
                </a:cubicBezTo>
                <a:cubicBezTo>
                  <a:pt x="492035" y="2084737"/>
                  <a:pt x="504129" y="2087776"/>
                  <a:pt x="516047" y="2091351"/>
                </a:cubicBezTo>
                <a:cubicBezTo>
                  <a:pt x="615687" y="2121244"/>
                  <a:pt x="527440" y="2105556"/>
                  <a:pt x="669956" y="2118511"/>
                </a:cubicBezTo>
                <a:cubicBezTo>
                  <a:pt x="758238" y="2140583"/>
                  <a:pt x="648039" y="2113642"/>
                  <a:pt x="751437" y="2136618"/>
                </a:cubicBezTo>
                <a:cubicBezTo>
                  <a:pt x="763584" y="2139317"/>
                  <a:pt x="775333" y="2143911"/>
                  <a:pt x="787651" y="2145671"/>
                </a:cubicBezTo>
                <a:cubicBezTo>
                  <a:pt x="817675" y="2149960"/>
                  <a:pt x="848091" y="2150963"/>
                  <a:pt x="878186" y="2154725"/>
                </a:cubicBezTo>
                <a:cubicBezTo>
                  <a:pt x="896401" y="2157002"/>
                  <a:pt x="914400" y="2160760"/>
                  <a:pt x="932507" y="2163778"/>
                </a:cubicBezTo>
                <a:lnTo>
                  <a:pt x="1358020" y="2154725"/>
                </a:lnTo>
                <a:cubicBezTo>
                  <a:pt x="1391333" y="2153576"/>
                  <a:pt x="1424675" y="2150817"/>
                  <a:pt x="1457608" y="2145671"/>
                </a:cubicBezTo>
                <a:cubicBezTo>
                  <a:pt x="1521348" y="2135712"/>
                  <a:pt x="1585144" y="2125105"/>
                  <a:pt x="1647731" y="2109458"/>
                </a:cubicBezTo>
                <a:cubicBezTo>
                  <a:pt x="1683945" y="2100404"/>
                  <a:pt x="1719646" y="2088975"/>
                  <a:pt x="1756372" y="2082297"/>
                </a:cubicBezTo>
                <a:cubicBezTo>
                  <a:pt x="1786212" y="2076872"/>
                  <a:pt x="1816729" y="2076262"/>
                  <a:pt x="1846907" y="2073244"/>
                </a:cubicBezTo>
                <a:cubicBezTo>
                  <a:pt x="1853356" y="2071811"/>
                  <a:pt x="1962271" y="2046083"/>
                  <a:pt x="1982709" y="2046083"/>
                </a:cubicBezTo>
                <a:cubicBezTo>
                  <a:pt x="2028077" y="2046083"/>
                  <a:pt x="2073244" y="2052119"/>
                  <a:pt x="2118511" y="2055137"/>
                </a:cubicBezTo>
                <a:cubicBezTo>
                  <a:pt x="2159536" y="2053086"/>
                  <a:pt x="2276470" y="2078246"/>
                  <a:pt x="2326740" y="2027976"/>
                </a:cubicBezTo>
                <a:cubicBezTo>
                  <a:pt x="2334434" y="2020282"/>
                  <a:pt x="2339981" y="2010548"/>
                  <a:pt x="2344847" y="2000816"/>
                </a:cubicBezTo>
                <a:cubicBezTo>
                  <a:pt x="2352115" y="1986280"/>
                  <a:pt x="2356918" y="1970638"/>
                  <a:pt x="2362954" y="1955549"/>
                </a:cubicBezTo>
                <a:cubicBezTo>
                  <a:pt x="2356918" y="1910282"/>
                  <a:pt x="2357070" y="1863749"/>
                  <a:pt x="2344847" y="1819747"/>
                </a:cubicBezTo>
                <a:cubicBezTo>
                  <a:pt x="2341420" y="1807411"/>
                  <a:pt x="2326118" y="1802222"/>
                  <a:pt x="2317687" y="1792586"/>
                </a:cubicBezTo>
                <a:cubicBezTo>
                  <a:pt x="2304962" y="1778044"/>
                  <a:pt x="2296318" y="1759690"/>
                  <a:pt x="2281473" y="1747319"/>
                </a:cubicBezTo>
                <a:cubicBezTo>
                  <a:pt x="2241587" y="1714080"/>
                  <a:pt x="2194612" y="1690022"/>
                  <a:pt x="2154725" y="1656784"/>
                </a:cubicBezTo>
                <a:cubicBezTo>
                  <a:pt x="2136618" y="1641695"/>
                  <a:pt x="2119466" y="1625380"/>
                  <a:pt x="2100404" y="1611517"/>
                </a:cubicBezTo>
                <a:cubicBezTo>
                  <a:pt x="2041675" y="1568805"/>
                  <a:pt x="2069663" y="1601594"/>
                  <a:pt x="2018923" y="1557196"/>
                </a:cubicBezTo>
                <a:cubicBezTo>
                  <a:pt x="1984826" y="1527361"/>
                  <a:pt x="1981650" y="1519570"/>
                  <a:pt x="1955548" y="1484768"/>
                </a:cubicBezTo>
                <a:cubicBezTo>
                  <a:pt x="1952530" y="1475715"/>
                  <a:pt x="1950371" y="1466329"/>
                  <a:pt x="1946495" y="1457608"/>
                </a:cubicBezTo>
                <a:cubicBezTo>
                  <a:pt x="1938273" y="1439109"/>
                  <a:pt x="1925737" y="1422492"/>
                  <a:pt x="1919335" y="1403287"/>
                </a:cubicBezTo>
                <a:cubicBezTo>
                  <a:pt x="1913530" y="1385873"/>
                  <a:pt x="1914733" y="1366775"/>
                  <a:pt x="1910281" y="1348967"/>
                </a:cubicBezTo>
                <a:cubicBezTo>
                  <a:pt x="1899093" y="1304216"/>
                  <a:pt x="1892799" y="1295897"/>
                  <a:pt x="1874067" y="1258432"/>
                </a:cubicBezTo>
                <a:cubicBezTo>
                  <a:pt x="1871049" y="1246361"/>
                  <a:pt x="1867713" y="1234365"/>
                  <a:pt x="1865014" y="1222218"/>
                </a:cubicBezTo>
                <a:cubicBezTo>
                  <a:pt x="1861676" y="1207197"/>
                  <a:pt x="1859420" y="1191945"/>
                  <a:pt x="1855960" y="1176951"/>
                </a:cubicBezTo>
                <a:cubicBezTo>
                  <a:pt x="1850364" y="1152703"/>
                  <a:pt x="1837853" y="1104523"/>
                  <a:pt x="1837853" y="1104523"/>
                </a:cubicBezTo>
                <a:cubicBezTo>
                  <a:pt x="1830672" y="1047074"/>
                  <a:pt x="1819746" y="968988"/>
                  <a:pt x="1819746" y="914400"/>
                </a:cubicBezTo>
                <a:cubicBezTo>
                  <a:pt x="1819746" y="847939"/>
                  <a:pt x="1823703" y="781489"/>
                  <a:pt x="1828800" y="715224"/>
                </a:cubicBezTo>
                <a:cubicBezTo>
                  <a:pt x="1829754" y="702818"/>
                  <a:pt x="1834835" y="691081"/>
                  <a:pt x="1837853" y="679010"/>
                </a:cubicBezTo>
                <a:cubicBezTo>
                  <a:pt x="1834835" y="645814"/>
                  <a:pt x="1841491" y="610244"/>
                  <a:pt x="1828800" y="579422"/>
                </a:cubicBezTo>
                <a:cubicBezTo>
                  <a:pt x="1815297" y="546628"/>
                  <a:pt x="1775172" y="526889"/>
                  <a:pt x="1747319" y="506994"/>
                </a:cubicBezTo>
                <a:cubicBezTo>
                  <a:pt x="1735041" y="498224"/>
                  <a:pt x="1722461" y="489770"/>
                  <a:pt x="1711105" y="479834"/>
                </a:cubicBezTo>
                <a:cubicBezTo>
                  <a:pt x="1658228" y="433567"/>
                  <a:pt x="1696629" y="450866"/>
                  <a:pt x="1647731" y="434567"/>
                </a:cubicBezTo>
                <a:cubicBezTo>
                  <a:pt x="1638677" y="428531"/>
                  <a:pt x="1630571" y="420746"/>
                  <a:pt x="1620570" y="416460"/>
                </a:cubicBezTo>
                <a:cubicBezTo>
                  <a:pt x="1609133" y="411558"/>
                  <a:pt x="1596320" y="410824"/>
                  <a:pt x="1584356" y="407406"/>
                </a:cubicBezTo>
                <a:cubicBezTo>
                  <a:pt x="1575180" y="404784"/>
                  <a:pt x="1566249" y="401371"/>
                  <a:pt x="1557196" y="398353"/>
                </a:cubicBezTo>
                <a:cubicBezTo>
                  <a:pt x="1548143" y="392317"/>
                  <a:pt x="1539979" y="384665"/>
                  <a:pt x="1530036" y="380246"/>
                </a:cubicBezTo>
                <a:cubicBezTo>
                  <a:pt x="1433472" y="337328"/>
                  <a:pt x="1513603" y="385201"/>
                  <a:pt x="1439501" y="344032"/>
                </a:cubicBezTo>
                <a:cubicBezTo>
                  <a:pt x="1424119" y="335486"/>
                  <a:pt x="1409973" y="324741"/>
                  <a:pt x="1394234" y="316871"/>
                </a:cubicBezTo>
                <a:cubicBezTo>
                  <a:pt x="1385698" y="312603"/>
                  <a:pt x="1375845" y="311577"/>
                  <a:pt x="1367073" y="307818"/>
                </a:cubicBezTo>
                <a:cubicBezTo>
                  <a:pt x="1218660" y="244214"/>
                  <a:pt x="1416962" y="323132"/>
                  <a:pt x="1303699" y="280658"/>
                </a:cubicBezTo>
                <a:cubicBezTo>
                  <a:pt x="1203822" y="243204"/>
                  <a:pt x="1307165" y="277767"/>
                  <a:pt x="1222218" y="253497"/>
                </a:cubicBezTo>
                <a:cubicBezTo>
                  <a:pt x="1213042" y="250875"/>
                  <a:pt x="1204567" y="245237"/>
                  <a:pt x="1195057" y="244444"/>
                </a:cubicBezTo>
                <a:cubicBezTo>
                  <a:pt x="1131830" y="239175"/>
                  <a:pt x="1068309" y="238408"/>
                  <a:pt x="1004935" y="235390"/>
                </a:cubicBezTo>
                <a:cubicBezTo>
                  <a:pt x="900022" y="200419"/>
                  <a:pt x="1002823" y="236357"/>
                  <a:pt x="887239" y="190123"/>
                </a:cubicBezTo>
                <a:cubicBezTo>
                  <a:pt x="812604" y="160269"/>
                  <a:pt x="923533" y="211282"/>
                  <a:pt x="814812" y="162963"/>
                </a:cubicBezTo>
                <a:cubicBezTo>
                  <a:pt x="753266" y="135610"/>
                  <a:pt x="802405" y="155874"/>
                  <a:pt x="751437" y="126749"/>
                </a:cubicBezTo>
                <a:cubicBezTo>
                  <a:pt x="739719" y="120053"/>
                  <a:pt x="726942" y="115338"/>
                  <a:pt x="715224" y="108642"/>
                </a:cubicBezTo>
                <a:cubicBezTo>
                  <a:pt x="705777" y="103243"/>
                  <a:pt x="697510" y="95934"/>
                  <a:pt x="688063" y="90535"/>
                </a:cubicBezTo>
                <a:cubicBezTo>
                  <a:pt x="590629" y="34859"/>
                  <a:pt x="730407" y="124800"/>
                  <a:pt x="597529" y="36214"/>
                </a:cubicBezTo>
                <a:lnTo>
                  <a:pt x="570368" y="18107"/>
                </a:lnTo>
                <a:lnTo>
                  <a:pt x="543208" y="0"/>
                </a:lnTo>
                <a:cubicBezTo>
                  <a:pt x="525101" y="3018"/>
                  <a:pt x="506302" y="3249"/>
                  <a:pt x="488887" y="9054"/>
                </a:cubicBezTo>
                <a:cubicBezTo>
                  <a:pt x="465147" y="16968"/>
                  <a:pt x="448423" y="39358"/>
                  <a:pt x="443620" y="63374"/>
                </a:cubicBezTo>
                <a:cubicBezTo>
                  <a:pt x="440069" y="81129"/>
                  <a:pt x="457200" y="108642"/>
                  <a:pt x="443620" y="135802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3"/>
          <a:stretch/>
        </p:blipFill>
        <p:spPr>
          <a:xfrm>
            <a:off x="3305160" y="1496880"/>
            <a:ext cx="2052720" cy="3068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5292720" y="1496880"/>
            <a:ext cx="2050920" cy="3068640"/>
          </a:xfrm>
          <a:prstGeom prst="rect">
            <a:avLst/>
          </a:prstGeom>
          <a:ln w="0">
            <a:noFill/>
          </a:ln>
        </p:spPr>
      </p:pic>
      <p:sp>
        <p:nvSpPr>
          <p:cNvPr id="157" name="Freeform 3"/>
          <p:cNvSpPr/>
          <p:nvPr/>
        </p:nvSpPr>
        <p:spPr>
          <a:xfrm>
            <a:off x="3168720" y="1131840"/>
            <a:ext cx="2363760" cy="2163960"/>
          </a:xfrm>
          <a:custGeom>
            <a:avLst/>
            <a:gdLst/>
            <a:ahLst/>
            <a:rect l="l" t="t" r="r" b="b"/>
            <a:pathLst>
              <a:path w="2362954" h="2163778">
                <a:moveTo>
                  <a:pt x="443620" y="135802"/>
                </a:moveTo>
                <a:cubicBezTo>
                  <a:pt x="430040" y="162962"/>
                  <a:pt x="387357" y="204721"/>
                  <a:pt x="362138" y="226337"/>
                </a:cubicBezTo>
                <a:cubicBezTo>
                  <a:pt x="350682" y="236157"/>
                  <a:pt x="337381" y="243677"/>
                  <a:pt x="325925" y="253497"/>
                </a:cubicBezTo>
                <a:cubicBezTo>
                  <a:pt x="316204" y="261830"/>
                  <a:pt x="309007" y="272976"/>
                  <a:pt x="298764" y="280658"/>
                </a:cubicBezTo>
                <a:cubicBezTo>
                  <a:pt x="281078" y="293922"/>
                  <a:pt x="245314" y="310111"/>
                  <a:pt x="226337" y="325925"/>
                </a:cubicBezTo>
                <a:cubicBezTo>
                  <a:pt x="216501" y="334122"/>
                  <a:pt x="209012" y="344888"/>
                  <a:pt x="199176" y="353085"/>
                </a:cubicBezTo>
                <a:cubicBezTo>
                  <a:pt x="190817" y="360051"/>
                  <a:pt x="180721" y="364664"/>
                  <a:pt x="172016" y="371192"/>
                </a:cubicBezTo>
                <a:cubicBezTo>
                  <a:pt x="156557" y="382786"/>
                  <a:pt x="142207" y="395812"/>
                  <a:pt x="126748" y="407406"/>
                </a:cubicBezTo>
                <a:cubicBezTo>
                  <a:pt x="118043" y="413934"/>
                  <a:pt x="107676" y="418234"/>
                  <a:pt x="99588" y="425513"/>
                </a:cubicBezTo>
                <a:cubicBezTo>
                  <a:pt x="64882" y="456749"/>
                  <a:pt x="39541" y="478537"/>
                  <a:pt x="18107" y="516048"/>
                </a:cubicBezTo>
                <a:cubicBezTo>
                  <a:pt x="11411" y="527766"/>
                  <a:pt x="6036" y="540191"/>
                  <a:pt x="0" y="552262"/>
                </a:cubicBezTo>
                <a:cubicBezTo>
                  <a:pt x="3018" y="639779"/>
                  <a:pt x="879" y="727626"/>
                  <a:pt x="9053" y="814812"/>
                </a:cubicBezTo>
                <a:cubicBezTo>
                  <a:pt x="10069" y="825645"/>
                  <a:pt x="22874" y="831971"/>
                  <a:pt x="27160" y="841972"/>
                </a:cubicBezTo>
                <a:cubicBezTo>
                  <a:pt x="32062" y="853409"/>
                  <a:pt x="31312" y="866749"/>
                  <a:pt x="36214" y="878186"/>
                </a:cubicBezTo>
                <a:cubicBezTo>
                  <a:pt x="48115" y="905955"/>
                  <a:pt x="62286" y="909473"/>
                  <a:pt x="81481" y="932507"/>
                </a:cubicBezTo>
                <a:cubicBezTo>
                  <a:pt x="128634" y="989091"/>
                  <a:pt x="56584" y="930997"/>
                  <a:pt x="153909" y="995881"/>
                </a:cubicBezTo>
                <a:cubicBezTo>
                  <a:pt x="162962" y="1001917"/>
                  <a:pt x="170298" y="1012449"/>
                  <a:pt x="181069" y="1013988"/>
                </a:cubicBezTo>
                <a:cubicBezTo>
                  <a:pt x="232348" y="1021314"/>
                  <a:pt x="237976" y="1019900"/>
                  <a:pt x="280657" y="1032095"/>
                </a:cubicBezTo>
                <a:cubicBezTo>
                  <a:pt x="289833" y="1034717"/>
                  <a:pt x="299282" y="1036881"/>
                  <a:pt x="307818" y="1041149"/>
                </a:cubicBezTo>
                <a:cubicBezTo>
                  <a:pt x="317550" y="1046015"/>
                  <a:pt x="325925" y="1053220"/>
                  <a:pt x="334978" y="1059256"/>
                </a:cubicBezTo>
                <a:cubicBezTo>
                  <a:pt x="341014" y="1071327"/>
                  <a:pt x="348073" y="1082938"/>
                  <a:pt x="353085" y="1095469"/>
                </a:cubicBezTo>
                <a:cubicBezTo>
                  <a:pt x="378694" y="1159492"/>
                  <a:pt x="364237" y="1132644"/>
                  <a:pt x="380245" y="1186004"/>
                </a:cubicBezTo>
                <a:cubicBezTo>
                  <a:pt x="385729" y="1204286"/>
                  <a:pt x="394609" y="1221609"/>
                  <a:pt x="398352" y="1240325"/>
                </a:cubicBezTo>
                <a:cubicBezTo>
                  <a:pt x="401370" y="1255414"/>
                  <a:pt x="403357" y="1270746"/>
                  <a:pt x="407406" y="1285592"/>
                </a:cubicBezTo>
                <a:cubicBezTo>
                  <a:pt x="412428" y="1304006"/>
                  <a:pt x="419477" y="1321806"/>
                  <a:pt x="425513" y="1339913"/>
                </a:cubicBezTo>
                <a:lnTo>
                  <a:pt x="434566" y="1367073"/>
                </a:lnTo>
                <a:cubicBezTo>
                  <a:pt x="431548" y="1388198"/>
                  <a:pt x="430688" y="1409746"/>
                  <a:pt x="425513" y="1430448"/>
                </a:cubicBezTo>
                <a:cubicBezTo>
                  <a:pt x="421572" y="1446214"/>
                  <a:pt x="414674" y="1461179"/>
                  <a:pt x="407406" y="1475715"/>
                </a:cubicBezTo>
                <a:cubicBezTo>
                  <a:pt x="385279" y="1519969"/>
                  <a:pt x="391623" y="1484524"/>
                  <a:pt x="380245" y="1530036"/>
                </a:cubicBezTo>
                <a:cubicBezTo>
                  <a:pt x="376513" y="1544964"/>
                  <a:pt x="375241" y="1560457"/>
                  <a:pt x="371192" y="1575303"/>
                </a:cubicBezTo>
                <a:cubicBezTo>
                  <a:pt x="366170" y="1593717"/>
                  <a:pt x="359121" y="1611517"/>
                  <a:pt x="353085" y="1629624"/>
                </a:cubicBezTo>
                <a:cubicBezTo>
                  <a:pt x="350067" y="1638677"/>
                  <a:pt x="345601" y="1647371"/>
                  <a:pt x="344032" y="1656784"/>
                </a:cubicBezTo>
                <a:cubicBezTo>
                  <a:pt x="341014" y="1674891"/>
                  <a:pt x="338262" y="1693044"/>
                  <a:pt x="334978" y="1711105"/>
                </a:cubicBezTo>
                <a:cubicBezTo>
                  <a:pt x="332225" y="1726245"/>
                  <a:pt x="328101" y="1741139"/>
                  <a:pt x="325925" y="1756372"/>
                </a:cubicBezTo>
                <a:cubicBezTo>
                  <a:pt x="322060" y="1783425"/>
                  <a:pt x="319889" y="1810693"/>
                  <a:pt x="316871" y="1837854"/>
                </a:cubicBezTo>
                <a:cubicBezTo>
                  <a:pt x="318598" y="1860307"/>
                  <a:pt x="315437" y="1943627"/>
                  <a:pt x="334978" y="1982709"/>
                </a:cubicBezTo>
                <a:cubicBezTo>
                  <a:pt x="347188" y="2007130"/>
                  <a:pt x="369500" y="2028759"/>
                  <a:pt x="389299" y="2046083"/>
                </a:cubicBezTo>
                <a:cubicBezTo>
                  <a:pt x="400655" y="2056019"/>
                  <a:pt x="411503" y="2067640"/>
                  <a:pt x="425513" y="2073244"/>
                </a:cubicBezTo>
                <a:cubicBezTo>
                  <a:pt x="442557" y="2080062"/>
                  <a:pt x="461834" y="2078697"/>
                  <a:pt x="479834" y="2082297"/>
                </a:cubicBezTo>
                <a:cubicBezTo>
                  <a:pt x="492035" y="2084737"/>
                  <a:pt x="504129" y="2087776"/>
                  <a:pt x="516047" y="2091351"/>
                </a:cubicBezTo>
                <a:cubicBezTo>
                  <a:pt x="615687" y="2121244"/>
                  <a:pt x="527440" y="2105556"/>
                  <a:pt x="669956" y="2118511"/>
                </a:cubicBezTo>
                <a:cubicBezTo>
                  <a:pt x="758238" y="2140583"/>
                  <a:pt x="648039" y="2113642"/>
                  <a:pt x="751437" y="2136618"/>
                </a:cubicBezTo>
                <a:cubicBezTo>
                  <a:pt x="763584" y="2139317"/>
                  <a:pt x="775333" y="2143911"/>
                  <a:pt x="787651" y="2145671"/>
                </a:cubicBezTo>
                <a:cubicBezTo>
                  <a:pt x="817675" y="2149960"/>
                  <a:pt x="848091" y="2150963"/>
                  <a:pt x="878186" y="2154725"/>
                </a:cubicBezTo>
                <a:cubicBezTo>
                  <a:pt x="896401" y="2157002"/>
                  <a:pt x="914400" y="2160760"/>
                  <a:pt x="932507" y="2163778"/>
                </a:cubicBezTo>
                <a:lnTo>
                  <a:pt x="1358020" y="2154725"/>
                </a:lnTo>
                <a:cubicBezTo>
                  <a:pt x="1391333" y="2153576"/>
                  <a:pt x="1424675" y="2150817"/>
                  <a:pt x="1457608" y="2145671"/>
                </a:cubicBezTo>
                <a:cubicBezTo>
                  <a:pt x="1521348" y="2135712"/>
                  <a:pt x="1585144" y="2125105"/>
                  <a:pt x="1647731" y="2109458"/>
                </a:cubicBezTo>
                <a:cubicBezTo>
                  <a:pt x="1683945" y="2100404"/>
                  <a:pt x="1719646" y="2088975"/>
                  <a:pt x="1756372" y="2082297"/>
                </a:cubicBezTo>
                <a:cubicBezTo>
                  <a:pt x="1786212" y="2076872"/>
                  <a:pt x="1816729" y="2076262"/>
                  <a:pt x="1846907" y="2073244"/>
                </a:cubicBezTo>
                <a:cubicBezTo>
                  <a:pt x="1853356" y="2071811"/>
                  <a:pt x="1962271" y="2046083"/>
                  <a:pt x="1982709" y="2046083"/>
                </a:cubicBezTo>
                <a:cubicBezTo>
                  <a:pt x="2028077" y="2046083"/>
                  <a:pt x="2073244" y="2052119"/>
                  <a:pt x="2118511" y="2055137"/>
                </a:cubicBezTo>
                <a:cubicBezTo>
                  <a:pt x="2159536" y="2053086"/>
                  <a:pt x="2276470" y="2078246"/>
                  <a:pt x="2326740" y="2027976"/>
                </a:cubicBezTo>
                <a:cubicBezTo>
                  <a:pt x="2334434" y="2020282"/>
                  <a:pt x="2339981" y="2010548"/>
                  <a:pt x="2344847" y="2000816"/>
                </a:cubicBezTo>
                <a:cubicBezTo>
                  <a:pt x="2352115" y="1986280"/>
                  <a:pt x="2356918" y="1970638"/>
                  <a:pt x="2362954" y="1955549"/>
                </a:cubicBezTo>
                <a:cubicBezTo>
                  <a:pt x="2356918" y="1910282"/>
                  <a:pt x="2357070" y="1863749"/>
                  <a:pt x="2344847" y="1819747"/>
                </a:cubicBezTo>
                <a:cubicBezTo>
                  <a:pt x="2341420" y="1807411"/>
                  <a:pt x="2326118" y="1802222"/>
                  <a:pt x="2317687" y="1792586"/>
                </a:cubicBezTo>
                <a:cubicBezTo>
                  <a:pt x="2304962" y="1778044"/>
                  <a:pt x="2296318" y="1759690"/>
                  <a:pt x="2281473" y="1747319"/>
                </a:cubicBezTo>
                <a:cubicBezTo>
                  <a:pt x="2241587" y="1714080"/>
                  <a:pt x="2194612" y="1690022"/>
                  <a:pt x="2154725" y="1656784"/>
                </a:cubicBezTo>
                <a:cubicBezTo>
                  <a:pt x="2136618" y="1641695"/>
                  <a:pt x="2119466" y="1625380"/>
                  <a:pt x="2100404" y="1611517"/>
                </a:cubicBezTo>
                <a:cubicBezTo>
                  <a:pt x="2041675" y="1568805"/>
                  <a:pt x="2069663" y="1601594"/>
                  <a:pt x="2018923" y="1557196"/>
                </a:cubicBezTo>
                <a:cubicBezTo>
                  <a:pt x="1984826" y="1527361"/>
                  <a:pt x="1981650" y="1519570"/>
                  <a:pt x="1955548" y="1484768"/>
                </a:cubicBezTo>
                <a:cubicBezTo>
                  <a:pt x="1952530" y="1475715"/>
                  <a:pt x="1950371" y="1466329"/>
                  <a:pt x="1946495" y="1457608"/>
                </a:cubicBezTo>
                <a:cubicBezTo>
                  <a:pt x="1938273" y="1439109"/>
                  <a:pt x="1925737" y="1422492"/>
                  <a:pt x="1919335" y="1403287"/>
                </a:cubicBezTo>
                <a:cubicBezTo>
                  <a:pt x="1913530" y="1385873"/>
                  <a:pt x="1914733" y="1366775"/>
                  <a:pt x="1910281" y="1348967"/>
                </a:cubicBezTo>
                <a:cubicBezTo>
                  <a:pt x="1899093" y="1304216"/>
                  <a:pt x="1892799" y="1295897"/>
                  <a:pt x="1874067" y="1258432"/>
                </a:cubicBezTo>
                <a:cubicBezTo>
                  <a:pt x="1871049" y="1246361"/>
                  <a:pt x="1867713" y="1234365"/>
                  <a:pt x="1865014" y="1222218"/>
                </a:cubicBezTo>
                <a:cubicBezTo>
                  <a:pt x="1861676" y="1207197"/>
                  <a:pt x="1859420" y="1191945"/>
                  <a:pt x="1855960" y="1176951"/>
                </a:cubicBezTo>
                <a:cubicBezTo>
                  <a:pt x="1850364" y="1152703"/>
                  <a:pt x="1837853" y="1104523"/>
                  <a:pt x="1837853" y="1104523"/>
                </a:cubicBezTo>
                <a:cubicBezTo>
                  <a:pt x="1830672" y="1047074"/>
                  <a:pt x="1819746" y="968988"/>
                  <a:pt x="1819746" y="914400"/>
                </a:cubicBezTo>
                <a:cubicBezTo>
                  <a:pt x="1819746" y="847939"/>
                  <a:pt x="1823703" y="781489"/>
                  <a:pt x="1828800" y="715224"/>
                </a:cubicBezTo>
                <a:cubicBezTo>
                  <a:pt x="1829754" y="702818"/>
                  <a:pt x="1834835" y="691081"/>
                  <a:pt x="1837853" y="679010"/>
                </a:cubicBezTo>
                <a:cubicBezTo>
                  <a:pt x="1834835" y="645814"/>
                  <a:pt x="1841491" y="610244"/>
                  <a:pt x="1828800" y="579422"/>
                </a:cubicBezTo>
                <a:cubicBezTo>
                  <a:pt x="1815297" y="546628"/>
                  <a:pt x="1775172" y="526889"/>
                  <a:pt x="1747319" y="506994"/>
                </a:cubicBezTo>
                <a:cubicBezTo>
                  <a:pt x="1735041" y="498224"/>
                  <a:pt x="1722461" y="489770"/>
                  <a:pt x="1711105" y="479834"/>
                </a:cubicBezTo>
                <a:cubicBezTo>
                  <a:pt x="1658228" y="433567"/>
                  <a:pt x="1696629" y="450866"/>
                  <a:pt x="1647731" y="434567"/>
                </a:cubicBezTo>
                <a:cubicBezTo>
                  <a:pt x="1638677" y="428531"/>
                  <a:pt x="1630571" y="420746"/>
                  <a:pt x="1620570" y="416460"/>
                </a:cubicBezTo>
                <a:cubicBezTo>
                  <a:pt x="1609133" y="411558"/>
                  <a:pt x="1596320" y="410824"/>
                  <a:pt x="1584356" y="407406"/>
                </a:cubicBezTo>
                <a:cubicBezTo>
                  <a:pt x="1575180" y="404784"/>
                  <a:pt x="1566249" y="401371"/>
                  <a:pt x="1557196" y="398353"/>
                </a:cubicBezTo>
                <a:cubicBezTo>
                  <a:pt x="1548143" y="392317"/>
                  <a:pt x="1539979" y="384665"/>
                  <a:pt x="1530036" y="380246"/>
                </a:cubicBezTo>
                <a:cubicBezTo>
                  <a:pt x="1433472" y="337328"/>
                  <a:pt x="1513603" y="385201"/>
                  <a:pt x="1439501" y="344032"/>
                </a:cubicBezTo>
                <a:cubicBezTo>
                  <a:pt x="1424119" y="335486"/>
                  <a:pt x="1409973" y="324741"/>
                  <a:pt x="1394234" y="316871"/>
                </a:cubicBezTo>
                <a:cubicBezTo>
                  <a:pt x="1385698" y="312603"/>
                  <a:pt x="1375845" y="311577"/>
                  <a:pt x="1367073" y="307818"/>
                </a:cubicBezTo>
                <a:cubicBezTo>
                  <a:pt x="1218660" y="244214"/>
                  <a:pt x="1416962" y="323132"/>
                  <a:pt x="1303699" y="280658"/>
                </a:cubicBezTo>
                <a:cubicBezTo>
                  <a:pt x="1203822" y="243204"/>
                  <a:pt x="1307165" y="277767"/>
                  <a:pt x="1222218" y="253497"/>
                </a:cubicBezTo>
                <a:cubicBezTo>
                  <a:pt x="1213042" y="250875"/>
                  <a:pt x="1204567" y="245237"/>
                  <a:pt x="1195057" y="244444"/>
                </a:cubicBezTo>
                <a:cubicBezTo>
                  <a:pt x="1131830" y="239175"/>
                  <a:pt x="1068309" y="238408"/>
                  <a:pt x="1004935" y="235390"/>
                </a:cubicBezTo>
                <a:cubicBezTo>
                  <a:pt x="900022" y="200419"/>
                  <a:pt x="1002823" y="236357"/>
                  <a:pt x="887239" y="190123"/>
                </a:cubicBezTo>
                <a:cubicBezTo>
                  <a:pt x="812604" y="160269"/>
                  <a:pt x="923533" y="211282"/>
                  <a:pt x="814812" y="162963"/>
                </a:cubicBezTo>
                <a:cubicBezTo>
                  <a:pt x="753266" y="135610"/>
                  <a:pt x="802405" y="155874"/>
                  <a:pt x="751437" y="126749"/>
                </a:cubicBezTo>
                <a:cubicBezTo>
                  <a:pt x="739719" y="120053"/>
                  <a:pt x="726942" y="115338"/>
                  <a:pt x="715224" y="108642"/>
                </a:cubicBezTo>
                <a:cubicBezTo>
                  <a:pt x="705777" y="103243"/>
                  <a:pt x="697510" y="95934"/>
                  <a:pt x="688063" y="90535"/>
                </a:cubicBezTo>
                <a:cubicBezTo>
                  <a:pt x="590629" y="34859"/>
                  <a:pt x="730407" y="124800"/>
                  <a:pt x="597529" y="36214"/>
                </a:cubicBezTo>
                <a:lnTo>
                  <a:pt x="570368" y="18107"/>
                </a:lnTo>
                <a:lnTo>
                  <a:pt x="543208" y="0"/>
                </a:lnTo>
                <a:cubicBezTo>
                  <a:pt x="525101" y="3018"/>
                  <a:pt x="506302" y="3249"/>
                  <a:pt x="488887" y="9054"/>
                </a:cubicBezTo>
                <a:cubicBezTo>
                  <a:pt x="465147" y="16968"/>
                  <a:pt x="448423" y="39358"/>
                  <a:pt x="443620" y="63374"/>
                </a:cubicBezTo>
                <a:cubicBezTo>
                  <a:pt x="440069" y="81129"/>
                  <a:pt x="457200" y="108642"/>
                  <a:pt x="443620" y="135802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Freeform 7"/>
          <p:cNvSpPr/>
          <p:nvPr/>
        </p:nvSpPr>
        <p:spPr>
          <a:xfrm>
            <a:off x="3195720" y="1158840"/>
            <a:ext cx="5137200" cy="3043440"/>
          </a:xfrm>
          <a:custGeom>
            <a:avLst/>
            <a:gdLst/>
            <a:ahLst/>
            <a:rect l="l" t="t" r="r" b="b"/>
            <a:pathLst>
              <a:path w="5136406" h="3042896">
                <a:moveTo>
                  <a:pt x="4227969" y="3005750"/>
                </a:moveTo>
                <a:cubicBezTo>
                  <a:pt x="4212880" y="2996697"/>
                  <a:pt x="4196779" y="2989148"/>
                  <a:pt x="4182701" y="2978590"/>
                </a:cubicBezTo>
                <a:cubicBezTo>
                  <a:pt x="4172458" y="2970908"/>
                  <a:pt x="4166658" y="2957781"/>
                  <a:pt x="4155541" y="2951429"/>
                </a:cubicBezTo>
                <a:cubicBezTo>
                  <a:pt x="4144738" y="2945256"/>
                  <a:pt x="4131398" y="2945394"/>
                  <a:pt x="4119327" y="2942376"/>
                </a:cubicBezTo>
                <a:cubicBezTo>
                  <a:pt x="3958113" y="2781162"/>
                  <a:pt x="4142192" y="2960119"/>
                  <a:pt x="4028792" y="2860895"/>
                </a:cubicBezTo>
                <a:cubicBezTo>
                  <a:pt x="4015944" y="2849653"/>
                  <a:pt x="4006470" y="2834604"/>
                  <a:pt x="3992578" y="2824681"/>
                </a:cubicBezTo>
                <a:cubicBezTo>
                  <a:pt x="3986397" y="2820266"/>
                  <a:pt x="3931932" y="2806762"/>
                  <a:pt x="3929204" y="2806574"/>
                </a:cubicBezTo>
                <a:cubicBezTo>
                  <a:pt x="3853877" y="2801379"/>
                  <a:pt x="3778313" y="2800538"/>
                  <a:pt x="3702868" y="2797520"/>
                </a:cubicBezTo>
                <a:cubicBezTo>
                  <a:pt x="3654583" y="2791484"/>
                  <a:pt x="3605220" y="2791214"/>
                  <a:pt x="3558012" y="2779413"/>
                </a:cubicBezTo>
                <a:cubicBezTo>
                  <a:pt x="3444801" y="2751112"/>
                  <a:pt x="3585555" y="2787283"/>
                  <a:pt x="3494638" y="2761306"/>
                </a:cubicBezTo>
                <a:cubicBezTo>
                  <a:pt x="3482674" y="2757888"/>
                  <a:pt x="3470228" y="2756188"/>
                  <a:pt x="3458424" y="2752253"/>
                </a:cubicBezTo>
                <a:cubicBezTo>
                  <a:pt x="3443007" y="2747114"/>
                  <a:pt x="3428923" y="2738087"/>
                  <a:pt x="3413157" y="2734146"/>
                </a:cubicBezTo>
                <a:cubicBezTo>
                  <a:pt x="3392455" y="2728971"/>
                  <a:pt x="3370907" y="2728111"/>
                  <a:pt x="3349782" y="2725093"/>
                </a:cubicBezTo>
                <a:cubicBezTo>
                  <a:pt x="3314674" y="2713390"/>
                  <a:pt x="3291042" y="2704740"/>
                  <a:pt x="3250194" y="2697932"/>
                </a:cubicBezTo>
                <a:lnTo>
                  <a:pt x="3195874" y="2688879"/>
                </a:lnTo>
                <a:cubicBezTo>
                  <a:pt x="3186820" y="2685861"/>
                  <a:pt x="3177649" y="2683176"/>
                  <a:pt x="3168713" y="2679825"/>
                </a:cubicBezTo>
                <a:cubicBezTo>
                  <a:pt x="3153496" y="2674119"/>
                  <a:pt x="3139125" y="2665994"/>
                  <a:pt x="3123446" y="2661718"/>
                </a:cubicBezTo>
                <a:cubicBezTo>
                  <a:pt x="3090358" y="2652694"/>
                  <a:pt x="2989147" y="2644324"/>
                  <a:pt x="2969537" y="2643611"/>
                </a:cubicBezTo>
                <a:cubicBezTo>
                  <a:pt x="2836806" y="2638784"/>
                  <a:pt x="2703968" y="2637576"/>
                  <a:pt x="2571184" y="2634558"/>
                </a:cubicBezTo>
                <a:cubicBezTo>
                  <a:pt x="2547042" y="2628522"/>
                  <a:pt x="2521863" y="2625693"/>
                  <a:pt x="2498757" y="2616451"/>
                </a:cubicBezTo>
                <a:cubicBezTo>
                  <a:pt x="2483668" y="2610415"/>
                  <a:pt x="2469168" y="2602620"/>
                  <a:pt x="2453489" y="2598344"/>
                </a:cubicBezTo>
                <a:cubicBezTo>
                  <a:pt x="2415232" y="2587910"/>
                  <a:pt x="2397769" y="2593293"/>
                  <a:pt x="2362955" y="2580237"/>
                </a:cubicBezTo>
                <a:cubicBezTo>
                  <a:pt x="2350318" y="2575498"/>
                  <a:pt x="2339545" y="2566398"/>
                  <a:pt x="2326741" y="2562130"/>
                </a:cubicBezTo>
                <a:cubicBezTo>
                  <a:pt x="2326721" y="2562123"/>
                  <a:pt x="2236216" y="2539499"/>
                  <a:pt x="2218099" y="2534970"/>
                </a:cubicBezTo>
                <a:cubicBezTo>
                  <a:pt x="2179168" y="2525237"/>
                  <a:pt x="2140154" y="2513924"/>
                  <a:pt x="2100404" y="2507809"/>
                </a:cubicBezTo>
                <a:cubicBezTo>
                  <a:pt x="2076357" y="2504109"/>
                  <a:pt x="2052294" y="2499553"/>
                  <a:pt x="2027977" y="2498756"/>
                </a:cubicBezTo>
                <a:cubicBezTo>
                  <a:pt x="1868090" y="2493514"/>
                  <a:pt x="1708088" y="2492721"/>
                  <a:pt x="1548143" y="2489703"/>
                </a:cubicBezTo>
                <a:lnTo>
                  <a:pt x="1358020" y="2480649"/>
                </a:lnTo>
                <a:lnTo>
                  <a:pt x="1050202" y="2462542"/>
                </a:lnTo>
                <a:cubicBezTo>
                  <a:pt x="1029077" y="2459524"/>
                  <a:pt x="1007753" y="2457674"/>
                  <a:pt x="986828" y="2453489"/>
                </a:cubicBezTo>
                <a:cubicBezTo>
                  <a:pt x="977470" y="2451617"/>
                  <a:pt x="968926" y="2446750"/>
                  <a:pt x="959668" y="2444435"/>
                </a:cubicBezTo>
                <a:cubicBezTo>
                  <a:pt x="944739" y="2440703"/>
                  <a:pt x="929540" y="2438135"/>
                  <a:pt x="914400" y="2435382"/>
                </a:cubicBezTo>
                <a:cubicBezTo>
                  <a:pt x="884826" y="2430005"/>
                  <a:pt x="844612" y="2424725"/>
                  <a:pt x="814812" y="2417275"/>
                </a:cubicBezTo>
                <a:cubicBezTo>
                  <a:pt x="805554" y="2414960"/>
                  <a:pt x="796968" y="2410291"/>
                  <a:pt x="787652" y="2408221"/>
                </a:cubicBezTo>
                <a:cubicBezTo>
                  <a:pt x="714944" y="2392063"/>
                  <a:pt x="754021" y="2406603"/>
                  <a:pt x="688064" y="2390114"/>
                </a:cubicBezTo>
                <a:cubicBezTo>
                  <a:pt x="678806" y="2387799"/>
                  <a:pt x="670219" y="2383131"/>
                  <a:pt x="660903" y="2381061"/>
                </a:cubicBezTo>
                <a:cubicBezTo>
                  <a:pt x="642983" y="2377079"/>
                  <a:pt x="624582" y="2375607"/>
                  <a:pt x="606582" y="2372007"/>
                </a:cubicBezTo>
                <a:cubicBezTo>
                  <a:pt x="578163" y="2366323"/>
                  <a:pt x="569094" y="2362529"/>
                  <a:pt x="543208" y="2353901"/>
                </a:cubicBezTo>
                <a:cubicBezTo>
                  <a:pt x="534155" y="2347865"/>
                  <a:pt x="525780" y="2340660"/>
                  <a:pt x="516048" y="2335794"/>
                </a:cubicBezTo>
                <a:cubicBezTo>
                  <a:pt x="500832" y="2328186"/>
                  <a:pt x="467182" y="2322040"/>
                  <a:pt x="452674" y="2317687"/>
                </a:cubicBezTo>
                <a:cubicBezTo>
                  <a:pt x="434392" y="2312203"/>
                  <a:pt x="398353" y="2299580"/>
                  <a:pt x="398353" y="2299580"/>
                </a:cubicBezTo>
                <a:cubicBezTo>
                  <a:pt x="330161" y="2254120"/>
                  <a:pt x="416829" y="2307499"/>
                  <a:pt x="334978" y="2272419"/>
                </a:cubicBezTo>
                <a:cubicBezTo>
                  <a:pt x="247455" y="2234908"/>
                  <a:pt x="375564" y="2271247"/>
                  <a:pt x="271604" y="2245259"/>
                </a:cubicBezTo>
                <a:cubicBezTo>
                  <a:pt x="233751" y="2220023"/>
                  <a:pt x="216715" y="2213796"/>
                  <a:pt x="190123" y="2181885"/>
                </a:cubicBezTo>
                <a:cubicBezTo>
                  <a:pt x="105649" y="2080515"/>
                  <a:pt x="258971" y="2248926"/>
                  <a:pt x="144856" y="2118510"/>
                </a:cubicBezTo>
                <a:cubicBezTo>
                  <a:pt x="133614" y="2105663"/>
                  <a:pt x="119123" y="2095772"/>
                  <a:pt x="108642" y="2082297"/>
                </a:cubicBezTo>
                <a:cubicBezTo>
                  <a:pt x="97838" y="2068407"/>
                  <a:pt x="91242" y="2051671"/>
                  <a:pt x="81481" y="2037029"/>
                </a:cubicBezTo>
                <a:cubicBezTo>
                  <a:pt x="73111" y="2024474"/>
                  <a:pt x="63091" y="2013093"/>
                  <a:pt x="54321" y="2000815"/>
                </a:cubicBezTo>
                <a:cubicBezTo>
                  <a:pt x="47997" y="1991961"/>
                  <a:pt x="42250" y="1982708"/>
                  <a:pt x="36214" y="1973655"/>
                </a:cubicBezTo>
                <a:cubicBezTo>
                  <a:pt x="30178" y="1955548"/>
                  <a:pt x="21245" y="1938161"/>
                  <a:pt x="18107" y="1919334"/>
                </a:cubicBezTo>
                <a:cubicBezTo>
                  <a:pt x="7485" y="1855600"/>
                  <a:pt x="14859" y="1882428"/>
                  <a:pt x="0" y="1837853"/>
                </a:cubicBezTo>
                <a:cubicBezTo>
                  <a:pt x="3018" y="1714122"/>
                  <a:pt x="3792" y="1590317"/>
                  <a:pt x="9054" y="1466661"/>
                </a:cubicBezTo>
                <a:cubicBezTo>
                  <a:pt x="10358" y="1436019"/>
                  <a:pt x="26661" y="1375714"/>
                  <a:pt x="36214" y="1348966"/>
                </a:cubicBezTo>
                <a:cubicBezTo>
                  <a:pt x="43944" y="1327322"/>
                  <a:pt x="54321" y="1306717"/>
                  <a:pt x="63375" y="1285592"/>
                </a:cubicBezTo>
                <a:cubicBezTo>
                  <a:pt x="71733" y="1235440"/>
                  <a:pt x="70608" y="1224776"/>
                  <a:pt x="90535" y="1176950"/>
                </a:cubicBezTo>
                <a:cubicBezTo>
                  <a:pt x="98321" y="1158263"/>
                  <a:pt x="109581" y="1141176"/>
                  <a:pt x="117695" y="1122629"/>
                </a:cubicBezTo>
                <a:cubicBezTo>
                  <a:pt x="130723" y="1092851"/>
                  <a:pt x="139373" y="1061166"/>
                  <a:pt x="153909" y="1032095"/>
                </a:cubicBezTo>
                <a:cubicBezTo>
                  <a:pt x="159945" y="1020024"/>
                  <a:pt x="165072" y="1007454"/>
                  <a:pt x="172016" y="995881"/>
                </a:cubicBezTo>
                <a:cubicBezTo>
                  <a:pt x="183212" y="977220"/>
                  <a:pt x="198498" y="961024"/>
                  <a:pt x="208230" y="941560"/>
                </a:cubicBezTo>
                <a:cubicBezTo>
                  <a:pt x="214266" y="929489"/>
                  <a:pt x="219184" y="916791"/>
                  <a:pt x="226337" y="905346"/>
                </a:cubicBezTo>
                <a:cubicBezTo>
                  <a:pt x="278135" y="822468"/>
                  <a:pt x="226541" y="917145"/>
                  <a:pt x="289711" y="832918"/>
                </a:cubicBezTo>
                <a:cubicBezTo>
                  <a:pt x="306793" y="810142"/>
                  <a:pt x="314847" y="780622"/>
                  <a:pt x="334978" y="760491"/>
                </a:cubicBezTo>
                <a:lnTo>
                  <a:pt x="389299" y="706170"/>
                </a:lnTo>
                <a:cubicBezTo>
                  <a:pt x="398353" y="697116"/>
                  <a:pt x="406217" y="686691"/>
                  <a:pt x="416460" y="679009"/>
                </a:cubicBezTo>
                <a:cubicBezTo>
                  <a:pt x="428531" y="669956"/>
                  <a:pt x="441551" y="662045"/>
                  <a:pt x="452674" y="651849"/>
                </a:cubicBezTo>
                <a:cubicBezTo>
                  <a:pt x="477842" y="628778"/>
                  <a:pt x="497787" y="599906"/>
                  <a:pt x="525101" y="579421"/>
                </a:cubicBezTo>
                <a:cubicBezTo>
                  <a:pt x="537172" y="570368"/>
                  <a:pt x="548760" y="560631"/>
                  <a:pt x="561315" y="552261"/>
                </a:cubicBezTo>
                <a:cubicBezTo>
                  <a:pt x="575956" y="542500"/>
                  <a:pt x="592692" y="535904"/>
                  <a:pt x="606582" y="525101"/>
                </a:cubicBezTo>
                <a:cubicBezTo>
                  <a:pt x="620057" y="514620"/>
                  <a:pt x="629321" y="499368"/>
                  <a:pt x="642796" y="488887"/>
                </a:cubicBezTo>
                <a:cubicBezTo>
                  <a:pt x="656686" y="478083"/>
                  <a:pt x="673745" y="471954"/>
                  <a:pt x="688064" y="461726"/>
                </a:cubicBezTo>
                <a:cubicBezTo>
                  <a:pt x="716063" y="441727"/>
                  <a:pt x="740040" y="416055"/>
                  <a:pt x="769545" y="398352"/>
                </a:cubicBezTo>
                <a:cubicBezTo>
                  <a:pt x="784634" y="389299"/>
                  <a:pt x="800493" y="381420"/>
                  <a:pt x="814812" y="371192"/>
                </a:cubicBezTo>
                <a:cubicBezTo>
                  <a:pt x="842811" y="351192"/>
                  <a:pt x="864345" y="320596"/>
                  <a:pt x="896293" y="307817"/>
                </a:cubicBezTo>
                <a:cubicBezTo>
                  <a:pt x="1003988" y="264739"/>
                  <a:pt x="871502" y="321339"/>
                  <a:pt x="995881" y="253497"/>
                </a:cubicBezTo>
                <a:cubicBezTo>
                  <a:pt x="1026154" y="236985"/>
                  <a:pt x="1064155" y="230331"/>
                  <a:pt x="1095470" y="217283"/>
                </a:cubicBezTo>
                <a:cubicBezTo>
                  <a:pt x="1114157" y="209497"/>
                  <a:pt x="1131103" y="197908"/>
                  <a:pt x="1149790" y="190122"/>
                </a:cubicBezTo>
                <a:cubicBezTo>
                  <a:pt x="1183075" y="176253"/>
                  <a:pt x="1233965" y="164383"/>
                  <a:pt x="1267485" y="153908"/>
                </a:cubicBezTo>
                <a:cubicBezTo>
                  <a:pt x="1400253" y="112419"/>
                  <a:pt x="1296830" y="138334"/>
                  <a:pt x="1430448" y="108641"/>
                </a:cubicBezTo>
                <a:cubicBezTo>
                  <a:pt x="1448555" y="99588"/>
                  <a:pt x="1465874" y="88748"/>
                  <a:pt x="1484769" y="81481"/>
                </a:cubicBezTo>
                <a:cubicBezTo>
                  <a:pt x="1534342" y="62415"/>
                  <a:pt x="1559728" y="61719"/>
                  <a:pt x="1611517" y="54320"/>
                </a:cubicBezTo>
                <a:cubicBezTo>
                  <a:pt x="1629624" y="48284"/>
                  <a:pt x="1647321" y="40842"/>
                  <a:pt x="1665838" y="36213"/>
                </a:cubicBezTo>
                <a:cubicBezTo>
                  <a:pt x="1683647" y="31761"/>
                  <a:pt x="1702098" y="30444"/>
                  <a:pt x="1720159" y="27160"/>
                </a:cubicBezTo>
                <a:cubicBezTo>
                  <a:pt x="1735299" y="24407"/>
                  <a:pt x="1750157" y="20015"/>
                  <a:pt x="1765426" y="18106"/>
                </a:cubicBezTo>
                <a:cubicBezTo>
                  <a:pt x="1816973" y="11663"/>
                  <a:pt x="1946417" y="3239"/>
                  <a:pt x="1991763" y="0"/>
                </a:cubicBezTo>
                <a:cubicBezTo>
                  <a:pt x="2127565" y="3018"/>
                  <a:pt x="2263543" y="1518"/>
                  <a:pt x="2399169" y="9053"/>
                </a:cubicBezTo>
                <a:cubicBezTo>
                  <a:pt x="2416530" y="10018"/>
                  <a:pt x="2532736" y="40573"/>
                  <a:pt x="2553077" y="45267"/>
                </a:cubicBezTo>
                <a:cubicBezTo>
                  <a:pt x="2682153" y="75053"/>
                  <a:pt x="2485873" y="22648"/>
                  <a:pt x="2670773" y="81481"/>
                </a:cubicBezTo>
                <a:cubicBezTo>
                  <a:pt x="2712645" y="94804"/>
                  <a:pt x="2756379" y="102267"/>
                  <a:pt x="2797521" y="117695"/>
                </a:cubicBezTo>
                <a:cubicBezTo>
                  <a:pt x="2821664" y="126748"/>
                  <a:pt x="2845488" y="136701"/>
                  <a:pt x="2869949" y="144855"/>
                </a:cubicBezTo>
                <a:cubicBezTo>
                  <a:pt x="3115779" y="226798"/>
                  <a:pt x="2705074" y="78725"/>
                  <a:pt x="3014804" y="199176"/>
                </a:cubicBezTo>
                <a:cubicBezTo>
                  <a:pt x="3041487" y="209553"/>
                  <a:pt x="3069812" y="215435"/>
                  <a:pt x="3096285" y="226336"/>
                </a:cubicBezTo>
                <a:cubicBezTo>
                  <a:pt x="3121244" y="236613"/>
                  <a:pt x="3144175" y="251304"/>
                  <a:pt x="3168713" y="262550"/>
                </a:cubicBezTo>
                <a:cubicBezTo>
                  <a:pt x="3198453" y="276181"/>
                  <a:pt x="3338050" y="333370"/>
                  <a:pt x="3385996" y="362138"/>
                </a:cubicBezTo>
                <a:cubicBezTo>
                  <a:pt x="3438394" y="393577"/>
                  <a:pt x="3486489" y="432050"/>
                  <a:pt x="3539905" y="461726"/>
                </a:cubicBezTo>
                <a:cubicBezTo>
                  <a:pt x="3567065" y="476815"/>
                  <a:pt x="3595300" y="490115"/>
                  <a:pt x="3621386" y="506994"/>
                </a:cubicBezTo>
                <a:cubicBezTo>
                  <a:pt x="3790629" y="616504"/>
                  <a:pt x="3571427" y="507406"/>
                  <a:pt x="3847723" y="660903"/>
                </a:cubicBezTo>
                <a:cubicBezTo>
                  <a:pt x="3874883" y="675992"/>
                  <a:pt x="3901709" y="691699"/>
                  <a:pt x="3929204" y="706170"/>
                </a:cubicBezTo>
                <a:cubicBezTo>
                  <a:pt x="3959061" y="721884"/>
                  <a:pt x="3991127" y="733555"/>
                  <a:pt x="4019739" y="751437"/>
                </a:cubicBezTo>
                <a:cubicBezTo>
                  <a:pt x="4039726" y="763929"/>
                  <a:pt x="4055526" y="782143"/>
                  <a:pt x="4074060" y="796705"/>
                </a:cubicBezTo>
                <a:cubicBezTo>
                  <a:pt x="4097789" y="815350"/>
                  <a:pt x="4121930" y="833485"/>
                  <a:pt x="4146487" y="851025"/>
                </a:cubicBezTo>
                <a:cubicBezTo>
                  <a:pt x="4164195" y="863674"/>
                  <a:pt x="4183630" y="873878"/>
                  <a:pt x="4200808" y="887239"/>
                </a:cubicBezTo>
                <a:cubicBezTo>
                  <a:pt x="4238018" y="916180"/>
                  <a:pt x="4273236" y="947596"/>
                  <a:pt x="4309450" y="977774"/>
                </a:cubicBezTo>
                <a:lnTo>
                  <a:pt x="4363771" y="1023041"/>
                </a:lnTo>
                <a:lnTo>
                  <a:pt x="4418091" y="1068308"/>
                </a:lnTo>
                <a:cubicBezTo>
                  <a:pt x="4436198" y="1083397"/>
                  <a:pt x="4453232" y="1099876"/>
                  <a:pt x="4472412" y="1113576"/>
                </a:cubicBezTo>
                <a:cubicBezTo>
                  <a:pt x="4493537" y="1128665"/>
                  <a:pt x="4516577" y="1141380"/>
                  <a:pt x="4535786" y="1158843"/>
                </a:cubicBezTo>
                <a:cubicBezTo>
                  <a:pt x="4550084" y="1171841"/>
                  <a:pt x="4557637" y="1191183"/>
                  <a:pt x="4572000" y="1204110"/>
                </a:cubicBezTo>
                <a:cubicBezTo>
                  <a:pt x="4588176" y="1218668"/>
                  <a:pt x="4609034" y="1227105"/>
                  <a:pt x="4626321" y="1240324"/>
                </a:cubicBezTo>
                <a:cubicBezTo>
                  <a:pt x="4660392" y="1266379"/>
                  <a:pt x="4692620" y="1294759"/>
                  <a:pt x="4725909" y="1321806"/>
                </a:cubicBezTo>
                <a:cubicBezTo>
                  <a:pt x="4740906" y="1333991"/>
                  <a:pt x="4771177" y="1358019"/>
                  <a:pt x="4771177" y="1358019"/>
                </a:cubicBezTo>
                <a:cubicBezTo>
                  <a:pt x="4789181" y="1388027"/>
                  <a:pt x="4802287" y="1413389"/>
                  <a:pt x="4825497" y="1439501"/>
                </a:cubicBezTo>
                <a:cubicBezTo>
                  <a:pt x="4839674" y="1455450"/>
                  <a:pt x="4856878" y="1468566"/>
                  <a:pt x="4870765" y="1484768"/>
                </a:cubicBezTo>
                <a:cubicBezTo>
                  <a:pt x="4893158" y="1510893"/>
                  <a:pt x="4913160" y="1538976"/>
                  <a:pt x="4934139" y="1566249"/>
                </a:cubicBezTo>
                <a:cubicBezTo>
                  <a:pt x="4943339" y="1578209"/>
                  <a:pt x="4953198" y="1589733"/>
                  <a:pt x="4961299" y="1602463"/>
                </a:cubicBezTo>
                <a:cubicBezTo>
                  <a:pt x="4982424" y="1635659"/>
                  <a:pt x="5007078" y="1666857"/>
                  <a:pt x="5024674" y="1702051"/>
                </a:cubicBezTo>
                <a:lnTo>
                  <a:pt x="5060887" y="1774479"/>
                </a:lnTo>
                <a:lnTo>
                  <a:pt x="5078994" y="1810693"/>
                </a:lnTo>
                <a:cubicBezTo>
                  <a:pt x="5082012" y="1828800"/>
                  <a:pt x="5084448" y="1847013"/>
                  <a:pt x="5088048" y="1865013"/>
                </a:cubicBezTo>
                <a:cubicBezTo>
                  <a:pt x="5090488" y="1877214"/>
                  <a:pt x="5094402" y="1889080"/>
                  <a:pt x="5097101" y="1901227"/>
                </a:cubicBezTo>
                <a:cubicBezTo>
                  <a:pt x="5100439" y="1916249"/>
                  <a:pt x="5102817" y="1931473"/>
                  <a:pt x="5106155" y="1946495"/>
                </a:cubicBezTo>
                <a:cubicBezTo>
                  <a:pt x="5108854" y="1958641"/>
                  <a:pt x="5112768" y="1970507"/>
                  <a:pt x="5115208" y="1982708"/>
                </a:cubicBezTo>
                <a:cubicBezTo>
                  <a:pt x="5118808" y="2000708"/>
                  <a:pt x="5121244" y="2018922"/>
                  <a:pt x="5124262" y="2037029"/>
                </a:cubicBezTo>
                <a:cubicBezTo>
                  <a:pt x="5122597" y="2120285"/>
                  <a:pt x="5162453" y="2370488"/>
                  <a:pt x="5106155" y="2516863"/>
                </a:cubicBezTo>
                <a:cubicBezTo>
                  <a:pt x="5094487" y="2547200"/>
                  <a:pt x="5080220" y="2576563"/>
                  <a:pt x="5069941" y="2607398"/>
                </a:cubicBezTo>
                <a:cubicBezTo>
                  <a:pt x="5057255" y="2645454"/>
                  <a:pt x="5062233" y="2637065"/>
                  <a:pt x="5033727" y="2679825"/>
                </a:cubicBezTo>
                <a:cubicBezTo>
                  <a:pt x="5025357" y="2692380"/>
                  <a:pt x="5017236" y="2705369"/>
                  <a:pt x="5006567" y="2716039"/>
                </a:cubicBezTo>
                <a:cubicBezTo>
                  <a:pt x="4995897" y="2726709"/>
                  <a:pt x="4981518" y="2733050"/>
                  <a:pt x="4970353" y="2743200"/>
                </a:cubicBezTo>
                <a:cubicBezTo>
                  <a:pt x="4942090" y="2768893"/>
                  <a:pt x="4895050" y="2828658"/>
                  <a:pt x="4852658" y="2842788"/>
                </a:cubicBezTo>
                <a:lnTo>
                  <a:pt x="4825497" y="2851841"/>
                </a:lnTo>
                <a:cubicBezTo>
                  <a:pt x="4763451" y="2893206"/>
                  <a:pt x="4840407" y="2842523"/>
                  <a:pt x="4753070" y="2897108"/>
                </a:cubicBezTo>
                <a:cubicBezTo>
                  <a:pt x="4726803" y="2913525"/>
                  <a:pt x="4720604" y="2921731"/>
                  <a:pt x="4689695" y="2933322"/>
                </a:cubicBezTo>
                <a:cubicBezTo>
                  <a:pt x="4678044" y="2937691"/>
                  <a:pt x="4665552" y="2939358"/>
                  <a:pt x="4653481" y="2942376"/>
                </a:cubicBezTo>
                <a:cubicBezTo>
                  <a:pt x="4606215" y="2973887"/>
                  <a:pt x="4647318" y="2951464"/>
                  <a:pt x="4581054" y="2969536"/>
                </a:cubicBezTo>
                <a:cubicBezTo>
                  <a:pt x="4581017" y="2969546"/>
                  <a:pt x="4513171" y="2992164"/>
                  <a:pt x="4499573" y="2996697"/>
                </a:cubicBezTo>
                <a:cubicBezTo>
                  <a:pt x="4490519" y="2999715"/>
                  <a:pt x="4481859" y="3004400"/>
                  <a:pt x="4472412" y="3005750"/>
                </a:cubicBezTo>
                <a:lnTo>
                  <a:pt x="4409038" y="3014804"/>
                </a:lnTo>
                <a:cubicBezTo>
                  <a:pt x="4122347" y="3005555"/>
                  <a:pt x="4128380" y="3099351"/>
                  <a:pt x="4128380" y="2987643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ounded Rectangular Callout 10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3"/>
          <a:stretch/>
        </p:blipFill>
        <p:spPr>
          <a:xfrm>
            <a:off x="3048120" y="2370240"/>
            <a:ext cx="39956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El monstruo tiene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ounded Rectangular Callout 6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3"/>
          <a:stretch/>
        </p:blipFill>
        <p:spPr>
          <a:xfrm>
            <a:off x="3048120" y="2370240"/>
            <a:ext cx="3995640" cy="2859120"/>
          </a:xfrm>
          <a:prstGeom prst="rect">
            <a:avLst/>
          </a:prstGeom>
          <a:ln w="0">
            <a:noFill/>
          </a:ln>
        </p:spPr>
      </p:pic>
      <p:sp>
        <p:nvSpPr>
          <p:cNvPr id="177" name="Freeform 3"/>
          <p:cNvSpPr/>
          <p:nvPr/>
        </p:nvSpPr>
        <p:spPr>
          <a:xfrm>
            <a:off x="3809880" y="1674720"/>
            <a:ext cx="3333960" cy="2465640"/>
          </a:xfrm>
          <a:custGeom>
            <a:avLst/>
            <a:gdLst/>
            <a:ahLst/>
            <a:rect l="l" t="t" r="r" b="b"/>
            <a:pathLst>
              <a:path w="3332552" h="2465604">
                <a:moveTo>
                  <a:pt x="877" y="1113576"/>
                </a:moveTo>
                <a:cubicBezTo>
                  <a:pt x="15966" y="1131683"/>
                  <a:pt x="33070" y="1148286"/>
                  <a:pt x="46144" y="1167897"/>
                </a:cubicBezTo>
                <a:cubicBezTo>
                  <a:pt x="51438" y="1175838"/>
                  <a:pt x="50930" y="1186522"/>
                  <a:pt x="55198" y="1195058"/>
                </a:cubicBezTo>
                <a:cubicBezTo>
                  <a:pt x="60064" y="1204790"/>
                  <a:pt x="67907" y="1212771"/>
                  <a:pt x="73305" y="1222218"/>
                </a:cubicBezTo>
                <a:cubicBezTo>
                  <a:pt x="128986" y="1319659"/>
                  <a:pt x="39033" y="1179863"/>
                  <a:pt x="127625" y="1312753"/>
                </a:cubicBezTo>
                <a:cubicBezTo>
                  <a:pt x="133661" y="1321806"/>
                  <a:pt x="138038" y="1332219"/>
                  <a:pt x="145732" y="1339913"/>
                </a:cubicBezTo>
                <a:cubicBezTo>
                  <a:pt x="154786" y="1348966"/>
                  <a:pt x="162786" y="1359212"/>
                  <a:pt x="172893" y="1367073"/>
                </a:cubicBezTo>
                <a:cubicBezTo>
                  <a:pt x="195397" y="1384576"/>
                  <a:pt x="234445" y="1409801"/>
                  <a:pt x="263427" y="1421394"/>
                </a:cubicBezTo>
                <a:cubicBezTo>
                  <a:pt x="307086" y="1438858"/>
                  <a:pt x="353127" y="1449226"/>
                  <a:pt x="399229" y="1457608"/>
                </a:cubicBezTo>
                <a:cubicBezTo>
                  <a:pt x="422814" y="1461896"/>
                  <a:pt x="495576" y="1473682"/>
                  <a:pt x="516924" y="1475715"/>
                </a:cubicBezTo>
                <a:cubicBezTo>
                  <a:pt x="559090" y="1479731"/>
                  <a:pt x="601475" y="1481099"/>
                  <a:pt x="643673" y="1484768"/>
                </a:cubicBezTo>
                <a:cubicBezTo>
                  <a:pt x="670898" y="1487135"/>
                  <a:pt x="697994" y="1490804"/>
                  <a:pt x="725154" y="1493822"/>
                </a:cubicBezTo>
                <a:cubicBezTo>
                  <a:pt x="728805" y="1498690"/>
                  <a:pt x="765605" y="1546360"/>
                  <a:pt x="770421" y="1557196"/>
                </a:cubicBezTo>
                <a:cubicBezTo>
                  <a:pt x="778173" y="1574637"/>
                  <a:pt x="782492" y="1593410"/>
                  <a:pt x="788528" y="1611517"/>
                </a:cubicBezTo>
                <a:lnTo>
                  <a:pt x="806635" y="1665838"/>
                </a:lnTo>
                <a:cubicBezTo>
                  <a:pt x="809653" y="1674891"/>
                  <a:pt x="810395" y="1685058"/>
                  <a:pt x="815689" y="1692998"/>
                </a:cubicBezTo>
                <a:lnTo>
                  <a:pt x="851903" y="1747319"/>
                </a:lnTo>
                <a:cubicBezTo>
                  <a:pt x="857939" y="1756372"/>
                  <a:pt x="862316" y="1766785"/>
                  <a:pt x="870010" y="1774479"/>
                </a:cubicBezTo>
                <a:cubicBezTo>
                  <a:pt x="879063" y="1783533"/>
                  <a:pt x="888838" y="1791919"/>
                  <a:pt x="897170" y="1801640"/>
                </a:cubicBezTo>
                <a:cubicBezTo>
                  <a:pt x="921472" y="1829993"/>
                  <a:pt x="922604" y="1842547"/>
                  <a:pt x="951491" y="1865014"/>
                </a:cubicBezTo>
                <a:cubicBezTo>
                  <a:pt x="958316" y="1870322"/>
                  <a:pt x="1037395" y="1922914"/>
                  <a:pt x="1051079" y="1928388"/>
                </a:cubicBezTo>
                <a:lnTo>
                  <a:pt x="1096346" y="1946495"/>
                </a:lnTo>
                <a:cubicBezTo>
                  <a:pt x="1141613" y="1943477"/>
                  <a:pt x="1187161" y="1943310"/>
                  <a:pt x="1232148" y="1937442"/>
                </a:cubicBezTo>
                <a:cubicBezTo>
                  <a:pt x="1256825" y="1934223"/>
                  <a:pt x="1304576" y="1919335"/>
                  <a:pt x="1304576" y="1919335"/>
                </a:cubicBezTo>
                <a:cubicBezTo>
                  <a:pt x="1316647" y="1913299"/>
                  <a:pt x="1327986" y="1896960"/>
                  <a:pt x="1340790" y="1901228"/>
                </a:cubicBezTo>
                <a:cubicBezTo>
                  <a:pt x="1357598" y="1906831"/>
                  <a:pt x="1365578" y="1974802"/>
                  <a:pt x="1367950" y="1982709"/>
                </a:cubicBezTo>
                <a:cubicBezTo>
                  <a:pt x="1372620" y="1998275"/>
                  <a:pt x="1380351" y="2012759"/>
                  <a:pt x="1386057" y="2027976"/>
                </a:cubicBezTo>
                <a:cubicBezTo>
                  <a:pt x="1389408" y="2036912"/>
                  <a:pt x="1391352" y="2046365"/>
                  <a:pt x="1395111" y="2055137"/>
                </a:cubicBezTo>
                <a:cubicBezTo>
                  <a:pt x="1402923" y="2073364"/>
                  <a:pt x="1417955" y="2102468"/>
                  <a:pt x="1431324" y="2118511"/>
                </a:cubicBezTo>
                <a:cubicBezTo>
                  <a:pt x="1439521" y="2128347"/>
                  <a:pt x="1446174" y="2142154"/>
                  <a:pt x="1458485" y="2145671"/>
                </a:cubicBezTo>
                <a:cubicBezTo>
                  <a:pt x="1490535" y="2154828"/>
                  <a:pt x="1524877" y="2151707"/>
                  <a:pt x="1558073" y="2154725"/>
                </a:cubicBezTo>
                <a:cubicBezTo>
                  <a:pt x="1564109" y="2172832"/>
                  <a:pt x="1572437" y="2190330"/>
                  <a:pt x="1576180" y="2209046"/>
                </a:cubicBezTo>
                <a:cubicBezTo>
                  <a:pt x="1582657" y="2241434"/>
                  <a:pt x="1580027" y="2258161"/>
                  <a:pt x="1603340" y="2281473"/>
                </a:cubicBezTo>
                <a:cubicBezTo>
                  <a:pt x="1611034" y="2289167"/>
                  <a:pt x="1621447" y="2293544"/>
                  <a:pt x="1630501" y="2299580"/>
                </a:cubicBezTo>
                <a:cubicBezTo>
                  <a:pt x="1684822" y="2296562"/>
                  <a:pt x="1739282" y="2295453"/>
                  <a:pt x="1793463" y="2290527"/>
                </a:cubicBezTo>
                <a:cubicBezTo>
                  <a:pt x="1805855" y="2289400"/>
                  <a:pt x="1817759" y="2285048"/>
                  <a:pt x="1829677" y="2281473"/>
                </a:cubicBezTo>
                <a:cubicBezTo>
                  <a:pt x="1847958" y="2275988"/>
                  <a:pt x="1883998" y="2263366"/>
                  <a:pt x="1883998" y="2263366"/>
                </a:cubicBezTo>
                <a:cubicBezTo>
                  <a:pt x="1959326" y="2282199"/>
                  <a:pt x="1883066" y="2255045"/>
                  <a:pt x="1947372" y="2308634"/>
                </a:cubicBezTo>
                <a:cubicBezTo>
                  <a:pt x="1954703" y="2314743"/>
                  <a:pt x="1965761" y="2313928"/>
                  <a:pt x="1974532" y="2317687"/>
                </a:cubicBezTo>
                <a:cubicBezTo>
                  <a:pt x="2058916" y="2353851"/>
                  <a:pt x="1963503" y="2321003"/>
                  <a:pt x="2046960" y="2344848"/>
                </a:cubicBezTo>
                <a:cubicBezTo>
                  <a:pt x="2056136" y="2347470"/>
                  <a:pt x="2064913" y="2351390"/>
                  <a:pt x="2074120" y="2353901"/>
                </a:cubicBezTo>
                <a:cubicBezTo>
                  <a:pt x="2098129" y="2360449"/>
                  <a:pt x="2146548" y="2372008"/>
                  <a:pt x="2146548" y="2372008"/>
                </a:cubicBezTo>
                <a:cubicBezTo>
                  <a:pt x="2212940" y="2368990"/>
                  <a:pt x="2279459" y="2368052"/>
                  <a:pt x="2345724" y="2362955"/>
                </a:cubicBezTo>
                <a:cubicBezTo>
                  <a:pt x="2358130" y="2362001"/>
                  <a:pt x="2370501" y="2358803"/>
                  <a:pt x="2381938" y="2353901"/>
                </a:cubicBezTo>
                <a:cubicBezTo>
                  <a:pt x="2391939" y="2349615"/>
                  <a:pt x="2400045" y="2341830"/>
                  <a:pt x="2409099" y="2335794"/>
                </a:cubicBezTo>
                <a:cubicBezTo>
                  <a:pt x="2421170" y="2341830"/>
                  <a:pt x="2435770" y="2344358"/>
                  <a:pt x="2445313" y="2353901"/>
                </a:cubicBezTo>
                <a:cubicBezTo>
                  <a:pt x="2452061" y="2360649"/>
                  <a:pt x="2447618" y="2374313"/>
                  <a:pt x="2454366" y="2381061"/>
                </a:cubicBezTo>
                <a:cubicBezTo>
                  <a:pt x="2465552" y="2392247"/>
                  <a:pt x="2501509" y="2402811"/>
                  <a:pt x="2517740" y="2408222"/>
                </a:cubicBezTo>
                <a:cubicBezTo>
                  <a:pt x="2563007" y="2405204"/>
                  <a:pt x="2608791" y="2406627"/>
                  <a:pt x="2653542" y="2399168"/>
                </a:cubicBezTo>
                <a:cubicBezTo>
                  <a:pt x="2664275" y="2397379"/>
                  <a:pt x="2670971" y="2385927"/>
                  <a:pt x="2680703" y="2381061"/>
                </a:cubicBezTo>
                <a:cubicBezTo>
                  <a:pt x="2689239" y="2376793"/>
                  <a:pt x="2698810" y="2375026"/>
                  <a:pt x="2707863" y="2372008"/>
                </a:cubicBezTo>
                <a:cubicBezTo>
                  <a:pt x="2716916" y="2381061"/>
                  <a:pt x="2725187" y="2390972"/>
                  <a:pt x="2735023" y="2399168"/>
                </a:cubicBezTo>
                <a:cubicBezTo>
                  <a:pt x="2787861" y="2443200"/>
                  <a:pt x="2816135" y="2420647"/>
                  <a:pt x="2907039" y="2426329"/>
                </a:cubicBezTo>
                <a:cubicBezTo>
                  <a:pt x="2919110" y="2435382"/>
                  <a:pt x="2930152" y="2446003"/>
                  <a:pt x="2943253" y="2453489"/>
                </a:cubicBezTo>
                <a:cubicBezTo>
                  <a:pt x="2990491" y="2480482"/>
                  <a:pt x="3115312" y="2454019"/>
                  <a:pt x="3124322" y="2453489"/>
                </a:cubicBezTo>
                <a:cubicBezTo>
                  <a:pt x="3147461" y="2450184"/>
                  <a:pt x="3197639" y="2445234"/>
                  <a:pt x="3223911" y="2435382"/>
                </a:cubicBezTo>
                <a:cubicBezTo>
                  <a:pt x="3236548" y="2430643"/>
                  <a:pt x="3248053" y="2423311"/>
                  <a:pt x="3260124" y="2417275"/>
                </a:cubicBezTo>
                <a:cubicBezTo>
                  <a:pt x="3303249" y="2359776"/>
                  <a:pt x="3277461" y="2405010"/>
                  <a:pt x="3296338" y="2335794"/>
                </a:cubicBezTo>
                <a:cubicBezTo>
                  <a:pt x="3301360" y="2317380"/>
                  <a:pt x="3308409" y="2299580"/>
                  <a:pt x="3314445" y="2281473"/>
                </a:cubicBezTo>
                <a:cubicBezTo>
                  <a:pt x="3317463" y="2272420"/>
                  <a:pt x="3321628" y="2263671"/>
                  <a:pt x="3323499" y="2254313"/>
                </a:cubicBezTo>
                <a:lnTo>
                  <a:pt x="3332552" y="2209046"/>
                </a:lnTo>
                <a:cubicBezTo>
                  <a:pt x="3329534" y="2097386"/>
                  <a:pt x="3330929" y="1985520"/>
                  <a:pt x="3323499" y="1874067"/>
                </a:cubicBezTo>
                <a:cubicBezTo>
                  <a:pt x="3321844" y="1849237"/>
                  <a:pt x="3313262" y="1825248"/>
                  <a:pt x="3305392" y="1801640"/>
                </a:cubicBezTo>
                <a:cubicBezTo>
                  <a:pt x="3295437" y="1771777"/>
                  <a:pt x="3292665" y="1761688"/>
                  <a:pt x="3278231" y="1729212"/>
                </a:cubicBezTo>
                <a:cubicBezTo>
                  <a:pt x="3272750" y="1716879"/>
                  <a:pt x="3265605" y="1705331"/>
                  <a:pt x="3260124" y="1692998"/>
                </a:cubicBezTo>
                <a:cubicBezTo>
                  <a:pt x="3213886" y="1588961"/>
                  <a:pt x="3268486" y="1700667"/>
                  <a:pt x="3223911" y="1611517"/>
                </a:cubicBezTo>
                <a:cubicBezTo>
                  <a:pt x="3206905" y="1526494"/>
                  <a:pt x="3226976" y="1606200"/>
                  <a:pt x="3187697" y="1511929"/>
                </a:cubicBezTo>
                <a:cubicBezTo>
                  <a:pt x="3180356" y="1494311"/>
                  <a:pt x="3179410" y="1473975"/>
                  <a:pt x="3169590" y="1457608"/>
                </a:cubicBezTo>
                <a:cubicBezTo>
                  <a:pt x="3151887" y="1428103"/>
                  <a:pt x="3121604" y="1406903"/>
                  <a:pt x="3106216" y="1376127"/>
                </a:cubicBezTo>
                <a:cubicBezTo>
                  <a:pt x="3084035" y="1331766"/>
                  <a:pt x="3074469" y="1307020"/>
                  <a:pt x="3042841" y="1267485"/>
                </a:cubicBezTo>
                <a:cubicBezTo>
                  <a:pt x="3032177" y="1254154"/>
                  <a:pt x="3017969" y="1244030"/>
                  <a:pt x="3006627" y="1231271"/>
                </a:cubicBezTo>
                <a:cubicBezTo>
                  <a:pt x="2993789" y="1216829"/>
                  <a:pt x="2983412" y="1200302"/>
                  <a:pt x="2970414" y="1186004"/>
                </a:cubicBezTo>
                <a:cubicBezTo>
                  <a:pt x="2953189" y="1167056"/>
                  <a:pt x="2933106" y="1150822"/>
                  <a:pt x="2916093" y="1131683"/>
                </a:cubicBezTo>
                <a:cubicBezTo>
                  <a:pt x="2884775" y="1096450"/>
                  <a:pt x="2852957" y="1061401"/>
                  <a:pt x="2825558" y="1023042"/>
                </a:cubicBezTo>
                <a:cubicBezTo>
                  <a:pt x="2810469" y="1001917"/>
                  <a:pt x="2797601" y="979014"/>
                  <a:pt x="2780291" y="959667"/>
                </a:cubicBezTo>
                <a:cubicBezTo>
                  <a:pt x="2746142" y="921500"/>
                  <a:pt x="2710534" y="884356"/>
                  <a:pt x="2671649" y="851026"/>
                </a:cubicBezTo>
                <a:cubicBezTo>
                  <a:pt x="2650524" y="832919"/>
                  <a:pt x="2627147" y="817149"/>
                  <a:pt x="2608275" y="796705"/>
                </a:cubicBezTo>
                <a:cubicBezTo>
                  <a:pt x="2590667" y="777629"/>
                  <a:pt x="2579342" y="753508"/>
                  <a:pt x="2563008" y="733331"/>
                </a:cubicBezTo>
                <a:cubicBezTo>
                  <a:pt x="2527996" y="690080"/>
                  <a:pt x="2493714" y="645929"/>
                  <a:pt x="2454366" y="606582"/>
                </a:cubicBezTo>
                <a:cubicBezTo>
                  <a:pt x="2268321" y="420539"/>
                  <a:pt x="2484416" y="632928"/>
                  <a:pt x="2318564" y="479834"/>
                </a:cubicBezTo>
                <a:cubicBezTo>
                  <a:pt x="2299748" y="462465"/>
                  <a:pt x="2284378" y="441334"/>
                  <a:pt x="2264243" y="425513"/>
                </a:cubicBezTo>
                <a:cubicBezTo>
                  <a:pt x="2241857" y="407924"/>
                  <a:pt x="2213432" y="398774"/>
                  <a:pt x="2191816" y="380246"/>
                </a:cubicBezTo>
                <a:cubicBezTo>
                  <a:pt x="2170691" y="362139"/>
                  <a:pt x="2157723" y="335975"/>
                  <a:pt x="2137495" y="316871"/>
                </a:cubicBezTo>
                <a:cubicBezTo>
                  <a:pt x="2072256" y="255256"/>
                  <a:pt x="1997132" y="200059"/>
                  <a:pt x="1920212" y="153909"/>
                </a:cubicBezTo>
                <a:cubicBezTo>
                  <a:pt x="1880658" y="130177"/>
                  <a:pt x="1824254" y="94762"/>
                  <a:pt x="1784410" y="81481"/>
                </a:cubicBezTo>
                <a:cubicBezTo>
                  <a:pt x="1766303" y="75445"/>
                  <a:pt x="1747810" y="70463"/>
                  <a:pt x="1730089" y="63374"/>
                </a:cubicBezTo>
                <a:cubicBezTo>
                  <a:pt x="1717558" y="58362"/>
                  <a:pt x="1706679" y="49535"/>
                  <a:pt x="1693875" y="45267"/>
                </a:cubicBezTo>
                <a:cubicBezTo>
                  <a:pt x="1693861" y="45262"/>
                  <a:pt x="1603347" y="22635"/>
                  <a:pt x="1585233" y="18107"/>
                </a:cubicBezTo>
                <a:lnTo>
                  <a:pt x="1549019" y="9054"/>
                </a:lnTo>
                <a:lnTo>
                  <a:pt x="1512806" y="0"/>
                </a:lnTo>
                <a:cubicBezTo>
                  <a:pt x="1413218" y="3018"/>
                  <a:pt x="1313530" y="3676"/>
                  <a:pt x="1214041" y="9054"/>
                </a:cubicBezTo>
                <a:cubicBezTo>
                  <a:pt x="1201616" y="9726"/>
                  <a:pt x="1190028" y="15667"/>
                  <a:pt x="1177827" y="18107"/>
                </a:cubicBezTo>
                <a:cubicBezTo>
                  <a:pt x="1159827" y="21707"/>
                  <a:pt x="1141456" y="23314"/>
                  <a:pt x="1123507" y="27160"/>
                </a:cubicBezTo>
                <a:cubicBezTo>
                  <a:pt x="1099174" y="32374"/>
                  <a:pt x="1075626" y="41176"/>
                  <a:pt x="1051079" y="45267"/>
                </a:cubicBezTo>
                <a:cubicBezTo>
                  <a:pt x="1032972" y="48285"/>
                  <a:pt x="1014567" y="49869"/>
                  <a:pt x="996758" y="54321"/>
                </a:cubicBezTo>
                <a:cubicBezTo>
                  <a:pt x="978241" y="58950"/>
                  <a:pt x="960544" y="66392"/>
                  <a:pt x="942437" y="72428"/>
                </a:cubicBezTo>
                <a:cubicBezTo>
                  <a:pt x="933384" y="75446"/>
                  <a:pt x="924048" y="77722"/>
                  <a:pt x="915277" y="81481"/>
                </a:cubicBezTo>
                <a:cubicBezTo>
                  <a:pt x="869953" y="100906"/>
                  <a:pt x="794437" y="129893"/>
                  <a:pt x="761368" y="162962"/>
                </a:cubicBezTo>
                <a:cubicBezTo>
                  <a:pt x="749297" y="175033"/>
                  <a:pt x="736396" y="186328"/>
                  <a:pt x="725154" y="199176"/>
                </a:cubicBezTo>
                <a:cubicBezTo>
                  <a:pt x="715218" y="210532"/>
                  <a:pt x="708663" y="224720"/>
                  <a:pt x="697994" y="235390"/>
                </a:cubicBezTo>
                <a:cubicBezTo>
                  <a:pt x="687324" y="246060"/>
                  <a:pt x="672450" y="251881"/>
                  <a:pt x="661780" y="262551"/>
                </a:cubicBezTo>
                <a:cubicBezTo>
                  <a:pt x="651110" y="273220"/>
                  <a:pt x="645289" y="288094"/>
                  <a:pt x="634619" y="298764"/>
                </a:cubicBezTo>
                <a:cubicBezTo>
                  <a:pt x="623949" y="309434"/>
                  <a:pt x="609762" y="315989"/>
                  <a:pt x="598406" y="325925"/>
                </a:cubicBezTo>
                <a:cubicBezTo>
                  <a:pt x="548625" y="369484"/>
                  <a:pt x="572747" y="355961"/>
                  <a:pt x="525978" y="407406"/>
                </a:cubicBezTo>
                <a:cubicBezTo>
                  <a:pt x="508753" y="426354"/>
                  <a:pt x="489764" y="443620"/>
                  <a:pt x="471657" y="461727"/>
                </a:cubicBezTo>
                <a:cubicBezTo>
                  <a:pt x="462604" y="470780"/>
                  <a:pt x="451599" y="478234"/>
                  <a:pt x="444497" y="488887"/>
                </a:cubicBezTo>
                <a:cubicBezTo>
                  <a:pt x="438461" y="497941"/>
                  <a:pt x="432715" y="507194"/>
                  <a:pt x="426390" y="516048"/>
                </a:cubicBezTo>
                <a:cubicBezTo>
                  <a:pt x="399819" y="553247"/>
                  <a:pt x="402465" y="545272"/>
                  <a:pt x="381122" y="579422"/>
                </a:cubicBezTo>
                <a:cubicBezTo>
                  <a:pt x="371796" y="594344"/>
                  <a:pt x="364053" y="610273"/>
                  <a:pt x="353962" y="624689"/>
                </a:cubicBezTo>
                <a:cubicBezTo>
                  <a:pt x="342881" y="640520"/>
                  <a:pt x="328467" y="653879"/>
                  <a:pt x="317748" y="669957"/>
                </a:cubicBezTo>
                <a:cubicBezTo>
                  <a:pt x="310262" y="681186"/>
                  <a:pt x="306585" y="694597"/>
                  <a:pt x="299641" y="706170"/>
                </a:cubicBezTo>
                <a:cubicBezTo>
                  <a:pt x="288445" y="724831"/>
                  <a:pt x="271509" y="740286"/>
                  <a:pt x="263427" y="760491"/>
                </a:cubicBezTo>
                <a:cubicBezTo>
                  <a:pt x="221027" y="866492"/>
                  <a:pt x="267894" y="758339"/>
                  <a:pt x="227214" y="832919"/>
                </a:cubicBezTo>
                <a:cubicBezTo>
                  <a:pt x="214289" y="856616"/>
                  <a:pt x="210087" y="886261"/>
                  <a:pt x="191000" y="905347"/>
                </a:cubicBezTo>
                <a:cubicBezTo>
                  <a:pt x="169875" y="926472"/>
                  <a:pt x="144197" y="943864"/>
                  <a:pt x="127625" y="968721"/>
                </a:cubicBezTo>
                <a:cubicBezTo>
                  <a:pt x="121589" y="977774"/>
                  <a:pt x="116599" y="987620"/>
                  <a:pt x="109518" y="995881"/>
                </a:cubicBezTo>
                <a:cubicBezTo>
                  <a:pt x="98408" y="1008842"/>
                  <a:pt x="83548" y="1018438"/>
                  <a:pt x="73305" y="1032095"/>
                </a:cubicBezTo>
                <a:cubicBezTo>
                  <a:pt x="56223" y="1054871"/>
                  <a:pt x="48169" y="1084391"/>
                  <a:pt x="28037" y="1104523"/>
                </a:cubicBezTo>
                <a:cubicBezTo>
                  <a:pt x="18984" y="1113576"/>
                  <a:pt x="-4849" y="1120231"/>
                  <a:pt x="877" y="1131683"/>
                </a:cubicBezTo>
                <a:cubicBezTo>
                  <a:pt x="6442" y="1142812"/>
                  <a:pt x="25127" y="1126048"/>
                  <a:pt x="37091" y="1122630"/>
                </a:cubicBezTo>
                <a:cubicBezTo>
                  <a:pt x="63190" y="1115173"/>
                  <a:pt x="60992" y="1115205"/>
                  <a:pt x="82358" y="1104523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3"/>
          <a:stretch/>
        </p:blipFill>
        <p:spPr>
          <a:xfrm>
            <a:off x="3048120" y="2370240"/>
            <a:ext cx="3995640" cy="285912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3"/>
          <p:cNvSpPr/>
          <p:nvPr/>
        </p:nvSpPr>
        <p:spPr>
          <a:xfrm>
            <a:off x="3809880" y="1674720"/>
            <a:ext cx="3333960" cy="2465640"/>
          </a:xfrm>
          <a:custGeom>
            <a:avLst/>
            <a:gdLst/>
            <a:ahLst/>
            <a:rect l="l" t="t" r="r" b="b"/>
            <a:pathLst>
              <a:path w="3332552" h="2465604">
                <a:moveTo>
                  <a:pt x="877" y="1113576"/>
                </a:moveTo>
                <a:cubicBezTo>
                  <a:pt x="15966" y="1131683"/>
                  <a:pt x="33070" y="1148286"/>
                  <a:pt x="46144" y="1167897"/>
                </a:cubicBezTo>
                <a:cubicBezTo>
                  <a:pt x="51438" y="1175838"/>
                  <a:pt x="50930" y="1186522"/>
                  <a:pt x="55198" y="1195058"/>
                </a:cubicBezTo>
                <a:cubicBezTo>
                  <a:pt x="60064" y="1204790"/>
                  <a:pt x="67907" y="1212771"/>
                  <a:pt x="73305" y="1222218"/>
                </a:cubicBezTo>
                <a:cubicBezTo>
                  <a:pt x="128986" y="1319659"/>
                  <a:pt x="39033" y="1179863"/>
                  <a:pt x="127625" y="1312753"/>
                </a:cubicBezTo>
                <a:cubicBezTo>
                  <a:pt x="133661" y="1321806"/>
                  <a:pt x="138038" y="1332219"/>
                  <a:pt x="145732" y="1339913"/>
                </a:cubicBezTo>
                <a:cubicBezTo>
                  <a:pt x="154786" y="1348966"/>
                  <a:pt x="162786" y="1359212"/>
                  <a:pt x="172893" y="1367073"/>
                </a:cubicBezTo>
                <a:cubicBezTo>
                  <a:pt x="195397" y="1384576"/>
                  <a:pt x="234445" y="1409801"/>
                  <a:pt x="263427" y="1421394"/>
                </a:cubicBezTo>
                <a:cubicBezTo>
                  <a:pt x="307086" y="1438858"/>
                  <a:pt x="353127" y="1449226"/>
                  <a:pt x="399229" y="1457608"/>
                </a:cubicBezTo>
                <a:cubicBezTo>
                  <a:pt x="422814" y="1461896"/>
                  <a:pt x="495576" y="1473682"/>
                  <a:pt x="516924" y="1475715"/>
                </a:cubicBezTo>
                <a:cubicBezTo>
                  <a:pt x="559090" y="1479731"/>
                  <a:pt x="601475" y="1481099"/>
                  <a:pt x="643673" y="1484768"/>
                </a:cubicBezTo>
                <a:cubicBezTo>
                  <a:pt x="670898" y="1487135"/>
                  <a:pt x="697994" y="1490804"/>
                  <a:pt x="725154" y="1493822"/>
                </a:cubicBezTo>
                <a:cubicBezTo>
                  <a:pt x="728805" y="1498690"/>
                  <a:pt x="765605" y="1546360"/>
                  <a:pt x="770421" y="1557196"/>
                </a:cubicBezTo>
                <a:cubicBezTo>
                  <a:pt x="778173" y="1574637"/>
                  <a:pt x="782492" y="1593410"/>
                  <a:pt x="788528" y="1611517"/>
                </a:cubicBezTo>
                <a:lnTo>
                  <a:pt x="806635" y="1665838"/>
                </a:lnTo>
                <a:cubicBezTo>
                  <a:pt x="809653" y="1674891"/>
                  <a:pt x="810395" y="1685058"/>
                  <a:pt x="815689" y="1692998"/>
                </a:cubicBezTo>
                <a:lnTo>
                  <a:pt x="851903" y="1747319"/>
                </a:lnTo>
                <a:cubicBezTo>
                  <a:pt x="857939" y="1756372"/>
                  <a:pt x="862316" y="1766785"/>
                  <a:pt x="870010" y="1774479"/>
                </a:cubicBezTo>
                <a:cubicBezTo>
                  <a:pt x="879063" y="1783533"/>
                  <a:pt x="888838" y="1791919"/>
                  <a:pt x="897170" y="1801640"/>
                </a:cubicBezTo>
                <a:cubicBezTo>
                  <a:pt x="921472" y="1829993"/>
                  <a:pt x="922604" y="1842547"/>
                  <a:pt x="951491" y="1865014"/>
                </a:cubicBezTo>
                <a:cubicBezTo>
                  <a:pt x="958316" y="1870322"/>
                  <a:pt x="1037395" y="1922914"/>
                  <a:pt x="1051079" y="1928388"/>
                </a:cubicBezTo>
                <a:lnTo>
                  <a:pt x="1096346" y="1946495"/>
                </a:lnTo>
                <a:cubicBezTo>
                  <a:pt x="1141613" y="1943477"/>
                  <a:pt x="1187161" y="1943310"/>
                  <a:pt x="1232148" y="1937442"/>
                </a:cubicBezTo>
                <a:cubicBezTo>
                  <a:pt x="1256825" y="1934223"/>
                  <a:pt x="1304576" y="1919335"/>
                  <a:pt x="1304576" y="1919335"/>
                </a:cubicBezTo>
                <a:cubicBezTo>
                  <a:pt x="1316647" y="1913299"/>
                  <a:pt x="1327986" y="1896960"/>
                  <a:pt x="1340790" y="1901228"/>
                </a:cubicBezTo>
                <a:cubicBezTo>
                  <a:pt x="1357598" y="1906831"/>
                  <a:pt x="1365578" y="1974802"/>
                  <a:pt x="1367950" y="1982709"/>
                </a:cubicBezTo>
                <a:cubicBezTo>
                  <a:pt x="1372620" y="1998275"/>
                  <a:pt x="1380351" y="2012759"/>
                  <a:pt x="1386057" y="2027976"/>
                </a:cubicBezTo>
                <a:cubicBezTo>
                  <a:pt x="1389408" y="2036912"/>
                  <a:pt x="1391352" y="2046365"/>
                  <a:pt x="1395111" y="2055137"/>
                </a:cubicBezTo>
                <a:cubicBezTo>
                  <a:pt x="1402923" y="2073364"/>
                  <a:pt x="1417955" y="2102468"/>
                  <a:pt x="1431324" y="2118511"/>
                </a:cubicBezTo>
                <a:cubicBezTo>
                  <a:pt x="1439521" y="2128347"/>
                  <a:pt x="1446174" y="2142154"/>
                  <a:pt x="1458485" y="2145671"/>
                </a:cubicBezTo>
                <a:cubicBezTo>
                  <a:pt x="1490535" y="2154828"/>
                  <a:pt x="1524877" y="2151707"/>
                  <a:pt x="1558073" y="2154725"/>
                </a:cubicBezTo>
                <a:cubicBezTo>
                  <a:pt x="1564109" y="2172832"/>
                  <a:pt x="1572437" y="2190330"/>
                  <a:pt x="1576180" y="2209046"/>
                </a:cubicBezTo>
                <a:cubicBezTo>
                  <a:pt x="1582657" y="2241434"/>
                  <a:pt x="1580027" y="2258161"/>
                  <a:pt x="1603340" y="2281473"/>
                </a:cubicBezTo>
                <a:cubicBezTo>
                  <a:pt x="1611034" y="2289167"/>
                  <a:pt x="1621447" y="2293544"/>
                  <a:pt x="1630501" y="2299580"/>
                </a:cubicBezTo>
                <a:cubicBezTo>
                  <a:pt x="1684822" y="2296562"/>
                  <a:pt x="1739282" y="2295453"/>
                  <a:pt x="1793463" y="2290527"/>
                </a:cubicBezTo>
                <a:cubicBezTo>
                  <a:pt x="1805855" y="2289400"/>
                  <a:pt x="1817759" y="2285048"/>
                  <a:pt x="1829677" y="2281473"/>
                </a:cubicBezTo>
                <a:cubicBezTo>
                  <a:pt x="1847958" y="2275988"/>
                  <a:pt x="1883998" y="2263366"/>
                  <a:pt x="1883998" y="2263366"/>
                </a:cubicBezTo>
                <a:cubicBezTo>
                  <a:pt x="1959326" y="2282199"/>
                  <a:pt x="1883066" y="2255045"/>
                  <a:pt x="1947372" y="2308634"/>
                </a:cubicBezTo>
                <a:cubicBezTo>
                  <a:pt x="1954703" y="2314743"/>
                  <a:pt x="1965761" y="2313928"/>
                  <a:pt x="1974532" y="2317687"/>
                </a:cubicBezTo>
                <a:cubicBezTo>
                  <a:pt x="2058916" y="2353851"/>
                  <a:pt x="1963503" y="2321003"/>
                  <a:pt x="2046960" y="2344848"/>
                </a:cubicBezTo>
                <a:cubicBezTo>
                  <a:pt x="2056136" y="2347470"/>
                  <a:pt x="2064913" y="2351390"/>
                  <a:pt x="2074120" y="2353901"/>
                </a:cubicBezTo>
                <a:cubicBezTo>
                  <a:pt x="2098129" y="2360449"/>
                  <a:pt x="2146548" y="2372008"/>
                  <a:pt x="2146548" y="2372008"/>
                </a:cubicBezTo>
                <a:cubicBezTo>
                  <a:pt x="2212940" y="2368990"/>
                  <a:pt x="2279459" y="2368052"/>
                  <a:pt x="2345724" y="2362955"/>
                </a:cubicBezTo>
                <a:cubicBezTo>
                  <a:pt x="2358130" y="2362001"/>
                  <a:pt x="2370501" y="2358803"/>
                  <a:pt x="2381938" y="2353901"/>
                </a:cubicBezTo>
                <a:cubicBezTo>
                  <a:pt x="2391939" y="2349615"/>
                  <a:pt x="2400045" y="2341830"/>
                  <a:pt x="2409099" y="2335794"/>
                </a:cubicBezTo>
                <a:cubicBezTo>
                  <a:pt x="2421170" y="2341830"/>
                  <a:pt x="2435770" y="2344358"/>
                  <a:pt x="2445313" y="2353901"/>
                </a:cubicBezTo>
                <a:cubicBezTo>
                  <a:pt x="2452061" y="2360649"/>
                  <a:pt x="2447618" y="2374313"/>
                  <a:pt x="2454366" y="2381061"/>
                </a:cubicBezTo>
                <a:cubicBezTo>
                  <a:pt x="2465552" y="2392247"/>
                  <a:pt x="2501509" y="2402811"/>
                  <a:pt x="2517740" y="2408222"/>
                </a:cubicBezTo>
                <a:cubicBezTo>
                  <a:pt x="2563007" y="2405204"/>
                  <a:pt x="2608791" y="2406627"/>
                  <a:pt x="2653542" y="2399168"/>
                </a:cubicBezTo>
                <a:cubicBezTo>
                  <a:pt x="2664275" y="2397379"/>
                  <a:pt x="2670971" y="2385927"/>
                  <a:pt x="2680703" y="2381061"/>
                </a:cubicBezTo>
                <a:cubicBezTo>
                  <a:pt x="2689239" y="2376793"/>
                  <a:pt x="2698810" y="2375026"/>
                  <a:pt x="2707863" y="2372008"/>
                </a:cubicBezTo>
                <a:cubicBezTo>
                  <a:pt x="2716916" y="2381061"/>
                  <a:pt x="2725187" y="2390972"/>
                  <a:pt x="2735023" y="2399168"/>
                </a:cubicBezTo>
                <a:cubicBezTo>
                  <a:pt x="2787861" y="2443200"/>
                  <a:pt x="2816135" y="2420647"/>
                  <a:pt x="2907039" y="2426329"/>
                </a:cubicBezTo>
                <a:cubicBezTo>
                  <a:pt x="2919110" y="2435382"/>
                  <a:pt x="2930152" y="2446003"/>
                  <a:pt x="2943253" y="2453489"/>
                </a:cubicBezTo>
                <a:cubicBezTo>
                  <a:pt x="2990491" y="2480482"/>
                  <a:pt x="3115312" y="2454019"/>
                  <a:pt x="3124322" y="2453489"/>
                </a:cubicBezTo>
                <a:cubicBezTo>
                  <a:pt x="3147461" y="2450184"/>
                  <a:pt x="3197639" y="2445234"/>
                  <a:pt x="3223911" y="2435382"/>
                </a:cubicBezTo>
                <a:cubicBezTo>
                  <a:pt x="3236548" y="2430643"/>
                  <a:pt x="3248053" y="2423311"/>
                  <a:pt x="3260124" y="2417275"/>
                </a:cubicBezTo>
                <a:cubicBezTo>
                  <a:pt x="3303249" y="2359776"/>
                  <a:pt x="3277461" y="2405010"/>
                  <a:pt x="3296338" y="2335794"/>
                </a:cubicBezTo>
                <a:cubicBezTo>
                  <a:pt x="3301360" y="2317380"/>
                  <a:pt x="3308409" y="2299580"/>
                  <a:pt x="3314445" y="2281473"/>
                </a:cubicBezTo>
                <a:cubicBezTo>
                  <a:pt x="3317463" y="2272420"/>
                  <a:pt x="3321628" y="2263671"/>
                  <a:pt x="3323499" y="2254313"/>
                </a:cubicBezTo>
                <a:lnTo>
                  <a:pt x="3332552" y="2209046"/>
                </a:lnTo>
                <a:cubicBezTo>
                  <a:pt x="3329534" y="2097386"/>
                  <a:pt x="3330929" y="1985520"/>
                  <a:pt x="3323499" y="1874067"/>
                </a:cubicBezTo>
                <a:cubicBezTo>
                  <a:pt x="3321844" y="1849237"/>
                  <a:pt x="3313262" y="1825248"/>
                  <a:pt x="3305392" y="1801640"/>
                </a:cubicBezTo>
                <a:cubicBezTo>
                  <a:pt x="3295437" y="1771777"/>
                  <a:pt x="3292665" y="1761688"/>
                  <a:pt x="3278231" y="1729212"/>
                </a:cubicBezTo>
                <a:cubicBezTo>
                  <a:pt x="3272750" y="1716879"/>
                  <a:pt x="3265605" y="1705331"/>
                  <a:pt x="3260124" y="1692998"/>
                </a:cubicBezTo>
                <a:cubicBezTo>
                  <a:pt x="3213886" y="1588961"/>
                  <a:pt x="3268486" y="1700667"/>
                  <a:pt x="3223911" y="1611517"/>
                </a:cubicBezTo>
                <a:cubicBezTo>
                  <a:pt x="3206905" y="1526494"/>
                  <a:pt x="3226976" y="1606200"/>
                  <a:pt x="3187697" y="1511929"/>
                </a:cubicBezTo>
                <a:cubicBezTo>
                  <a:pt x="3180356" y="1494311"/>
                  <a:pt x="3179410" y="1473975"/>
                  <a:pt x="3169590" y="1457608"/>
                </a:cubicBezTo>
                <a:cubicBezTo>
                  <a:pt x="3151887" y="1428103"/>
                  <a:pt x="3121604" y="1406903"/>
                  <a:pt x="3106216" y="1376127"/>
                </a:cubicBezTo>
                <a:cubicBezTo>
                  <a:pt x="3084035" y="1331766"/>
                  <a:pt x="3074469" y="1307020"/>
                  <a:pt x="3042841" y="1267485"/>
                </a:cubicBezTo>
                <a:cubicBezTo>
                  <a:pt x="3032177" y="1254154"/>
                  <a:pt x="3017969" y="1244030"/>
                  <a:pt x="3006627" y="1231271"/>
                </a:cubicBezTo>
                <a:cubicBezTo>
                  <a:pt x="2993789" y="1216829"/>
                  <a:pt x="2983412" y="1200302"/>
                  <a:pt x="2970414" y="1186004"/>
                </a:cubicBezTo>
                <a:cubicBezTo>
                  <a:pt x="2953189" y="1167056"/>
                  <a:pt x="2933106" y="1150822"/>
                  <a:pt x="2916093" y="1131683"/>
                </a:cubicBezTo>
                <a:cubicBezTo>
                  <a:pt x="2884775" y="1096450"/>
                  <a:pt x="2852957" y="1061401"/>
                  <a:pt x="2825558" y="1023042"/>
                </a:cubicBezTo>
                <a:cubicBezTo>
                  <a:pt x="2810469" y="1001917"/>
                  <a:pt x="2797601" y="979014"/>
                  <a:pt x="2780291" y="959667"/>
                </a:cubicBezTo>
                <a:cubicBezTo>
                  <a:pt x="2746142" y="921500"/>
                  <a:pt x="2710534" y="884356"/>
                  <a:pt x="2671649" y="851026"/>
                </a:cubicBezTo>
                <a:cubicBezTo>
                  <a:pt x="2650524" y="832919"/>
                  <a:pt x="2627147" y="817149"/>
                  <a:pt x="2608275" y="796705"/>
                </a:cubicBezTo>
                <a:cubicBezTo>
                  <a:pt x="2590667" y="777629"/>
                  <a:pt x="2579342" y="753508"/>
                  <a:pt x="2563008" y="733331"/>
                </a:cubicBezTo>
                <a:cubicBezTo>
                  <a:pt x="2527996" y="690080"/>
                  <a:pt x="2493714" y="645929"/>
                  <a:pt x="2454366" y="606582"/>
                </a:cubicBezTo>
                <a:cubicBezTo>
                  <a:pt x="2268321" y="420539"/>
                  <a:pt x="2484416" y="632928"/>
                  <a:pt x="2318564" y="479834"/>
                </a:cubicBezTo>
                <a:cubicBezTo>
                  <a:pt x="2299748" y="462465"/>
                  <a:pt x="2284378" y="441334"/>
                  <a:pt x="2264243" y="425513"/>
                </a:cubicBezTo>
                <a:cubicBezTo>
                  <a:pt x="2241857" y="407924"/>
                  <a:pt x="2213432" y="398774"/>
                  <a:pt x="2191816" y="380246"/>
                </a:cubicBezTo>
                <a:cubicBezTo>
                  <a:pt x="2170691" y="362139"/>
                  <a:pt x="2157723" y="335975"/>
                  <a:pt x="2137495" y="316871"/>
                </a:cubicBezTo>
                <a:cubicBezTo>
                  <a:pt x="2072256" y="255256"/>
                  <a:pt x="1997132" y="200059"/>
                  <a:pt x="1920212" y="153909"/>
                </a:cubicBezTo>
                <a:cubicBezTo>
                  <a:pt x="1880658" y="130177"/>
                  <a:pt x="1824254" y="94762"/>
                  <a:pt x="1784410" y="81481"/>
                </a:cubicBezTo>
                <a:cubicBezTo>
                  <a:pt x="1766303" y="75445"/>
                  <a:pt x="1747810" y="70463"/>
                  <a:pt x="1730089" y="63374"/>
                </a:cubicBezTo>
                <a:cubicBezTo>
                  <a:pt x="1717558" y="58362"/>
                  <a:pt x="1706679" y="49535"/>
                  <a:pt x="1693875" y="45267"/>
                </a:cubicBezTo>
                <a:cubicBezTo>
                  <a:pt x="1693861" y="45262"/>
                  <a:pt x="1603347" y="22635"/>
                  <a:pt x="1585233" y="18107"/>
                </a:cubicBezTo>
                <a:lnTo>
                  <a:pt x="1549019" y="9054"/>
                </a:lnTo>
                <a:lnTo>
                  <a:pt x="1512806" y="0"/>
                </a:lnTo>
                <a:cubicBezTo>
                  <a:pt x="1413218" y="3018"/>
                  <a:pt x="1313530" y="3676"/>
                  <a:pt x="1214041" y="9054"/>
                </a:cubicBezTo>
                <a:cubicBezTo>
                  <a:pt x="1201616" y="9726"/>
                  <a:pt x="1190028" y="15667"/>
                  <a:pt x="1177827" y="18107"/>
                </a:cubicBezTo>
                <a:cubicBezTo>
                  <a:pt x="1159827" y="21707"/>
                  <a:pt x="1141456" y="23314"/>
                  <a:pt x="1123507" y="27160"/>
                </a:cubicBezTo>
                <a:cubicBezTo>
                  <a:pt x="1099174" y="32374"/>
                  <a:pt x="1075626" y="41176"/>
                  <a:pt x="1051079" y="45267"/>
                </a:cubicBezTo>
                <a:cubicBezTo>
                  <a:pt x="1032972" y="48285"/>
                  <a:pt x="1014567" y="49869"/>
                  <a:pt x="996758" y="54321"/>
                </a:cubicBezTo>
                <a:cubicBezTo>
                  <a:pt x="978241" y="58950"/>
                  <a:pt x="960544" y="66392"/>
                  <a:pt x="942437" y="72428"/>
                </a:cubicBezTo>
                <a:cubicBezTo>
                  <a:pt x="933384" y="75446"/>
                  <a:pt x="924048" y="77722"/>
                  <a:pt x="915277" y="81481"/>
                </a:cubicBezTo>
                <a:cubicBezTo>
                  <a:pt x="869953" y="100906"/>
                  <a:pt x="794437" y="129893"/>
                  <a:pt x="761368" y="162962"/>
                </a:cubicBezTo>
                <a:cubicBezTo>
                  <a:pt x="749297" y="175033"/>
                  <a:pt x="736396" y="186328"/>
                  <a:pt x="725154" y="199176"/>
                </a:cubicBezTo>
                <a:cubicBezTo>
                  <a:pt x="715218" y="210532"/>
                  <a:pt x="708663" y="224720"/>
                  <a:pt x="697994" y="235390"/>
                </a:cubicBezTo>
                <a:cubicBezTo>
                  <a:pt x="687324" y="246060"/>
                  <a:pt x="672450" y="251881"/>
                  <a:pt x="661780" y="262551"/>
                </a:cubicBezTo>
                <a:cubicBezTo>
                  <a:pt x="651110" y="273220"/>
                  <a:pt x="645289" y="288094"/>
                  <a:pt x="634619" y="298764"/>
                </a:cubicBezTo>
                <a:cubicBezTo>
                  <a:pt x="623949" y="309434"/>
                  <a:pt x="609762" y="315989"/>
                  <a:pt x="598406" y="325925"/>
                </a:cubicBezTo>
                <a:cubicBezTo>
                  <a:pt x="548625" y="369484"/>
                  <a:pt x="572747" y="355961"/>
                  <a:pt x="525978" y="407406"/>
                </a:cubicBezTo>
                <a:cubicBezTo>
                  <a:pt x="508753" y="426354"/>
                  <a:pt x="489764" y="443620"/>
                  <a:pt x="471657" y="461727"/>
                </a:cubicBezTo>
                <a:cubicBezTo>
                  <a:pt x="462604" y="470780"/>
                  <a:pt x="451599" y="478234"/>
                  <a:pt x="444497" y="488887"/>
                </a:cubicBezTo>
                <a:cubicBezTo>
                  <a:pt x="438461" y="497941"/>
                  <a:pt x="432715" y="507194"/>
                  <a:pt x="426390" y="516048"/>
                </a:cubicBezTo>
                <a:cubicBezTo>
                  <a:pt x="399819" y="553247"/>
                  <a:pt x="402465" y="545272"/>
                  <a:pt x="381122" y="579422"/>
                </a:cubicBezTo>
                <a:cubicBezTo>
                  <a:pt x="371796" y="594344"/>
                  <a:pt x="364053" y="610273"/>
                  <a:pt x="353962" y="624689"/>
                </a:cubicBezTo>
                <a:cubicBezTo>
                  <a:pt x="342881" y="640520"/>
                  <a:pt x="328467" y="653879"/>
                  <a:pt x="317748" y="669957"/>
                </a:cubicBezTo>
                <a:cubicBezTo>
                  <a:pt x="310262" y="681186"/>
                  <a:pt x="306585" y="694597"/>
                  <a:pt x="299641" y="706170"/>
                </a:cubicBezTo>
                <a:cubicBezTo>
                  <a:pt x="288445" y="724831"/>
                  <a:pt x="271509" y="740286"/>
                  <a:pt x="263427" y="760491"/>
                </a:cubicBezTo>
                <a:cubicBezTo>
                  <a:pt x="221027" y="866492"/>
                  <a:pt x="267894" y="758339"/>
                  <a:pt x="227214" y="832919"/>
                </a:cubicBezTo>
                <a:cubicBezTo>
                  <a:pt x="214289" y="856616"/>
                  <a:pt x="210087" y="886261"/>
                  <a:pt x="191000" y="905347"/>
                </a:cubicBezTo>
                <a:cubicBezTo>
                  <a:pt x="169875" y="926472"/>
                  <a:pt x="144197" y="943864"/>
                  <a:pt x="127625" y="968721"/>
                </a:cubicBezTo>
                <a:cubicBezTo>
                  <a:pt x="121589" y="977774"/>
                  <a:pt x="116599" y="987620"/>
                  <a:pt x="109518" y="995881"/>
                </a:cubicBezTo>
                <a:cubicBezTo>
                  <a:pt x="98408" y="1008842"/>
                  <a:pt x="83548" y="1018438"/>
                  <a:pt x="73305" y="1032095"/>
                </a:cubicBezTo>
                <a:cubicBezTo>
                  <a:pt x="56223" y="1054871"/>
                  <a:pt x="48169" y="1084391"/>
                  <a:pt x="28037" y="1104523"/>
                </a:cubicBezTo>
                <a:cubicBezTo>
                  <a:pt x="18984" y="1113576"/>
                  <a:pt x="-4849" y="1120231"/>
                  <a:pt x="877" y="1131683"/>
                </a:cubicBezTo>
                <a:cubicBezTo>
                  <a:pt x="6442" y="1142812"/>
                  <a:pt x="25127" y="1126048"/>
                  <a:pt x="37091" y="1122630"/>
                </a:cubicBezTo>
                <a:cubicBezTo>
                  <a:pt x="63190" y="1115173"/>
                  <a:pt x="60992" y="1115205"/>
                  <a:pt x="82358" y="1104523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2943360" y="2181240"/>
            <a:ext cx="3076560" cy="2263680"/>
          </a:xfrm>
          <a:custGeom>
            <a:avLst/>
            <a:gdLst/>
            <a:ahLst/>
            <a:rect l="l" t="t" r="r" b="b"/>
            <a:pathLst>
              <a:path w="3077034" h="2263366">
                <a:moveTo>
                  <a:pt x="7910" y="1946495"/>
                </a:moveTo>
                <a:cubicBezTo>
                  <a:pt x="29035" y="1993271"/>
                  <a:pt x="98622" y="1950539"/>
                  <a:pt x="143712" y="1955549"/>
                </a:cubicBezTo>
                <a:cubicBezTo>
                  <a:pt x="153197" y="1956603"/>
                  <a:pt x="162530" y="1959968"/>
                  <a:pt x="170872" y="1964602"/>
                </a:cubicBezTo>
                <a:cubicBezTo>
                  <a:pt x="189895" y="1975170"/>
                  <a:pt x="207086" y="1988745"/>
                  <a:pt x="225193" y="2000816"/>
                </a:cubicBezTo>
                <a:lnTo>
                  <a:pt x="252353" y="2018923"/>
                </a:lnTo>
                <a:cubicBezTo>
                  <a:pt x="258389" y="2027976"/>
                  <a:pt x="261963" y="2039286"/>
                  <a:pt x="270460" y="2046083"/>
                </a:cubicBezTo>
                <a:cubicBezTo>
                  <a:pt x="277912" y="2052045"/>
                  <a:pt x="289085" y="2050869"/>
                  <a:pt x="297621" y="2055137"/>
                </a:cubicBezTo>
                <a:cubicBezTo>
                  <a:pt x="307353" y="2060003"/>
                  <a:pt x="314780" y="2068958"/>
                  <a:pt x="324781" y="2073244"/>
                </a:cubicBezTo>
                <a:cubicBezTo>
                  <a:pt x="336218" y="2078145"/>
                  <a:pt x="348595" y="2081264"/>
                  <a:pt x="360995" y="2082297"/>
                </a:cubicBezTo>
                <a:cubicBezTo>
                  <a:pt x="421218" y="2087316"/>
                  <a:pt x="481708" y="2088333"/>
                  <a:pt x="542064" y="2091351"/>
                </a:cubicBezTo>
                <a:lnTo>
                  <a:pt x="623545" y="2145671"/>
                </a:lnTo>
                <a:lnTo>
                  <a:pt x="650706" y="2163778"/>
                </a:lnTo>
                <a:cubicBezTo>
                  <a:pt x="714080" y="2160760"/>
                  <a:pt x="777383" y="2154725"/>
                  <a:pt x="840829" y="2154725"/>
                </a:cubicBezTo>
                <a:cubicBezTo>
                  <a:pt x="862168" y="2154725"/>
                  <a:pt x="885117" y="2154235"/>
                  <a:pt x="904203" y="2163778"/>
                </a:cubicBezTo>
                <a:cubicBezTo>
                  <a:pt x="917699" y="2170526"/>
                  <a:pt x="920693" y="2189322"/>
                  <a:pt x="931363" y="2199992"/>
                </a:cubicBezTo>
                <a:cubicBezTo>
                  <a:pt x="939057" y="2207686"/>
                  <a:pt x="948792" y="2213233"/>
                  <a:pt x="958524" y="2218099"/>
                </a:cubicBezTo>
                <a:cubicBezTo>
                  <a:pt x="966825" y="2222250"/>
                  <a:pt x="1015284" y="2241343"/>
                  <a:pt x="1030951" y="2245260"/>
                </a:cubicBezTo>
                <a:cubicBezTo>
                  <a:pt x="1045880" y="2248992"/>
                  <a:pt x="1061197" y="2250975"/>
                  <a:pt x="1076219" y="2254313"/>
                </a:cubicBezTo>
                <a:cubicBezTo>
                  <a:pt x="1088365" y="2257012"/>
                  <a:pt x="1100361" y="2260348"/>
                  <a:pt x="1112432" y="2263366"/>
                </a:cubicBezTo>
                <a:cubicBezTo>
                  <a:pt x="1209002" y="2260348"/>
                  <a:pt x="1305674" y="2259672"/>
                  <a:pt x="1402143" y="2254313"/>
                </a:cubicBezTo>
                <a:cubicBezTo>
                  <a:pt x="1414567" y="2253623"/>
                  <a:pt x="1426393" y="2248678"/>
                  <a:pt x="1438357" y="2245260"/>
                </a:cubicBezTo>
                <a:cubicBezTo>
                  <a:pt x="1457772" y="2239713"/>
                  <a:pt x="1481748" y="2228818"/>
                  <a:pt x="1501731" y="2227153"/>
                </a:cubicBezTo>
                <a:cubicBezTo>
                  <a:pt x="1561954" y="2222134"/>
                  <a:pt x="1622444" y="2221117"/>
                  <a:pt x="1682801" y="2218099"/>
                </a:cubicBezTo>
                <a:cubicBezTo>
                  <a:pt x="1705940" y="2214794"/>
                  <a:pt x="1756117" y="2209844"/>
                  <a:pt x="1782389" y="2199992"/>
                </a:cubicBezTo>
                <a:cubicBezTo>
                  <a:pt x="1845891" y="2176178"/>
                  <a:pt x="1793220" y="2190049"/>
                  <a:pt x="1845763" y="2163778"/>
                </a:cubicBezTo>
                <a:cubicBezTo>
                  <a:pt x="1854299" y="2159510"/>
                  <a:pt x="1863870" y="2157743"/>
                  <a:pt x="1872924" y="2154725"/>
                </a:cubicBezTo>
                <a:cubicBezTo>
                  <a:pt x="1881977" y="2148689"/>
                  <a:pt x="1890141" y="2141037"/>
                  <a:pt x="1900084" y="2136618"/>
                </a:cubicBezTo>
                <a:cubicBezTo>
                  <a:pt x="1966051" y="2107299"/>
                  <a:pt x="1988320" y="2117437"/>
                  <a:pt x="2072100" y="2109458"/>
                </a:cubicBezTo>
                <a:cubicBezTo>
                  <a:pt x="2140567" y="2102937"/>
                  <a:pt x="2129263" y="2104220"/>
                  <a:pt x="2180741" y="2091351"/>
                </a:cubicBezTo>
                <a:cubicBezTo>
                  <a:pt x="2244738" y="2048687"/>
                  <a:pt x="2165526" y="2102220"/>
                  <a:pt x="2244116" y="2046083"/>
                </a:cubicBezTo>
                <a:cubicBezTo>
                  <a:pt x="2252970" y="2039759"/>
                  <a:pt x="2262917" y="2034942"/>
                  <a:pt x="2271276" y="2027976"/>
                </a:cubicBezTo>
                <a:cubicBezTo>
                  <a:pt x="2281112" y="2019779"/>
                  <a:pt x="2290239" y="2010652"/>
                  <a:pt x="2298436" y="2000816"/>
                </a:cubicBezTo>
                <a:cubicBezTo>
                  <a:pt x="2319312" y="1975765"/>
                  <a:pt x="2313948" y="1966332"/>
                  <a:pt x="2343704" y="1946495"/>
                </a:cubicBezTo>
                <a:cubicBezTo>
                  <a:pt x="2351644" y="1941201"/>
                  <a:pt x="2361811" y="1940460"/>
                  <a:pt x="2370864" y="1937442"/>
                </a:cubicBezTo>
                <a:cubicBezTo>
                  <a:pt x="2398138" y="1955624"/>
                  <a:pt x="2402080" y="1959874"/>
                  <a:pt x="2434238" y="1973656"/>
                </a:cubicBezTo>
                <a:cubicBezTo>
                  <a:pt x="2443010" y="1977415"/>
                  <a:pt x="2451939" y="1981448"/>
                  <a:pt x="2461399" y="1982709"/>
                </a:cubicBezTo>
                <a:cubicBezTo>
                  <a:pt x="2497419" y="1987512"/>
                  <a:pt x="2533826" y="1988745"/>
                  <a:pt x="2570040" y="1991763"/>
                </a:cubicBezTo>
                <a:cubicBezTo>
                  <a:pt x="2594730" y="2016452"/>
                  <a:pt x="2602444" y="2026726"/>
                  <a:pt x="2633415" y="2046083"/>
                </a:cubicBezTo>
                <a:cubicBezTo>
                  <a:pt x="2644860" y="2053236"/>
                  <a:pt x="2657911" y="2057494"/>
                  <a:pt x="2669629" y="2064190"/>
                </a:cubicBezTo>
                <a:cubicBezTo>
                  <a:pt x="2679076" y="2069588"/>
                  <a:pt x="2687736" y="2076261"/>
                  <a:pt x="2696789" y="2082297"/>
                </a:cubicBezTo>
                <a:cubicBezTo>
                  <a:pt x="2733003" y="2079279"/>
                  <a:pt x="2769410" y="2078047"/>
                  <a:pt x="2805430" y="2073244"/>
                </a:cubicBezTo>
                <a:cubicBezTo>
                  <a:pt x="2814890" y="2071983"/>
                  <a:pt x="2823655" y="2067541"/>
                  <a:pt x="2832591" y="2064190"/>
                </a:cubicBezTo>
                <a:cubicBezTo>
                  <a:pt x="2919168" y="2031723"/>
                  <a:pt x="2843385" y="2057573"/>
                  <a:pt x="2905019" y="2037030"/>
                </a:cubicBezTo>
                <a:cubicBezTo>
                  <a:pt x="2963445" y="2048715"/>
                  <a:pt x="2978839" y="2057574"/>
                  <a:pt x="3049874" y="2027976"/>
                </a:cubicBezTo>
                <a:cubicBezTo>
                  <a:pt x="3058683" y="2024306"/>
                  <a:pt x="3056306" y="2009992"/>
                  <a:pt x="3058928" y="2000816"/>
                </a:cubicBezTo>
                <a:cubicBezTo>
                  <a:pt x="3081672" y="1921214"/>
                  <a:pt x="3055321" y="2002582"/>
                  <a:pt x="3077034" y="1937442"/>
                </a:cubicBezTo>
                <a:cubicBezTo>
                  <a:pt x="3074016" y="1880103"/>
                  <a:pt x="3073179" y="1822608"/>
                  <a:pt x="3067981" y="1765426"/>
                </a:cubicBezTo>
                <a:cubicBezTo>
                  <a:pt x="3067117" y="1755922"/>
                  <a:pt x="3062279" y="1747201"/>
                  <a:pt x="3058928" y="1738265"/>
                </a:cubicBezTo>
                <a:cubicBezTo>
                  <a:pt x="3045425" y="1702256"/>
                  <a:pt x="3032228" y="1676730"/>
                  <a:pt x="3022714" y="1638677"/>
                </a:cubicBezTo>
                <a:cubicBezTo>
                  <a:pt x="3013023" y="1599915"/>
                  <a:pt x="3012272" y="1599355"/>
                  <a:pt x="3004607" y="1557196"/>
                </a:cubicBezTo>
                <a:cubicBezTo>
                  <a:pt x="3001323" y="1539135"/>
                  <a:pt x="3001358" y="1520290"/>
                  <a:pt x="2995553" y="1502875"/>
                </a:cubicBezTo>
                <a:cubicBezTo>
                  <a:pt x="2932307" y="1313140"/>
                  <a:pt x="3000770" y="1579338"/>
                  <a:pt x="2950286" y="1394234"/>
                </a:cubicBezTo>
                <a:cubicBezTo>
                  <a:pt x="2946237" y="1379388"/>
                  <a:pt x="2946098" y="1363565"/>
                  <a:pt x="2941232" y="1348966"/>
                </a:cubicBezTo>
                <a:cubicBezTo>
                  <a:pt x="2933964" y="1327162"/>
                  <a:pt x="2921340" y="1307396"/>
                  <a:pt x="2914072" y="1285592"/>
                </a:cubicBezTo>
                <a:cubicBezTo>
                  <a:pt x="2896785" y="1233730"/>
                  <a:pt x="2899655" y="1206799"/>
                  <a:pt x="2877858" y="1158844"/>
                </a:cubicBezTo>
                <a:cubicBezTo>
                  <a:pt x="2870576" y="1142824"/>
                  <a:pt x="2858568" y="1129315"/>
                  <a:pt x="2850698" y="1113576"/>
                </a:cubicBezTo>
                <a:cubicBezTo>
                  <a:pt x="2843430" y="1099040"/>
                  <a:pt x="2839859" y="1082845"/>
                  <a:pt x="2832591" y="1068309"/>
                </a:cubicBezTo>
                <a:cubicBezTo>
                  <a:pt x="2824721" y="1052570"/>
                  <a:pt x="2813300" y="1038781"/>
                  <a:pt x="2805430" y="1023042"/>
                </a:cubicBezTo>
                <a:cubicBezTo>
                  <a:pt x="2801162" y="1014506"/>
                  <a:pt x="2801012" y="1004223"/>
                  <a:pt x="2796377" y="995881"/>
                </a:cubicBezTo>
                <a:cubicBezTo>
                  <a:pt x="2785809" y="976858"/>
                  <a:pt x="2769895" y="961025"/>
                  <a:pt x="2760163" y="941561"/>
                </a:cubicBezTo>
                <a:cubicBezTo>
                  <a:pt x="2745127" y="911489"/>
                  <a:pt x="2743143" y="903778"/>
                  <a:pt x="2723949" y="878186"/>
                </a:cubicBezTo>
                <a:cubicBezTo>
                  <a:pt x="2703304" y="850659"/>
                  <a:pt x="2684905" y="821035"/>
                  <a:pt x="2660575" y="796705"/>
                </a:cubicBezTo>
                <a:lnTo>
                  <a:pt x="2579094" y="715224"/>
                </a:lnTo>
                <a:cubicBezTo>
                  <a:pt x="2570040" y="706171"/>
                  <a:pt x="2559615" y="698307"/>
                  <a:pt x="2551933" y="688064"/>
                </a:cubicBezTo>
                <a:cubicBezTo>
                  <a:pt x="2500708" y="619763"/>
                  <a:pt x="2552526" y="682571"/>
                  <a:pt x="2479506" y="615636"/>
                </a:cubicBezTo>
                <a:cubicBezTo>
                  <a:pt x="2457483" y="595449"/>
                  <a:pt x="2440031" y="570187"/>
                  <a:pt x="2416131" y="552262"/>
                </a:cubicBezTo>
                <a:lnTo>
                  <a:pt x="2343704" y="497941"/>
                </a:lnTo>
                <a:cubicBezTo>
                  <a:pt x="2331633" y="488887"/>
                  <a:pt x="2319401" y="480044"/>
                  <a:pt x="2307490" y="470780"/>
                </a:cubicBezTo>
                <a:cubicBezTo>
                  <a:pt x="2292237" y="458916"/>
                  <a:pt x="2275887" y="448229"/>
                  <a:pt x="2262223" y="434566"/>
                </a:cubicBezTo>
                <a:cubicBezTo>
                  <a:pt x="2253169" y="425513"/>
                  <a:pt x="2244898" y="415603"/>
                  <a:pt x="2235062" y="407406"/>
                </a:cubicBezTo>
                <a:cubicBezTo>
                  <a:pt x="2025450" y="232731"/>
                  <a:pt x="2250341" y="417592"/>
                  <a:pt x="2099260" y="316871"/>
                </a:cubicBezTo>
                <a:cubicBezTo>
                  <a:pt x="1981990" y="238691"/>
                  <a:pt x="2115308" y="281755"/>
                  <a:pt x="1909137" y="190123"/>
                </a:cubicBezTo>
                <a:cubicBezTo>
                  <a:pt x="1843869" y="161115"/>
                  <a:pt x="1817116" y="150702"/>
                  <a:pt x="1755229" y="117695"/>
                </a:cubicBezTo>
                <a:cubicBezTo>
                  <a:pt x="1733761" y="106245"/>
                  <a:pt x="1713902" y="91770"/>
                  <a:pt x="1691854" y="81481"/>
                </a:cubicBezTo>
                <a:cubicBezTo>
                  <a:pt x="1668489" y="70577"/>
                  <a:pt x="1642489" y="65852"/>
                  <a:pt x="1619427" y="54321"/>
                </a:cubicBezTo>
                <a:cubicBezTo>
                  <a:pt x="1605931" y="47573"/>
                  <a:pt x="1597002" y="33289"/>
                  <a:pt x="1583213" y="27161"/>
                </a:cubicBezTo>
                <a:cubicBezTo>
                  <a:pt x="1569151" y="20911"/>
                  <a:pt x="1552791" y="22156"/>
                  <a:pt x="1537945" y="18107"/>
                </a:cubicBezTo>
                <a:cubicBezTo>
                  <a:pt x="1519531" y="13085"/>
                  <a:pt x="1483625" y="0"/>
                  <a:pt x="1483625" y="0"/>
                </a:cubicBezTo>
                <a:cubicBezTo>
                  <a:pt x="1432322" y="3018"/>
                  <a:pt x="1380897" y="4401"/>
                  <a:pt x="1329716" y="9054"/>
                </a:cubicBezTo>
                <a:cubicBezTo>
                  <a:pt x="1314391" y="10447"/>
                  <a:pt x="1299588" y="15354"/>
                  <a:pt x="1284448" y="18107"/>
                </a:cubicBezTo>
                <a:cubicBezTo>
                  <a:pt x="1266388" y="21391"/>
                  <a:pt x="1248235" y="24143"/>
                  <a:pt x="1230128" y="27161"/>
                </a:cubicBezTo>
                <a:cubicBezTo>
                  <a:pt x="1215039" y="36214"/>
                  <a:pt x="1200880" y="47039"/>
                  <a:pt x="1184860" y="54321"/>
                </a:cubicBezTo>
                <a:cubicBezTo>
                  <a:pt x="1167484" y="62219"/>
                  <a:pt x="1148476" y="65905"/>
                  <a:pt x="1130539" y="72428"/>
                </a:cubicBezTo>
                <a:cubicBezTo>
                  <a:pt x="1115266" y="77982"/>
                  <a:pt x="1100028" y="83725"/>
                  <a:pt x="1085272" y="90535"/>
                </a:cubicBezTo>
                <a:cubicBezTo>
                  <a:pt x="1060764" y="101846"/>
                  <a:pt x="1031930" y="107663"/>
                  <a:pt x="1012844" y="126749"/>
                </a:cubicBezTo>
                <a:cubicBezTo>
                  <a:pt x="1000773" y="138820"/>
                  <a:pt x="990105" y="152482"/>
                  <a:pt x="976630" y="162963"/>
                </a:cubicBezTo>
                <a:cubicBezTo>
                  <a:pt x="962740" y="173766"/>
                  <a:pt x="946004" y="180362"/>
                  <a:pt x="931363" y="190123"/>
                </a:cubicBezTo>
                <a:cubicBezTo>
                  <a:pt x="918808" y="198493"/>
                  <a:pt x="907510" y="208630"/>
                  <a:pt x="895149" y="217283"/>
                </a:cubicBezTo>
                <a:cubicBezTo>
                  <a:pt x="877321" y="229763"/>
                  <a:pt x="857671" y="239717"/>
                  <a:pt x="840829" y="253497"/>
                </a:cubicBezTo>
                <a:cubicBezTo>
                  <a:pt x="759217" y="320271"/>
                  <a:pt x="830787" y="278299"/>
                  <a:pt x="759347" y="325925"/>
                </a:cubicBezTo>
                <a:cubicBezTo>
                  <a:pt x="657732" y="393667"/>
                  <a:pt x="764160" y="319416"/>
                  <a:pt x="677866" y="371192"/>
                </a:cubicBezTo>
                <a:cubicBezTo>
                  <a:pt x="659205" y="382388"/>
                  <a:pt x="641652" y="395335"/>
                  <a:pt x="623545" y="407406"/>
                </a:cubicBezTo>
                <a:lnTo>
                  <a:pt x="596385" y="425513"/>
                </a:lnTo>
                <a:cubicBezTo>
                  <a:pt x="587332" y="431549"/>
                  <a:pt x="576919" y="435926"/>
                  <a:pt x="569225" y="443620"/>
                </a:cubicBezTo>
                <a:cubicBezTo>
                  <a:pt x="557154" y="455691"/>
                  <a:pt x="545973" y="468724"/>
                  <a:pt x="533011" y="479834"/>
                </a:cubicBezTo>
                <a:cubicBezTo>
                  <a:pt x="510954" y="498740"/>
                  <a:pt x="495323" y="501369"/>
                  <a:pt x="469636" y="516048"/>
                </a:cubicBezTo>
                <a:cubicBezTo>
                  <a:pt x="460189" y="521446"/>
                  <a:pt x="449795" y="526104"/>
                  <a:pt x="442476" y="534155"/>
                </a:cubicBezTo>
                <a:cubicBezTo>
                  <a:pt x="419331" y="559615"/>
                  <a:pt x="403433" y="591306"/>
                  <a:pt x="379102" y="615636"/>
                </a:cubicBezTo>
                <a:cubicBezTo>
                  <a:pt x="359078" y="635660"/>
                  <a:pt x="346439" y="644746"/>
                  <a:pt x="333834" y="669957"/>
                </a:cubicBezTo>
                <a:cubicBezTo>
                  <a:pt x="326566" y="684493"/>
                  <a:pt x="322996" y="700688"/>
                  <a:pt x="315728" y="715224"/>
                </a:cubicBezTo>
                <a:cubicBezTo>
                  <a:pt x="307858" y="730963"/>
                  <a:pt x="295849" y="744472"/>
                  <a:pt x="288567" y="760491"/>
                </a:cubicBezTo>
                <a:cubicBezTo>
                  <a:pt x="288563" y="760500"/>
                  <a:pt x="265935" y="828387"/>
                  <a:pt x="261407" y="841972"/>
                </a:cubicBezTo>
                <a:cubicBezTo>
                  <a:pt x="258389" y="851026"/>
                  <a:pt x="256621" y="860597"/>
                  <a:pt x="252353" y="869133"/>
                </a:cubicBezTo>
                <a:lnTo>
                  <a:pt x="234246" y="905347"/>
                </a:lnTo>
                <a:cubicBezTo>
                  <a:pt x="231228" y="917418"/>
                  <a:pt x="228768" y="929643"/>
                  <a:pt x="225193" y="941561"/>
                </a:cubicBezTo>
                <a:cubicBezTo>
                  <a:pt x="219709" y="959842"/>
                  <a:pt x="211715" y="977365"/>
                  <a:pt x="207086" y="995881"/>
                </a:cubicBezTo>
                <a:cubicBezTo>
                  <a:pt x="184349" y="1086831"/>
                  <a:pt x="196850" y="1044697"/>
                  <a:pt x="170872" y="1122630"/>
                </a:cubicBezTo>
                <a:cubicBezTo>
                  <a:pt x="167854" y="1131683"/>
                  <a:pt x="165363" y="1140930"/>
                  <a:pt x="161819" y="1149790"/>
                </a:cubicBezTo>
                <a:cubicBezTo>
                  <a:pt x="136623" y="1212781"/>
                  <a:pt x="148852" y="1179638"/>
                  <a:pt x="125605" y="1249378"/>
                </a:cubicBezTo>
                <a:lnTo>
                  <a:pt x="116551" y="1276539"/>
                </a:lnTo>
                <a:cubicBezTo>
                  <a:pt x="113533" y="1285592"/>
                  <a:pt x="111042" y="1294839"/>
                  <a:pt x="107498" y="1303699"/>
                </a:cubicBezTo>
                <a:cubicBezTo>
                  <a:pt x="101462" y="1318788"/>
                  <a:pt x="94061" y="1333400"/>
                  <a:pt x="89391" y="1348966"/>
                </a:cubicBezTo>
                <a:cubicBezTo>
                  <a:pt x="79671" y="1381365"/>
                  <a:pt x="77633" y="1425863"/>
                  <a:pt x="71284" y="1457608"/>
                </a:cubicBezTo>
                <a:cubicBezTo>
                  <a:pt x="66404" y="1482010"/>
                  <a:pt x="59213" y="1505893"/>
                  <a:pt x="53177" y="1530036"/>
                </a:cubicBezTo>
                <a:cubicBezTo>
                  <a:pt x="50159" y="1542107"/>
                  <a:pt x="48059" y="1554446"/>
                  <a:pt x="44124" y="1566250"/>
                </a:cubicBezTo>
                <a:cubicBezTo>
                  <a:pt x="34039" y="1596502"/>
                  <a:pt x="33598" y="1595511"/>
                  <a:pt x="26017" y="1629624"/>
                </a:cubicBezTo>
                <a:cubicBezTo>
                  <a:pt x="22679" y="1644645"/>
                  <a:pt x="17390" y="1659509"/>
                  <a:pt x="16963" y="1674891"/>
                </a:cubicBezTo>
                <a:cubicBezTo>
                  <a:pt x="14365" y="1768408"/>
                  <a:pt x="-13215" y="1899719"/>
                  <a:pt x="7910" y="194649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2"/>
          <a:srcRect l="26140" t="7109" r="29902" b="0"/>
          <a:stretch/>
        </p:blipFill>
        <p:spPr>
          <a:xfrm>
            <a:off x="189000" y="1473120"/>
            <a:ext cx="2843280" cy="3756240"/>
          </a:xfrm>
          <a:prstGeom prst="rect">
            <a:avLst/>
          </a:prstGeom>
          <a:ln w="0">
            <a:noFill/>
          </a:ln>
        </p:spPr>
      </p:pic>
      <p:sp>
        <p:nvSpPr>
          <p:cNvPr id="195" name="Rounded Rectangular Callout 8"/>
          <p:cNvSpPr/>
          <p:nvPr/>
        </p:nvSpPr>
        <p:spPr>
          <a:xfrm>
            <a:off x="2638440" y="189000"/>
            <a:ext cx="3097080" cy="1871640"/>
          </a:xfrm>
          <a:prstGeom prst="wedgeRoundRectCallout">
            <a:avLst>
              <a:gd name="adj1" fmla="val -51560"/>
              <a:gd name="adj2" fmla="val 83587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ounded Rectangular Callout 9"/>
          <p:cNvSpPr/>
          <p:nvPr/>
        </p:nvSpPr>
        <p:spPr>
          <a:xfrm>
            <a:off x="5589720" y="2384280"/>
            <a:ext cx="3092400" cy="1765440"/>
          </a:xfrm>
          <a:prstGeom prst="wedgeRoundRectCallout">
            <a:avLst>
              <a:gd name="adj1" fmla="val 155972"/>
              <a:gd name="adj2" fmla="val -38958"/>
              <a:gd name="adj3" fmla="val 16667"/>
            </a:avLst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¿ Tienes hambr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ounded Rectangular Callout 10"/>
          <p:cNvSpPr/>
          <p:nvPr/>
        </p:nvSpPr>
        <p:spPr>
          <a:xfrm>
            <a:off x="2638440" y="4653000"/>
            <a:ext cx="4237200" cy="1655640"/>
          </a:xfrm>
          <a:prstGeom prst="wedgeRoundRectCallout">
            <a:avLst>
              <a:gd name="adj1" fmla="val -43666"/>
              <a:gd name="adj2" fmla="val -96152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No, ya no tengo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95959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ounded Rectangular Callout 4"/>
          <p:cNvSpPr/>
          <p:nvPr/>
        </p:nvSpPr>
        <p:spPr>
          <a:xfrm>
            <a:off x="3348000" y="260280"/>
            <a:ext cx="4824360" cy="2089080"/>
          </a:xfrm>
          <a:prstGeom prst="wedgeRoundRectCallout">
            <a:avLst>
              <a:gd name="adj1" fmla="val -70375"/>
              <a:gd name="adj2" fmla="val 299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2171880" cy="29988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281160" y="4975200"/>
            <a:ext cx="85816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39760" y="1197000"/>
            <a:ext cx="2808360" cy="38764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3276720" y="2276640"/>
            <a:ext cx="554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BeeZee"/>
              </a:rPr>
              <a:t>El monstruo hambrient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El monstruo tiene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ounded Rectangular Callout 6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936880" y="2708280"/>
            <a:ext cx="3048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2936880" y="2708280"/>
            <a:ext cx="3048120" cy="207180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2789280" y="2173320"/>
            <a:ext cx="3222720" cy="1620720"/>
          </a:xfrm>
          <a:custGeom>
            <a:avLst/>
            <a:gdLst/>
            <a:ahLst/>
            <a:rect l="l" t="t" r="r" b="b"/>
            <a:pathLst>
              <a:path w="3223044" h="1620570">
                <a:moveTo>
                  <a:pt x="72428" y="878186"/>
                </a:moveTo>
                <a:cubicBezTo>
                  <a:pt x="79973" y="906855"/>
                  <a:pt x="88579" y="966403"/>
                  <a:pt x="99588" y="1004934"/>
                </a:cubicBezTo>
                <a:cubicBezTo>
                  <a:pt x="102210" y="1014110"/>
                  <a:pt x="105624" y="1023041"/>
                  <a:pt x="108642" y="1032095"/>
                </a:cubicBezTo>
                <a:cubicBezTo>
                  <a:pt x="119802" y="1132541"/>
                  <a:pt x="109054" y="1087654"/>
                  <a:pt x="135802" y="1167897"/>
                </a:cubicBezTo>
                <a:lnTo>
                  <a:pt x="153909" y="1222218"/>
                </a:lnTo>
                <a:lnTo>
                  <a:pt x="162963" y="1249378"/>
                </a:lnTo>
                <a:cubicBezTo>
                  <a:pt x="165981" y="1294645"/>
                  <a:pt x="167006" y="1340090"/>
                  <a:pt x="172016" y="1385180"/>
                </a:cubicBezTo>
                <a:cubicBezTo>
                  <a:pt x="173070" y="1394665"/>
                  <a:pt x="178755" y="1403082"/>
                  <a:pt x="181070" y="1412340"/>
                </a:cubicBezTo>
                <a:cubicBezTo>
                  <a:pt x="184802" y="1427269"/>
                  <a:pt x="184720" y="1443200"/>
                  <a:pt x="190123" y="1457608"/>
                </a:cubicBezTo>
                <a:cubicBezTo>
                  <a:pt x="193943" y="1467796"/>
                  <a:pt x="202194" y="1475715"/>
                  <a:pt x="208230" y="1484768"/>
                </a:cubicBezTo>
                <a:cubicBezTo>
                  <a:pt x="211248" y="1496839"/>
                  <a:pt x="209510" y="1511266"/>
                  <a:pt x="217283" y="1520982"/>
                </a:cubicBezTo>
                <a:cubicBezTo>
                  <a:pt x="223245" y="1528434"/>
                  <a:pt x="235908" y="1525767"/>
                  <a:pt x="244444" y="1530035"/>
                </a:cubicBezTo>
                <a:cubicBezTo>
                  <a:pt x="327943" y="1571784"/>
                  <a:pt x="175411" y="1540742"/>
                  <a:pt x="389299" y="1557196"/>
                </a:cubicBezTo>
                <a:cubicBezTo>
                  <a:pt x="416575" y="1575380"/>
                  <a:pt x="420513" y="1579627"/>
                  <a:pt x="452674" y="1593410"/>
                </a:cubicBezTo>
                <a:cubicBezTo>
                  <a:pt x="477030" y="1603848"/>
                  <a:pt x="498537" y="1606204"/>
                  <a:pt x="525101" y="1611517"/>
                </a:cubicBezTo>
                <a:cubicBezTo>
                  <a:pt x="576404" y="1608499"/>
                  <a:pt x="627618" y="1602463"/>
                  <a:pt x="679010" y="1602463"/>
                </a:cubicBezTo>
                <a:cubicBezTo>
                  <a:pt x="977440" y="1602463"/>
                  <a:pt x="898164" y="1578946"/>
                  <a:pt x="1023042" y="1620570"/>
                </a:cubicBezTo>
                <a:cubicBezTo>
                  <a:pt x="1071327" y="1617552"/>
                  <a:pt x="1120053" y="1618694"/>
                  <a:pt x="1167897" y="1611517"/>
                </a:cubicBezTo>
                <a:cubicBezTo>
                  <a:pt x="1180427" y="1609638"/>
                  <a:pt x="1219823" y="1583890"/>
                  <a:pt x="1231272" y="1575303"/>
                </a:cubicBezTo>
                <a:cubicBezTo>
                  <a:pt x="1342905" y="1491579"/>
                  <a:pt x="1225527" y="1578933"/>
                  <a:pt x="1303699" y="1511928"/>
                </a:cubicBezTo>
                <a:cubicBezTo>
                  <a:pt x="1315155" y="1502108"/>
                  <a:pt x="1328456" y="1494588"/>
                  <a:pt x="1339913" y="1484768"/>
                </a:cubicBezTo>
                <a:cubicBezTo>
                  <a:pt x="1349634" y="1476436"/>
                  <a:pt x="1356421" y="1464710"/>
                  <a:pt x="1367074" y="1457608"/>
                </a:cubicBezTo>
                <a:cubicBezTo>
                  <a:pt x="1375218" y="1452179"/>
                  <a:pt x="1425161" y="1441012"/>
                  <a:pt x="1430448" y="1439501"/>
                </a:cubicBezTo>
                <a:cubicBezTo>
                  <a:pt x="1521365" y="1413524"/>
                  <a:pt x="1380611" y="1449695"/>
                  <a:pt x="1493822" y="1421394"/>
                </a:cubicBezTo>
                <a:cubicBezTo>
                  <a:pt x="1511929" y="1424412"/>
                  <a:pt x="1530223" y="1426465"/>
                  <a:pt x="1548143" y="1430447"/>
                </a:cubicBezTo>
                <a:cubicBezTo>
                  <a:pt x="1557459" y="1432517"/>
                  <a:pt x="1565760" y="1439501"/>
                  <a:pt x="1575303" y="1439501"/>
                </a:cubicBezTo>
                <a:cubicBezTo>
                  <a:pt x="1653824" y="1439501"/>
                  <a:pt x="1732230" y="1433465"/>
                  <a:pt x="1810693" y="1430447"/>
                </a:cubicBezTo>
                <a:cubicBezTo>
                  <a:pt x="1843990" y="1405475"/>
                  <a:pt x="1854990" y="1399893"/>
                  <a:pt x="1883121" y="1367073"/>
                </a:cubicBezTo>
                <a:cubicBezTo>
                  <a:pt x="1919777" y="1324308"/>
                  <a:pt x="1882641" y="1355072"/>
                  <a:pt x="1919335" y="1303699"/>
                </a:cubicBezTo>
                <a:cubicBezTo>
                  <a:pt x="1935179" y="1281517"/>
                  <a:pt x="1951997" y="1272870"/>
                  <a:pt x="1973656" y="1258431"/>
                </a:cubicBezTo>
                <a:cubicBezTo>
                  <a:pt x="1985727" y="1261449"/>
                  <a:pt x="1998384" y="1262699"/>
                  <a:pt x="2009870" y="1267485"/>
                </a:cubicBezTo>
                <a:cubicBezTo>
                  <a:pt x="2088107" y="1300085"/>
                  <a:pt x="2057653" y="1297951"/>
                  <a:pt x="2109458" y="1312752"/>
                </a:cubicBezTo>
                <a:cubicBezTo>
                  <a:pt x="2121422" y="1316170"/>
                  <a:pt x="2133257" y="1320978"/>
                  <a:pt x="2145672" y="1321806"/>
                </a:cubicBezTo>
                <a:cubicBezTo>
                  <a:pt x="2224019" y="1327029"/>
                  <a:pt x="2302599" y="1327841"/>
                  <a:pt x="2381062" y="1330859"/>
                </a:cubicBezTo>
                <a:cubicBezTo>
                  <a:pt x="2399233" y="1342973"/>
                  <a:pt x="2437106" y="1368845"/>
                  <a:pt x="2453489" y="1376126"/>
                </a:cubicBezTo>
                <a:cubicBezTo>
                  <a:pt x="2464859" y="1381180"/>
                  <a:pt x="2477632" y="1382162"/>
                  <a:pt x="2489703" y="1385180"/>
                </a:cubicBezTo>
                <a:cubicBezTo>
                  <a:pt x="2522899" y="1382162"/>
                  <a:pt x="2556698" y="1383110"/>
                  <a:pt x="2589291" y="1376126"/>
                </a:cubicBezTo>
                <a:cubicBezTo>
                  <a:pt x="2599931" y="1373846"/>
                  <a:pt x="2606509" y="1362438"/>
                  <a:pt x="2616452" y="1358019"/>
                </a:cubicBezTo>
                <a:cubicBezTo>
                  <a:pt x="2633893" y="1350268"/>
                  <a:pt x="2670773" y="1339913"/>
                  <a:pt x="2670773" y="1339913"/>
                </a:cubicBezTo>
                <a:cubicBezTo>
                  <a:pt x="2770360" y="1273520"/>
                  <a:pt x="2703365" y="1304906"/>
                  <a:pt x="2888056" y="1294645"/>
                </a:cubicBezTo>
                <a:cubicBezTo>
                  <a:pt x="2915624" y="1276266"/>
                  <a:pt x="2925533" y="1274012"/>
                  <a:pt x="2942377" y="1240324"/>
                </a:cubicBezTo>
                <a:cubicBezTo>
                  <a:pt x="2950913" y="1223253"/>
                  <a:pt x="2960483" y="1186004"/>
                  <a:pt x="2960483" y="1186004"/>
                </a:cubicBezTo>
                <a:cubicBezTo>
                  <a:pt x="2963501" y="1152808"/>
                  <a:pt x="2959734" y="1118275"/>
                  <a:pt x="2969537" y="1086416"/>
                </a:cubicBezTo>
                <a:cubicBezTo>
                  <a:pt x="2972737" y="1076016"/>
                  <a:pt x="2990661" y="1077362"/>
                  <a:pt x="2996697" y="1068309"/>
                </a:cubicBezTo>
                <a:cubicBezTo>
                  <a:pt x="3036349" y="1008831"/>
                  <a:pt x="2960653" y="1050089"/>
                  <a:pt x="3041965" y="995881"/>
                </a:cubicBezTo>
                <a:cubicBezTo>
                  <a:pt x="3055487" y="986866"/>
                  <a:pt x="3072696" y="985042"/>
                  <a:pt x="3087232" y="977774"/>
                </a:cubicBezTo>
                <a:cubicBezTo>
                  <a:pt x="3106379" y="968200"/>
                  <a:pt x="3134210" y="942755"/>
                  <a:pt x="3150606" y="932507"/>
                </a:cubicBezTo>
                <a:cubicBezTo>
                  <a:pt x="3214160" y="892786"/>
                  <a:pt x="3162204" y="939016"/>
                  <a:pt x="3213981" y="887239"/>
                </a:cubicBezTo>
                <a:cubicBezTo>
                  <a:pt x="3216999" y="878186"/>
                  <a:pt x="3223034" y="869622"/>
                  <a:pt x="3223034" y="860079"/>
                </a:cubicBezTo>
                <a:cubicBezTo>
                  <a:pt x="3223034" y="811963"/>
                  <a:pt x="3224077" y="727405"/>
                  <a:pt x="3204927" y="669956"/>
                </a:cubicBezTo>
                <a:cubicBezTo>
                  <a:pt x="3183867" y="606778"/>
                  <a:pt x="3192377" y="643693"/>
                  <a:pt x="3168713" y="588475"/>
                </a:cubicBezTo>
                <a:cubicBezTo>
                  <a:pt x="3145671" y="534711"/>
                  <a:pt x="3179960" y="588381"/>
                  <a:pt x="3132499" y="525101"/>
                </a:cubicBezTo>
                <a:cubicBezTo>
                  <a:pt x="3116589" y="477367"/>
                  <a:pt x="3133962" y="515993"/>
                  <a:pt x="3096285" y="470780"/>
                </a:cubicBezTo>
                <a:cubicBezTo>
                  <a:pt x="3089319" y="462421"/>
                  <a:pt x="3087626" y="449017"/>
                  <a:pt x="3078179" y="443619"/>
                </a:cubicBezTo>
                <a:cubicBezTo>
                  <a:pt x="3064818" y="435984"/>
                  <a:pt x="3047933" y="437904"/>
                  <a:pt x="3032911" y="434566"/>
                </a:cubicBezTo>
                <a:cubicBezTo>
                  <a:pt x="3020764" y="431867"/>
                  <a:pt x="3008768" y="428531"/>
                  <a:pt x="2996697" y="425513"/>
                </a:cubicBezTo>
                <a:cubicBezTo>
                  <a:pt x="2978590" y="413442"/>
                  <a:pt x="2959786" y="402356"/>
                  <a:pt x="2942377" y="389299"/>
                </a:cubicBezTo>
                <a:cubicBezTo>
                  <a:pt x="2930306" y="380245"/>
                  <a:pt x="2918718" y="370508"/>
                  <a:pt x="2906163" y="362138"/>
                </a:cubicBezTo>
                <a:cubicBezTo>
                  <a:pt x="2846838" y="322588"/>
                  <a:pt x="2869844" y="346216"/>
                  <a:pt x="2806575" y="298764"/>
                </a:cubicBezTo>
                <a:cubicBezTo>
                  <a:pt x="2787719" y="284622"/>
                  <a:pt x="2771434" y="267197"/>
                  <a:pt x="2752254" y="253497"/>
                </a:cubicBezTo>
                <a:cubicBezTo>
                  <a:pt x="2729087" y="236949"/>
                  <a:pt x="2703085" y="224647"/>
                  <a:pt x="2679826" y="208229"/>
                </a:cubicBezTo>
                <a:cubicBezTo>
                  <a:pt x="2569210" y="130147"/>
                  <a:pt x="2633036" y="160799"/>
                  <a:pt x="2525917" y="99588"/>
                </a:cubicBezTo>
                <a:cubicBezTo>
                  <a:pt x="2508340" y="89544"/>
                  <a:pt x="2489977" y="80911"/>
                  <a:pt x="2471596" y="72427"/>
                </a:cubicBezTo>
                <a:cubicBezTo>
                  <a:pt x="2421259" y="49195"/>
                  <a:pt x="2398554" y="39554"/>
                  <a:pt x="2344848" y="27160"/>
                </a:cubicBezTo>
                <a:cubicBezTo>
                  <a:pt x="2326961" y="23032"/>
                  <a:pt x="2308527" y="21707"/>
                  <a:pt x="2290527" y="18107"/>
                </a:cubicBezTo>
                <a:cubicBezTo>
                  <a:pt x="2262113" y="12424"/>
                  <a:pt x="2253035" y="8627"/>
                  <a:pt x="2227153" y="0"/>
                </a:cubicBezTo>
                <a:cubicBezTo>
                  <a:pt x="1651176" y="23998"/>
                  <a:pt x="2401712" y="-5049"/>
                  <a:pt x="1186004" y="18107"/>
                </a:cubicBezTo>
                <a:cubicBezTo>
                  <a:pt x="1144804" y="18892"/>
                  <a:pt x="1038205" y="27651"/>
                  <a:pt x="986828" y="36214"/>
                </a:cubicBezTo>
                <a:cubicBezTo>
                  <a:pt x="974554" y="38260"/>
                  <a:pt x="962761" y="42568"/>
                  <a:pt x="950614" y="45267"/>
                </a:cubicBezTo>
                <a:cubicBezTo>
                  <a:pt x="847216" y="68243"/>
                  <a:pt x="957415" y="41302"/>
                  <a:pt x="869133" y="63374"/>
                </a:cubicBezTo>
                <a:cubicBezTo>
                  <a:pt x="814092" y="100069"/>
                  <a:pt x="872573" y="65479"/>
                  <a:pt x="805759" y="90534"/>
                </a:cubicBezTo>
                <a:cubicBezTo>
                  <a:pt x="793122" y="95273"/>
                  <a:pt x="782182" y="103902"/>
                  <a:pt x="769545" y="108641"/>
                </a:cubicBezTo>
                <a:cubicBezTo>
                  <a:pt x="708301" y="131608"/>
                  <a:pt x="757232" y="104865"/>
                  <a:pt x="706171" y="126748"/>
                </a:cubicBezTo>
                <a:cubicBezTo>
                  <a:pt x="595080" y="174358"/>
                  <a:pt x="733709" y="117506"/>
                  <a:pt x="642796" y="162962"/>
                </a:cubicBezTo>
                <a:cubicBezTo>
                  <a:pt x="628260" y="170230"/>
                  <a:pt x="612802" y="175515"/>
                  <a:pt x="597529" y="181069"/>
                </a:cubicBezTo>
                <a:cubicBezTo>
                  <a:pt x="579592" y="187592"/>
                  <a:pt x="560279" y="190640"/>
                  <a:pt x="543208" y="199176"/>
                </a:cubicBezTo>
                <a:cubicBezTo>
                  <a:pt x="531137" y="205212"/>
                  <a:pt x="518712" y="210587"/>
                  <a:pt x="506994" y="217283"/>
                </a:cubicBezTo>
                <a:cubicBezTo>
                  <a:pt x="497547" y="222681"/>
                  <a:pt x="489566" y="230524"/>
                  <a:pt x="479834" y="235390"/>
                </a:cubicBezTo>
                <a:cubicBezTo>
                  <a:pt x="465298" y="242658"/>
                  <a:pt x="450246" y="249221"/>
                  <a:pt x="434567" y="253497"/>
                </a:cubicBezTo>
                <a:cubicBezTo>
                  <a:pt x="396309" y="263931"/>
                  <a:pt x="378847" y="258548"/>
                  <a:pt x="344032" y="271604"/>
                </a:cubicBezTo>
                <a:cubicBezTo>
                  <a:pt x="331395" y="276343"/>
                  <a:pt x="320151" y="284230"/>
                  <a:pt x="307818" y="289711"/>
                </a:cubicBezTo>
                <a:cubicBezTo>
                  <a:pt x="292967" y="296311"/>
                  <a:pt x="277640" y="301782"/>
                  <a:pt x="262551" y="307818"/>
                </a:cubicBezTo>
                <a:cubicBezTo>
                  <a:pt x="253497" y="316871"/>
                  <a:pt x="245809" y="327536"/>
                  <a:pt x="235390" y="334978"/>
                </a:cubicBezTo>
                <a:cubicBezTo>
                  <a:pt x="224408" y="342822"/>
                  <a:pt x="210895" y="346389"/>
                  <a:pt x="199177" y="353085"/>
                </a:cubicBezTo>
                <a:cubicBezTo>
                  <a:pt x="166431" y="371797"/>
                  <a:pt x="126797" y="407334"/>
                  <a:pt x="108642" y="434566"/>
                </a:cubicBezTo>
                <a:lnTo>
                  <a:pt x="72428" y="488887"/>
                </a:lnTo>
                <a:lnTo>
                  <a:pt x="54321" y="516047"/>
                </a:lnTo>
                <a:cubicBezTo>
                  <a:pt x="27426" y="596738"/>
                  <a:pt x="70445" y="469446"/>
                  <a:pt x="27161" y="588475"/>
                </a:cubicBezTo>
                <a:cubicBezTo>
                  <a:pt x="9529" y="636964"/>
                  <a:pt x="10809" y="635777"/>
                  <a:pt x="0" y="679010"/>
                </a:cubicBezTo>
                <a:cubicBezTo>
                  <a:pt x="4148" y="728787"/>
                  <a:pt x="-9364" y="778287"/>
                  <a:pt x="27161" y="814812"/>
                </a:cubicBezTo>
                <a:cubicBezTo>
                  <a:pt x="34855" y="822506"/>
                  <a:pt x="43859" y="829929"/>
                  <a:pt x="54321" y="832918"/>
                </a:cubicBezTo>
                <a:cubicBezTo>
                  <a:pt x="65928" y="836234"/>
                  <a:pt x="64883" y="849517"/>
                  <a:pt x="72428" y="878186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2936880" y="2708280"/>
            <a:ext cx="3048120" cy="207180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"/>
          <p:cNvSpPr/>
          <p:nvPr/>
        </p:nvSpPr>
        <p:spPr>
          <a:xfrm rot="10372800">
            <a:off x="2789280" y="2173320"/>
            <a:ext cx="3222720" cy="2192400"/>
          </a:xfrm>
          <a:custGeom>
            <a:avLst/>
            <a:gdLst/>
            <a:ahLst/>
            <a:rect l="l" t="t" r="r" b="b"/>
            <a:pathLst>
              <a:path w="3223044" h="1620570">
                <a:moveTo>
                  <a:pt x="72428" y="878186"/>
                </a:moveTo>
                <a:cubicBezTo>
                  <a:pt x="79973" y="906855"/>
                  <a:pt x="88579" y="966403"/>
                  <a:pt x="99588" y="1004934"/>
                </a:cubicBezTo>
                <a:cubicBezTo>
                  <a:pt x="102210" y="1014110"/>
                  <a:pt x="105624" y="1023041"/>
                  <a:pt x="108642" y="1032095"/>
                </a:cubicBezTo>
                <a:cubicBezTo>
                  <a:pt x="119802" y="1132541"/>
                  <a:pt x="109054" y="1087654"/>
                  <a:pt x="135802" y="1167897"/>
                </a:cubicBezTo>
                <a:lnTo>
                  <a:pt x="153909" y="1222218"/>
                </a:lnTo>
                <a:lnTo>
                  <a:pt x="162963" y="1249378"/>
                </a:lnTo>
                <a:cubicBezTo>
                  <a:pt x="165981" y="1294645"/>
                  <a:pt x="167006" y="1340090"/>
                  <a:pt x="172016" y="1385180"/>
                </a:cubicBezTo>
                <a:cubicBezTo>
                  <a:pt x="173070" y="1394665"/>
                  <a:pt x="178755" y="1403082"/>
                  <a:pt x="181070" y="1412340"/>
                </a:cubicBezTo>
                <a:cubicBezTo>
                  <a:pt x="184802" y="1427269"/>
                  <a:pt x="184720" y="1443200"/>
                  <a:pt x="190123" y="1457608"/>
                </a:cubicBezTo>
                <a:cubicBezTo>
                  <a:pt x="193943" y="1467796"/>
                  <a:pt x="202194" y="1475715"/>
                  <a:pt x="208230" y="1484768"/>
                </a:cubicBezTo>
                <a:cubicBezTo>
                  <a:pt x="211248" y="1496839"/>
                  <a:pt x="209510" y="1511266"/>
                  <a:pt x="217283" y="1520982"/>
                </a:cubicBezTo>
                <a:cubicBezTo>
                  <a:pt x="223245" y="1528434"/>
                  <a:pt x="235908" y="1525767"/>
                  <a:pt x="244444" y="1530035"/>
                </a:cubicBezTo>
                <a:cubicBezTo>
                  <a:pt x="327943" y="1571784"/>
                  <a:pt x="175411" y="1540742"/>
                  <a:pt x="389299" y="1557196"/>
                </a:cubicBezTo>
                <a:cubicBezTo>
                  <a:pt x="416575" y="1575380"/>
                  <a:pt x="420513" y="1579627"/>
                  <a:pt x="452674" y="1593410"/>
                </a:cubicBezTo>
                <a:cubicBezTo>
                  <a:pt x="477030" y="1603848"/>
                  <a:pt x="498537" y="1606204"/>
                  <a:pt x="525101" y="1611517"/>
                </a:cubicBezTo>
                <a:cubicBezTo>
                  <a:pt x="576404" y="1608499"/>
                  <a:pt x="627618" y="1602463"/>
                  <a:pt x="679010" y="1602463"/>
                </a:cubicBezTo>
                <a:cubicBezTo>
                  <a:pt x="977440" y="1602463"/>
                  <a:pt x="898164" y="1578946"/>
                  <a:pt x="1023042" y="1620570"/>
                </a:cubicBezTo>
                <a:cubicBezTo>
                  <a:pt x="1071327" y="1617552"/>
                  <a:pt x="1120053" y="1618694"/>
                  <a:pt x="1167897" y="1611517"/>
                </a:cubicBezTo>
                <a:cubicBezTo>
                  <a:pt x="1180427" y="1609638"/>
                  <a:pt x="1219823" y="1583890"/>
                  <a:pt x="1231272" y="1575303"/>
                </a:cubicBezTo>
                <a:cubicBezTo>
                  <a:pt x="1342905" y="1491579"/>
                  <a:pt x="1225527" y="1578933"/>
                  <a:pt x="1303699" y="1511928"/>
                </a:cubicBezTo>
                <a:cubicBezTo>
                  <a:pt x="1315155" y="1502108"/>
                  <a:pt x="1328456" y="1494588"/>
                  <a:pt x="1339913" y="1484768"/>
                </a:cubicBezTo>
                <a:cubicBezTo>
                  <a:pt x="1349634" y="1476436"/>
                  <a:pt x="1356421" y="1464710"/>
                  <a:pt x="1367074" y="1457608"/>
                </a:cubicBezTo>
                <a:cubicBezTo>
                  <a:pt x="1375218" y="1452179"/>
                  <a:pt x="1425161" y="1441012"/>
                  <a:pt x="1430448" y="1439501"/>
                </a:cubicBezTo>
                <a:cubicBezTo>
                  <a:pt x="1521365" y="1413524"/>
                  <a:pt x="1380611" y="1449695"/>
                  <a:pt x="1493822" y="1421394"/>
                </a:cubicBezTo>
                <a:cubicBezTo>
                  <a:pt x="1511929" y="1424412"/>
                  <a:pt x="1530223" y="1426465"/>
                  <a:pt x="1548143" y="1430447"/>
                </a:cubicBezTo>
                <a:cubicBezTo>
                  <a:pt x="1557459" y="1432517"/>
                  <a:pt x="1565760" y="1439501"/>
                  <a:pt x="1575303" y="1439501"/>
                </a:cubicBezTo>
                <a:cubicBezTo>
                  <a:pt x="1653824" y="1439501"/>
                  <a:pt x="1732230" y="1433465"/>
                  <a:pt x="1810693" y="1430447"/>
                </a:cubicBezTo>
                <a:cubicBezTo>
                  <a:pt x="1843990" y="1405475"/>
                  <a:pt x="1854990" y="1399893"/>
                  <a:pt x="1883121" y="1367073"/>
                </a:cubicBezTo>
                <a:cubicBezTo>
                  <a:pt x="1919777" y="1324308"/>
                  <a:pt x="1882641" y="1355072"/>
                  <a:pt x="1919335" y="1303699"/>
                </a:cubicBezTo>
                <a:cubicBezTo>
                  <a:pt x="1935179" y="1281517"/>
                  <a:pt x="1951997" y="1272870"/>
                  <a:pt x="1973656" y="1258431"/>
                </a:cubicBezTo>
                <a:cubicBezTo>
                  <a:pt x="1985727" y="1261449"/>
                  <a:pt x="1998384" y="1262699"/>
                  <a:pt x="2009870" y="1267485"/>
                </a:cubicBezTo>
                <a:cubicBezTo>
                  <a:pt x="2088107" y="1300085"/>
                  <a:pt x="2057653" y="1297951"/>
                  <a:pt x="2109458" y="1312752"/>
                </a:cubicBezTo>
                <a:cubicBezTo>
                  <a:pt x="2121422" y="1316170"/>
                  <a:pt x="2133257" y="1320978"/>
                  <a:pt x="2145672" y="1321806"/>
                </a:cubicBezTo>
                <a:cubicBezTo>
                  <a:pt x="2224019" y="1327029"/>
                  <a:pt x="2302599" y="1327841"/>
                  <a:pt x="2381062" y="1330859"/>
                </a:cubicBezTo>
                <a:cubicBezTo>
                  <a:pt x="2399233" y="1342973"/>
                  <a:pt x="2437106" y="1368845"/>
                  <a:pt x="2453489" y="1376126"/>
                </a:cubicBezTo>
                <a:cubicBezTo>
                  <a:pt x="2464859" y="1381180"/>
                  <a:pt x="2477632" y="1382162"/>
                  <a:pt x="2489703" y="1385180"/>
                </a:cubicBezTo>
                <a:cubicBezTo>
                  <a:pt x="2522899" y="1382162"/>
                  <a:pt x="2556698" y="1383110"/>
                  <a:pt x="2589291" y="1376126"/>
                </a:cubicBezTo>
                <a:cubicBezTo>
                  <a:pt x="2599931" y="1373846"/>
                  <a:pt x="2606509" y="1362438"/>
                  <a:pt x="2616452" y="1358019"/>
                </a:cubicBezTo>
                <a:cubicBezTo>
                  <a:pt x="2633893" y="1350268"/>
                  <a:pt x="2670773" y="1339913"/>
                  <a:pt x="2670773" y="1339913"/>
                </a:cubicBezTo>
                <a:cubicBezTo>
                  <a:pt x="2770360" y="1273520"/>
                  <a:pt x="2703365" y="1304906"/>
                  <a:pt x="2888056" y="1294645"/>
                </a:cubicBezTo>
                <a:cubicBezTo>
                  <a:pt x="2915624" y="1276266"/>
                  <a:pt x="2925533" y="1274012"/>
                  <a:pt x="2942377" y="1240324"/>
                </a:cubicBezTo>
                <a:cubicBezTo>
                  <a:pt x="2950913" y="1223253"/>
                  <a:pt x="2960483" y="1186004"/>
                  <a:pt x="2960483" y="1186004"/>
                </a:cubicBezTo>
                <a:cubicBezTo>
                  <a:pt x="2963501" y="1152808"/>
                  <a:pt x="2959734" y="1118275"/>
                  <a:pt x="2969537" y="1086416"/>
                </a:cubicBezTo>
                <a:cubicBezTo>
                  <a:pt x="2972737" y="1076016"/>
                  <a:pt x="2990661" y="1077362"/>
                  <a:pt x="2996697" y="1068309"/>
                </a:cubicBezTo>
                <a:cubicBezTo>
                  <a:pt x="3036349" y="1008831"/>
                  <a:pt x="2960653" y="1050089"/>
                  <a:pt x="3041965" y="995881"/>
                </a:cubicBezTo>
                <a:cubicBezTo>
                  <a:pt x="3055487" y="986866"/>
                  <a:pt x="3072696" y="985042"/>
                  <a:pt x="3087232" y="977774"/>
                </a:cubicBezTo>
                <a:cubicBezTo>
                  <a:pt x="3106379" y="968200"/>
                  <a:pt x="3134210" y="942755"/>
                  <a:pt x="3150606" y="932507"/>
                </a:cubicBezTo>
                <a:cubicBezTo>
                  <a:pt x="3214160" y="892786"/>
                  <a:pt x="3162204" y="939016"/>
                  <a:pt x="3213981" y="887239"/>
                </a:cubicBezTo>
                <a:cubicBezTo>
                  <a:pt x="3216999" y="878186"/>
                  <a:pt x="3223034" y="869622"/>
                  <a:pt x="3223034" y="860079"/>
                </a:cubicBezTo>
                <a:cubicBezTo>
                  <a:pt x="3223034" y="811963"/>
                  <a:pt x="3224077" y="727405"/>
                  <a:pt x="3204927" y="669956"/>
                </a:cubicBezTo>
                <a:cubicBezTo>
                  <a:pt x="3183867" y="606778"/>
                  <a:pt x="3192377" y="643693"/>
                  <a:pt x="3168713" y="588475"/>
                </a:cubicBezTo>
                <a:cubicBezTo>
                  <a:pt x="3145671" y="534711"/>
                  <a:pt x="3179960" y="588381"/>
                  <a:pt x="3132499" y="525101"/>
                </a:cubicBezTo>
                <a:cubicBezTo>
                  <a:pt x="3116589" y="477367"/>
                  <a:pt x="3133962" y="515993"/>
                  <a:pt x="3096285" y="470780"/>
                </a:cubicBezTo>
                <a:cubicBezTo>
                  <a:pt x="3089319" y="462421"/>
                  <a:pt x="3087626" y="449017"/>
                  <a:pt x="3078179" y="443619"/>
                </a:cubicBezTo>
                <a:cubicBezTo>
                  <a:pt x="3064818" y="435984"/>
                  <a:pt x="3047933" y="437904"/>
                  <a:pt x="3032911" y="434566"/>
                </a:cubicBezTo>
                <a:cubicBezTo>
                  <a:pt x="3020764" y="431867"/>
                  <a:pt x="3008768" y="428531"/>
                  <a:pt x="2996697" y="425513"/>
                </a:cubicBezTo>
                <a:cubicBezTo>
                  <a:pt x="2978590" y="413442"/>
                  <a:pt x="2959786" y="402356"/>
                  <a:pt x="2942377" y="389299"/>
                </a:cubicBezTo>
                <a:cubicBezTo>
                  <a:pt x="2930306" y="380245"/>
                  <a:pt x="2918718" y="370508"/>
                  <a:pt x="2906163" y="362138"/>
                </a:cubicBezTo>
                <a:cubicBezTo>
                  <a:pt x="2846838" y="322588"/>
                  <a:pt x="2869844" y="346216"/>
                  <a:pt x="2806575" y="298764"/>
                </a:cubicBezTo>
                <a:cubicBezTo>
                  <a:pt x="2787719" y="284622"/>
                  <a:pt x="2771434" y="267197"/>
                  <a:pt x="2752254" y="253497"/>
                </a:cubicBezTo>
                <a:cubicBezTo>
                  <a:pt x="2729087" y="236949"/>
                  <a:pt x="2703085" y="224647"/>
                  <a:pt x="2679826" y="208229"/>
                </a:cubicBezTo>
                <a:cubicBezTo>
                  <a:pt x="2569210" y="130147"/>
                  <a:pt x="2633036" y="160799"/>
                  <a:pt x="2525917" y="99588"/>
                </a:cubicBezTo>
                <a:cubicBezTo>
                  <a:pt x="2508340" y="89544"/>
                  <a:pt x="2489977" y="80911"/>
                  <a:pt x="2471596" y="72427"/>
                </a:cubicBezTo>
                <a:cubicBezTo>
                  <a:pt x="2421259" y="49195"/>
                  <a:pt x="2398554" y="39554"/>
                  <a:pt x="2344848" y="27160"/>
                </a:cubicBezTo>
                <a:cubicBezTo>
                  <a:pt x="2326961" y="23032"/>
                  <a:pt x="2308527" y="21707"/>
                  <a:pt x="2290527" y="18107"/>
                </a:cubicBezTo>
                <a:cubicBezTo>
                  <a:pt x="2262113" y="12424"/>
                  <a:pt x="2253035" y="8627"/>
                  <a:pt x="2227153" y="0"/>
                </a:cubicBezTo>
                <a:cubicBezTo>
                  <a:pt x="1651176" y="23998"/>
                  <a:pt x="2401712" y="-5049"/>
                  <a:pt x="1186004" y="18107"/>
                </a:cubicBezTo>
                <a:cubicBezTo>
                  <a:pt x="1144804" y="18892"/>
                  <a:pt x="1038205" y="27651"/>
                  <a:pt x="986828" y="36214"/>
                </a:cubicBezTo>
                <a:cubicBezTo>
                  <a:pt x="974554" y="38260"/>
                  <a:pt x="962761" y="42568"/>
                  <a:pt x="950614" y="45267"/>
                </a:cubicBezTo>
                <a:cubicBezTo>
                  <a:pt x="847216" y="68243"/>
                  <a:pt x="957415" y="41302"/>
                  <a:pt x="869133" y="63374"/>
                </a:cubicBezTo>
                <a:cubicBezTo>
                  <a:pt x="814092" y="100069"/>
                  <a:pt x="872573" y="65479"/>
                  <a:pt x="805759" y="90534"/>
                </a:cubicBezTo>
                <a:cubicBezTo>
                  <a:pt x="793122" y="95273"/>
                  <a:pt x="782182" y="103902"/>
                  <a:pt x="769545" y="108641"/>
                </a:cubicBezTo>
                <a:cubicBezTo>
                  <a:pt x="708301" y="131608"/>
                  <a:pt x="757232" y="104865"/>
                  <a:pt x="706171" y="126748"/>
                </a:cubicBezTo>
                <a:cubicBezTo>
                  <a:pt x="595080" y="174358"/>
                  <a:pt x="733709" y="117506"/>
                  <a:pt x="642796" y="162962"/>
                </a:cubicBezTo>
                <a:cubicBezTo>
                  <a:pt x="628260" y="170230"/>
                  <a:pt x="612802" y="175515"/>
                  <a:pt x="597529" y="181069"/>
                </a:cubicBezTo>
                <a:cubicBezTo>
                  <a:pt x="579592" y="187592"/>
                  <a:pt x="560279" y="190640"/>
                  <a:pt x="543208" y="199176"/>
                </a:cubicBezTo>
                <a:cubicBezTo>
                  <a:pt x="531137" y="205212"/>
                  <a:pt x="518712" y="210587"/>
                  <a:pt x="506994" y="217283"/>
                </a:cubicBezTo>
                <a:cubicBezTo>
                  <a:pt x="497547" y="222681"/>
                  <a:pt x="489566" y="230524"/>
                  <a:pt x="479834" y="235390"/>
                </a:cubicBezTo>
                <a:cubicBezTo>
                  <a:pt x="465298" y="242658"/>
                  <a:pt x="450246" y="249221"/>
                  <a:pt x="434567" y="253497"/>
                </a:cubicBezTo>
                <a:cubicBezTo>
                  <a:pt x="396309" y="263931"/>
                  <a:pt x="378847" y="258548"/>
                  <a:pt x="344032" y="271604"/>
                </a:cubicBezTo>
                <a:cubicBezTo>
                  <a:pt x="331395" y="276343"/>
                  <a:pt x="320151" y="284230"/>
                  <a:pt x="307818" y="289711"/>
                </a:cubicBezTo>
                <a:cubicBezTo>
                  <a:pt x="292967" y="296311"/>
                  <a:pt x="277640" y="301782"/>
                  <a:pt x="262551" y="307818"/>
                </a:cubicBezTo>
                <a:cubicBezTo>
                  <a:pt x="253497" y="316871"/>
                  <a:pt x="245809" y="327536"/>
                  <a:pt x="235390" y="334978"/>
                </a:cubicBezTo>
                <a:cubicBezTo>
                  <a:pt x="224408" y="342822"/>
                  <a:pt x="210895" y="346389"/>
                  <a:pt x="199177" y="353085"/>
                </a:cubicBezTo>
                <a:cubicBezTo>
                  <a:pt x="166431" y="371797"/>
                  <a:pt x="126797" y="407334"/>
                  <a:pt x="108642" y="434566"/>
                </a:cubicBezTo>
                <a:lnTo>
                  <a:pt x="72428" y="488887"/>
                </a:lnTo>
                <a:lnTo>
                  <a:pt x="54321" y="516047"/>
                </a:lnTo>
                <a:cubicBezTo>
                  <a:pt x="27426" y="596738"/>
                  <a:pt x="70445" y="469446"/>
                  <a:pt x="27161" y="588475"/>
                </a:cubicBezTo>
                <a:cubicBezTo>
                  <a:pt x="9529" y="636964"/>
                  <a:pt x="10809" y="635777"/>
                  <a:pt x="0" y="679010"/>
                </a:cubicBezTo>
                <a:cubicBezTo>
                  <a:pt x="4148" y="728787"/>
                  <a:pt x="-9364" y="778287"/>
                  <a:pt x="27161" y="814812"/>
                </a:cubicBezTo>
                <a:cubicBezTo>
                  <a:pt x="34855" y="822506"/>
                  <a:pt x="43859" y="829929"/>
                  <a:pt x="54321" y="832918"/>
                </a:cubicBezTo>
                <a:cubicBezTo>
                  <a:pt x="65928" y="836234"/>
                  <a:pt x="64883" y="849517"/>
                  <a:pt x="72428" y="878186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2936880" y="2708280"/>
            <a:ext cx="3048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1" descr=""/>
          <p:cNvPicPr/>
          <p:nvPr/>
        </p:nvPicPr>
        <p:blipFill>
          <a:blip r:embed="rId3"/>
          <a:stretch/>
        </p:blipFill>
        <p:spPr>
          <a:xfrm>
            <a:off x="3076560" y="2565360"/>
            <a:ext cx="3552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1" descr=""/>
          <p:cNvPicPr/>
          <p:nvPr/>
        </p:nvPicPr>
        <p:blipFill>
          <a:blip r:embed="rId3"/>
          <a:stretch/>
        </p:blipFill>
        <p:spPr>
          <a:xfrm>
            <a:off x="3076560" y="2565360"/>
            <a:ext cx="3552840" cy="289080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3"/>
          <p:cNvSpPr/>
          <p:nvPr/>
        </p:nvSpPr>
        <p:spPr>
          <a:xfrm>
            <a:off x="5286240" y="2133720"/>
            <a:ext cx="1784520" cy="2163600"/>
          </a:xfrm>
          <a:custGeom>
            <a:avLst/>
            <a:gdLst/>
            <a:ahLst/>
            <a:rect l="l" t="t" r="r" b="b"/>
            <a:pathLst>
              <a:path w="1784375" h="2381061">
                <a:moveTo>
                  <a:pt x="37057" y="823865"/>
                </a:moveTo>
                <a:cubicBezTo>
                  <a:pt x="40075" y="829901"/>
                  <a:pt x="48851" y="866196"/>
                  <a:pt x="55164" y="887240"/>
                </a:cubicBezTo>
                <a:cubicBezTo>
                  <a:pt x="57906" y="896381"/>
                  <a:pt x="61903" y="905142"/>
                  <a:pt x="64217" y="914400"/>
                </a:cubicBezTo>
                <a:cubicBezTo>
                  <a:pt x="69383" y="935065"/>
                  <a:pt x="71975" y="966131"/>
                  <a:pt x="82324" y="986828"/>
                </a:cubicBezTo>
                <a:cubicBezTo>
                  <a:pt x="87190" y="996560"/>
                  <a:pt x="94664" y="1004761"/>
                  <a:pt x="100431" y="1013988"/>
                </a:cubicBezTo>
                <a:cubicBezTo>
                  <a:pt x="116035" y="1038955"/>
                  <a:pt x="133909" y="1067962"/>
                  <a:pt x="145698" y="1095469"/>
                </a:cubicBezTo>
                <a:cubicBezTo>
                  <a:pt x="169207" y="1150321"/>
                  <a:pt x="135344" y="1092868"/>
                  <a:pt x="172859" y="1167897"/>
                </a:cubicBezTo>
                <a:cubicBezTo>
                  <a:pt x="218318" y="1258815"/>
                  <a:pt x="161460" y="1120176"/>
                  <a:pt x="209072" y="1231271"/>
                </a:cubicBezTo>
                <a:cubicBezTo>
                  <a:pt x="231560" y="1283744"/>
                  <a:pt x="201438" y="1233401"/>
                  <a:pt x="236233" y="1285592"/>
                </a:cubicBezTo>
                <a:cubicBezTo>
                  <a:pt x="240346" y="1310273"/>
                  <a:pt x="242340" y="1355074"/>
                  <a:pt x="263393" y="1376127"/>
                </a:cubicBezTo>
                <a:cubicBezTo>
                  <a:pt x="284732" y="1397466"/>
                  <a:pt x="310711" y="1413708"/>
                  <a:pt x="335821" y="1430448"/>
                </a:cubicBezTo>
                <a:cubicBezTo>
                  <a:pt x="344874" y="1436484"/>
                  <a:pt x="352755" y="1444837"/>
                  <a:pt x="362981" y="1448555"/>
                </a:cubicBezTo>
                <a:cubicBezTo>
                  <a:pt x="386368" y="1457059"/>
                  <a:pt x="411266" y="1460625"/>
                  <a:pt x="435409" y="1466661"/>
                </a:cubicBezTo>
                <a:cubicBezTo>
                  <a:pt x="474490" y="1476431"/>
                  <a:pt x="513315" y="1487190"/>
                  <a:pt x="553104" y="1493822"/>
                </a:cubicBezTo>
                <a:cubicBezTo>
                  <a:pt x="574153" y="1497330"/>
                  <a:pt x="595353" y="1499857"/>
                  <a:pt x="616478" y="1502875"/>
                </a:cubicBezTo>
                <a:cubicBezTo>
                  <a:pt x="622514" y="1520982"/>
                  <a:pt x="633790" y="1538126"/>
                  <a:pt x="634585" y="1557196"/>
                </a:cubicBezTo>
                <a:cubicBezTo>
                  <a:pt x="637603" y="1629624"/>
                  <a:pt x="639117" y="1702130"/>
                  <a:pt x="643639" y="1774479"/>
                </a:cubicBezTo>
                <a:cubicBezTo>
                  <a:pt x="645157" y="1798762"/>
                  <a:pt x="648992" y="1822859"/>
                  <a:pt x="652692" y="1846907"/>
                </a:cubicBezTo>
                <a:cubicBezTo>
                  <a:pt x="654987" y="1861823"/>
                  <a:pt x="662233" y="1902203"/>
                  <a:pt x="670799" y="1919335"/>
                </a:cubicBezTo>
                <a:cubicBezTo>
                  <a:pt x="675665" y="1929067"/>
                  <a:pt x="682870" y="1937442"/>
                  <a:pt x="688906" y="1946495"/>
                </a:cubicBezTo>
                <a:cubicBezTo>
                  <a:pt x="691924" y="1961584"/>
                  <a:pt x="694622" y="1976741"/>
                  <a:pt x="697960" y="1991762"/>
                </a:cubicBezTo>
                <a:cubicBezTo>
                  <a:pt x="700659" y="2003909"/>
                  <a:pt x="704967" y="2015702"/>
                  <a:pt x="707013" y="2027976"/>
                </a:cubicBezTo>
                <a:cubicBezTo>
                  <a:pt x="711013" y="2051976"/>
                  <a:pt x="710166" y="2076800"/>
                  <a:pt x="716067" y="2100404"/>
                </a:cubicBezTo>
                <a:cubicBezTo>
                  <a:pt x="719340" y="2113497"/>
                  <a:pt x="727477" y="2124900"/>
                  <a:pt x="734173" y="2136618"/>
                </a:cubicBezTo>
                <a:cubicBezTo>
                  <a:pt x="748875" y="2162347"/>
                  <a:pt x="759905" y="2176644"/>
                  <a:pt x="788494" y="2190939"/>
                </a:cubicBezTo>
                <a:cubicBezTo>
                  <a:pt x="799623" y="2196504"/>
                  <a:pt x="812637" y="2196974"/>
                  <a:pt x="824708" y="2199992"/>
                </a:cubicBezTo>
                <a:cubicBezTo>
                  <a:pt x="836779" y="2206028"/>
                  <a:pt x="849204" y="2211403"/>
                  <a:pt x="860922" y="2218099"/>
                </a:cubicBezTo>
                <a:cubicBezTo>
                  <a:pt x="870369" y="2223497"/>
                  <a:pt x="878139" y="2231787"/>
                  <a:pt x="888082" y="2236206"/>
                </a:cubicBezTo>
                <a:cubicBezTo>
                  <a:pt x="905523" y="2243958"/>
                  <a:pt x="942403" y="2254313"/>
                  <a:pt x="942403" y="2254313"/>
                </a:cubicBezTo>
                <a:cubicBezTo>
                  <a:pt x="972582" y="2299580"/>
                  <a:pt x="951456" y="2275437"/>
                  <a:pt x="1014831" y="2317687"/>
                </a:cubicBezTo>
                <a:cubicBezTo>
                  <a:pt x="1023884" y="2323723"/>
                  <a:pt x="1031669" y="2332353"/>
                  <a:pt x="1041991" y="2335794"/>
                </a:cubicBezTo>
                <a:cubicBezTo>
                  <a:pt x="1051045" y="2338812"/>
                  <a:pt x="1060616" y="2340580"/>
                  <a:pt x="1069152" y="2344848"/>
                </a:cubicBezTo>
                <a:cubicBezTo>
                  <a:pt x="1078884" y="2349714"/>
                  <a:pt x="1086311" y="2358669"/>
                  <a:pt x="1096312" y="2362955"/>
                </a:cubicBezTo>
                <a:cubicBezTo>
                  <a:pt x="1107749" y="2367856"/>
                  <a:pt x="1120562" y="2368590"/>
                  <a:pt x="1132526" y="2372008"/>
                </a:cubicBezTo>
                <a:cubicBezTo>
                  <a:pt x="1141702" y="2374630"/>
                  <a:pt x="1150633" y="2378043"/>
                  <a:pt x="1159686" y="2381061"/>
                </a:cubicBezTo>
                <a:cubicBezTo>
                  <a:pt x="1226078" y="2378043"/>
                  <a:pt x="1293437" y="2383691"/>
                  <a:pt x="1358863" y="2372008"/>
                </a:cubicBezTo>
                <a:cubicBezTo>
                  <a:pt x="1380286" y="2368183"/>
                  <a:pt x="1392071" y="2341072"/>
                  <a:pt x="1413183" y="2335794"/>
                </a:cubicBezTo>
                <a:lnTo>
                  <a:pt x="1449397" y="2326741"/>
                </a:lnTo>
                <a:cubicBezTo>
                  <a:pt x="1508264" y="2238440"/>
                  <a:pt x="1413883" y="2373483"/>
                  <a:pt x="1503718" y="2272420"/>
                </a:cubicBezTo>
                <a:cubicBezTo>
                  <a:pt x="1518176" y="2256155"/>
                  <a:pt x="1527861" y="2236206"/>
                  <a:pt x="1539932" y="2218099"/>
                </a:cubicBezTo>
                <a:lnTo>
                  <a:pt x="1558039" y="2190939"/>
                </a:lnTo>
                <a:lnTo>
                  <a:pt x="1576146" y="2163778"/>
                </a:lnTo>
                <a:cubicBezTo>
                  <a:pt x="1579164" y="2154725"/>
                  <a:pt x="1580931" y="2145154"/>
                  <a:pt x="1585199" y="2136618"/>
                </a:cubicBezTo>
                <a:cubicBezTo>
                  <a:pt x="1597803" y="2111410"/>
                  <a:pt x="1610445" y="2102319"/>
                  <a:pt x="1630467" y="2082297"/>
                </a:cubicBezTo>
                <a:cubicBezTo>
                  <a:pt x="1636502" y="2070226"/>
                  <a:pt x="1641877" y="2057801"/>
                  <a:pt x="1648573" y="2046083"/>
                </a:cubicBezTo>
                <a:cubicBezTo>
                  <a:pt x="1653971" y="2036636"/>
                  <a:pt x="1662261" y="2028866"/>
                  <a:pt x="1666680" y="2018923"/>
                </a:cubicBezTo>
                <a:cubicBezTo>
                  <a:pt x="1674432" y="2001482"/>
                  <a:pt x="1676251" y="1981673"/>
                  <a:pt x="1684787" y="1964602"/>
                </a:cubicBezTo>
                <a:cubicBezTo>
                  <a:pt x="1690823" y="1952531"/>
                  <a:pt x="1697577" y="1940793"/>
                  <a:pt x="1702894" y="1928388"/>
                </a:cubicBezTo>
                <a:cubicBezTo>
                  <a:pt x="1713040" y="1904715"/>
                  <a:pt x="1713341" y="1890548"/>
                  <a:pt x="1721001" y="1865014"/>
                </a:cubicBezTo>
                <a:cubicBezTo>
                  <a:pt x="1721021" y="1864947"/>
                  <a:pt x="1743624" y="1797146"/>
                  <a:pt x="1748162" y="1783533"/>
                </a:cubicBezTo>
                <a:cubicBezTo>
                  <a:pt x="1756165" y="1759525"/>
                  <a:pt x="1761399" y="1746129"/>
                  <a:pt x="1766269" y="1720158"/>
                </a:cubicBezTo>
                <a:cubicBezTo>
                  <a:pt x="1773035" y="1684074"/>
                  <a:pt x="1784375" y="1611517"/>
                  <a:pt x="1784375" y="1611517"/>
                </a:cubicBezTo>
                <a:cubicBezTo>
                  <a:pt x="1781357" y="1391216"/>
                  <a:pt x="1781042" y="1170861"/>
                  <a:pt x="1775322" y="950614"/>
                </a:cubicBezTo>
                <a:cubicBezTo>
                  <a:pt x="1774999" y="938175"/>
                  <a:pt x="1768315" y="926674"/>
                  <a:pt x="1766269" y="914400"/>
                </a:cubicBezTo>
                <a:cubicBezTo>
                  <a:pt x="1759253" y="872302"/>
                  <a:pt x="1753456" y="830001"/>
                  <a:pt x="1748162" y="787652"/>
                </a:cubicBezTo>
                <a:cubicBezTo>
                  <a:pt x="1742126" y="739367"/>
                  <a:pt x="1745443" y="688960"/>
                  <a:pt x="1730055" y="642796"/>
                </a:cubicBezTo>
                <a:cubicBezTo>
                  <a:pt x="1687031" y="513724"/>
                  <a:pt x="1730256" y="648028"/>
                  <a:pt x="1702894" y="552261"/>
                </a:cubicBezTo>
                <a:cubicBezTo>
                  <a:pt x="1700272" y="543085"/>
                  <a:pt x="1696352" y="534308"/>
                  <a:pt x="1693841" y="525101"/>
                </a:cubicBezTo>
                <a:cubicBezTo>
                  <a:pt x="1687293" y="501092"/>
                  <a:pt x="1683604" y="476282"/>
                  <a:pt x="1675734" y="452673"/>
                </a:cubicBezTo>
                <a:cubicBezTo>
                  <a:pt x="1669698" y="434566"/>
                  <a:pt x="1662256" y="416869"/>
                  <a:pt x="1657627" y="398353"/>
                </a:cubicBezTo>
                <a:cubicBezTo>
                  <a:pt x="1654609" y="386282"/>
                  <a:pt x="1652508" y="373943"/>
                  <a:pt x="1648573" y="362139"/>
                </a:cubicBezTo>
                <a:cubicBezTo>
                  <a:pt x="1618012" y="270454"/>
                  <a:pt x="1643916" y="359547"/>
                  <a:pt x="1612360" y="280658"/>
                </a:cubicBezTo>
                <a:cubicBezTo>
                  <a:pt x="1600366" y="250674"/>
                  <a:pt x="1595448" y="217146"/>
                  <a:pt x="1576146" y="190123"/>
                </a:cubicBezTo>
                <a:cubicBezTo>
                  <a:pt x="1568704" y="179704"/>
                  <a:pt x="1557318" y="172683"/>
                  <a:pt x="1548985" y="162962"/>
                </a:cubicBezTo>
                <a:cubicBezTo>
                  <a:pt x="1519017" y="127999"/>
                  <a:pt x="1528359" y="127666"/>
                  <a:pt x="1494665" y="99588"/>
                </a:cubicBezTo>
                <a:cubicBezTo>
                  <a:pt x="1486306" y="92622"/>
                  <a:pt x="1476358" y="87805"/>
                  <a:pt x="1467504" y="81481"/>
                </a:cubicBezTo>
                <a:cubicBezTo>
                  <a:pt x="1455225" y="72711"/>
                  <a:pt x="1444786" y="61069"/>
                  <a:pt x="1431290" y="54321"/>
                </a:cubicBezTo>
                <a:cubicBezTo>
                  <a:pt x="1414219" y="45785"/>
                  <a:pt x="1395076" y="42250"/>
                  <a:pt x="1376969" y="36214"/>
                </a:cubicBezTo>
                <a:lnTo>
                  <a:pt x="1322649" y="18107"/>
                </a:lnTo>
                <a:cubicBezTo>
                  <a:pt x="1310578" y="15089"/>
                  <a:pt x="1298733" y="10946"/>
                  <a:pt x="1286435" y="9054"/>
                </a:cubicBezTo>
                <a:cubicBezTo>
                  <a:pt x="1259425" y="4899"/>
                  <a:pt x="1232114" y="3018"/>
                  <a:pt x="1204954" y="0"/>
                </a:cubicBezTo>
                <a:lnTo>
                  <a:pt x="697960" y="9054"/>
                </a:lnTo>
                <a:cubicBezTo>
                  <a:pt x="654884" y="10444"/>
                  <a:pt x="645506" y="20236"/>
                  <a:pt x="607425" y="27160"/>
                </a:cubicBezTo>
                <a:cubicBezTo>
                  <a:pt x="586430" y="30977"/>
                  <a:pt x="565176" y="33196"/>
                  <a:pt x="544051" y="36214"/>
                </a:cubicBezTo>
                <a:cubicBezTo>
                  <a:pt x="534997" y="39232"/>
                  <a:pt x="526097" y="42756"/>
                  <a:pt x="516890" y="45267"/>
                </a:cubicBezTo>
                <a:cubicBezTo>
                  <a:pt x="492881" y="51815"/>
                  <a:pt x="468071" y="55504"/>
                  <a:pt x="444463" y="63374"/>
                </a:cubicBezTo>
                <a:cubicBezTo>
                  <a:pt x="435409" y="66392"/>
                  <a:pt x="425838" y="68160"/>
                  <a:pt x="417302" y="72428"/>
                </a:cubicBezTo>
                <a:cubicBezTo>
                  <a:pt x="401563" y="80297"/>
                  <a:pt x="387774" y="91719"/>
                  <a:pt x="372035" y="99588"/>
                </a:cubicBezTo>
                <a:cubicBezTo>
                  <a:pt x="363499" y="103856"/>
                  <a:pt x="353646" y="104883"/>
                  <a:pt x="344874" y="108642"/>
                </a:cubicBezTo>
                <a:cubicBezTo>
                  <a:pt x="266575" y="142200"/>
                  <a:pt x="345189" y="114574"/>
                  <a:pt x="281500" y="135802"/>
                </a:cubicBezTo>
                <a:cubicBezTo>
                  <a:pt x="216509" y="200793"/>
                  <a:pt x="242543" y="169637"/>
                  <a:pt x="200019" y="226337"/>
                </a:cubicBezTo>
                <a:cubicBezTo>
                  <a:pt x="174985" y="301443"/>
                  <a:pt x="217011" y="183300"/>
                  <a:pt x="154752" y="307818"/>
                </a:cubicBezTo>
                <a:cubicBezTo>
                  <a:pt x="148716" y="319889"/>
                  <a:pt x="143341" y="332314"/>
                  <a:pt x="136645" y="344032"/>
                </a:cubicBezTo>
                <a:cubicBezTo>
                  <a:pt x="124453" y="365367"/>
                  <a:pt x="105256" y="387976"/>
                  <a:pt x="91377" y="407406"/>
                </a:cubicBezTo>
                <a:cubicBezTo>
                  <a:pt x="85053" y="416260"/>
                  <a:pt x="78668" y="425119"/>
                  <a:pt x="73270" y="434566"/>
                </a:cubicBezTo>
                <a:cubicBezTo>
                  <a:pt x="66574" y="446284"/>
                  <a:pt x="63008" y="459798"/>
                  <a:pt x="55164" y="470780"/>
                </a:cubicBezTo>
                <a:cubicBezTo>
                  <a:pt x="47722" y="481199"/>
                  <a:pt x="37057" y="488887"/>
                  <a:pt x="28003" y="497941"/>
                </a:cubicBezTo>
                <a:cubicBezTo>
                  <a:pt x="24985" y="506994"/>
                  <a:pt x="22709" y="516330"/>
                  <a:pt x="18950" y="525101"/>
                </a:cubicBezTo>
                <a:cubicBezTo>
                  <a:pt x="13634" y="537506"/>
                  <a:pt x="1293" y="547826"/>
                  <a:pt x="843" y="561315"/>
                </a:cubicBezTo>
                <a:cubicBezTo>
                  <a:pt x="-1773" y="639793"/>
                  <a:pt x="1816" y="718600"/>
                  <a:pt x="9896" y="796705"/>
                </a:cubicBezTo>
                <a:cubicBezTo>
                  <a:pt x="11016" y="807528"/>
                  <a:pt x="23137" y="814133"/>
                  <a:pt x="28003" y="823865"/>
                </a:cubicBezTo>
                <a:cubicBezTo>
                  <a:pt x="32271" y="832401"/>
                  <a:pt x="30309" y="844278"/>
                  <a:pt x="37057" y="851026"/>
                </a:cubicBezTo>
                <a:cubicBezTo>
                  <a:pt x="43805" y="857774"/>
                  <a:pt x="34039" y="817829"/>
                  <a:pt x="37057" y="82386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3"/>
          <a:stretch/>
        </p:blipFill>
        <p:spPr>
          <a:xfrm>
            <a:off x="3076560" y="2565360"/>
            <a:ext cx="3552840" cy="2890800"/>
          </a:xfrm>
          <a:prstGeom prst="rect">
            <a:avLst/>
          </a:prstGeom>
          <a:ln w="0">
            <a:noFill/>
          </a:ln>
        </p:spPr>
      </p:pic>
      <p:sp>
        <p:nvSpPr>
          <p:cNvPr id="248" name="Freeform 3"/>
          <p:cNvSpPr/>
          <p:nvPr/>
        </p:nvSpPr>
        <p:spPr>
          <a:xfrm>
            <a:off x="3960720" y="2205000"/>
            <a:ext cx="3132360" cy="2165400"/>
          </a:xfrm>
          <a:custGeom>
            <a:avLst/>
            <a:gdLst/>
            <a:ahLst/>
            <a:rect l="l" t="t" r="r" b="b"/>
            <a:pathLst>
              <a:path w="1784375" h="2381061">
                <a:moveTo>
                  <a:pt x="37057" y="823865"/>
                </a:moveTo>
                <a:cubicBezTo>
                  <a:pt x="40075" y="829901"/>
                  <a:pt x="48851" y="866196"/>
                  <a:pt x="55164" y="887240"/>
                </a:cubicBezTo>
                <a:cubicBezTo>
                  <a:pt x="57906" y="896381"/>
                  <a:pt x="61903" y="905142"/>
                  <a:pt x="64217" y="914400"/>
                </a:cubicBezTo>
                <a:cubicBezTo>
                  <a:pt x="69383" y="935065"/>
                  <a:pt x="71975" y="966131"/>
                  <a:pt x="82324" y="986828"/>
                </a:cubicBezTo>
                <a:cubicBezTo>
                  <a:pt x="87190" y="996560"/>
                  <a:pt x="94664" y="1004761"/>
                  <a:pt x="100431" y="1013988"/>
                </a:cubicBezTo>
                <a:cubicBezTo>
                  <a:pt x="116035" y="1038955"/>
                  <a:pt x="133909" y="1067962"/>
                  <a:pt x="145698" y="1095469"/>
                </a:cubicBezTo>
                <a:cubicBezTo>
                  <a:pt x="169207" y="1150321"/>
                  <a:pt x="135344" y="1092868"/>
                  <a:pt x="172859" y="1167897"/>
                </a:cubicBezTo>
                <a:cubicBezTo>
                  <a:pt x="218318" y="1258815"/>
                  <a:pt x="161460" y="1120176"/>
                  <a:pt x="209072" y="1231271"/>
                </a:cubicBezTo>
                <a:cubicBezTo>
                  <a:pt x="231560" y="1283744"/>
                  <a:pt x="201438" y="1233401"/>
                  <a:pt x="236233" y="1285592"/>
                </a:cubicBezTo>
                <a:cubicBezTo>
                  <a:pt x="240346" y="1310273"/>
                  <a:pt x="242340" y="1355074"/>
                  <a:pt x="263393" y="1376127"/>
                </a:cubicBezTo>
                <a:cubicBezTo>
                  <a:pt x="284732" y="1397466"/>
                  <a:pt x="310711" y="1413708"/>
                  <a:pt x="335821" y="1430448"/>
                </a:cubicBezTo>
                <a:cubicBezTo>
                  <a:pt x="344874" y="1436484"/>
                  <a:pt x="352755" y="1444837"/>
                  <a:pt x="362981" y="1448555"/>
                </a:cubicBezTo>
                <a:cubicBezTo>
                  <a:pt x="386368" y="1457059"/>
                  <a:pt x="411266" y="1460625"/>
                  <a:pt x="435409" y="1466661"/>
                </a:cubicBezTo>
                <a:cubicBezTo>
                  <a:pt x="474490" y="1476431"/>
                  <a:pt x="513315" y="1487190"/>
                  <a:pt x="553104" y="1493822"/>
                </a:cubicBezTo>
                <a:cubicBezTo>
                  <a:pt x="574153" y="1497330"/>
                  <a:pt x="595353" y="1499857"/>
                  <a:pt x="616478" y="1502875"/>
                </a:cubicBezTo>
                <a:cubicBezTo>
                  <a:pt x="622514" y="1520982"/>
                  <a:pt x="633790" y="1538126"/>
                  <a:pt x="634585" y="1557196"/>
                </a:cubicBezTo>
                <a:cubicBezTo>
                  <a:pt x="637603" y="1629624"/>
                  <a:pt x="639117" y="1702130"/>
                  <a:pt x="643639" y="1774479"/>
                </a:cubicBezTo>
                <a:cubicBezTo>
                  <a:pt x="645157" y="1798762"/>
                  <a:pt x="648992" y="1822859"/>
                  <a:pt x="652692" y="1846907"/>
                </a:cubicBezTo>
                <a:cubicBezTo>
                  <a:pt x="654987" y="1861823"/>
                  <a:pt x="662233" y="1902203"/>
                  <a:pt x="670799" y="1919335"/>
                </a:cubicBezTo>
                <a:cubicBezTo>
                  <a:pt x="675665" y="1929067"/>
                  <a:pt x="682870" y="1937442"/>
                  <a:pt x="688906" y="1946495"/>
                </a:cubicBezTo>
                <a:cubicBezTo>
                  <a:pt x="691924" y="1961584"/>
                  <a:pt x="694622" y="1976741"/>
                  <a:pt x="697960" y="1991762"/>
                </a:cubicBezTo>
                <a:cubicBezTo>
                  <a:pt x="700659" y="2003909"/>
                  <a:pt x="704967" y="2015702"/>
                  <a:pt x="707013" y="2027976"/>
                </a:cubicBezTo>
                <a:cubicBezTo>
                  <a:pt x="711013" y="2051976"/>
                  <a:pt x="710166" y="2076800"/>
                  <a:pt x="716067" y="2100404"/>
                </a:cubicBezTo>
                <a:cubicBezTo>
                  <a:pt x="719340" y="2113497"/>
                  <a:pt x="727477" y="2124900"/>
                  <a:pt x="734173" y="2136618"/>
                </a:cubicBezTo>
                <a:cubicBezTo>
                  <a:pt x="748875" y="2162347"/>
                  <a:pt x="759905" y="2176644"/>
                  <a:pt x="788494" y="2190939"/>
                </a:cubicBezTo>
                <a:cubicBezTo>
                  <a:pt x="799623" y="2196504"/>
                  <a:pt x="812637" y="2196974"/>
                  <a:pt x="824708" y="2199992"/>
                </a:cubicBezTo>
                <a:cubicBezTo>
                  <a:pt x="836779" y="2206028"/>
                  <a:pt x="849204" y="2211403"/>
                  <a:pt x="860922" y="2218099"/>
                </a:cubicBezTo>
                <a:cubicBezTo>
                  <a:pt x="870369" y="2223497"/>
                  <a:pt x="878139" y="2231787"/>
                  <a:pt x="888082" y="2236206"/>
                </a:cubicBezTo>
                <a:cubicBezTo>
                  <a:pt x="905523" y="2243958"/>
                  <a:pt x="942403" y="2254313"/>
                  <a:pt x="942403" y="2254313"/>
                </a:cubicBezTo>
                <a:cubicBezTo>
                  <a:pt x="972582" y="2299580"/>
                  <a:pt x="951456" y="2275437"/>
                  <a:pt x="1014831" y="2317687"/>
                </a:cubicBezTo>
                <a:cubicBezTo>
                  <a:pt x="1023884" y="2323723"/>
                  <a:pt x="1031669" y="2332353"/>
                  <a:pt x="1041991" y="2335794"/>
                </a:cubicBezTo>
                <a:cubicBezTo>
                  <a:pt x="1051045" y="2338812"/>
                  <a:pt x="1060616" y="2340580"/>
                  <a:pt x="1069152" y="2344848"/>
                </a:cubicBezTo>
                <a:cubicBezTo>
                  <a:pt x="1078884" y="2349714"/>
                  <a:pt x="1086311" y="2358669"/>
                  <a:pt x="1096312" y="2362955"/>
                </a:cubicBezTo>
                <a:cubicBezTo>
                  <a:pt x="1107749" y="2367856"/>
                  <a:pt x="1120562" y="2368590"/>
                  <a:pt x="1132526" y="2372008"/>
                </a:cubicBezTo>
                <a:cubicBezTo>
                  <a:pt x="1141702" y="2374630"/>
                  <a:pt x="1150633" y="2378043"/>
                  <a:pt x="1159686" y="2381061"/>
                </a:cubicBezTo>
                <a:cubicBezTo>
                  <a:pt x="1226078" y="2378043"/>
                  <a:pt x="1293437" y="2383691"/>
                  <a:pt x="1358863" y="2372008"/>
                </a:cubicBezTo>
                <a:cubicBezTo>
                  <a:pt x="1380286" y="2368183"/>
                  <a:pt x="1392071" y="2341072"/>
                  <a:pt x="1413183" y="2335794"/>
                </a:cubicBezTo>
                <a:lnTo>
                  <a:pt x="1449397" y="2326741"/>
                </a:lnTo>
                <a:cubicBezTo>
                  <a:pt x="1508264" y="2238440"/>
                  <a:pt x="1413883" y="2373483"/>
                  <a:pt x="1503718" y="2272420"/>
                </a:cubicBezTo>
                <a:cubicBezTo>
                  <a:pt x="1518176" y="2256155"/>
                  <a:pt x="1527861" y="2236206"/>
                  <a:pt x="1539932" y="2218099"/>
                </a:cubicBezTo>
                <a:lnTo>
                  <a:pt x="1558039" y="2190939"/>
                </a:lnTo>
                <a:lnTo>
                  <a:pt x="1576146" y="2163778"/>
                </a:lnTo>
                <a:cubicBezTo>
                  <a:pt x="1579164" y="2154725"/>
                  <a:pt x="1580931" y="2145154"/>
                  <a:pt x="1585199" y="2136618"/>
                </a:cubicBezTo>
                <a:cubicBezTo>
                  <a:pt x="1597803" y="2111410"/>
                  <a:pt x="1610445" y="2102319"/>
                  <a:pt x="1630467" y="2082297"/>
                </a:cubicBezTo>
                <a:cubicBezTo>
                  <a:pt x="1636502" y="2070226"/>
                  <a:pt x="1641877" y="2057801"/>
                  <a:pt x="1648573" y="2046083"/>
                </a:cubicBezTo>
                <a:cubicBezTo>
                  <a:pt x="1653971" y="2036636"/>
                  <a:pt x="1662261" y="2028866"/>
                  <a:pt x="1666680" y="2018923"/>
                </a:cubicBezTo>
                <a:cubicBezTo>
                  <a:pt x="1674432" y="2001482"/>
                  <a:pt x="1676251" y="1981673"/>
                  <a:pt x="1684787" y="1964602"/>
                </a:cubicBezTo>
                <a:cubicBezTo>
                  <a:pt x="1690823" y="1952531"/>
                  <a:pt x="1697577" y="1940793"/>
                  <a:pt x="1702894" y="1928388"/>
                </a:cubicBezTo>
                <a:cubicBezTo>
                  <a:pt x="1713040" y="1904715"/>
                  <a:pt x="1713341" y="1890548"/>
                  <a:pt x="1721001" y="1865014"/>
                </a:cubicBezTo>
                <a:cubicBezTo>
                  <a:pt x="1721021" y="1864947"/>
                  <a:pt x="1743624" y="1797146"/>
                  <a:pt x="1748162" y="1783533"/>
                </a:cubicBezTo>
                <a:cubicBezTo>
                  <a:pt x="1756165" y="1759525"/>
                  <a:pt x="1761399" y="1746129"/>
                  <a:pt x="1766269" y="1720158"/>
                </a:cubicBezTo>
                <a:cubicBezTo>
                  <a:pt x="1773035" y="1684074"/>
                  <a:pt x="1784375" y="1611517"/>
                  <a:pt x="1784375" y="1611517"/>
                </a:cubicBezTo>
                <a:cubicBezTo>
                  <a:pt x="1781357" y="1391216"/>
                  <a:pt x="1781042" y="1170861"/>
                  <a:pt x="1775322" y="950614"/>
                </a:cubicBezTo>
                <a:cubicBezTo>
                  <a:pt x="1774999" y="938175"/>
                  <a:pt x="1768315" y="926674"/>
                  <a:pt x="1766269" y="914400"/>
                </a:cubicBezTo>
                <a:cubicBezTo>
                  <a:pt x="1759253" y="872302"/>
                  <a:pt x="1753456" y="830001"/>
                  <a:pt x="1748162" y="787652"/>
                </a:cubicBezTo>
                <a:cubicBezTo>
                  <a:pt x="1742126" y="739367"/>
                  <a:pt x="1745443" y="688960"/>
                  <a:pt x="1730055" y="642796"/>
                </a:cubicBezTo>
                <a:cubicBezTo>
                  <a:pt x="1687031" y="513724"/>
                  <a:pt x="1730256" y="648028"/>
                  <a:pt x="1702894" y="552261"/>
                </a:cubicBezTo>
                <a:cubicBezTo>
                  <a:pt x="1700272" y="543085"/>
                  <a:pt x="1696352" y="534308"/>
                  <a:pt x="1693841" y="525101"/>
                </a:cubicBezTo>
                <a:cubicBezTo>
                  <a:pt x="1687293" y="501092"/>
                  <a:pt x="1683604" y="476282"/>
                  <a:pt x="1675734" y="452673"/>
                </a:cubicBezTo>
                <a:cubicBezTo>
                  <a:pt x="1669698" y="434566"/>
                  <a:pt x="1662256" y="416869"/>
                  <a:pt x="1657627" y="398353"/>
                </a:cubicBezTo>
                <a:cubicBezTo>
                  <a:pt x="1654609" y="386282"/>
                  <a:pt x="1652508" y="373943"/>
                  <a:pt x="1648573" y="362139"/>
                </a:cubicBezTo>
                <a:cubicBezTo>
                  <a:pt x="1618012" y="270454"/>
                  <a:pt x="1643916" y="359547"/>
                  <a:pt x="1612360" y="280658"/>
                </a:cubicBezTo>
                <a:cubicBezTo>
                  <a:pt x="1600366" y="250674"/>
                  <a:pt x="1595448" y="217146"/>
                  <a:pt x="1576146" y="190123"/>
                </a:cubicBezTo>
                <a:cubicBezTo>
                  <a:pt x="1568704" y="179704"/>
                  <a:pt x="1557318" y="172683"/>
                  <a:pt x="1548985" y="162962"/>
                </a:cubicBezTo>
                <a:cubicBezTo>
                  <a:pt x="1519017" y="127999"/>
                  <a:pt x="1528359" y="127666"/>
                  <a:pt x="1494665" y="99588"/>
                </a:cubicBezTo>
                <a:cubicBezTo>
                  <a:pt x="1486306" y="92622"/>
                  <a:pt x="1476358" y="87805"/>
                  <a:pt x="1467504" y="81481"/>
                </a:cubicBezTo>
                <a:cubicBezTo>
                  <a:pt x="1455225" y="72711"/>
                  <a:pt x="1444786" y="61069"/>
                  <a:pt x="1431290" y="54321"/>
                </a:cubicBezTo>
                <a:cubicBezTo>
                  <a:pt x="1414219" y="45785"/>
                  <a:pt x="1395076" y="42250"/>
                  <a:pt x="1376969" y="36214"/>
                </a:cubicBezTo>
                <a:lnTo>
                  <a:pt x="1322649" y="18107"/>
                </a:lnTo>
                <a:cubicBezTo>
                  <a:pt x="1310578" y="15089"/>
                  <a:pt x="1298733" y="10946"/>
                  <a:pt x="1286435" y="9054"/>
                </a:cubicBezTo>
                <a:cubicBezTo>
                  <a:pt x="1259425" y="4899"/>
                  <a:pt x="1232114" y="3018"/>
                  <a:pt x="1204954" y="0"/>
                </a:cubicBezTo>
                <a:lnTo>
                  <a:pt x="697960" y="9054"/>
                </a:lnTo>
                <a:cubicBezTo>
                  <a:pt x="654884" y="10444"/>
                  <a:pt x="645506" y="20236"/>
                  <a:pt x="607425" y="27160"/>
                </a:cubicBezTo>
                <a:cubicBezTo>
                  <a:pt x="586430" y="30977"/>
                  <a:pt x="565176" y="33196"/>
                  <a:pt x="544051" y="36214"/>
                </a:cubicBezTo>
                <a:cubicBezTo>
                  <a:pt x="534997" y="39232"/>
                  <a:pt x="526097" y="42756"/>
                  <a:pt x="516890" y="45267"/>
                </a:cubicBezTo>
                <a:cubicBezTo>
                  <a:pt x="492881" y="51815"/>
                  <a:pt x="468071" y="55504"/>
                  <a:pt x="444463" y="63374"/>
                </a:cubicBezTo>
                <a:cubicBezTo>
                  <a:pt x="435409" y="66392"/>
                  <a:pt x="425838" y="68160"/>
                  <a:pt x="417302" y="72428"/>
                </a:cubicBezTo>
                <a:cubicBezTo>
                  <a:pt x="401563" y="80297"/>
                  <a:pt x="387774" y="91719"/>
                  <a:pt x="372035" y="99588"/>
                </a:cubicBezTo>
                <a:cubicBezTo>
                  <a:pt x="363499" y="103856"/>
                  <a:pt x="353646" y="104883"/>
                  <a:pt x="344874" y="108642"/>
                </a:cubicBezTo>
                <a:cubicBezTo>
                  <a:pt x="266575" y="142200"/>
                  <a:pt x="345189" y="114574"/>
                  <a:pt x="281500" y="135802"/>
                </a:cubicBezTo>
                <a:cubicBezTo>
                  <a:pt x="216509" y="200793"/>
                  <a:pt x="242543" y="169637"/>
                  <a:pt x="200019" y="226337"/>
                </a:cubicBezTo>
                <a:cubicBezTo>
                  <a:pt x="174985" y="301443"/>
                  <a:pt x="217011" y="183300"/>
                  <a:pt x="154752" y="307818"/>
                </a:cubicBezTo>
                <a:cubicBezTo>
                  <a:pt x="148716" y="319889"/>
                  <a:pt x="143341" y="332314"/>
                  <a:pt x="136645" y="344032"/>
                </a:cubicBezTo>
                <a:cubicBezTo>
                  <a:pt x="124453" y="365367"/>
                  <a:pt x="105256" y="387976"/>
                  <a:pt x="91377" y="407406"/>
                </a:cubicBezTo>
                <a:cubicBezTo>
                  <a:pt x="85053" y="416260"/>
                  <a:pt x="78668" y="425119"/>
                  <a:pt x="73270" y="434566"/>
                </a:cubicBezTo>
                <a:cubicBezTo>
                  <a:pt x="66574" y="446284"/>
                  <a:pt x="63008" y="459798"/>
                  <a:pt x="55164" y="470780"/>
                </a:cubicBezTo>
                <a:cubicBezTo>
                  <a:pt x="47722" y="481199"/>
                  <a:pt x="37057" y="488887"/>
                  <a:pt x="28003" y="497941"/>
                </a:cubicBezTo>
                <a:cubicBezTo>
                  <a:pt x="24985" y="506994"/>
                  <a:pt x="22709" y="516330"/>
                  <a:pt x="18950" y="525101"/>
                </a:cubicBezTo>
                <a:cubicBezTo>
                  <a:pt x="13634" y="537506"/>
                  <a:pt x="1293" y="547826"/>
                  <a:pt x="843" y="561315"/>
                </a:cubicBezTo>
                <a:cubicBezTo>
                  <a:pt x="-1773" y="639793"/>
                  <a:pt x="1816" y="718600"/>
                  <a:pt x="9896" y="796705"/>
                </a:cubicBezTo>
                <a:cubicBezTo>
                  <a:pt x="11016" y="807528"/>
                  <a:pt x="23137" y="814133"/>
                  <a:pt x="28003" y="823865"/>
                </a:cubicBezTo>
                <a:cubicBezTo>
                  <a:pt x="32271" y="832401"/>
                  <a:pt x="30309" y="844278"/>
                  <a:pt x="37057" y="851026"/>
                </a:cubicBezTo>
                <a:cubicBezTo>
                  <a:pt x="43805" y="857774"/>
                  <a:pt x="34039" y="817829"/>
                  <a:pt x="37057" y="82386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ounded Rectangular Callout 8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1" descr=""/>
          <p:cNvPicPr/>
          <p:nvPr/>
        </p:nvPicPr>
        <p:blipFill>
          <a:blip r:embed="rId3"/>
          <a:stretch/>
        </p:blipFill>
        <p:spPr>
          <a:xfrm rot="20805600">
            <a:off x="3095280" y="3127320"/>
            <a:ext cx="1984320" cy="180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"/>
          <p:cNvPicPr/>
          <p:nvPr/>
        </p:nvPicPr>
        <p:blipFill>
          <a:blip r:embed="rId4"/>
          <a:stretch/>
        </p:blipFill>
        <p:spPr>
          <a:xfrm rot="20805600">
            <a:off x="4896000" y="2905200"/>
            <a:ext cx="1984320" cy="1806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"/>
          <p:cNvPicPr/>
          <p:nvPr/>
        </p:nvPicPr>
        <p:blipFill>
          <a:blip r:embed="rId5"/>
          <a:stretch/>
        </p:blipFill>
        <p:spPr>
          <a:xfrm rot="20805600">
            <a:off x="4032360" y="3414600"/>
            <a:ext cx="198432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3"/>
          <a:stretch/>
        </p:blipFill>
        <p:spPr>
          <a:xfrm rot="20805600">
            <a:off x="3095280" y="3127320"/>
            <a:ext cx="1984320" cy="1808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4"/>
          <a:stretch/>
        </p:blipFill>
        <p:spPr>
          <a:xfrm rot="20805600">
            <a:off x="4896000" y="2905200"/>
            <a:ext cx="1984320" cy="1806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"/>
          <p:cNvPicPr/>
          <p:nvPr/>
        </p:nvPicPr>
        <p:blipFill>
          <a:blip r:embed="rId5"/>
          <a:stretch/>
        </p:blipFill>
        <p:spPr>
          <a:xfrm rot="20805600">
            <a:off x="4032360" y="3414600"/>
            <a:ext cx="1984320" cy="1806840"/>
          </a:xfrm>
          <a:prstGeom prst="rect">
            <a:avLst/>
          </a:prstGeom>
          <a:ln w="0">
            <a:noFill/>
          </a:ln>
        </p:spPr>
      </p:pic>
      <p:sp>
        <p:nvSpPr>
          <p:cNvPr id="272" name="Freeform 3"/>
          <p:cNvSpPr/>
          <p:nvPr/>
        </p:nvSpPr>
        <p:spPr>
          <a:xfrm>
            <a:off x="2990880" y="2516040"/>
            <a:ext cx="3308400" cy="1594080"/>
          </a:xfrm>
          <a:custGeom>
            <a:avLst/>
            <a:gdLst/>
            <a:ahLst/>
            <a:rect l="l" t="t" r="r" b="b"/>
            <a:pathLst>
              <a:path w="3309057" h="1593410">
                <a:moveTo>
                  <a:pt x="313765" y="552262"/>
                </a:moveTo>
                <a:cubicBezTo>
                  <a:pt x="295658" y="555280"/>
                  <a:pt x="276859" y="555510"/>
                  <a:pt x="259444" y="561315"/>
                </a:cubicBezTo>
                <a:cubicBezTo>
                  <a:pt x="249122" y="564756"/>
                  <a:pt x="240335" y="572103"/>
                  <a:pt x="232284" y="579422"/>
                </a:cubicBezTo>
                <a:cubicBezTo>
                  <a:pt x="207020" y="602389"/>
                  <a:pt x="183999" y="627707"/>
                  <a:pt x="159856" y="651850"/>
                </a:cubicBezTo>
                <a:cubicBezTo>
                  <a:pt x="152162" y="659544"/>
                  <a:pt x="148830" y="670749"/>
                  <a:pt x="141749" y="679010"/>
                </a:cubicBezTo>
                <a:cubicBezTo>
                  <a:pt x="130639" y="691972"/>
                  <a:pt x="115778" y="701567"/>
                  <a:pt x="105535" y="715224"/>
                </a:cubicBezTo>
                <a:cubicBezTo>
                  <a:pt x="97437" y="726021"/>
                  <a:pt x="94124" y="739720"/>
                  <a:pt x="87428" y="751438"/>
                </a:cubicBezTo>
                <a:cubicBezTo>
                  <a:pt x="82030" y="760885"/>
                  <a:pt x="75357" y="769545"/>
                  <a:pt x="69321" y="778598"/>
                </a:cubicBezTo>
                <a:cubicBezTo>
                  <a:pt x="66303" y="787652"/>
                  <a:pt x="64536" y="797223"/>
                  <a:pt x="60268" y="805759"/>
                </a:cubicBezTo>
                <a:cubicBezTo>
                  <a:pt x="55402" y="815491"/>
                  <a:pt x="45879" y="822693"/>
                  <a:pt x="42161" y="832919"/>
                </a:cubicBezTo>
                <a:cubicBezTo>
                  <a:pt x="33656" y="856306"/>
                  <a:pt x="24054" y="905347"/>
                  <a:pt x="24054" y="905347"/>
                </a:cubicBezTo>
                <a:cubicBezTo>
                  <a:pt x="21036" y="989846"/>
                  <a:pt x="20115" y="1074446"/>
                  <a:pt x="15000" y="1158844"/>
                </a:cubicBezTo>
                <a:cubicBezTo>
                  <a:pt x="10569" y="1231952"/>
                  <a:pt x="-16417" y="1192541"/>
                  <a:pt x="15000" y="1294646"/>
                </a:cubicBezTo>
                <a:cubicBezTo>
                  <a:pt x="23068" y="1320868"/>
                  <a:pt x="78595" y="1339274"/>
                  <a:pt x="96482" y="1339913"/>
                </a:cubicBezTo>
                <a:lnTo>
                  <a:pt x="349979" y="1348967"/>
                </a:lnTo>
                <a:cubicBezTo>
                  <a:pt x="416139" y="1393074"/>
                  <a:pt x="332961" y="1339244"/>
                  <a:pt x="413353" y="1385181"/>
                </a:cubicBezTo>
                <a:cubicBezTo>
                  <a:pt x="422800" y="1390579"/>
                  <a:pt x="431066" y="1397889"/>
                  <a:pt x="440513" y="1403287"/>
                </a:cubicBezTo>
                <a:cubicBezTo>
                  <a:pt x="452231" y="1409983"/>
                  <a:pt x="465497" y="1413908"/>
                  <a:pt x="476727" y="1421394"/>
                </a:cubicBezTo>
                <a:cubicBezTo>
                  <a:pt x="531709" y="1458048"/>
                  <a:pt x="505287" y="1454546"/>
                  <a:pt x="558208" y="1475715"/>
                </a:cubicBezTo>
                <a:cubicBezTo>
                  <a:pt x="575929" y="1482804"/>
                  <a:pt x="595043" y="1486172"/>
                  <a:pt x="612529" y="1493822"/>
                </a:cubicBezTo>
                <a:cubicBezTo>
                  <a:pt x="678868" y="1522845"/>
                  <a:pt x="690392" y="1537883"/>
                  <a:pt x="748331" y="1557196"/>
                </a:cubicBezTo>
                <a:cubicBezTo>
                  <a:pt x="779881" y="1567713"/>
                  <a:pt x="805424" y="1568615"/>
                  <a:pt x="838866" y="1575303"/>
                </a:cubicBezTo>
                <a:cubicBezTo>
                  <a:pt x="938570" y="1595244"/>
                  <a:pt x="784741" y="1573065"/>
                  <a:pt x="947507" y="1593410"/>
                </a:cubicBezTo>
                <a:lnTo>
                  <a:pt x="1056149" y="1584357"/>
                </a:lnTo>
                <a:cubicBezTo>
                  <a:pt x="1105421" y="1579664"/>
                  <a:pt x="1160720" y="1572417"/>
                  <a:pt x="1210058" y="1566250"/>
                </a:cubicBezTo>
                <a:cubicBezTo>
                  <a:pt x="1254239" y="1551523"/>
                  <a:pt x="1283599" y="1547030"/>
                  <a:pt x="1318700" y="1511929"/>
                </a:cubicBezTo>
                <a:cubicBezTo>
                  <a:pt x="1327753" y="1502876"/>
                  <a:pt x="1337664" y="1494605"/>
                  <a:pt x="1345860" y="1484769"/>
                </a:cubicBezTo>
                <a:cubicBezTo>
                  <a:pt x="1361188" y="1466375"/>
                  <a:pt x="1363728" y="1445824"/>
                  <a:pt x="1391127" y="1439501"/>
                </a:cubicBezTo>
                <a:cubicBezTo>
                  <a:pt x="1420679" y="1432681"/>
                  <a:pt x="1451484" y="1433466"/>
                  <a:pt x="1481662" y="1430448"/>
                </a:cubicBezTo>
                <a:cubicBezTo>
                  <a:pt x="1490715" y="1427430"/>
                  <a:pt x="1499506" y="1423464"/>
                  <a:pt x="1508822" y="1421394"/>
                </a:cubicBezTo>
                <a:cubicBezTo>
                  <a:pt x="1593073" y="1402671"/>
                  <a:pt x="1602945" y="1414682"/>
                  <a:pt x="1717052" y="1421394"/>
                </a:cubicBezTo>
                <a:cubicBezTo>
                  <a:pt x="1825945" y="1448619"/>
                  <a:pt x="1762903" y="1436444"/>
                  <a:pt x="1988656" y="1421394"/>
                </a:cubicBezTo>
                <a:cubicBezTo>
                  <a:pt x="2007303" y="1420151"/>
                  <a:pt x="2056853" y="1401614"/>
                  <a:pt x="2070137" y="1394234"/>
                </a:cubicBezTo>
                <a:cubicBezTo>
                  <a:pt x="2083327" y="1386906"/>
                  <a:pt x="2094280" y="1376127"/>
                  <a:pt x="2106351" y="1367074"/>
                </a:cubicBezTo>
                <a:cubicBezTo>
                  <a:pt x="2112387" y="1355003"/>
                  <a:pt x="2116027" y="1341399"/>
                  <a:pt x="2124458" y="1330860"/>
                </a:cubicBezTo>
                <a:cubicBezTo>
                  <a:pt x="2147615" y="1301914"/>
                  <a:pt x="2173984" y="1276692"/>
                  <a:pt x="2205939" y="1258432"/>
                </a:cubicBezTo>
                <a:cubicBezTo>
                  <a:pt x="2217657" y="1251736"/>
                  <a:pt x="2229349" y="1244593"/>
                  <a:pt x="2242153" y="1240325"/>
                </a:cubicBezTo>
                <a:cubicBezTo>
                  <a:pt x="2256751" y="1235459"/>
                  <a:pt x="2272331" y="1234290"/>
                  <a:pt x="2287420" y="1231272"/>
                </a:cubicBezTo>
                <a:cubicBezTo>
                  <a:pt x="2311563" y="1234290"/>
                  <a:pt x="2335910" y="1235973"/>
                  <a:pt x="2359848" y="1240325"/>
                </a:cubicBezTo>
                <a:cubicBezTo>
                  <a:pt x="2369237" y="1242032"/>
                  <a:pt x="2377832" y="1246757"/>
                  <a:pt x="2387008" y="1249379"/>
                </a:cubicBezTo>
                <a:cubicBezTo>
                  <a:pt x="2483122" y="1276840"/>
                  <a:pt x="2354026" y="1234915"/>
                  <a:pt x="2468490" y="1276539"/>
                </a:cubicBezTo>
                <a:cubicBezTo>
                  <a:pt x="2524649" y="1296960"/>
                  <a:pt x="2514382" y="1292960"/>
                  <a:pt x="2568078" y="1303699"/>
                </a:cubicBezTo>
                <a:cubicBezTo>
                  <a:pt x="2613345" y="1300681"/>
                  <a:pt x="2659067" y="1301722"/>
                  <a:pt x="2703880" y="1294646"/>
                </a:cubicBezTo>
                <a:cubicBezTo>
                  <a:pt x="2717211" y="1292541"/>
                  <a:pt x="2729555" y="1284970"/>
                  <a:pt x="2740094" y="1276539"/>
                </a:cubicBezTo>
                <a:cubicBezTo>
                  <a:pt x="2784388" y="1241104"/>
                  <a:pt x="2787739" y="1232230"/>
                  <a:pt x="2812521" y="1195058"/>
                </a:cubicBezTo>
                <a:cubicBezTo>
                  <a:pt x="2814651" y="1186538"/>
                  <a:pt x="2824726" y="1142308"/>
                  <a:pt x="2830628" y="1131684"/>
                </a:cubicBezTo>
                <a:cubicBezTo>
                  <a:pt x="2849450" y="1097804"/>
                  <a:pt x="2872526" y="1065573"/>
                  <a:pt x="2903056" y="1041149"/>
                </a:cubicBezTo>
                <a:cubicBezTo>
                  <a:pt x="2920049" y="1027554"/>
                  <a:pt x="2939270" y="1017006"/>
                  <a:pt x="2957377" y="1004935"/>
                </a:cubicBezTo>
                <a:lnTo>
                  <a:pt x="2984537" y="986828"/>
                </a:lnTo>
                <a:cubicBezTo>
                  <a:pt x="3021848" y="930862"/>
                  <a:pt x="2980422" y="985456"/>
                  <a:pt x="3029804" y="941561"/>
                </a:cubicBezTo>
                <a:cubicBezTo>
                  <a:pt x="3048943" y="924548"/>
                  <a:pt x="3066018" y="905347"/>
                  <a:pt x="3084125" y="887240"/>
                </a:cubicBezTo>
                <a:cubicBezTo>
                  <a:pt x="3093179" y="878187"/>
                  <a:pt x="3103288" y="870078"/>
                  <a:pt x="3111286" y="860080"/>
                </a:cubicBezTo>
                <a:cubicBezTo>
                  <a:pt x="3135428" y="829902"/>
                  <a:pt x="3162276" y="801701"/>
                  <a:pt x="3183713" y="769545"/>
                </a:cubicBezTo>
                <a:cubicBezTo>
                  <a:pt x="3195784" y="751438"/>
                  <a:pt x="3213045" y="735869"/>
                  <a:pt x="3219927" y="715224"/>
                </a:cubicBezTo>
                <a:cubicBezTo>
                  <a:pt x="3232422" y="677741"/>
                  <a:pt x="3223687" y="696004"/>
                  <a:pt x="3247088" y="660903"/>
                </a:cubicBezTo>
                <a:cubicBezTo>
                  <a:pt x="3250497" y="616580"/>
                  <a:pt x="3255904" y="521883"/>
                  <a:pt x="3265195" y="470781"/>
                </a:cubicBezTo>
                <a:cubicBezTo>
                  <a:pt x="3266902" y="461392"/>
                  <a:pt x="3271230" y="452674"/>
                  <a:pt x="3274248" y="443620"/>
                </a:cubicBezTo>
                <a:cubicBezTo>
                  <a:pt x="3277266" y="422495"/>
                  <a:pt x="3279116" y="401171"/>
                  <a:pt x="3283301" y="380246"/>
                </a:cubicBezTo>
                <a:cubicBezTo>
                  <a:pt x="3298316" y="305172"/>
                  <a:pt x="3332859" y="385783"/>
                  <a:pt x="3283301" y="217284"/>
                </a:cubicBezTo>
                <a:cubicBezTo>
                  <a:pt x="3279493" y="204337"/>
                  <a:pt x="3260108" y="202728"/>
                  <a:pt x="3247088" y="199177"/>
                </a:cubicBezTo>
                <a:cubicBezTo>
                  <a:pt x="3226500" y="193562"/>
                  <a:pt x="3204888" y="192770"/>
                  <a:pt x="3183713" y="190123"/>
                </a:cubicBezTo>
                <a:lnTo>
                  <a:pt x="2957377" y="162963"/>
                </a:lnTo>
                <a:cubicBezTo>
                  <a:pt x="2933223" y="160035"/>
                  <a:pt x="2909232" y="155427"/>
                  <a:pt x="2884949" y="153909"/>
                </a:cubicBezTo>
                <a:lnTo>
                  <a:pt x="2613345" y="135802"/>
                </a:lnTo>
                <a:cubicBezTo>
                  <a:pt x="2364214" y="110888"/>
                  <a:pt x="2553105" y="126400"/>
                  <a:pt x="2405115" y="108642"/>
                </a:cubicBezTo>
                <a:lnTo>
                  <a:pt x="2242153" y="90535"/>
                </a:lnTo>
                <a:cubicBezTo>
                  <a:pt x="2214993" y="84499"/>
                  <a:pt x="2188116" y="77002"/>
                  <a:pt x="2160672" y="72428"/>
                </a:cubicBezTo>
                <a:cubicBezTo>
                  <a:pt x="2133716" y="67935"/>
                  <a:pt x="2105868" y="69303"/>
                  <a:pt x="2079191" y="63375"/>
                </a:cubicBezTo>
                <a:cubicBezTo>
                  <a:pt x="2051243" y="57164"/>
                  <a:pt x="2025578" y="42771"/>
                  <a:pt x="1997709" y="36214"/>
                </a:cubicBezTo>
                <a:cubicBezTo>
                  <a:pt x="1974026" y="30641"/>
                  <a:pt x="1949399" y="30377"/>
                  <a:pt x="1925282" y="27161"/>
                </a:cubicBezTo>
                <a:cubicBezTo>
                  <a:pt x="1891453" y="22650"/>
                  <a:pt x="1821934" y="11650"/>
                  <a:pt x="1789480" y="9054"/>
                </a:cubicBezTo>
                <a:cubicBezTo>
                  <a:pt x="1738252" y="4956"/>
                  <a:pt x="1686874" y="3018"/>
                  <a:pt x="1635571" y="0"/>
                </a:cubicBezTo>
                <a:cubicBezTo>
                  <a:pt x="1436395" y="3018"/>
                  <a:pt x="1237068" y="761"/>
                  <a:pt x="1038042" y="9054"/>
                </a:cubicBezTo>
                <a:cubicBezTo>
                  <a:pt x="1018972" y="9849"/>
                  <a:pt x="1002548" y="24023"/>
                  <a:pt x="983721" y="27161"/>
                </a:cubicBezTo>
                <a:lnTo>
                  <a:pt x="929400" y="36214"/>
                </a:lnTo>
                <a:cubicBezTo>
                  <a:pt x="917329" y="42250"/>
                  <a:pt x="905592" y="49005"/>
                  <a:pt x="893187" y="54321"/>
                </a:cubicBezTo>
                <a:cubicBezTo>
                  <a:pt x="884415" y="58080"/>
                  <a:pt x="874962" y="60024"/>
                  <a:pt x="866026" y="63375"/>
                </a:cubicBezTo>
                <a:cubicBezTo>
                  <a:pt x="850809" y="69081"/>
                  <a:pt x="835610" y="74882"/>
                  <a:pt x="820759" y="81482"/>
                </a:cubicBezTo>
                <a:cubicBezTo>
                  <a:pt x="808426" y="86963"/>
                  <a:pt x="796263" y="92892"/>
                  <a:pt x="784545" y="99588"/>
                </a:cubicBezTo>
                <a:cubicBezTo>
                  <a:pt x="775098" y="104986"/>
                  <a:pt x="767117" y="112829"/>
                  <a:pt x="757385" y="117695"/>
                </a:cubicBezTo>
                <a:cubicBezTo>
                  <a:pt x="748849" y="121963"/>
                  <a:pt x="738760" y="122481"/>
                  <a:pt x="730224" y="126749"/>
                </a:cubicBezTo>
                <a:cubicBezTo>
                  <a:pt x="720492" y="131615"/>
                  <a:pt x="712796" y="139990"/>
                  <a:pt x="703064" y="144856"/>
                </a:cubicBezTo>
                <a:cubicBezTo>
                  <a:pt x="694528" y="149124"/>
                  <a:pt x="684439" y="149641"/>
                  <a:pt x="675903" y="153909"/>
                </a:cubicBezTo>
                <a:cubicBezTo>
                  <a:pt x="660164" y="161779"/>
                  <a:pt x="644955" y="170842"/>
                  <a:pt x="630636" y="181070"/>
                </a:cubicBezTo>
                <a:cubicBezTo>
                  <a:pt x="602637" y="201070"/>
                  <a:pt x="581798" y="233563"/>
                  <a:pt x="549155" y="244444"/>
                </a:cubicBezTo>
                <a:lnTo>
                  <a:pt x="521995" y="253497"/>
                </a:lnTo>
                <a:lnTo>
                  <a:pt x="440513" y="307818"/>
                </a:lnTo>
                <a:cubicBezTo>
                  <a:pt x="431460" y="313854"/>
                  <a:pt x="421047" y="318231"/>
                  <a:pt x="413353" y="325925"/>
                </a:cubicBezTo>
                <a:cubicBezTo>
                  <a:pt x="401282" y="337996"/>
                  <a:pt x="390470" y="351475"/>
                  <a:pt x="377139" y="362139"/>
                </a:cubicBezTo>
                <a:cubicBezTo>
                  <a:pt x="360146" y="375734"/>
                  <a:pt x="322818" y="398353"/>
                  <a:pt x="322818" y="398353"/>
                </a:cubicBezTo>
                <a:cubicBezTo>
                  <a:pt x="289621" y="448148"/>
                  <a:pt x="322819" y="405896"/>
                  <a:pt x="277551" y="443620"/>
                </a:cubicBezTo>
                <a:cubicBezTo>
                  <a:pt x="232341" y="481296"/>
                  <a:pt x="270962" y="463924"/>
                  <a:pt x="223230" y="479834"/>
                </a:cubicBezTo>
                <a:cubicBezTo>
                  <a:pt x="204683" y="516927"/>
                  <a:pt x="206168" y="519357"/>
                  <a:pt x="177963" y="552262"/>
                </a:cubicBezTo>
                <a:cubicBezTo>
                  <a:pt x="169631" y="561983"/>
                  <a:pt x="153681" y="566946"/>
                  <a:pt x="150802" y="579422"/>
                </a:cubicBezTo>
                <a:cubicBezTo>
                  <a:pt x="144016" y="608827"/>
                  <a:pt x="150802" y="639779"/>
                  <a:pt x="150802" y="669957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3"/>
          <a:stretch/>
        </p:blipFill>
        <p:spPr>
          <a:xfrm rot="20805600">
            <a:off x="3095280" y="3127320"/>
            <a:ext cx="1984320" cy="1808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"/>
          <p:cNvPicPr/>
          <p:nvPr/>
        </p:nvPicPr>
        <p:blipFill>
          <a:blip r:embed="rId4"/>
          <a:stretch/>
        </p:blipFill>
        <p:spPr>
          <a:xfrm rot="20805600">
            <a:off x="4896000" y="2905200"/>
            <a:ext cx="1984320" cy="1806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"/>
          <p:cNvPicPr/>
          <p:nvPr/>
        </p:nvPicPr>
        <p:blipFill>
          <a:blip r:embed="rId5"/>
          <a:stretch/>
        </p:blipFill>
        <p:spPr>
          <a:xfrm rot="20805600">
            <a:off x="4032360" y="3414600"/>
            <a:ext cx="1984320" cy="1806840"/>
          </a:xfrm>
          <a:prstGeom prst="rect">
            <a:avLst/>
          </a:prstGeom>
          <a:ln w="0">
            <a:noFill/>
          </a:ln>
        </p:spPr>
      </p:pic>
      <p:sp>
        <p:nvSpPr>
          <p:cNvPr id="281" name="Freeform 3"/>
          <p:cNvSpPr/>
          <p:nvPr/>
        </p:nvSpPr>
        <p:spPr>
          <a:xfrm>
            <a:off x="2990880" y="2516040"/>
            <a:ext cx="3308400" cy="1594080"/>
          </a:xfrm>
          <a:custGeom>
            <a:avLst/>
            <a:gdLst/>
            <a:ahLst/>
            <a:rect l="l" t="t" r="r" b="b"/>
            <a:pathLst>
              <a:path w="3309057" h="1593410">
                <a:moveTo>
                  <a:pt x="313765" y="552262"/>
                </a:moveTo>
                <a:cubicBezTo>
                  <a:pt x="295658" y="555280"/>
                  <a:pt x="276859" y="555510"/>
                  <a:pt x="259444" y="561315"/>
                </a:cubicBezTo>
                <a:cubicBezTo>
                  <a:pt x="249122" y="564756"/>
                  <a:pt x="240335" y="572103"/>
                  <a:pt x="232284" y="579422"/>
                </a:cubicBezTo>
                <a:cubicBezTo>
                  <a:pt x="207020" y="602389"/>
                  <a:pt x="183999" y="627707"/>
                  <a:pt x="159856" y="651850"/>
                </a:cubicBezTo>
                <a:cubicBezTo>
                  <a:pt x="152162" y="659544"/>
                  <a:pt x="148830" y="670749"/>
                  <a:pt x="141749" y="679010"/>
                </a:cubicBezTo>
                <a:cubicBezTo>
                  <a:pt x="130639" y="691972"/>
                  <a:pt x="115778" y="701567"/>
                  <a:pt x="105535" y="715224"/>
                </a:cubicBezTo>
                <a:cubicBezTo>
                  <a:pt x="97437" y="726021"/>
                  <a:pt x="94124" y="739720"/>
                  <a:pt x="87428" y="751438"/>
                </a:cubicBezTo>
                <a:cubicBezTo>
                  <a:pt x="82030" y="760885"/>
                  <a:pt x="75357" y="769545"/>
                  <a:pt x="69321" y="778598"/>
                </a:cubicBezTo>
                <a:cubicBezTo>
                  <a:pt x="66303" y="787652"/>
                  <a:pt x="64536" y="797223"/>
                  <a:pt x="60268" y="805759"/>
                </a:cubicBezTo>
                <a:cubicBezTo>
                  <a:pt x="55402" y="815491"/>
                  <a:pt x="45879" y="822693"/>
                  <a:pt x="42161" y="832919"/>
                </a:cubicBezTo>
                <a:cubicBezTo>
                  <a:pt x="33656" y="856306"/>
                  <a:pt x="24054" y="905347"/>
                  <a:pt x="24054" y="905347"/>
                </a:cubicBezTo>
                <a:cubicBezTo>
                  <a:pt x="21036" y="989846"/>
                  <a:pt x="20115" y="1074446"/>
                  <a:pt x="15000" y="1158844"/>
                </a:cubicBezTo>
                <a:cubicBezTo>
                  <a:pt x="10569" y="1231952"/>
                  <a:pt x="-16417" y="1192541"/>
                  <a:pt x="15000" y="1294646"/>
                </a:cubicBezTo>
                <a:cubicBezTo>
                  <a:pt x="23068" y="1320868"/>
                  <a:pt x="78595" y="1339274"/>
                  <a:pt x="96482" y="1339913"/>
                </a:cubicBezTo>
                <a:lnTo>
                  <a:pt x="349979" y="1348967"/>
                </a:lnTo>
                <a:cubicBezTo>
                  <a:pt x="416139" y="1393074"/>
                  <a:pt x="332961" y="1339244"/>
                  <a:pt x="413353" y="1385181"/>
                </a:cubicBezTo>
                <a:cubicBezTo>
                  <a:pt x="422800" y="1390579"/>
                  <a:pt x="431066" y="1397889"/>
                  <a:pt x="440513" y="1403287"/>
                </a:cubicBezTo>
                <a:cubicBezTo>
                  <a:pt x="452231" y="1409983"/>
                  <a:pt x="465497" y="1413908"/>
                  <a:pt x="476727" y="1421394"/>
                </a:cubicBezTo>
                <a:cubicBezTo>
                  <a:pt x="531709" y="1458048"/>
                  <a:pt x="505287" y="1454546"/>
                  <a:pt x="558208" y="1475715"/>
                </a:cubicBezTo>
                <a:cubicBezTo>
                  <a:pt x="575929" y="1482804"/>
                  <a:pt x="595043" y="1486172"/>
                  <a:pt x="612529" y="1493822"/>
                </a:cubicBezTo>
                <a:cubicBezTo>
                  <a:pt x="678868" y="1522845"/>
                  <a:pt x="690392" y="1537883"/>
                  <a:pt x="748331" y="1557196"/>
                </a:cubicBezTo>
                <a:cubicBezTo>
                  <a:pt x="779881" y="1567713"/>
                  <a:pt x="805424" y="1568615"/>
                  <a:pt x="838866" y="1575303"/>
                </a:cubicBezTo>
                <a:cubicBezTo>
                  <a:pt x="938570" y="1595244"/>
                  <a:pt x="784741" y="1573065"/>
                  <a:pt x="947507" y="1593410"/>
                </a:cubicBezTo>
                <a:lnTo>
                  <a:pt x="1056149" y="1584357"/>
                </a:lnTo>
                <a:cubicBezTo>
                  <a:pt x="1105421" y="1579664"/>
                  <a:pt x="1160720" y="1572417"/>
                  <a:pt x="1210058" y="1566250"/>
                </a:cubicBezTo>
                <a:cubicBezTo>
                  <a:pt x="1254239" y="1551523"/>
                  <a:pt x="1283599" y="1547030"/>
                  <a:pt x="1318700" y="1511929"/>
                </a:cubicBezTo>
                <a:cubicBezTo>
                  <a:pt x="1327753" y="1502876"/>
                  <a:pt x="1337664" y="1494605"/>
                  <a:pt x="1345860" y="1484769"/>
                </a:cubicBezTo>
                <a:cubicBezTo>
                  <a:pt x="1361188" y="1466375"/>
                  <a:pt x="1363728" y="1445824"/>
                  <a:pt x="1391127" y="1439501"/>
                </a:cubicBezTo>
                <a:cubicBezTo>
                  <a:pt x="1420679" y="1432681"/>
                  <a:pt x="1451484" y="1433466"/>
                  <a:pt x="1481662" y="1430448"/>
                </a:cubicBezTo>
                <a:cubicBezTo>
                  <a:pt x="1490715" y="1427430"/>
                  <a:pt x="1499506" y="1423464"/>
                  <a:pt x="1508822" y="1421394"/>
                </a:cubicBezTo>
                <a:cubicBezTo>
                  <a:pt x="1593073" y="1402671"/>
                  <a:pt x="1602945" y="1414682"/>
                  <a:pt x="1717052" y="1421394"/>
                </a:cubicBezTo>
                <a:cubicBezTo>
                  <a:pt x="1825945" y="1448619"/>
                  <a:pt x="1762903" y="1436444"/>
                  <a:pt x="1988656" y="1421394"/>
                </a:cubicBezTo>
                <a:cubicBezTo>
                  <a:pt x="2007303" y="1420151"/>
                  <a:pt x="2056853" y="1401614"/>
                  <a:pt x="2070137" y="1394234"/>
                </a:cubicBezTo>
                <a:cubicBezTo>
                  <a:pt x="2083327" y="1386906"/>
                  <a:pt x="2094280" y="1376127"/>
                  <a:pt x="2106351" y="1367074"/>
                </a:cubicBezTo>
                <a:cubicBezTo>
                  <a:pt x="2112387" y="1355003"/>
                  <a:pt x="2116027" y="1341399"/>
                  <a:pt x="2124458" y="1330860"/>
                </a:cubicBezTo>
                <a:cubicBezTo>
                  <a:pt x="2147615" y="1301914"/>
                  <a:pt x="2173984" y="1276692"/>
                  <a:pt x="2205939" y="1258432"/>
                </a:cubicBezTo>
                <a:cubicBezTo>
                  <a:pt x="2217657" y="1251736"/>
                  <a:pt x="2229349" y="1244593"/>
                  <a:pt x="2242153" y="1240325"/>
                </a:cubicBezTo>
                <a:cubicBezTo>
                  <a:pt x="2256751" y="1235459"/>
                  <a:pt x="2272331" y="1234290"/>
                  <a:pt x="2287420" y="1231272"/>
                </a:cubicBezTo>
                <a:cubicBezTo>
                  <a:pt x="2311563" y="1234290"/>
                  <a:pt x="2335910" y="1235973"/>
                  <a:pt x="2359848" y="1240325"/>
                </a:cubicBezTo>
                <a:cubicBezTo>
                  <a:pt x="2369237" y="1242032"/>
                  <a:pt x="2377832" y="1246757"/>
                  <a:pt x="2387008" y="1249379"/>
                </a:cubicBezTo>
                <a:cubicBezTo>
                  <a:pt x="2483122" y="1276840"/>
                  <a:pt x="2354026" y="1234915"/>
                  <a:pt x="2468490" y="1276539"/>
                </a:cubicBezTo>
                <a:cubicBezTo>
                  <a:pt x="2524649" y="1296960"/>
                  <a:pt x="2514382" y="1292960"/>
                  <a:pt x="2568078" y="1303699"/>
                </a:cubicBezTo>
                <a:cubicBezTo>
                  <a:pt x="2613345" y="1300681"/>
                  <a:pt x="2659067" y="1301722"/>
                  <a:pt x="2703880" y="1294646"/>
                </a:cubicBezTo>
                <a:cubicBezTo>
                  <a:pt x="2717211" y="1292541"/>
                  <a:pt x="2729555" y="1284970"/>
                  <a:pt x="2740094" y="1276539"/>
                </a:cubicBezTo>
                <a:cubicBezTo>
                  <a:pt x="2784388" y="1241104"/>
                  <a:pt x="2787739" y="1232230"/>
                  <a:pt x="2812521" y="1195058"/>
                </a:cubicBezTo>
                <a:cubicBezTo>
                  <a:pt x="2814651" y="1186538"/>
                  <a:pt x="2824726" y="1142308"/>
                  <a:pt x="2830628" y="1131684"/>
                </a:cubicBezTo>
                <a:cubicBezTo>
                  <a:pt x="2849450" y="1097804"/>
                  <a:pt x="2872526" y="1065573"/>
                  <a:pt x="2903056" y="1041149"/>
                </a:cubicBezTo>
                <a:cubicBezTo>
                  <a:pt x="2920049" y="1027554"/>
                  <a:pt x="2939270" y="1017006"/>
                  <a:pt x="2957377" y="1004935"/>
                </a:cubicBezTo>
                <a:lnTo>
                  <a:pt x="2984537" y="986828"/>
                </a:lnTo>
                <a:cubicBezTo>
                  <a:pt x="3021848" y="930862"/>
                  <a:pt x="2980422" y="985456"/>
                  <a:pt x="3029804" y="941561"/>
                </a:cubicBezTo>
                <a:cubicBezTo>
                  <a:pt x="3048943" y="924548"/>
                  <a:pt x="3066018" y="905347"/>
                  <a:pt x="3084125" y="887240"/>
                </a:cubicBezTo>
                <a:cubicBezTo>
                  <a:pt x="3093179" y="878187"/>
                  <a:pt x="3103288" y="870078"/>
                  <a:pt x="3111286" y="860080"/>
                </a:cubicBezTo>
                <a:cubicBezTo>
                  <a:pt x="3135428" y="829902"/>
                  <a:pt x="3162276" y="801701"/>
                  <a:pt x="3183713" y="769545"/>
                </a:cubicBezTo>
                <a:cubicBezTo>
                  <a:pt x="3195784" y="751438"/>
                  <a:pt x="3213045" y="735869"/>
                  <a:pt x="3219927" y="715224"/>
                </a:cubicBezTo>
                <a:cubicBezTo>
                  <a:pt x="3232422" y="677741"/>
                  <a:pt x="3223687" y="696004"/>
                  <a:pt x="3247088" y="660903"/>
                </a:cubicBezTo>
                <a:cubicBezTo>
                  <a:pt x="3250497" y="616580"/>
                  <a:pt x="3255904" y="521883"/>
                  <a:pt x="3265195" y="470781"/>
                </a:cubicBezTo>
                <a:cubicBezTo>
                  <a:pt x="3266902" y="461392"/>
                  <a:pt x="3271230" y="452674"/>
                  <a:pt x="3274248" y="443620"/>
                </a:cubicBezTo>
                <a:cubicBezTo>
                  <a:pt x="3277266" y="422495"/>
                  <a:pt x="3279116" y="401171"/>
                  <a:pt x="3283301" y="380246"/>
                </a:cubicBezTo>
                <a:cubicBezTo>
                  <a:pt x="3298316" y="305172"/>
                  <a:pt x="3332859" y="385783"/>
                  <a:pt x="3283301" y="217284"/>
                </a:cubicBezTo>
                <a:cubicBezTo>
                  <a:pt x="3279493" y="204337"/>
                  <a:pt x="3260108" y="202728"/>
                  <a:pt x="3247088" y="199177"/>
                </a:cubicBezTo>
                <a:cubicBezTo>
                  <a:pt x="3226500" y="193562"/>
                  <a:pt x="3204888" y="192770"/>
                  <a:pt x="3183713" y="190123"/>
                </a:cubicBezTo>
                <a:lnTo>
                  <a:pt x="2957377" y="162963"/>
                </a:lnTo>
                <a:cubicBezTo>
                  <a:pt x="2933223" y="160035"/>
                  <a:pt x="2909232" y="155427"/>
                  <a:pt x="2884949" y="153909"/>
                </a:cubicBezTo>
                <a:lnTo>
                  <a:pt x="2613345" y="135802"/>
                </a:lnTo>
                <a:cubicBezTo>
                  <a:pt x="2364214" y="110888"/>
                  <a:pt x="2553105" y="126400"/>
                  <a:pt x="2405115" y="108642"/>
                </a:cubicBezTo>
                <a:lnTo>
                  <a:pt x="2242153" y="90535"/>
                </a:lnTo>
                <a:cubicBezTo>
                  <a:pt x="2214993" y="84499"/>
                  <a:pt x="2188116" y="77002"/>
                  <a:pt x="2160672" y="72428"/>
                </a:cubicBezTo>
                <a:cubicBezTo>
                  <a:pt x="2133716" y="67935"/>
                  <a:pt x="2105868" y="69303"/>
                  <a:pt x="2079191" y="63375"/>
                </a:cubicBezTo>
                <a:cubicBezTo>
                  <a:pt x="2051243" y="57164"/>
                  <a:pt x="2025578" y="42771"/>
                  <a:pt x="1997709" y="36214"/>
                </a:cubicBezTo>
                <a:cubicBezTo>
                  <a:pt x="1974026" y="30641"/>
                  <a:pt x="1949399" y="30377"/>
                  <a:pt x="1925282" y="27161"/>
                </a:cubicBezTo>
                <a:cubicBezTo>
                  <a:pt x="1891453" y="22650"/>
                  <a:pt x="1821934" y="11650"/>
                  <a:pt x="1789480" y="9054"/>
                </a:cubicBezTo>
                <a:cubicBezTo>
                  <a:pt x="1738252" y="4956"/>
                  <a:pt x="1686874" y="3018"/>
                  <a:pt x="1635571" y="0"/>
                </a:cubicBezTo>
                <a:cubicBezTo>
                  <a:pt x="1436395" y="3018"/>
                  <a:pt x="1237068" y="761"/>
                  <a:pt x="1038042" y="9054"/>
                </a:cubicBezTo>
                <a:cubicBezTo>
                  <a:pt x="1018972" y="9849"/>
                  <a:pt x="1002548" y="24023"/>
                  <a:pt x="983721" y="27161"/>
                </a:cubicBezTo>
                <a:lnTo>
                  <a:pt x="929400" y="36214"/>
                </a:lnTo>
                <a:cubicBezTo>
                  <a:pt x="917329" y="42250"/>
                  <a:pt x="905592" y="49005"/>
                  <a:pt x="893187" y="54321"/>
                </a:cubicBezTo>
                <a:cubicBezTo>
                  <a:pt x="884415" y="58080"/>
                  <a:pt x="874962" y="60024"/>
                  <a:pt x="866026" y="63375"/>
                </a:cubicBezTo>
                <a:cubicBezTo>
                  <a:pt x="850809" y="69081"/>
                  <a:pt x="835610" y="74882"/>
                  <a:pt x="820759" y="81482"/>
                </a:cubicBezTo>
                <a:cubicBezTo>
                  <a:pt x="808426" y="86963"/>
                  <a:pt x="796263" y="92892"/>
                  <a:pt x="784545" y="99588"/>
                </a:cubicBezTo>
                <a:cubicBezTo>
                  <a:pt x="775098" y="104986"/>
                  <a:pt x="767117" y="112829"/>
                  <a:pt x="757385" y="117695"/>
                </a:cubicBezTo>
                <a:cubicBezTo>
                  <a:pt x="748849" y="121963"/>
                  <a:pt x="738760" y="122481"/>
                  <a:pt x="730224" y="126749"/>
                </a:cubicBezTo>
                <a:cubicBezTo>
                  <a:pt x="720492" y="131615"/>
                  <a:pt x="712796" y="139990"/>
                  <a:pt x="703064" y="144856"/>
                </a:cubicBezTo>
                <a:cubicBezTo>
                  <a:pt x="694528" y="149124"/>
                  <a:pt x="684439" y="149641"/>
                  <a:pt x="675903" y="153909"/>
                </a:cubicBezTo>
                <a:cubicBezTo>
                  <a:pt x="660164" y="161779"/>
                  <a:pt x="644955" y="170842"/>
                  <a:pt x="630636" y="181070"/>
                </a:cubicBezTo>
                <a:cubicBezTo>
                  <a:pt x="602637" y="201070"/>
                  <a:pt x="581798" y="233563"/>
                  <a:pt x="549155" y="244444"/>
                </a:cubicBezTo>
                <a:lnTo>
                  <a:pt x="521995" y="253497"/>
                </a:lnTo>
                <a:lnTo>
                  <a:pt x="440513" y="307818"/>
                </a:lnTo>
                <a:cubicBezTo>
                  <a:pt x="431460" y="313854"/>
                  <a:pt x="421047" y="318231"/>
                  <a:pt x="413353" y="325925"/>
                </a:cubicBezTo>
                <a:cubicBezTo>
                  <a:pt x="401282" y="337996"/>
                  <a:pt x="390470" y="351475"/>
                  <a:pt x="377139" y="362139"/>
                </a:cubicBezTo>
                <a:cubicBezTo>
                  <a:pt x="360146" y="375734"/>
                  <a:pt x="322818" y="398353"/>
                  <a:pt x="322818" y="398353"/>
                </a:cubicBezTo>
                <a:cubicBezTo>
                  <a:pt x="289621" y="448148"/>
                  <a:pt x="322819" y="405896"/>
                  <a:pt x="277551" y="443620"/>
                </a:cubicBezTo>
                <a:cubicBezTo>
                  <a:pt x="232341" y="481296"/>
                  <a:pt x="270962" y="463924"/>
                  <a:pt x="223230" y="479834"/>
                </a:cubicBezTo>
                <a:cubicBezTo>
                  <a:pt x="204683" y="516927"/>
                  <a:pt x="206168" y="519357"/>
                  <a:pt x="177963" y="552262"/>
                </a:cubicBezTo>
                <a:cubicBezTo>
                  <a:pt x="169631" y="561983"/>
                  <a:pt x="153681" y="566946"/>
                  <a:pt x="150802" y="579422"/>
                </a:cubicBezTo>
                <a:cubicBezTo>
                  <a:pt x="144016" y="608827"/>
                  <a:pt x="150802" y="639779"/>
                  <a:pt x="150802" y="669957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2978280" y="2706840"/>
            <a:ext cx="4303440" cy="1955520"/>
          </a:xfrm>
          <a:custGeom>
            <a:avLst/>
            <a:gdLst/>
            <a:ahLst/>
            <a:rect l="l" t="t" r="r" b="b"/>
            <a:pathLst>
              <a:path w="4303460" h="1955549">
                <a:moveTo>
                  <a:pt x="0" y="1222218"/>
                </a:moveTo>
                <a:cubicBezTo>
                  <a:pt x="6036" y="1237307"/>
                  <a:pt x="7703" y="1255000"/>
                  <a:pt x="18107" y="1267485"/>
                </a:cubicBezTo>
                <a:cubicBezTo>
                  <a:pt x="24216" y="1274816"/>
                  <a:pt x="36731" y="1272271"/>
                  <a:pt x="45267" y="1276539"/>
                </a:cubicBezTo>
                <a:cubicBezTo>
                  <a:pt x="118774" y="1313293"/>
                  <a:pt x="20713" y="1278576"/>
                  <a:pt x="108642" y="1303699"/>
                </a:cubicBezTo>
                <a:cubicBezTo>
                  <a:pt x="117818" y="1306321"/>
                  <a:pt x="126626" y="1310131"/>
                  <a:pt x="135802" y="1312753"/>
                </a:cubicBezTo>
                <a:cubicBezTo>
                  <a:pt x="147766" y="1316171"/>
                  <a:pt x="160098" y="1318231"/>
                  <a:pt x="172016" y="1321806"/>
                </a:cubicBezTo>
                <a:cubicBezTo>
                  <a:pt x="190298" y="1327290"/>
                  <a:pt x="207345" y="1338014"/>
                  <a:pt x="226337" y="1339913"/>
                </a:cubicBezTo>
                <a:lnTo>
                  <a:pt x="316871" y="1348966"/>
                </a:lnTo>
                <a:cubicBezTo>
                  <a:pt x="322907" y="1358020"/>
                  <a:pt x="330692" y="1366126"/>
                  <a:pt x="334978" y="1376127"/>
                </a:cubicBezTo>
                <a:cubicBezTo>
                  <a:pt x="356296" y="1425868"/>
                  <a:pt x="328713" y="1399390"/>
                  <a:pt x="362139" y="1439501"/>
                </a:cubicBezTo>
                <a:cubicBezTo>
                  <a:pt x="376445" y="1456668"/>
                  <a:pt x="396108" y="1474592"/>
                  <a:pt x="416460" y="1484768"/>
                </a:cubicBezTo>
                <a:cubicBezTo>
                  <a:pt x="424996" y="1489036"/>
                  <a:pt x="435084" y="1489554"/>
                  <a:pt x="443620" y="1493822"/>
                </a:cubicBezTo>
                <a:cubicBezTo>
                  <a:pt x="453352" y="1498688"/>
                  <a:pt x="460592" y="1508109"/>
                  <a:pt x="470780" y="1511929"/>
                </a:cubicBezTo>
                <a:cubicBezTo>
                  <a:pt x="485188" y="1517332"/>
                  <a:pt x="501026" y="1517644"/>
                  <a:pt x="516048" y="1520982"/>
                </a:cubicBezTo>
                <a:cubicBezTo>
                  <a:pt x="594464" y="1538408"/>
                  <a:pt x="505432" y="1524833"/>
                  <a:pt x="633743" y="1539089"/>
                </a:cubicBezTo>
                <a:cubicBezTo>
                  <a:pt x="642796" y="1545125"/>
                  <a:pt x="653738" y="1549007"/>
                  <a:pt x="660903" y="1557196"/>
                </a:cubicBezTo>
                <a:cubicBezTo>
                  <a:pt x="675233" y="1573574"/>
                  <a:pt x="679010" y="1599446"/>
                  <a:pt x="697117" y="1611517"/>
                </a:cubicBezTo>
                <a:cubicBezTo>
                  <a:pt x="724393" y="1629701"/>
                  <a:pt x="728330" y="1633948"/>
                  <a:pt x="760491" y="1647731"/>
                </a:cubicBezTo>
                <a:cubicBezTo>
                  <a:pt x="769263" y="1651490"/>
                  <a:pt x="778598" y="1653766"/>
                  <a:pt x="787652" y="1656784"/>
                </a:cubicBezTo>
                <a:cubicBezTo>
                  <a:pt x="796705" y="1662820"/>
                  <a:pt x="805080" y="1670025"/>
                  <a:pt x="814812" y="1674891"/>
                </a:cubicBezTo>
                <a:cubicBezTo>
                  <a:pt x="841374" y="1688172"/>
                  <a:pt x="867480" y="1696289"/>
                  <a:pt x="896293" y="1702052"/>
                </a:cubicBezTo>
                <a:cubicBezTo>
                  <a:pt x="914293" y="1705652"/>
                  <a:pt x="932553" y="1707821"/>
                  <a:pt x="950614" y="1711105"/>
                </a:cubicBezTo>
                <a:cubicBezTo>
                  <a:pt x="965754" y="1713858"/>
                  <a:pt x="980587" y="1718460"/>
                  <a:pt x="995881" y="1720159"/>
                </a:cubicBezTo>
                <a:cubicBezTo>
                  <a:pt x="1079390" y="1729438"/>
                  <a:pt x="1231399" y="1734822"/>
                  <a:pt x="1303699" y="1738265"/>
                </a:cubicBezTo>
                <a:cubicBezTo>
                  <a:pt x="1386775" y="1765958"/>
                  <a:pt x="1257452" y="1719668"/>
                  <a:pt x="1367073" y="1774479"/>
                </a:cubicBezTo>
                <a:cubicBezTo>
                  <a:pt x="1378202" y="1780044"/>
                  <a:pt x="1391216" y="1780515"/>
                  <a:pt x="1403287" y="1783533"/>
                </a:cubicBezTo>
                <a:cubicBezTo>
                  <a:pt x="1428252" y="1808498"/>
                  <a:pt x="1428199" y="1811995"/>
                  <a:pt x="1457608" y="1828800"/>
                </a:cubicBezTo>
                <a:cubicBezTo>
                  <a:pt x="1469326" y="1835496"/>
                  <a:pt x="1482377" y="1839754"/>
                  <a:pt x="1493822" y="1846907"/>
                </a:cubicBezTo>
                <a:cubicBezTo>
                  <a:pt x="1545628" y="1879285"/>
                  <a:pt x="1512515" y="1866642"/>
                  <a:pt x="1557196" y="1892174"/>
                </a:cubicBezTo>
                <a:cubicBezTo>
                  <a:pt x="1568914" y="1898870"/>
                  <a:pt x="1581692" y="1903585"/>
                  <a:pt x="1593410" y="1910281"/>
                </a:cubicBezTo>
                <a:cubicBezTo>
                  <a:pt x="1602857" y="1915679"/>
                  <a:pt x="1610838" y="1923522"/>
                  <a:pt x="1620570" y="1928388"/>
                </a:cubicBezTo>
                <a:cubicBezTo>
                  <a:pt x="1629106" y="1932656"/>
                  <a:pt x="1638524" y="1934931"/>
                  <a:pt x="1647731" y="1937442"/>
                </a:cubicBezTo>
                <a:cubicBezTo>
                  <a:pt x="1671740" y="1943990"/>
                  <a:pt x="1720159" y="1955549"/>
                  <a:pt x="1720159" y="1955549"/>
                </a:cubicBezTo>
                <a:cubicBezTo>
                  <a:pt x="1777497" y="1952531"/>
                  <a:pt x="1834992" y="1951693"/>
                  <a:pt x="1892174" y="1946495"/>
                </a:cubicBezTo>
                <a:cubicBezTo>
                  <a:pt x="1901678" y="1945631"/>
                  <a:pt x="1910799" y="1941710"/>
                  <a:pt x="1919335" y="1937442"/>
                </a:cubicBezTo>
                <a:cubicBezTo>
                  <a:pt x="1929067" y="1932576"/>
                  <a:pt x="1936943" y="1924545"/>
                  <a:pt x="1946495" y="1919335"/>
                </a:cubicBezTo>
                <a:cubicBezTo>
                  <a:pt x="1970191" y="1906410"/>
                  <a:pt x="1993316" y="1891657"/>
                  <a:pt x="2018923" y="1883121"/>
                </a:cubicBezTo>
                <a:cubicBezTo>
                  <a:pt x="2027976" y="1880103"/>
                  <a:pt x="2037547" y="1878335"/>
                  <a:pt x="2046083" y="1874067"/>
                </a:cubicBezTo>
                <a:cubicBezTo>
                  <a:pt x="2055815" y="1869201"/>
                  <a:pt x="2063056" y="1859781"/>
                  <a:pt x="2073244" y="1855961"/>
                </a:cubicBezTo>
                <a:cubicBezTo>
                  <a:pt x="2087652" y="1850558"/>
                  <a:pt x="2103583" y="1850639"/>
                  <a:pt x="2118511" y="1846907"/>
                </a:cubicBezTo>
                <a:cubicBezTo>
                  <a:pt x="2127769" y="1844592"/>
                  <a:pt x="2136495" y="1840476"/>
                  <a:pt x="2145671" y="1837854"/>
                </a:cubicBezTo>
                <a:cubicBezTo>
                  <a:pt x="2157635" y="1834436"/>
                  <a:pt x="2169967" y="1832375"/>
                  <a:pt x="2181885" y="1828800"/>
                </a:cubicBezTo>
                <a:cubicBezTo>
                  <a:pt x="2200166" y="1823315"/>
                  <a:pt x="2218099" y="1816729"/>
                  <a:pt x="2236206" y="1810693"/>
                </a:cubicBezTo>
                <a:cubicBezTo>
                  <a:pt x="2245259" y="1807675"/>
                  <a:pt x="2253828" y="1801958"/>
                  <a:pt x="2263366" y="1801640"/>
                </a:cubicBezTo>
                <a:lnTo>
                  <a:pt x="2534970" y="1792586"/>
                </a:lnTo>
                <a:cubicBezTo>
                  <a:pt x="2577527" y="1778400"/>
                  <a:pt x="2620645" y="1765574"/>
                  <a:pt x="2661719" y="1747319"/>
                </a:cubicBezTo>
                <a:cubicBezTo>
                  <a:pt x="2674052" y="1741838"/>
                  <a:pt x="2685528" y="1734528"/>
                  <a:pt x="2697933" y="1729212"/>
                </a:cubicBezTo>
                <a:cubicBezTo>
                  <a:pt x="2712219" y="1723090"/>
                  <a:pt x="2748013" y="1713522"/>
                  <a:pt x="2761307" y="1711105"/>
                </a:cubicBezTo>
                <a:cubicBezTo>
                  <a:pt x="2817715" y="1700849"/>
                  <a:pt x="2888074" y="1695647"/>
                  <a:pt x="2942376" y="1692998"/>
                </a:cubicBezTo>
                <a:cubicBezTo>
                  <a:pt x="3026828" y="1688878"/>
                  <a:pt x="3111374" y="1686963"/>
                  <a:pt x="3195873" y="1683945"/>
                </a:cubicBezTo>
                <a:cubicBezTo>
                  <a:pt x="3213980" y="1677909"/>
                  <a:pt x="3236698" y="1679334"/>
                  <a:pt x="3250194" y="1665838"/>
                </a:cubicBezTo>
                <a:cubicBezTo>
                  <a:pt x="3268054" y="1647978"/>
                  <a:pt x="3308663" y="1603818"/>
                  <a:pt x="3331675" y="1602464"/>
                </a:cubicBezTo>
                <a:lnTo>
                  <a:pt x="3485584" y="1593410"/>
                </a:lnTo>
                <a:cubicBezTo>
                  <a:pt x="3490475" y="1592711"/>
                  <a:pt x="3593850" y="1578446"/>
                  <a:pt x="3603279" y="1575303"/>
                </a:cubicBezTo>
                <a:cubicBezTo>
                  <a:pt x="3613602" y="1571862"/>
                  <a:pt x="3620439" y="1561482"/>
                  <a:pt x="3630440" y="1557196"/>
                </a:cubicBezTo>
                <a:cubicBezTo>
                  <a:pt x="3641877" y="1552295"/>
                  <a:pt x="3654690" y="1551561"/>
                  <a:pt x="3666654" y="1548143"/>
                </a:cubicBezTo>
                <a:cubicBezTo>
                  <a:pt x="3675830" y="1545521"/>
                  <a:pt x="3685043" y="1542848"/>
                  <a:pt x="3693814" y="1539089"/>
                </a:cubicBezTo>
                <a:cubicBezTo>
                  <a:pt x="3706219" y="1533772"/>
                  <a:pt x="3717391" y="1525721"/>
                  <a:pt x="3730028" y="1520982"/>
                </a:cubicBezTo>
                <a:cubicBezTo>
                  <a:pt x="3741679" y="1516613"/>
                  <a:pt x="3754324" y="1515504"/>
                  <a:pt x="3766242" y="1511929"/>
                </a:cubicBezTo>
                <a:cubicBezTo>
                  <a:pt x="3784523" y="1506445"/>
                  <a:pt x="3802455" y="1499858"/>
                  <a:pt x="3820562" y="1493822"/>
                </a:cubicBezTo>
                <a:cubicBezTo>
                  <a:pt x="3829616" y="1490804"/>
                  <a:pt x="3838862" y="1488312"/>
                  <a:pt x="3847723" y="1484768"/>
                </a:cubicBezTo>
                <a:cubicBezTo>
                  <a:pt x="3862812" y="1478733"/>
                  <a:pt x="3877457" y="1471441"/>
                  <a:pt x="3892990" y="1466662"/>
                </a:cubicBezTo>
                <a:cubicBezTo>
                  <a:pt x="3916775" y="1459344"/>
                  <a:pt x="3941810" y="1456425"/>
                  <a:pt x="3965418" y="1448555"/>
                </a:cubicBezTo>
                <a:cubicBezTo>
                  <a:pt x="3974471" y="1445537"/>
                  <a:pt x="3984236" y="1444136"/>
                  <a:pt x="3992578" y="1439501"/>
                </a:cubicBezTo>
                <a:cubicBezTo>
                  <a:pt x="4011601" y="1428932"/>
                  <a:pt x="4028792" y="1415358"/>
                  <a:pt x="4046899" y="1403287"/>
                </a:cubicBezTo>
                <a:cubicBezTo>
                  <a:pt x="4055953" y="1397251"/>
                  <a:pt x="4066366" y="1392874"/>
                  <a:pt x="4074060" y="1385180"/>
                </a:cubicBezTo>
                <a:cubicBezTo>
                  <a:pt x="4144178" y="1315062"/>
                  <a:pt x="4049010" y="1412230"/>
                  <a:pt x="4137434" y="1312753"/>
                </a:cubicBezTo>
                <a:cubicBezTo>
                  <a:pt x="4148776" y="1299994"/>
                  <a:pt x="4161577" y="1288610"/>
                  <a:pt x="4173648" y="1276539"/>
                </a:cubicBezTo>
                <a:cubicBezTo>
                  <a:pt x="4195877" y="1187617"/>
                  <a:pt x="4163695" y="1296445"/>
                  <a:pt x="4209861" y="1204111"/>
                </a:cubicBezTo>
                <a:cubicBezTo>
                  <a:pt x="4218397" y="1187040"/>
                  <a:pt x="4221932" y="1167897"/>
                  <a:pt x="4227968" y="1149790"/>
                </a:cubicBezTo>
                <a:cubicBezTo>
                  <a:pt x="4244894" y="1099013"/>
                  <a:pt x="4234702" y="1131910"/>
                  <a:pt x="4255129" y="1050202"/>
                </a:cubicBezTo>
                <a:lnTo>
                  <a:pt x="4282289" y="941561"/>
                </a:lnTo>
                <a:lnTo>
                  <a:pt x="4291343" y="905347"/>
                </a:lnTo>
                <a:cubicBezTo>
                  <a:pt x="4305625" y="762520"/>
                  <a:pt x="4309272" y="767585"/>
                  <a:pt x="4291343" y="570368"/>
                </a:cubicBezTo>
                <a:cubicBezTo>
                  <a:pt x="4289615" y="551360"/>
                  <a:pt x="4283823" y="531929"/>
                  <a:pt x="4273236" y="516048"/>
                </a:cubicBezTo>
                <a:cubicBezTo>
                  <a:pt x="4248027" y="478234"/>
                  <a:pt x="4262823" y="496581"/>
                  <a:pt x="4227968" y="461727"/>
                </a:cubicBezTo>
                <a:cubicBezTo>
                  <a:pt x="4224950" y="452673"/>
                  <a:pt x="4224877" y="442018"/>
                  <a:pt x="4218915" y="434566"/>
                </a:cubicBezTo>
                <a:cubicBezTo>
                  <a:pt x="4212118" y="426070"/>
                  <a:pt x="4200460" y="422988"/>
                  <a:pt x="4191755" y="416460"/>
                </a:cubicBezTo>
                <a:cubicBezTo>
                  <a:pt x="4176296" y="404866"/>
                  <a:pt x="4162318" y="391327"/>
                  <a:pt x="4146487" y="380246"/>
                </a:cubicBezTo>
                <a:cubicBezTo>
                  <a:pt x="4132071" y="370155"/>
                  <a:pt x="4115297" y="363643"/>
                  <a:pt x="4101220" y="353085"/>
                </a:cubicBezTo>
                <a:cubicBezTo>
                  <a:pt x="4090977" y="345403"/>
                  <a:pt x="4084479" y="333367"/>
                  <a:pt x="4074060" y="325925"/>
                </a:cubicBezTo>
                <a:cubicBezTo>
                  <a:pt x="4063078" y="318081"/>
                  <a:pt x="4049564" y="314514"/>
                  <a:pt x="4037846" y="307818"/>
                </a:cubicBezTo>
                <a:cubicBezTo>
                  <a:pt x="4028399" y="302419"/>
                  <a:pt x="4020132" y="295110"/>
                  <a:pt x="4010685" y="289711"/>
                </a:cubicBezTo>
                <a:cubicBezTo>
                  <a:pt x="3998967" y="283015"/>
                  <a:pt x="3985916" y="278757"/>
                  <a:pt x="3974471" y="271604"/>
                </a:cubicBezTo>
                <a:cubicBezTo>
                  <a:pt x="3961676" y="263607"/>
                  <a:pt x="3951053" y="252441"/>
                  <a:pt x="3938258" y="244444"/>
                </a:cubicBezTo>
                <a:cubicBezTo>
                  <a:pt x="3910827" y="227300"/>
                  <a:pt x="3886495" y="221438"/>
                  <a:pt x="3856776" y="208230"/>
                </a:cubicBezTo>
                <a:cubicBezTo>
                  <a:pt x="3844443" y="202749"/>
                  <a:pt x="3832967" y="195440"/>
                  <a:pt x="3820562" y="190123"/>
                </a:cubicBezTo>
                <a:cubicBezTo>
                  <a:pt x="3811791" y="186364"/>
                  <a:pt x="3802174" y="184828"/>
                  <a:pt x="3793402" y="181069"/>
                </a:cubicBezTo>
                <a:cubicBezTo>
                  <a:pt x="3738198" y="157411"/>
                  <a:pt x="3775082" y="165910"/>
                  <a:pt x="3711921" y="144856"/>
                </a:cubicBezTo>
                <a:cubicBezTo>
                  <a:pt x="3700117" y="140921"/>
                  <a:pt x="3687511" y="139737"/>
                  <a:pt x="3675707" y="135802"/>
                </a:cubicBezTo>
                <a:cubicBezTo>
                  <a:pt x="3660290" y="130663"/>
                  <a:pt x="3646006" y="122365"/>
                  <a:pt x="3630440" y="117695"/>
                </a:cubicBezTo>
                <a:cubicBezTo>
                  <a:pt x="3614633" y="112953"/>
                  <a:pt x="3543735" y="101735"/>
                  <a:pt x="3530852" y="99588"/>
                </a:cubicBezTo>
                <a:cubicBezTo>
                  <a:pt x="3515763" y="93552"/>
                  <a:pt x="3501263" y="85757"/>
                  <a:pt x="3485584" y="81481"/>
                </a:cubicBezTo>
                <a:cubicBezTo>
                  <a:pt x="3467874" y="76651"/>
                  <a:pt x="3449324" y="75712"/>
                  <a:pt x="3431263" y="72428"/>
                </a:cubicBezTo>
                <a:cubicBezTo>
                  <a:pt x="3372830" y="61804"/>
                  <a:pt x="3384359" y="60220"/>
                  <a:pt x="3313568" y="54321"/>
                </a:cubicBezTo>
                <a:cubicBezTo>
                  <a:pt x="3229146" y="47286"/>
                  <a:pt x="3060071" y="36214"/>
                  <a:pt x="3060071" y="36214"/>
                </a:cubicBezTo>
                <a:cubicBezTo>
                  <a:pt x="3038946" y="30178"/>
                  <a:pt x="3018497" y="20832"/>
                  <a:pt x="2996697" y="18107"/>
                </a:cubicBezTo>
                <a:cubicBezTo>
                  <a:pt x="2945702" y="11733"/>
                  <a:pt x="2894080" y="12260"/>
                  <a:pt x="2842788" y="9054"/>
                </a:cubicBezTo>
                <a:lnTo>
                  <a:pt x="2706986" y="0"/>
                </a:lnTo>
                <a:lnTo>
                  <a:pt x="2091351" y="9054"/>
                </a:lnTo>
                <a:cubicBezTo>
                  <a:pt x="2078913" y="9400"/>
                  <a:pt x="2067411" y="16061"/>
                  <a:pt x="2055137" y="18107"/>
                </a:cubicBezTo>
                <a:cubicBezTo>
                  <a:pt x="2031137" y="22107"/>
                  <a:pt x="2006757" y="23461"/>
                  <a:pt x="1982709" y="27161"/>
                </a:cubicBezTo>
                <a:cubicBezTo>
                  <a:pt x="1843431" y="48588"/>
                  <a:pt x="2079430" y="22016"/>
                  <a:pt x="1846907" y="45267"/>
                </a:cubicBezTo>
                <a:cubicBezTo>
                  <a:pt x="1793215" y="56006"/>
                  <a:pt x="1803474" y="52008"/>
                  <a:pt x="1747319" y="72428"/>
                </a:cubicBezTo>
                <a:cubicBezTo>
                  <a:pt x="1732046" y="77982"/>
                  <a:pt x="1717731" y="86259"/>
                  <a:pt x="1702052" y="90535"/>
                </a:cubicBezTo>
                <a:cubicBezTo>
                  <a:pt x="1684342" y="95365"/>
                  <a:pt x="1665838" y="96570"/>
                  <a:pt x="1647731" y="99588"/>
                </a:cubicBezTo>
                <a:cubicBezTo>
                  <a:pt x="1604993" y="120957"/>
                  <a:pt x="1609404" y="120885"/>
                  <a:pt x="1557196" y="135802"/>
                </a:cubicBezTo>
                <a:cubicBezTo>
                  <a:pt x="1533268" y="142639"/>
                  <a:pt x="1508911" y="147873"/>
                  <a:pt x="1484768" y="153909"/>
                </a:cubicBezTo>
                <a:cubicBezTo>
                  <a:pt x="1472697" y="156927"/>
                  <a:pt x="1459684" y="157399"/>
                  <a:pt x="1448555" y="162963"/>
                </a:cubicBezTo>
                <a:cubicBezTo>
                  <a:pt x="1436484" y="168998"/>
                  <a:pt x="1425144" y="176801"/>
                  <a:pt x="1412341" y="181069"/>
                </a:cubicBezTo>
                <a:cubicBezTo>
                  <a:pt x="1391545" y="188001"/>
                  <a:pt x="1340171" y="196479"/>
                  <a:pt x="1312753" y="208230"/>
                </a:cubicBezTo>
                <a:cubicBezTo>
                  <a:pt x="1300348" y="213547"/>
                  <a:pt x="1288944" y="221021"/>
                  <a:pt x="1276539" y="226337"/>
                </a:cubicBezTo>
                <a:cubicBezTo>
                  <a:pt x="1225751" y="248103"/>
                  <a:pt x="1273220" y="219179"/>
                  <a:pt x="1213164" y="253497"/>
                </a:cubicBezTo>
                <a:cubicBezTo>
                  <a:pt x="1203717" y="258895"/>
                  <a:pt x="1196005" y="267318"/>
                  <a:pt x="1186004" y="271604"/>
                </a:cubicBezTo>
                <a:cubicBezTo>
                  <a:pt x="1174567" y="276506"/>
                  <a:pt x="1161343" y="276037"/>
                  <a:pt x="1149790" y="280658"/>
                </a:cubicBezTo>
                <a:cubicBezTo>
                  <a:pt x="1130994" y="288176"/>
                  <a:pt x="1113968" y="299596"/>
                  <a:pt x="1095469" y="307818"/>
                </a:cubicBezTo>
                <a:cubicBezTo>
                  <a:pt x="1086748" y="311694"/>
                  <a:pt x="1077362" y="313853"/>
                  <a:pt x="1068309" y="316871"/>
                </a:cubicBezTo>
                <a:cubicBezTo>
                  <a:pt x="990474" y="368762"/>
                  <a:pt x="1088953" y="306549"/>
                  <a:pt x="1013988" y="344032"/>
                </a:cubicBezTo>
                <a:cubicBezTo>
                  <a:pt x="1004256" y="348898"/>
                  <a:pt x="996560" y="357273"/>
                  <a:pt x="986828" y="362139"/>
                </a:cubicBezTo>
                <a:cubicBezTo>
                  <a:pt x="978292" y="366407"/>
                  <a:pt x="968203" y="366924"/>
                  <a:pt x="959667" y="371192"/>
                </a:cubicBezTo>
                <a:cubicBezTo>
                  <a:pt x="943928" y="379062"/>
                  <a:pt x="930419" y="391071"/>
                  <a:pt x="914400" y="398353"/>
                </a:cubicBezTo>
                <a:cubicBezTo>
                  <a:pt x="887458" y="410599"/>
                  <a:pt x="853051" y="418217"/>
                  <a:pt x="823865" y="425513"/>
                </a:cubicBezTo>
                <a:cubicBezTo>
                  <a:pt x="793687" y="443620"/>
                  <a:pt x="761111" y="458227"/>
                  <a:pt x="733331" y="479834"/>
                </a:cubicBezTo>
                <a:cubicBezTo>
                  <a:pt x="706171" y="500959"/>
                  <a:pt x="683797" y="530429"/>
                  <a:pt x="651850" y="543208"/>
                </a:cubicBezTo>
                <a:cubicBezTo>
                  <a:pt x="619847" y="556009"/>
                  <a:pt x="604459" y="558558"/>
                  <a:pt x="579422" y="579422"/>
                </a:cubicBezTo>
                <a:cubicBezTo>
                  <a:pt x="569586" y="587619"/>
                  <a:pt x="562680" y="599140"/>
                  <a:pt x="552261" y="606582"/>
                </a:cubicBezTo>
                <a:cubicBezTo>
                  <a:pt x="468981" y="666068"/>
                  <a:pt x="564379" y="577872"/>
                  <a:pt x="479834" y="651850"/>
                </a:cubicBezTo>
                <a:cubicBezTo>
                  <a:pt x="426959" y="698116"/>
                  <a:pt x="465357" y="680819"/>
                  <a:pt x="416460" y="697117"/>
                </a:cubicBezTo>
                <a:cubicBezTo>
                  <a:pt x="404389" y="706170"/>
                  <a:pt x="392801" y="715907"/>
                  <a:pt x="380246" y="724277"/>
                </a:cubicBezTo>
                <a:cubicBezTo>
                  <a:pt x="365604" y="734038"/>
                  <a:pt x="349297" y="741210"/>
                  <a:pt x="334978" y="751438"/>
                </a:cubicBezTo>
                <a:cubicBezTo>
                  <a:pt x="306979" y="771437"/>
                  <a:pt x="284273" y="799424"/>
                  <a:pt x="253497" y="814812"/>
                </a:cubicBezTo>
                <a:cubicBezTo>
                  <a:pt x="234759" y="824181"/>
                  <a:pt x="206577" y="836400"/>
                  <a:pt x="190123" y="851026"/>
                </a:cubicBezTo>
                <a:cubicBezTo>
                  <a:pt x="139384" y="896128"/>
                  <a:pt x="145215" y="891227"/>
                  <a:pt x="117695" y="932507"/>
                </a:cubicBezTo>
                <a:cubicBezTo>
                  <a:pt x="114677" y="944578"/>
                  <a:pt x="112060" y="956757"/>
                  <a:pt x="108642" y="968721"/>
                </a:cubicBezTo>
                <a:cubicBezTo>
                  <a:pt x="106020" y="977897"/>
                  <a:pt x="100202" y="986358"/>
                  <a:pt x="99588" y="995881"/>
                </a:cubicBezTo>
                <a:cubicBezTo>
                  <a:pt x="94144" y="1080258"/>
                  <a:pt x="95979" y="1165001"/>
                  <a:pt x="90535" y="1249378"/>
                </a:cubicBezTo>
                <a:cubicBezTo>
                  <a:pt x="89921" y="1258902"/>
                  <a:pt x="83353" y="1267181"/>
                  <a:pt x="81481" y="1276539"/>
                </a:cubicBezTo>
                <a:cubicBezTo>
                  <a:pt x="80297" y="1282457"/>
                  <a:pt x="81481" y="1288610"/>
                  <a:pt x="81481" y="129464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86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ounded Rectangular Callout 11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3"/>
          <a:stretch/>
        </p:blipFill>
        <p:spPr>
          <a:xfrm>
            <a:off x="3305160" y="1496880"/>
            <a:ext cx="2052720" cy="3068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"/>
          <p:cNvPicPr/>
          <p:nvPr/>
        </p:nvPicPr>
        <p:blipFill>
          <a:blip r:embed="rId4"/>
          <a:stretch/>
        </p:blipFill>
        <p:spPr>
          <a:xfrm>
            <a:off x="5292720" y="149688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2936880" y="2708280"/>
            <a:ext cx="3048120" cy="2071800"/>
          </a:xfrm>
          <a:prstGeom prst="rect">
            <a:avLst/>
          </a:prstGeom>
          <a:ln w="0">
            <a:noFill/>
          </a:ln>
        </p:spPr>
      </p:pic>
      <p:sp>
        <p:nvSpPr>
          <p:cNvPr id="66" name="Freeform 1"/>
          <p:cNvSpPr/>
          <p:nvPr/>
        </p:nvSpPr>
        <p:spPr>
          <a:xfrm>
            <a:off x="2789280" y="2173320"/>
            <a:ext cx="3222720" cy="1620720"/>
          </a:xfrm>
          <a:custGeom>
            <a:avLst/>
            <a:gdLst/>
            <a:ahLst/>
            <a:rect l="l" t="t" r="r" b="b"/>
            <a:pathLst>
              <a:path w="3223044" h="1620570">
                <a:moveTo>
                  <a:pt x="72428" y="878186"/>
                </a:moveTo>
                <a:cubicBezTo>
                  <a:pt x="79973" y="906855"/>
                  <a:pt x="88579" y="966403"/>
                  <a:pt x="99588" y="1004934"/>
                </a:cubicBezTo>
                <a:cubicBezTo>
                  <a:pt x="102210" y="1014110"/>
                  <a:pt x="105624" y="1023041"/>
                  <a:pt x="108642" y="1032095"/>
                </a:cubicBezTo>
                <a:cubicBezTo>
                  <a:pt x="119802" y="1132541"/>
                  <a:pt x="109054" y="1087654"/>
                  <a:pt x="135802" y="1167897"/>
                </a:cubicBezTo>
                <a:lnTo>
                  <a:pt x="153909" y="1222218"/>
                </a:lnTo>
                <a:lnTo>
                  <a:pt x="162963" y="1249378"/>
                </a:lnTo>
                <a:cubicBezTo>
                  <a:pt x="165981" y="1294645"/>
                  <a:pt x="167006" y="1340090"/>
                  <a:pt x="172016" y="1385180"/>
                </a:cubicBezTo>
                <a:cubicBezTo>
                  <a:pt x="173070" y="1394665"/>
                  <a:pt x="178755" y="1403082"/>
                  <a:pt x="181070" y="1412340"/>
                </a:cubicBezTo>
                <a:cubicBezTo>
                  <a:pt x="184802" y="1427269"/>
                  <a:pt x="184720" y="1443200"/>
                  <a:pt x="190123" y="1457608"/>
                </a:cubicBezTo>
                <a:cubicBezTo>
                  <a:pt x="193943" y="1467796"/>
                  <a:pt x="202194" y="1475715"/>
                  <a:pt x="208230" y="1484768"/>
                </a:cubicBezTo>
                <a:cubicBezTo>
                  <a:pt x="211248" y="1496839"/>
                  <a:pt x="209510" y="1511266"/>
                  <a:pt x="217283" y="1520982"/>
                </a:cubicBezTo>
                <a:cubicBezTo>
                  <a:pt x="223245" y="1528434"/>
                  <a:pt x="235908" y="1525767"/>
                  <a:pt x="244444" y="1530035"/>
                </a:cubicBezTo>
                <a:cubicBezTo>
                  <a:pt x="327943" y="1571784"/>
                  <a:pt x="175411" y="1540742"/>
                  <a:pt x="389299" y="1557196"/>
                </a:cubicBezTo>
                <a:cubicBezTo>
                  <a:pt x="416575" y="1575380"/>
                  <a:pt x="420513" y="1579627"/>
                  <a:pt x="452674" y="1593410"/>
                </a:cubicBezTo>
                <a:cubicBezTo>
                  <a:pt x="477030" y="1603848"/>
                  <a:pt x="498537" y="1606204"/>
                  <a:pt x="525101" y="1611517"/>
                </a:cubicBezTo>
                <a:cubicBezTo>
                  <a:pt x="576404" y="1608499"/>
                  <a:pt x="627618" y="1602463"/>
                  <a:pt x="679010" y="1602463"/>
                </a:cubicBezTo>
                <a:cubicBezTo>
                  <a:pt x="977440" y="1602463"/>
                  <a:pt x="898164" y="1578946"/>
                  <a:pt x="1023042" y="1620570"/>
                </a:cubicBezTo>
                <a:cubicBezTo>
                  <a:pt x="1071327" y="1617552"/>
                  <a:pt x="1120053" y="1618694"/>
                  <a:pt x="1167897" y="1611517"/>
                </a:cubicBezTo>
                <a:cubicBezTo>
                  <a:pt x="1180427" y="1609638"/>
                  <a:pt x="1219823" y="1583890"/>
                  <a:pt x="1231272" y="1575303"/>
                </a:cubicBezTo>
                <a:cubicBezTo>
                  <a:pt x="1342905" y="1491579"/>
                  <a:pt x="1225527" y="1578933"/>
                  <a:pt x="1303699" y="1511928"/>
                </a:cubicBezTo>
                <a:cubicBezTo>
                  <a:pt x="1315155" y="1502108"/>
                  <a:pt x="1328456" y="1494588"/>
                  <a:pt x="1339913" y="1484768"/>
                </a:cubicBezTo>
                <a:cubicBezTo>
                  <a:pt x="1349634" y="1476436"/>
                  <a:pt x="1356421" y="1464710"/>
                  <a:pt x="1367074" y="1457608"/>
                </a:cubicBezTo>
                <a:cubicBezTo>
                  <a:pt x="1375218" y="1452179"/>
                  <a:pt x="1425161" y="1441012"/>
                  <a:pt x="1430448" y="1439501"/>
                </a:cubicBezTo>
                <a:cubicBezTo>
                  <a:pt x="1521365" y="1413524"/>
                  <a:pt x="1380611" y="1449695"/>
                  <a:pt x="1493822" y="1421394"/>
                </a:cubicBezTo>
                <a:cubicBezTo>
                  <a:pt x="1511929" y="1424412"/>
                  <a:pt x="1530223" y="1426465"/>
                  <a:pt x="1548143" y="1430447"/>
                </a:cubicBezTo>
                <a:cubicBezTo>
                  <a:pt x="1557459" y="1432517"/>
                  <a:pt x="1565760" y="1439501"/>
                  <a:pt x="1575303" y="1439501"/>
                </a:cubicBezTo>
                <a:cubicBezTo>
                  <a:pt x="1653824" y="1439501"/>
                  <a:pt x="1732230" y="1433465"/>
                  <a:pt x="1810693" y="1430447"/>
                </a:cubicBezTo>
                <a:cubicBezTo>
                  <a:pt x="1843990" y="1405475"/>
                  <a:pt x="1854990" y="1399893"/>
                  <a:pt x="1883121" y="1367073"/>
                </a:cubicBezTo>
                <a:cubicBezTo>
                  <a:pt x="1919777" y="1324308"/>
                  <a:pt x="1882641" y="1355072"/>
                  <a:pt x="1919335" y="1303699"/>
                </a:cubicBezTo>
                <a:cubicBezTo>
                  <a:pt x="1935179" y="1281517"/>
                  <a:pt x="1951997" y="1272870"/>
                  <a:pt x="1973656" y="1258431"/>
                </a:cubicBezTo>
                <a:cubicBezTo>
                  <a:pt x="1985727" y="1261449"/>
                  <a:pt x="1998384" y="1262699"/>
                  <a:pt x="2009870" y="1267485"/>
                </a:cubicBezTo>
                <a:cubicBezTo>
                  <a:pt x="2088107" y="1300085"/>
                  <a:pt x="2057653" y="1297951"/>
                  <a:pt x="2109458" y="1312752"/>
                </a:cubicBezTo>
                <a:cubicBezTo>
                  <a:pt x="2121422" y="1316170"/>
                  <a:pt x="2133257" y="1320978"/>
                  <a:pt x="2145672" y="1321806"/>
                </a:cubicBezTo>
                <a:cubicBezTo>
                  <a:pt x="2224019" y="1327029"/>
                  <a:pt x="2302599" y="1327841"/>
                  <a:pt x="2381062" y="1330859"/>
                </a:cubicBezTo>
                <a:cubicBezTo>
                  <a:pt x="2399233" y="1342973"/>
                  <a:pt x="2437106" y="1368845"/>
                  <a:pt x="2453489" y="1376126"/>
                </a:cubicBezTo>
                <a:cubicBezTo>
                  <a:pt x="2464859" y="1381180"/>
                  <a:pt x="2477632" y="1382162"/>
                  <a:pt x="2489703" y="1385180"/>
                </a:cubicBezTo>
                <a:cubicBezTo>
                  <a:pt x="2522899" y="1382162"/>
                  <a:pt x="2556698" y="1383110"/>
                  <a:pt x="2589291" y="1376126"/>
                </a:cubicBezTo>
                <a:cubicBezTo>
                  <a:pt x="2599931" y="1373846"/>
                  <a:pt x="2606509" y="1362438"/>
                  <a:pt x="2616452" y="1358019"/>
                </a:cubicBezTo>
                <a:cubicBezTo>
                  <a:pt x="2633893" y="1350268"/>
                  <a:pt x="2670773" y="1339913"/>
                  <a:pt x="2670773" y="1339913"/>
                </a:cubicBezTo>
                <a:cubicBezTo>
                  <a:pt x="2770360" y="1273520"/>
                  <a:pt x="2703365" y="1304906"/>
                  <a:pt x="2888056" y="1294645"/>
                </a:cubicBezTo>
                <a:cubicBezTo>
                  <a:pt x="2915624" y="1276266"/>
                  <a:pt x="2925533" y="1274012"/>
                  <a:pt x="2942377" y="1240324"/>
                </a:cubicBezTo>
                <a:cubicBezTo>
                  <a:pt x="2950913" y="1223253"/>
                  <a:pt x="2960483" y="1186004"/>
                  <a:pt x="2960483" y="1186004"/>
                </a:cubicBezTo>
                <a:cubicBezTo>
                  <a:pt x="2963501" y="1152808"/>
                  <a:pt x="2959734" y="1118275"/>
                  <a:pt x="2969537" y="1086416"/>
                </a:cubicBezTo>
                <a:cubicBezTo>
                  <a:pt x="2972737" y="1076016"/>
                  <a:pt x="2990661" y="1077362"/>
                  <a:pt x="2996697" y="1068309"/>
                </a:cubicBezTo>
                <a:cubicBezTo>
                  <a:pt x="3036349" y="1008831"/>
                  <a:pt x="2960653" y="1050089"/>
                  <a:pt x="3041965" y="995881"/>
                </a:cubicBezTo>
                <a:cubicBezTo>
                  <a:pt x="3055487" y="986866"/>
                  <a:pt x="3072696" y="985042"/>
                  <a:pt x="3087232" y="977774"/>
                </a:cubicBezTo>
                <a:cubicBezTo>
                  <a:pt x="3106379" y="968200"/>
                  <a:pt x="3134210" y="942755"/>
                  <a:pt x="3150606" y="932507"/>
                </a:cubicBezTo>
                <a:cubicBezTo>
                  <a:pt x="3214160" y="892786"/>
                  <a:pt x="3162204" y="939016"/>
                  <a:pt x="3213981" y="887239"/>
                </a:cubicBezTo>
                <a:cubicBezTo>
                  <a:pt x="3216999" y="878186"/>
                  <a:pt x="3223034" y="869622"/>
                  <a:pt x="3223034" y="860079"/>
                </a:cubicBezTo>
                <a:cubicBezTo>
                  <a:pt x="3223034" y="811963"/>
                  <a:pt x="3224077" y="727405"/>
                  <a:pt x="3204927" y="669956"/>
                </a:cubicBezTo>
                <a:cubicBezTo>
                  <a:pt x="3183867" y="606778"/>
                  <a:pt x="3192377" y="643693"/>
                  <a:pt x="3168713" y="588475"/>
                </a:cubicBezTo>
                <a:cubicBezTo>
                  <a:pt x="3145671" y="534711"/>
                  <a:pt x="3179960" y="588381"/>
                  <a:pt x="3132499" y="525101"/>
                </a:cubicBezTo>
                <a:cubicBezTo>
                  <a:pt x="3116589" y="477367"/>
                  <a:pt x="3133962" y="515993"/>
                  <a:pt x="3096285" y="470780"/>
                </a:cubicBezTo>
                <a:cubicBezTo>
                  <a:pt x="3089319" y="462421"/>
                  <a:pt x="3087626" y="449017"/>
                  <a:pt x="3078179" y="443619"/>
                </a:cubicBezTo>
                <a:cubicBezTo>
                  <a:pt x="3064818" y="435984"/>
                  <a:pt x="3047933" y="437904"/>
                  <a:pt x="3032911" y="434566"/>
                </a:cubicBezTo>
                <a:cubicBezTo>
                  <a:pt x="3020764" y="431867"/>
                  <a:pt x="3008768" y="428531"/>
                  <a:pt x="2996697" y="425513"/>
                </a:cubicBezTo>
                <a:cubicBezTo>
                  <a:pt x="2978590" y="413442"/>
                  <a:pt x="2959786" y="402356"/>
                  <a:pt x="2942377" y="389299"/>
                </a:cubicBezTo>
                <a:cubicBezTo>
                  <a:pt x="2930306" y="380245"/>
                  <a:pt x="2918718" y="370508"/>
                  <a:pt x="2906163" y="362138"/>
                </a:cubicBezTo>
                <a:cubicBezTo>
                  <a:pt x="2846838" y="322588"/>
                  <a:pt x="2869844" y="346216"/>
                  <a:pt x="2806575" y="298764"/>
                </a:cubicBezTo>
                <a:cubicBezTo>
                  <a:pt x="2787719" y="284622"/>
                  <a:pt x="2771434" y="267197"/>
                  <a:pt x="2752254" y="253497"/>
                </a:cubicBezTo>
                <a:cubicBezTo>
                  <a:pt x="2729087" y="236949"/>
                  <a:pt x="2703085" y="224647"/>
                  <a:pt x="2679826" y="208229"/>
                </a:cubicBezTo>
                <a:cubicBezTo>
                  <a:pt x="2569210" y="130147"/>
                  <a:pt x="2633036" y="160799"/>
                  <a:pt x="2525917" y="99588"/>
                </a:cubicBezTo>
                <a:cubicBezTo>
                  <a:pt x="2508340" y="89544"/>
                  <a:pt x="2489977" y="80911"/>
                  <a:pt x="2471596" y="72427"/>
                </a:cubicBezTo>
                <a:cubicBezTo>
                  <a:pt x="2421259" y="49195"/>
                  <a:pt x="2398554" y="39554"/>
                  <a:pt x="2344848" y="27160"/>
                </a:cubicBezTo>
                <a:cubicBezTo>
                  <a:pt x="2326961" y="23032"/>
                  <a:pt x="2308527" y="21707"/>
                  <a:pt x="2290527" y="18107"/>
                </a:cubicBezTo>
                <a:cubicBezTo>
                  <a:pt x="2262113" y="12424"/>
                  <a:pt x="2253035" y="8627"/>
                  <a:pt x="2227153" y="0"/>
                </a:cubicBezTo>
                <a:cubicBezTo>
                  <a:pt x="1651176" y="23998"/>
                  <a:pt x="2401712" y="-5049"/>
                  <a:pt x="1186004" y="18107"/>
                </a:cubicBezTo>
                <a:cubicBezTo>
                  <a:pt x="1144804" y="18892"/>
                  <a:pt x="1038205" y="27651"/>
                  <a:pt x="986828" y="36214"/>
                </a:cubicBezTo>
                <a:cubicBezTo>
                  <a:pt x="974554" y="38260"/>
                  <a:pt x="962761" y="42568"/>
                  <a:pt x="950614" y="45267"/>
                </a:cubicBezTo>
                <a:cubicBezTo>
                  <a:pt x="847216" y="68243"/>
                  <a:pt x="957415" y="41302"/>
                  <a:pt x="869133" y="63374"/>
                </a:cubicBezTo>
                <a:cubicBezTo>
                  <a:pt x="814092" y="100069"/>
                  <a:pt x="872573" y="65479"/>
                  <a:pt x="805759" y="90534"/>
                </a:cubicBezTo>
                <a:cubicBezTo>
                  <a:pt x="793122" y="95273"/>
                  <a:pt x="782182" y="103902"/>
                  <a:pt x="769545" y="108641"/>
                </a:cubicBezTo>
                <a:cubicBezTo>
                  <a:pt x="708301" y="131608"/>
                  <a:pt x="757232" y="104865"/>
                  <a:pt x="706171" y="126748"/>
                </a:cubicBezTo>
                <a:cubicBezTo>
                  <a:pt x="595080" y="174358"/>
                  <a:pt x="733709" y="117506"/>
                  <a:pt x="642796" y="162962"/>
                </a:cubicBezTo>
                <a:cubicBezTo>
                  <a:pt x="628260" y="170230"/>
                  <a:pt x="612802" y="175515"/>
                  <a:pt x="597529" y="181069"/>
                </a:cubicBezTo>
                <a:cubicBezTo>
                  <a:pt x="579592" y="187592"/>
                  <a:pt x="560279" y="190640"/>
                  <a:pt x="543208" y="199176"/>
                </a:cubicBezTo>
                <a:cubicBezTo>
                  <a:pt x="531137" y="205212"/>
                  <a:pt x="518712" y="210587"/>
                  <a:pt x="506994" y="217283"/>
                </a:cubicBezTo>
                <a:cubicBezTo>
                  <a:pt x="497547" y="222681"/>
                  <a:pt x="489566" y="230524"/>
                  <a:pt x="479834" y="235390"/>
                </a:cubicBezTo>
                <a:cubicBezTo>
                  <a:pt x="465298" y="242658"/>
                  <a:pt x="450246" y="249221"/>
                  <a:pt x="434567" y="253497"/>
                </a:cubicBezTo>
                <a:cubicBezTo>
                  <a:pt x="396309" y="263931"/>
                  <a:pt x="378847" y="258548"/>
                  <a:pt x="344032" y="271604"/>
                </a:cubicBezTo>
                <a:cubicBezTo>
                  <a:pt x="331395" y="276343"/>
                  <a:pt x="320151" y="284230"/>
                  <a:pt x="307818" y="289711"/>
                </a:cubicBezTo>
                <a:cubicBezTo>
                  <a:pt x="292967" y="296311"/>
                  <a:pt x="277640" y="301782"/>
                  <a:pt x="262551" y="307818"/>
                </a:cubicBezTo>
                <a:cubicBezTo>
                  <a:pt x="253497" y="316871"/>
                  <a:pt x="245809" y="327536"/>
                  <a:pt x="235390" y="334978"/>
                </a:cubicBezTo>
                <a:cubicBezTo>
                  <a:pt x="224408" y="342822"/>
                  <a:pt x="210895" y="346389"/>
                  <a:pt x="199177" y="353085"/>
                </a:cubicBezTo>
                <a:cubicBezTo>
                  <a:pt x="166431" y="371797"/>
                  <a:pt x="126797" y="407334"/>
                  <a:pt x="108642" y="434566"/>
                </a:cubicBezTo>
                <a:lnTo>
                  <a:pt x="72428" y="488887"/>
                </a:lnTo>
                <a:lnTo>
                  <a:pt x="54321" y="516047"/>
                </a:lnTo>
                <a:cubicBezTo>
                  <a:pt x="27426" y="596738"/>
                  <a:pt x="70445" y="469446"/>
                  <a:pt x="27161" y="588475"/>
                </a:cubicBezTo>
                <a:cubicBezTo>
                  <a:pt x="9529" y="636964"/>
                  <a:pt x="10809" y="635777"/>
                  <a:pt x="0" y="679010"/>
                </a:cubicBezTo>
                <a:cubicBezTo>
                  <a:pt x="4148" y="728787"/>
                  <a:pt x="-9364" y="778287"/>
                  <a:pt x="27161" y="814812"/>
                </a:cubicBezTo>
                <a:cubicBezTo>
                  <a:pt x="34855" y="822506"/>
                  <a:pt x="43859" y="829929"/>
                  <a:pt x="54321" y="832918"/>
                </a:cubicBezTo>
                <a:cubicBezTo>
                  <a:pt x="65928" y="836234"/>
                  <a:pt x="64883" y="849517"/>
                  <a:pt x="72428" y="878186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1" descr=""/>
          <p:cNvPicPr/>
          <p:nvPr/>
        </p:nvPicPr>
        <p:blipFill>
          <a:blip r:embed="rId3"/>
          <a:stretch/>
        </p:blipFill>
        <p:spPr>
          <a:xfrm>
            <a:off x="3305160" y="1496880"/>
            <a:ext cx="2052720" cy="3068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"/>
          <p:cNvPicPr/>
          <p:nvPr/>
        </p:nvPicPr>
        <p:blipFill>
          <a:blip r:embed="rId4"/>
          <a:stretch/>
        </p:blipFill>
        <p:spPr>
          <a:xfrm>
            <a:off x="5292720" y="1496880"/>
            <a:ext cx="2050920" cy="3068640"/>
          </a:xfrm>
          <a:prstGeom prst="rect">
            <a:avLst/>
          </a:prstGeom>
          <a:ln w="0">
            <a:noFill/>
          </a:ln>
        </p:spPr>
      </p:pic>
      <p:sp>
        <p:nvSpPr>
          <p:cNvPr id="303" name="Freeform 3"/>
          <p:cNvSpPr/>
          <p:nvPr/>
        </p:nvSpPr>
        <p:spPr>
          <a:xfrm>
            <a:off x="3168720" y="1131840"/>
            <a:ext cx="2363760" cy="2163960"/>
          </a:xfrm>
          <a:custGeom>
            <a:avLst/>
            <a:gdLst/>
            <a:ahLst/>
            <a:rect l="l" t="t" r="r" b="b"/>
            <a:pathLst>
              <a:path w="2362954" h="2163778">
                <a:moveTo>
                  <a:pt x="443620" y="135802"/>
                </a:moveTo>
                <a:cubicBezTo>
                  <a:pt x="430040" y="162962"/>
                  <a:pt x="387357" y="204721"/>
                  <a:pt x="362138" y="226337"/>
                </a:cubicBezTo>
                <a:cubicBezTo>
                  <a:pt x="350682" y="236157"/>
                  <a:pt x="337381" y="243677"/>
                  <a:pt x="325925" y="253497"/>
                </a:cubicBezTo>
                <a:cubicBezTo>
                  <a:pt x="316204" y="261830"/>
                  <a:pt x="309007" y="272976"/>
                  <a:pt x="298764" y="280658"/>
                </a:cubicBezTo>
                <a:cubicBezTo>
                  <a:pt x="281078" y="293922"/>
                  <a:pt x="245314" y="310111"/>
                  <a:pt x="226337" y="325925"/>
                </a:cubicBezTo>
                <a:cubicBezTo>
                  <a:pt x="216501" y="334122"/>
                  <a:pt x="209012" y="344888"/>
                  <a:pt x="199176" y="353085"/>
                </a:cubicBezTo>
                <a:cubicBezTo>
                  <a:pt x="190817" y="360051"/>
                  <a:pt x="180721" y="364664"/>
                  <a:pt x="172016" y="371192"/>
                </a:cubicBezTo>
                <a:cubicBezTo>
                  <a:pt x="156557" y="382786"/>
                  <a:pt x="142207" y="395812"/>
                  <a:pt x="126748" y="407406"/>
                </a:cubicBezTo>
                <a:cubicBezTo>
                  <a:pt x="118043" y="413934"/>
                  <a:pt x="107676" y="418234"/>
                  <a:pt x="99588" y="425513"/>
                </a:cubicBezTo>
                <a:cubicBezTo>
                  <a:pt x="64882" y="456749"/>
                  <a:pt x="39541" y="478537"/>
                  <a:pt x="18107" y="516048"/>
                </a:cubicBezTo>
                <a:cubicBezTo>
                  <a:pt x="11411" y="527766"/>
                  <a:pt x="6036" y="540191"/>
                  <a:pt x="0" y="552262"/>
                </a:cubicBezTo>
                <a:cubicBezTo>
                  <a:pt x="3018" y="639779"/>
                  <a:pt x="879" y="727626"/>
                  <a:pt x="9053" y="814812"/>
                </a:cubicBezTo>
                <a:cubicBezTo>
                  <a:pt x="10069" y="825645"/>
                  <a:pt x="22874" y="831971"/>
                  <a:pt x="27160" y="841972"/>
                </a:cubicBezTo>
                <a:cubicBezTo>
                  <a:pt x="32062" y="853409"/>
                  <a:pt x="31312" y="866749"/>
                  <a:pt x="36214" y="878186"/>
                </a:cubicBezTo>
                <a:cubicBezTo>
                  <a:pt x="48115" y="905955"/>
                  <a:pt x="62286" y="909473"/>
                  <a:pt x="81481" y="932507"/>
                </a:cubicBezTo>
                <a:cubicBezTo>
                  <a:pt x="128634" y="989091"/>
                  <a:pt x="56584" y="930997"/>
                  <a:pt x="153909" y="995881"/>
                </a:cubicBezTo>
                <a:cubicBezTo>
                  <a:pt x="162962" y="1001917"/>
                  <a:pt x="170298" y="1012449"/>
                  <a:pt x="181069" y="1013988"/>
                </a:cubicBezTo>
                <a:cubicBezTo>
                  <a:pt x="232348" y="1021314"/>
                  <a:pt x="237976" y="1019900"/>
                  <a:pt x="280657" y="1032095"/>
                </a:cubicBezTo>
                <a:cubicBezTo>
                  <a:pt x="289833" y="1034717"/>
                  <a:pt x="299282" y="1036881"/>
                  <a:pt x="307818" y="1041149"/>
                </a:cubicBezTo>
                <a:cubicBezTo>
                  <a:pt x="317550" y="1046015"/>
                  <a:pt x="325925" y="1053220"/>
                  <a:pt x="334978" y="1059256"/>
                </a:cubicBezTo>
                <a:cubicBezTo>
                  <a:pt x="341014" y="1071327"/>
                  <a:pt x="348073" y="1082938"/>
                  <a:pt x="353085" y="1095469"/>
                </a:cubicBezTo>
                <a:cubicBezTo>
                  <a:pt x="378694" y="1159492"/>
                  <a:pt x="364237" y="1132644"/>
                  <a:pt x="380245" y="1186004"/>
                </a:cubicBezTo>
                <a:cubicBezTo>
                  <a:pt x="385729" y="1204286"/>
                  <a:pt x="394609" y="1221609"/>
                  <a:pt x="398352" y="1240325"/>
                </a:cubicBezTo>
                <a:cubicBezTo>
                  <a:pt x="401370" y="1255414"/>
                  <a:pt x="403357" y="1270746"/>
                  <a:pt x="407406" y="1285592"/>
                </a:cubicBezTo>
                <a:cubicBezTo>
                  <a:pt x="412428" y="1304006"/>
                  <a:pt x="419477" y="1321806"/>
                  <a:pt x="425513" y="1339913"/>
                </a:cubicBezTo>
                <a:lnTo>
                  <a:pt x="434566" y="1367073"/>
                </a:lnTo>
                <a:cubicBezTo>
                  <a:pt x="431548" y="1388198"/>
                  <a:pt x="430688" y="1409746"/>
                  <a:pt x="425513" y="1430448"/>
                </a:cubicBezTo>
                <a:cubicBezTo>
                  <a:pt x="421572" y="1446214"/>
                  <a:pt x="414674" y="1461179"/>
                  <a:pt x="407406" y="1475715"/>
                </a:cubicBezTo>
                <a:cubicBezTo>
                  <a:pt x="385279" y="1519969"/>
                  <a:pt x="391623" y="1484524"/>
                  <a:pt x="380245" y="1530036"/>
                </a:cubicBezTo>
                <a:cubicBezTo>
                  <a:pt x="376513" y="1544964"/>
                  <a:pt x="375241" y="1560457"/>
                  <a:pt x="371192" y="1575303"/>
                </a:cubicBezTo>
                <a:cubicBezTo>
                  <a:pt x="366170" y="1593717"/>
                  <a:pt x="359121" y="1611517"/>
                  <a:pt x="353085" y="1629624"/>
                </a:cubicBezTo>
                <a:cubicBezTo>
                  <a:pt x="350067" y="1638677"/>
                  <a:pt x="345601" y="1647371"/>
                  <a:pt x="344032" y="1656784"/>
                </a:cubicBezTo>
                <a:cubicBezTo>
                  <a:pt x="341014" y="1674891"/>
                  <a:pt x="338262" y="1693044"/>
                  <a:pt x="334978" y="1711105"/>
                </a:cubicBezTo>
                <a:cubicBezTo>
                  <a:pt x="332225" y="1726245"/>
                  <a:pt x="328101" y="1741139"/>
                  <a:pt x="325925" y="1756372"/>
                </a:cubicBezTo>
                <a:cubicBezTo>
                  <a:pt x="322060" y="1783425"/>
                  <a:pt x="319889" y="1810693"/>
                  <a:pt x="316871" y="1837854"/>
                </a:cubicBezTo>
                <a:cubicBezTo>
                  <a:pt x="318598" y="1860307"/>
                  <a:pt x="315437" y="1943627"/>
                  <a:pt x="334978" y="1982709"/>
                </a:cubicBezTo>
                <a:cubicBezTo>
                  <a:pt x="347188" y="2007130"/>
                  <a:pt x="369500" y="2028759"/>
                  <a:pt x="389299" y="2046083"/>
                </a:cubicBezTo>
                <a:cubicBezTo>
                  <a:pt x="400655" y="2056019"/>
                  <a:pt x="411503" y="2067640"/>
                  <a:pt x="425513" y="2073244"/>
                </a:cubicBezTo>
                <a:cubicBezTo>
                  <a:pt x="442557" y="2080062"/>
                  <a:pt x="461834" y="2078697"/>
                  <a:pt x="479834" y="2082297"/>
                </a:cubicBezTo>
                <a:cubicBezTo>
                  <a:pt x="492035" y="2084737"/>
                  <a:pt x="504129" y="2087776"/>
                  <a:pt x="516047" y="2091351"/>
                </a:cubicBezTo>
                <a:cubicBezTo>
                  <a:pt x="615687" y="2121244"/>
                  <a:pt x="527440" y="2105556"/>
                  <a:pt x="669956" y="2118511"/>
                </a:cubicBezTo>
                <a:cubicBezTo>
                  <a:pt x="758238" y="2140583"/>
                  <a:pt x="648039" y="2113642"/>
                  <a:pt x="751437" y="2136618"/>
                </a:cubicBezTo>
                <a:cubicBezTo>
                  <a:pt x="763584" y="2139317"/>
                  <a:pt x="775333" y="2143911"/>
                  <a:pt x="787651" y="2145671"/>
                </a:cubicBezTo>
                <a:cubicBezTo>
                  <a:pt x="817675" y="2149960"/>
                  <a:pt x="848091" y="2150963"/>
                  <a:pt x="878186" y="2154725"/>
                </a:cubicBezTo>
                <a:cubicBezTo>
                  <a:pt x="896401" y="2157002"/>
                  <a:pt x="914400" y="2160760"/>
                  <a:pt x="932507" y="2163778"/>
                </a:cubicBezTo>
                <a:lnTo>
                  <a:pt x="1358020" y="2154725"/>
                </a:lnTo>
                <a:cubicBezTo>
                  <a:pt x="1391333" y="2153576"/>
                  <a:pt x="1424675" y="2150817"/>
                  <a:pt x="1457608" y="2145671"/>
                </a:cubicBezTo>
                <a:cubicBezTo>
                  <a:pt x="1521348" y="2135712"/>
                  <a:pt x="1585144" y="2125105"/>
                  <a:pt x="1647731" y="2109458"/>
                </a:cubicBezTo>
                <a:cubicBezTo>
                  <a:pt x="1683945" y="2100404"/>
                  <a:pt x="1719646" y="2088975"/>
                  <a:pt x="1756372" y="2082297"/>
                </a:cubicBezTo>
                <a:cubicBezTo>
                  <a:pt x="1786212" y="2076872"/>
                  <a:pt x="1816729" y="2076262"/>
                  <a:pt x="1846907" y="2073244"/>
                </a:cubicBezTo>
                <a:cubicBezTo>
                  <a:pt x="1853356" y="2071811"/>
                  <a:pt x="1962271" y="2046083"/>
                  <a:pt x="1982709" y="2046083"/>
                </a:cubicBezTo>
                <a:cubicBezTo>
                  <a:pt x="2028077" y="2046083"/>
                  <a:pt x="2073244" y="2052119"/>
                  <a:pt x="2118511" y="2055137"/>
                </a:cubicBezTo>
                <a:cubicBezTo>
                  <a:pt x="2159536" y="2053086"/>
                  <a:pt x="2276470" y="2078246"/>
                  <a:pt x="2326740" y="2027976"/>
                </a:cubicBezTo>
                <a:cubicBezTo>
                  <a:pt x="2334434" y="2020282"/>
                  <a:pt x="2339981" y="2010548"/>
                  <a:pt x="2344847" y="2000816"/>
                </a:cubicBezTo>
                <a:cubicBezTo>
                  <a:pt x="2352115" y="1986280"/>
                  <a:pt x="2356918" y="1970638"/>
                  <a:pt x="2362954" y="1955549"/>
                </a:cubicBezTo>
                <a:cubicBezTo>
                  <a:pt x="2356918" y="1910282"/>
                  <a:pt x="2357070" y="1863749"/>
                  <a:pt x="2344847" y="1819747"/>
                </a:cubicBezTo>
                <a:cubicBezTo>
                  <a:pt x="2341420" y="1807411"/>
                  <a:pt x="2326118" y="1802222"/>
                  <a:pt x="2317687" y="1792586"/>
                </a:cubicBezTo>
                <a:cubicBezTo>
                  <a:pt x="2304962" y="1778044"/>
                  <a:pt x="2296318" y="1759690"/>
                  <a:pt x="2281473" y="1747319"/>
                </a:cubicBezTo>
                <a:cubicBezTo>
                  <a:pt x="2241587" y="1714080"/>
                  <a:pt x="2194612" y="1690022"/>
                  <a:pt x="2154725" y="1656784"/>
                </a:cubicBezTo>
                <a:cubicBezTo>
                  <a:pt x="2136618" y="1641695"/>
                  <a:pt x="2119466" y="1625380"/>
                  <a:pt x="2100404" y="1611517"/>
                </a:cubicBezTo>
                <a:cubicBezTo>
                  <a:pt x="2041675" y="1568805"/>
                  <a:pt x="2069663" y="1601594"/>
                  <a:pt x="2018923" y="1557196"/>
                </a:cubicBezTo>
                <a:cubicBezTo>
                  <a:pt x="1984826" y="1527361"/>
                  <a:pt x="1981650" y="1519570"/>
                  <a:pt x="1955548" y="1484768"/>
                </a:cubicBezTo>
                <a:cubicBezTo>
                  <a:pt x="1952530" y="1475715"/>
                  <a:pt x="1950371" y="1466329"/>
                  <a:pt x="1946495" y="1457608"/>
                </a:cubicBezTo>
                <a:cubicBezTo>
                  <a:pt x="1938273" y="1439109"/>
                  <a:pt x="1925737" y="1422492"/>
                  <a:pt x="1919335" y="1403287"/>
                </a:cubicBezTo>
                <a:cubicBezTo>
                  <a:pt x="1913530" y="1385873"/>
                  <a:pt x="1914733" y="1366775"/>
                  <a:pt x="1910281" y="1348967"/>
                </a:cubicBezTo>
                <a:cubicBezTo>
                  <a:pt x="1899093" y="1304216"/>
                  <a:pt x="1892799" y="1295897"/>
                  <a:pt x="1874067" y="1258432"/>
                </a:cubicBezTo>
                <a:cubicBezTo>
                  <a:pt x="1871049" y="1246361"/>
                  <a:pt x="1867713" y="1234365"/>
                  <a:pt x="1865014" y="1222218"/>
                </a:cubicBezTo>
                <a:cubicBezTo>
                  <a:pt x="1861676" y="1207197"/>
                  <a:pt x="1859420" y="1191945"/>
                  <a:pt x="1855960" y="1176951"/>
                </a:cubicBezTo>
                <a:cubicBezTo>
                  <a:pt x="1850364" y="1152703"/>
                  <a:pt x="1837853" y="1104523"/>
                  <a:pt x="1837853" y="1104523"/>
                </a:cubicBezTo>
                <a:cubicBezTo>
                  <a:pt x="1830672" y="1047074"/>
                  <a:pt x="1819746" y="968988"/>
                  <a:pt x="1819746" y="914400"/>
                </a:cubicBezTo>
                <a:cubicBezTo>
                  <a:pt x="1819746" y="847939"/>
                  <a:pt x="1823703" y="781489"/>
                  <a:pt x="1828800" y="715224"/>
                </a:cubicBezTo>
                <a:cubicBezTo>
                  <a:pt x="1829754" y="702818"/>
                  <a:pt x="1834835" y="691081"/>
                  <a:pt x="1837853" y="679010"/>
                </a:cubicBezTo>
                <a:cubicBezTo>
                  <a:pt x="1834835" y="645814"/>
                  <a:pt x="1841491" y="610244"/>
                  <a:pt x="1828800" y="579422"/>
                </a:cubicBezTo>
                <a:cubicBezTo>
                  <a:pt x="1815297" y="546628"/>
                  <a:pt x="1775172" y="526889"/>
                  <a:pt x="1747319" y="506994"/>
                </a:cubicBezTo>
                <a:cubicBezTo>
                  <a:pt x="1735041" y="498224"/>
                  <a:pt x="1722461" y="489770"/>
                  <a:pt x="1711105" y="479834"/>
                </a:cubicBezTo>
                <a:cubicBezTo>
                  <a:pt x="1658228" y="433567"/>
                  <a:pt x="1696629" y="450866"/>
                  <a:pt x="1647731" y="434567"/>
                </a:cubicBezTo>
                <a:cubicBezTo>
                  <a:pt x="1638677" y="428531"/>
                  <a:pt x="1630571" y="420746"/>
                  <a:pt x="1620570" y="416460"/>
                </a:cubicBezTo>
                <a:cubicBezTo>
                  <a:pt x="1609133" y="411558"/>
                  <a:pt x="1596320" y="410824"/>
                  <a:pt x="1584356" y="407406"/>
                </a:cubicBezTo>
                <a:cubicBezTo>
                  <a:pt x="1575180" y="404784"/>
                  <a:pt x="1566249" y="401371"/>
                  <a:pt x="1557196" y="398353"/>
                </a:cubicBezTo>
                <a:cubicBezTo>
                  <a:pt x="1548143" y="392317"/>
                  <a:pt x="1539979" y="384665"/>
                  <a:pt x="1530036" y="380246"/>
                </a:cubicBezTo>
                <a:cubicBezTo>
                  <a:pt x="1433472" y="337328"/>
                  <a:pt x="1513603" y="385201"/>
                  <a:pt x="1439501" y="344032"/>
                </a:cubicBezTo>
                <a:cubicBezTo>
                  <a:pt x="1424119" y="335486"/>
                  <a:pt x="1409973" y="324741"/>
                  <a:pt x="1394234" y="316871"/>
                </a:cubicBezTo>
                <a:cubicBezTo>
                  <a:pt x="1385698" y="312603"/>
                  <a:pt x="1375845" y="311577"/>
                  <a:pt x="1367073" y="307818"/>
                </a:cubicBezTo>
                <a:cubicBezTo>
                  <a:pt x="1218660" y="244214"/>
                  <a:pt x="1416962" y="323132"/>
                  <a:pt x="1303699" y="280658"/>
                </a:cubicBezTo>
                <a:cubicBezTo>
                  <a:pt x="1203822" y="243204"/>
                  <a:pt x="1307165" y="277767"/>
                  <a:pt x="1222218" y="253497"/>
                </a:cubicBezTo>
                <a:cubicBezTo>
                  <a:pt x="1213042" y="250875"/>
                  <a:pt x="1204567" y="245237"/>
                  <a:pt x="1195057" y="244444"/>
                </a:cubicBezTo>
                <a:cubicBezTo>
                  <a:pt x="1131830" y="239175"/>
                  <a:pt x="1068309" y="238408"/>
                  <a:pt x="1004935" y="235390"/>
                </a:cubicBezTo>
                <a:cubicBezTo>
                  <a:pt x="900022" y="200419"/>
                  <a:pt x="1002823" y="236357"/>
                  <a:pt x="887239" y="190123"/>
                </a:cubicBezTo>
                <a:cubicBezTo>
                  <a:pt x="812604" y="160269"/>
                  <a:pt x="923533" y="211282"/>
                  <a:pt x="814812" y="162963"/>
                </a:cubicBezTo>
                <a:cubicBezTo>
                  <a:pt x="753266" y="135610"/>
                  <a:pt x="802405" y="155874"/>
                  <a:pt x="751437" y="126749"/>
                </a:cubicBezTo>
                <a:cubicBezTo>
                  <a:pt x="739719" y="120053"/>
                  <a:pt x="726942" y="115338"/>
                  <a:pt x="715224" y="108642"/>
                </a:cubicBezTo>
                <a:cubicBezTo>
                  <a:pt x="705777" y="103243"/>
                  <a:pt x="697510" y="95934"/>
                  <a:pt x="688063" y="90535"/>
                </a:cubicBezTo>
                <a:cubicBezTo>
                  <a:pt x="590629" y="34859"/>
                  <a:pt x="730407" y="124800"/>
                  <a:pt x="597529" y="36214"/>
                </a:cubicBezTo>
                <a:lnTo>
                  <a:pt x="570368" y="18107"/>
                </a:lnTo>
                <a:lnTo>
                  <a:pt x="543208" y="0"/>
                </a:lnTo>
                <a:cubicBezTo>
                  <a:pt x="525101" y="3018"/>
                  <a:pt x="506302" y="3249"/>
                  <a:pt x="488887" y="9054"/>
                </a:cubicBezTo>
                <a:cubicBezTo>
                  <a:pt x="465147" y="16968"/>
                  <a:pt x="448423" y="39358"/>
                  <a:pt x="443620" y="63374"/>
                </a:cubicBezTo>
                <a:cubicBezTo>
                  <a:pt x="440069" y="81129"/>
                  <a:pt x="457200" y="108642"/>
                  <a:pt x="443620" y="135802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307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9" name="Picture 1" descr=""/>
          <p:cNvPicPr/>
          <p:nvPr/>
        </p:nvPicPr>
        <p:blipFill>
          <a:blip r:embed="rId3"/>
          <a:stretch/>
        </p:blipFill>
        <p:spPr>
          <a:xfrm>
            <a:off x="3305160" y="1496880"/>
            <a:ext cx="2052720" cy="3068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"/>
          <p:cNvPicPr/>
          <p:nvPr/>
        </p:nvPicPr>
        <p:blipFill>
          <a:blip r:embed="rId4"/>
          <a:stretch/>
        </p:blipFill>
        <p:spPr>
          <a:xfrm>
            <a:off x="5292720" y="1496880"/>
            <a:ext cx="2050920" cy="3068640"/>
          </a:xfrm>
          <a:prstGeom prst="rect">
            <a:avLst/>
          </a:prstGeom>
          <a:ln w="0">
            <a:noFill/>
          </a:ln>
        </p:spPr>
      </p:pic>
      <p:sp>
        <p:nvSpPr>
          <p:cNvPr id="311" name="Freeform 3"/>
          <p:cNvSpPr/>
          <p:nvPr/>
        </p:nvSpPr>
        <p:spPr>
          <a:xfrm>
            <a:off x="3168720" y="1131840"/>
            <a:ext cx="2363760" cy="2163960"/>
          </a:xfrm>
          <a:custGeom>
            <a:avLst/>
            <a:gdLst/>
            <a:ahLst/>
            <a:rect l="l" t="t" r="r" b="b"/>
            <a:pathLst>
              <a:path w="2362954" h="2163778">
                <a:moveTo>
                  <a:pt x="443620" y="135802"/>
                </a:moveTo>
                <a:cubicBezTo>
                  <a:pt x="430040" y="162962"/>
                  <a:pt x="387357" y="204721"/>
                  <a:pt x="362138" y="226337"/>
                </a:cubicBezTo>
                <a:cubicBezTo>
                  <a:pt x="350682" y="236157"/>
                  <a:pt x="337381" y="243677"/>
                  <a:pt x="325925" y="253497"/>
                </a:cubicBezTo>
                <a:cubicBezTo>
                  <a:pt x="316204" y="261830"/>
                  <a:pt x="309007" y="272976"/>
                  <a:pt x="298764" y="280658"/>
                </a:cubicBezTo>
                <a:cubicBezTo>
                  <a:pt x="281078" y="293922"/>
                  <a:pt x="245314" y="310111"/>
                  <a:pt x="226337" y="325925"/>
                </a:cubicBezTo>
                <a:cubicBezTo>
                  <a:pt x="216501" y="334122"/>
                  <a:pt x="209012" y="344888"/>
                  <a:pt x="199176" y="353085"/>
                </a:cubicBezTo>
                <a:cubicBezTo>
                  <a:pt x="190817" y="360051"/>
                  <a:pt x="180721" y="364664"/>
                  <a:pt x="172016" y="371192"/>
                </a:cubicBezTo>
                <a:cubicBezTo>
                  <a:pt x="156557" y="382786"/>
                  <a:pt x="142207" y="395812"/>
                  <a:pt x="126748" y="407406"/>
                </a:cubicBezTo>
                <a:cubicBezTo>
                  <a:pt x="118043" y="413934"/>
                  <a:pt x="107676" y="418234"/>
                  <a:pt x="99588" y="425513"/>
                </a:cubicBezTo>
                <a:cubicBezTo>
                  <a:pt x="64882" y="456749"/>
                  <a:pt x="39541" y="478537"/>
                  <a:pt x="18107" y="516048"/>
                </a:cubicBezTo>
                <a:cubicBezTo>
                  <a:pt x="11411" y="527766"/>
                  <a:pt x="6036" y="540191"/>
                  <a:pt x="0" y="552262"/>
                </a:cubicBezTo>
                <a:cubicBezTo>
                  <a:pt x="3018" y="639779"/>
                  <a:pt x="879" y="727626"/>
                  <a:pt x="9053" y="814812"/>
                </a:cubicBezTo>
                <a:cubicBezTo>
                  <a:pt x="10069" y="825645"/>
                  <a:pt x="22874" y="831971"/>
                  <a:pt x="27160" y="841972"/>
                </a:cubicBezTo>
                <a:cubicBezTo>
                  <a:pt x="32062" y="853409"/>
                  <a:pt x="31312" y="866749"/>
                  <a:pt x="36214" y="878186"/>
                </a:cubicBezTo>
                <a:cubicBezTo>
                  <a:pt x="48115" y="905955"/>
                  <a:pt x="62286" y="909473"/>
                  <a:pt x="81481" y="932507"/>
                </a:cubicBezTo>
                <a:cubicBezTo>
                  <a:pt x="128634" y="989091"/>
                  <a:pt x="56584" y="930997"/>
                  <a:pt x="153909" y="995881"/>
                </a:cubicBezTo>
                <a:cubicBezTo>
                  <a:pt x="162962" y="1001917"/>
                  <a:pt x="170298" y="1012449"/>
                  <a:pt x="181069" y="1013988"/>
                </a:cubicBezTo>
                <a:cubicBezTo>
                  <a:pt x="232348" y="1021314"/>
                  <a:pt x="237976" y="1019900"/>
                  <a:pt x="280657" y="1032095"/>
                </a:cubicBezTo>
                <a:cubicBezTo>
                  <a:pt x="289833" y="1034717"/>
                  <a:pt x="299282" y="1036881"/>
                  <a:pt x="307818" y="1041149"/>
                </a:cubicBezTo>
                <a:cubicBezTo>
                  <a:pt x="317550" y="1046015"/>
                  <a:pt x="325925" y="1053220"/>
                  <a:pt x="334978" y="1059256"/>
                </a:cubicBezTo>
                <a:cubicBezTo>
                  <a:pt x="341014" y="1071327"/>
                  <a:pt x="348073" y="1082938"/>
                  <a:pt x="353085" y="1095469"/>
                </a:cubicBezTo>
                <a:cubicBezTo>
                  <a:pt x="378694" y="1159492"/>
                  <a:pt x="364237" y="1132644"/>
                  <a:pt x="380245" y="1186004"/>
                </a:cubicBezTo>
                <a:cubicBezTo>
                  <a:pt x="385729" y="1204286"/>
                  <a:pt x="394609" y="1221609"/>
                  <a:pt x="398352" y="1240325"/>
                </a:cubicBezTo>
                <a:cubicBezTo>
                  <a:pt x="401370" y="1255414"/>
                  <a:pt x="403357" y="1270746"/>
                  <a:pt x="407406" y="1285592"/>
                </a:cubicBezTo>
                <a:cubicBezTo>
                  <a:pt x="412428" y="1304006"/>
                  <a:pt x="419477" y="1321806"/>
                  <a:pt x="425513" y="1339913"/>
                </a:cubicBezTo>
                <a:lnTo>
                  <a:pt x="434566" y="1367073"/>
                </a:lnTo>
                <a:cubicBezTo>
                  <a:pt x="431548" y="1388198"/>
                  <a:pt x="430688" y="1409746"/>
                  <a:pt x="425513" y="1430448"/>
                </a:cubicBezTo>
                <a:cubicBezTo>
                  <a:pt x="421572" y="1446214"/>
                  <a:pt x="414674" y="1461179"/>
                  <a:pt x="407406" y="1475715"/>
                </a:cubicBezTo>
                <a:cubicBezTo>
                  <a:pt x="385279" y="1519969"/>
                  <a:pt x="391623" y="1484524"/>
                  <a:pt x="380245" y="1530036"/>
                </a:cubicBezTo>
                <a:cubicBezTo>
                  <a:pt x="376513" y="1544964"/>
                  <a:pt x="375241" y="1560457"/>
                  <a:pt x="371192" y="1575303"/>
                </a:cubicBezTo>
                <a:cubicBezTo>
                  <a:pt x="366170" y="1593717"/>
                  <a:pt x="359121" y="1611517"/>
                  <a:pt x="353085" y="1629624"/>
                </a:cubicBezTo>
                <a:cubicBezTo>
                  <a:pt x="350067" y="1638677"/>
                  <a:pt x="345601" y="1647371"/>
                  <a:pt x="344032" y="1656784"/>
                </a:cubicBezTo>
                <a:cubicBezTo>
                  <a:pt x="341014" y="1674891"/>
                  <a:pt x="338262" y="1693044"/>
                  <a:pt x="334978" y="1711105"/>
                </a:cubicBezTo>
                <a:cubicBezTo>
                  <a:pt x="332225" y="1726245"/>
                  <a:pt x="328101" y="1741139"/>
                  <a:pt x="325925" y="1756372"/>
                </a:cubicBezTo>
                <a:cubicBezTo>
                  <a:pt x="322060" y="1783425"/>
                  <a:pt x="319889" y="1810693"/>
                  <a:pt x="316871" y="1837854"/>
                </a:cubicBezTo>
                <a:cubicBezTo>
                  <a:pt x="318598" y="1860307"/>
                  <a:pt x="315437" y="1943627"/>
                  <a:pt x="334978" y="1982709"/>
                </a:cubicBezTo>
                <a:cubicBezTo>
                  <a:pt x="347188" y="2007130"/>
                  <a:pt x="369500" y="2028759"/>
                  <a:pt x="389299" y="2046083"/>
                </a:cubicBezTo>
                <a:cubicBezTo>
                  <a:pt x="400655" y="2056019"/>
                  <a:pt x="411503" y="2067640"/>
                  <a:pt x="425513" y="2073244"/>
                </a:cubicBezTo>
                <a:cubicBezTo>
                  <a:pt x="442557" y="2080062"/>
                  <a:pt x="461834" y="2078697"/>
                  <a:pt x="479834" y="2082297"/>
                </a:cubicBezTo>
                <a:cubicBezTo>
                  <a:pt x="492035" y="2084737"/>
                  <a:pt x="504129" y="2087776"/>
                  <a:pt x="516047" y="2091351"/>
                </a:cubicBezTo>
                <a:cubicBezTo>
                  <a:pt x="615687" y="2121244"/>
                  <a:pt x="527440" y="2105556"/>
                  <a:pt x="669956" y="2118511"/>
                </a:cubicBezTo>
                <a:cubicBezTo>
                  <a:pt x="758238" y="2140583"/>
                  <a:pt x="648039" y="2113642"/>
                  <a:pt x="751437" y="2136618"/>
                </a:cubicBezTo>
                <a:cubicBezTo>
                  <a:pt x="763584" y="2139317"/>
                  <a:pt x="775333" y="2143911"/>
                  <a:pt x="787651" y="2145671"/>
                </a:cubicBezTo>
                <a:cubicBezTo>
                  <a:pt x="817675" y="2149960"/>
                  <a:pt x="848091" y="2150963"/>
                  <a:pt x="878186" y="2154725"/>
                </a:cubicBezTo>
                <a:cubicBezTo>
                  <a:pt x="896401" y="2157002"/>
                  <a:pt x="914400" y="2160760"/>
                  <a:pt x="932507" y="2163778"/>
                </a:cubicBezTo>
                <a:lnTo>
                  <a:pt x="1358020" y="2154725"/>
                </a:lnTo>
                <a:cubicBezTo>
                  <a:pt x="1391333" y="2153576"/>
                  <a:pt x="1424675" y="2150817"/>
                  <a:pt x="1457608" y="2145671"/>
                </a:cubicBezTo>
                <a:cubicBezTo>
                  <a:pt x="1521348" y="2135712"/>
                  <a:pt x="1585144" y="2125105"/>
                  <a:pt x="1647731" y="2109458"/>
                </a:cubicBezTo>
                <a:cubicBezTo>
                  <a:pt x="1683945" y="2100404"/>
                  <a:pt x="1719646" y="2088975"/>
                  <a:pt x="1756372" y="2082297"/>
                </a:cubicBezTo>
                <a:cubicBezTo>
                  <a:pt x="1786212" y="2076872"/>
                  <a:pt x="1816729" y="2076262"/>
                  <a:pt x="1846907" y="2073244"/>
                </a:cubicBezTo>
                <a:cubicBezTo>
                  <a:pt x="1853356" y="2071811"/>
                  <a:pt x="1962271" y="2046083"/>
                  <a:pt x="1982709" y="2046083"/>
                </a:cubicBezTo>
                <a:cubicBezTo>
                  <a:pt x="2028077" y="2046083"/>
                  <a:pt x="2073244" y="2052119"/>
                  <a:pt x="2118511" y="2055137"/>
                </a:cubicBezTo>
                <a:cubicBezTo>
                  <a:pt x="2159536" y="2053086"/>
                  <a:pt x="2276470" y="2078246"/>
                  <a:pt x="2326740" y="2027976"/>
                </a:cubicBezTo>
                <a:cubicBezTo>
                  <a:pt x="2334434" y="2020282"/>
                  <a:pt x="2339981" y="2010548"/>
                  <a:pt x="2344847" y="2000816"/>
                </a:cubicBezTo>
                <a:cubicBezTo>
                  <a:pt x="2352115" y="1986280"/>
                  <a:pt x="2356918" y="1970638"/>
                  <a:pt x="2362954" y="1955549"/>
                </a:cubicBezTo>
                <a:cubicBezTo>
                  <a:pt x="2356918" y="1910282"/>
                  <a:pt x="2357070" y="1863749"/>
                  <a:pt x="2344847" y="1819747"/>
                </a:cubicBezTo>
                <a:cubicBezTo>
                  <a:pt x="2341420" y="1807411"/>
                  <a:pt x="2326118" y="1802222"/>
                  <a:pt x="2317687" y="1792586"/>
                </a:cubicBezTo>
                <a:cubicBezTo>
                  <a:pt x="2304962" y="1778044"/>
                  <a:pt x="2296318" y="1759690"/>
                  <a:pt x="2281473" y="1747319"/>
                </a:cubicBezTo>
                <a:cubicBezTo>
                  <a:pt x="2241587" y="1714080"/>
                  <a:pt x="2194612" y="1690022"/>
                  <a:pt x="2154725" y="1656784"/>
                </a:cubicBezTo>
                <a:cubicBezTo>
                  <a:pt x="2136618" y="1641695"/>
                  <a:pt x="2119466" y="1625380"/>
                  <a:pt x="2100404" y="1611517"/>
                </a:cubicBezTo>
                <a:cubicBezTo>
                  <a:pt x="2041675" y="1568805"/>
                  <a:pt x="2069663" y="1601594"/>
                  <a:pt x="2018923" y="1557196"/>
                </a:cubicBezTo>
                <a:cubicBezTo>
                  <a:pt x="1984826" y="1527361"/>
                  <a:pt x="1981650" y="1519570"/>
                  <a:pt x="1955548" y="1484768"/>
                </a:cubicBezTo>
                <a:cubicBezTo>
                  <a:pt x="1952530" y="1475715"/>
                  <a:pt x="1950371" y="1466329"/>
                  <a:pt x="1946495" y="1457608"/>
                </a:cubicBezTo>
                <a:cubicBezTo>
                  <a:pt x="1938273" y="1439109"/>
                  <a:pt x="1925737" y="1422492"/>
                  <a:pt x="1919335" y="1403287"/>
                </a:cubicBezTo>
                <a:cubicBezTo>
                  <a:pt x="1913530" y="1385873"/>
                  <a:pt x="1914733" y="1366775"/>
                  <a:pt x="1910281" y="1348967"/>
                </a:cubicBezTo>
                <a:cubicBezTo>
                  <a:pt x="1899093" y="1304216"/>
                  <a:pt x="1892799" y="1295897"/>
                  <a:pt x="1874067" y="1258432"/>
                </a:cubicBezTo>
                <a:cubicBezTo>
                  <a:pt x="1871049" y="1246361"/>
                  <a:pt x="1867713" y="1234365"/>
                  <a:pt x="1865014" y="1222218"/>
                </a:cubicBezTo>
                <a:cubicBezTo>
                  <a:pt x="1861676" y="1207197"/>
                  <a:pt x="1859420" y="1191945"/>
                  <a:pt x="1855960" y="1176951"/>
                </a:cubicBezTo>
                <a:cubicBezTo>
                  <a:pt x="1850364" y="1152703"/>
                  <a:pt x="1837853" y="1104523"/>
                  <a:pt x="1837853" y="1104523"/>
                </a:cubicBezTo>
                <a:cubicBezTo>
                  <a:pt x="1830672" y="1047074"/>
                  <a:pt x="1819746" y="968988"/>
                  <a:pt x="1819746" y="914400"/>
                </a:cubicBezTo>
                <a:cubicBezTo>
                  <a:pt x="1819746" y="847939"/>
                  <a:pt x="1823703" y="781489"/>
                  <a:pt x="1828800" y="715224"/>
                </a:cubicBezTo>
                <a:cubicBezTo>
                  <a:pt x="1829754" y="702818"/>
                  <a:pt x="1834835" y="691081"/>
                  <a:pt x="1837853" y="679010"/>
                </a:cubicBezTo>
                <a:cubicBezTo>
                  <a:pt x="1834835" y="645814"/>
                  <a:pt x="1841491" y="610244"/>
                  <a:pt x="1828800" y="579422"/>
                </a:cubicBezTo>
                <a:cubicBezTo>
                  <a:pt x="1815297" y="546628"/>
                  <a:pt x="1775172" y="526889"/>
                  <a:pt x="1747319" y="506994"/>
                </a:cubicBezTo>
                <a:cubicBezTo>
                  <a:pt x="1735041" y="498224"/>
                  <a:pt x="1722461" y="489770"/>
                  <a:pt x="1711105" y="479834"/>
                </a:cubicBezTo>
                <a:cubicBezTo>
                  <a:pt x="1658228" y="433567"/>
                  <a:pt x="1696629" y="450866"/>
                  <a:pt x="1647731" y="434567"/>
                </a:cubicBezTo>
                <a:cubicBezTo>
                  <a:pt x="1638677" y="428531"/>
                  <a:pt x="1630571" y="420746"/>
                  <a:pt x="1620570" y="416460"/>
                </a:cubicBezTo>
                <a:cubicBezTo>
                  <a:pt x="1609133" y="411558"/>
                  <a:pt x="1596320" y="410824"/>
                  <a:pt x="1584356" y="407406"/>
                </a:cubicBezTo>
                <a:cubicBezTo>
                  <a:pt x="1575180" y="404784"/>
                  <a:pt x="1566249" y="401371"/>
                  <a:pt x="1557196" y="398353"/>
                </a:cubicBezTo>
                <a:cubicBezTo>
                  <a:pt x="1548143" y="392317"/>
                  <a:pt x="1539979" y="384665"/>
                  <a:pt x="1530036" y="380246"/>
                </a:cubicBezTo>
                <a:cubicBezTo>
                  <a:pt x="1433472" y="337328"/>
                  <a:pt x="1513603" y="385201"/>
                  <a:pt x="1439501" y="344032"/>
                </a:cubicBezTo>
                <a:cubicBezTo>
                  <a:pt x="1424119" y="335486"/>
                  <a:pt x="1409973" y="324741"/>
                  <a:pt x="1394234" y="316871"/>
                </a:cubicBezTo>
                <a:cubicBezTo>
                  <a:pt x="1385698" y="312603"/>
                  <a:pt x="1375845" y="311577"/>
                  <a:pt x="1367073" y="307818"/>
                </a:cubicBezTo>
                <a:cubicBezTo>
                  <a:pt x="1218660" y="244214"/>
                  <a:pt x="1416962" y="323132"/>
                  <a:pt x="1303699" y="280658"/>
                </a:cubicBezTo>
                <a:cubicBezTo>
                  <a:pt x="1203822" y="243204"/>
                  <a:pt x="1307165" y="277767"/>
                  <a:pt x="1222218" y="253497"/>
                </a:cubicBezTo>
                <a:cubicBezTo>
                  <a:pt x="1213042" y="250875"/>
                  <a:pt x="1204567" y="245237"/>
                  <a:pt x="1195057" y="244444"/>
                </a:cubicBezTo>
                <a:cubicBezTo>
                  <a:pt x="1131830" y="239175"/>
                  <a:pt x="1068309" y="238408"/>
                  <a:pt x="1004935" y="235390"/>
                </a:cubicBezTo>
                <a:cubicBezTo>
                  <a:pt x="900022" y="200419"/>
                  <a:pt x="1002823" y="236357"/>
                  <a:pt x="887239" y="190123"/>
                </a:cubicBezTo>
                <a:cubicBezTo>
                  <a:pt x="812604" y="160269"/>
                  <a:pt x="923533" y="211282"/>
                  <a:pt x="814812" y="162963"/>
                </a:cubicBezTo>
                <a:cubicBezTo>
                  <a:pt x="753266" y="135610"/>
                  <a:pt x="802405" y="155874"/>
                  <a:pt x="751437" y="126749"/>
                </a:cubicBezTo>
                <a:cubicBezTo>
                  <a:pt x="739719" y="120053"/>
                  <a:pt x="726942" y="115338"/>
                  <a:pt x="715224" y="108642"/>
                </a:cubicBezTo>
                <a:cubicBezTo>
                  <a:pt x="705777" y="103243"/>
                  <a:pt x="697510" y="95934"/>
                  <a:pt x="688063" y="90535"/>
                </a:cubicBezTo>
                <a:cubicBezTo>
                  <a:pt x="590629" y="34859"/>
                  <a:pt x="730407" y="124800"/>
                  <a:pt x="597529" y="36214"/>
                </a:cubicBezTo>
                <a:lnTo>
                  <a:pt x="570368" y="18107"/>
                </a:lnTo>
                <a:lnTo>
                  <a:pt x="543208" y="0"/>
                </a:lnTo>
                <a:cubicBezTo>
                  <a:pt x="525101" y="3018"/>
                  <a:pt x="506302" y="3249"/>
                  <a:pt x="488887" y="9054"/>
                </a:cubicBezTo>
                <a:cubicBezTo>
                  <a:pt x="465147" y="16968"/>
                  <a:pt x="448423" y="39358"/>
                  <a:pt x="443620" y="63374"/>
                </a:cubicBezTo>
                <a:cubicBezTo>
                  <a:pt x="440069" y="81129"/>
                  <a:pt x="457200" y="108642"/>
                  <a:pt x="443620" y="135802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Freeform 7"/>
          <p:cNvSpPr/>
          <p:nvPr/>
        </p:nvSpPr>
        <p:spPr>
          <a:xfrm>
            <a:off x="3195720" y="1158840"/>
            <a:ext cx="5137200" cy="3043440"/>
          </a:xfrm>
          <a:custGeom>
            <a:avLst/>
            <a:gdLst/>
            <a:ahLst/>
            <a:rect l="l" t="t" r="r" b="b"/>
            <a:pathLst>
              <a:path w="5136406" h="3042896">
                <a:moveTo>
                  <a:pt x="4227969" y="3005750"/>
                </a:moveTo>
                <a:cubicBezTo>
                  <a:pt x="4212880" y="2996697"/>
                  <a:pt x="4196779" y="2989148"/>
                  <a:pt x="4182701" y="2978590"/>
                </a:cubicBezTo>
                <a:cubicBezTo>
                  <a:pt x="4172458" y="2970908"/>
                  <a:pt x="4166658" y="2957781"/>
                  <a:pt x="4155541" y="2951429"/>
                </a:cubicBezTo>
                <a:cubicBezTo>
                  <a:pt x="4144738" y="2945256"/>
                  <a:pt x="4131398" y="2945394"/>
                  <a:pt x="4119327" y="2942376"/>
                </a:cubicBezTo>
                <a:cubicBezTo>
                  <a:pt x="3958113" y="2781162"/>
                  <a:pt x="4142192" y="2960119"/>
                  <a:pt x="4028792" y="2860895"/>
                </a:cubicBezTo>
                <a:cubicBezTo>
                  <a:pt x="4015944" y="2849653"/>
                  <a:pt x="4006470" y="2834604"/>
                  <a:pt x="3992578" y="2824681"/>
                </a:cubicBezTo>
                <a:cubicBezTo>
                  <a:pt x="3986397" y="2820266"/>
                  <a:pt x="3931932" y="2806762"/>
                  <a:pt x="3929204" y="2806574"/>
                </a:cubicBezTo>
                <a:cubicBezTo>
                  <a:pt x="3853877" y="2801379"/>
                  <a:pt x="3778313" y="2800538"/>
                  <a:pt x="3702868" y="2797520"/>
                </a:cubicBezTo>
                <a:cubicBezTo>
                  <a:pt x="3654583" y="2791484"/>
                  <a:pt x="3605220" y="2791214"/>
                  <a:pt x="3558012" y="2779413"/>
                </a:cubicBezTo>
                <a:cubicBezTo>
                  <a:pt x="3444801" y="2751112"/>
                  <a:pt x="3585555" y="2787283"/>
                  <a:pt x="3494638" y="2761306"/>
                </a:cubicBezTo>
                <a:cubicBezTo>
                  <a:pt x="3482674" y="2757888"/>
                  <a:pt x="3470228" y="2756188"/>
                  <a:pt x="3458424" y="2752253"/>
                </a:cubicBezTo>
                <a:cubicBezTo>
                  <a:pt x="3443007" y="2747114"/>
                  <a:pt x="3428923" y="2738087"/>
                  <a:pt x="3413157" y="2734146"/>
                </a:cubicBezTo>
                <a:cubicBezTo>
                  <a:pt x="3392455" y="2728971"/>
                  <a:pt x="3370907" y="2728111"/>
                  <a:pt x="3349782" y="2725093"/>
                </a:cubicBezTo>
                <a:cubicBezTo>
                  <a:pt x="3314674" y="2713390"/>
                  <a:pt x="3291042" y="2704740"/>
                  <a:pt x="3250194" y="2697932"/>
                </a:cubicBezTo>
                <a:lnTo>
                  <a:pt x="3195874" y="2688879"/>
                </a:lnTo>
                <a:cubicBezTo>
                  <a:pt x="3186820" y="2685861"/>
                  <a:pt x="3177649" y="2683176"/>
                  <a:pt x="3168713" y="2679825"/>
                </a:cubicBezTo>
                <a:cubicBezTo>
                  <a:pt x="3153496" y="2674119"/>
                  <a:pt x="3139125" y="2665994"/>
                  <a:pt x="3123446" y="2661718"/>
                </a:cubicBezTo>
                <a:cubicBezTo>
                  <a:pt x="3090358" y="2652694"/>
                  <a:pt x="2989147" y="2644324"/>
                  <a:pt x="2969537" y="2643611"/>
                </a:cubicBezTo>
                <a:cubicBezTo>
                  <a:pt x="2836806" y="2638784"/>
                  <a:pt x="2703968" y="2637576"/>
                  <a:pt x="2571184" y="2634558"/>
                </a:cubicBezTo>
                <a:cubicBezTo>
                  <a:pt x="2547042" y="2628522"/>
                  <a:pt x="2521863" y="2625693"/>
                  <a:pt x="2498757" y="2616451"/>
                </a:cubicBezTo>
                <a:cubicBezTo>
                  <a:pt x="2483668" y="2610415"/>
                  <a:pt x="2469168" y="2602620"/>
                  <a:pt x="2453489" y="2598344"/>
                </a:cubicBezTo>
                <a:cubicBezTo>
                  <a:pt x="2415232" y="2587910"/>
                  <a:pt x="2397769" y="2593293"/>
                  <a:pt x="2362955" y="2580237"/>
                </a:cubicBezTo>
                <a:cubicBezTo>
                  <a:pt x="2350318" y="2575498"/>
                  <a:pt x="2339545" y="2566398"/>
                  <a:pt x="2326741" y="2562130"/>
                </a:cubicBezTo>
                <a:cubicBezTo>
                  <a:pt x="2326721" y="2562123"/>
                  <a:pt x="2236216" y="2539499"/>
                  <a:pt x="2218099" y="2534970"/>
                </a:cubicBezTo>
                <a:cubicBezTo>
                  <a:pt x="2179168" y="2525237"/>
                  <a:pt x="2140154" y="2513924"/>
                  <a:pt x="2100404" y="2507809"/>
                </a:cubicBezTo>
                <a:cubicBezTo>
                  <a:pt x="2076357" y="2504109"/>
                  <a:pt x="2052294" y="2499553"/>
                  <a:pt x="2027977" y="2498756"/>
                </a:cubicBezTo>
                <a:cubicBezTo>
                  <a:pt x="1868090" y="2493514"/>
                  <a:pt x="1708088" y="2492721"/>
                  <a:pt x="1548143" y="2489703"/>
                </a:cubicBezTo>
                <a:lnTo>
                  <a:pt x="1358020" y="2480649"/>
                </a:lnTo>
                <a:lnTo>
                  <a:pt x="1050202" y="2462542"/>
                </a:lnTo>
                <a:cubicBezTo>
                  <a:pt x="1029077" y="2459524"/>
                  <a:pt x="1007753" y="2457674"/>
                  <a:pt x="986828" y="2453489"/>
                </a:cubicBezTo>
                <a:cubicBezTo>
                  <a:pt x="977470" y="2451617"/>
                  <a:pt x="968926" y="2446750"/>
                  <a:pt x="959668" y="2444435"/>
                </a:cubicBezTo>
                <a:cubicBezTo>
                  <a:pt x="944739" y="2440703"/>
                  <a:pt x="929540" y="2438135"/>
                  <a:pt x="914400" y="2435382"/>
                </a:cubicBezTo>
                <a:cubicBezTo>
                  <a:pt x="884826" y="2430005"/>
                  <a:pt x="844612" y="2424725"/>
                  <a:pt x="814812" y="2417275"/>
                </a:cubicBezTo>
                <a:cubicBezTo>
                  <a:pt x="805554" y="2414960"/>
                  <a:pt x="796968" y="2410291"/>
                  <a:pt x="787652" y="2408221"/>
                </a:cubicBezTo>
                <a:cubicBezTo>
                  <a:pt x="714944" y="2392063"/>
                  <a:pt x="754021" y="2406603"/>
                  <a:pt x="688064" y="2390114"/>
                </a:cubicBezTo>
                <a:cubicBezTo>
                  <a:pt x="678806" y="2387799"/>
                  <a:pt x="670219" y="2383131"/>
                  <a:pt x="660903" y="2381061"/>
                </a:cubicBezTo>
                <a:cubicBezTo>
                  <a:pt x="642983" y="2377079"/>
                  <a:pt x="624582" y="2375607"/>
                  <a:pt x="606582" y="2372007"/>
                </a:cubicBezTo>
                <a:cubicBezTo>
                  <a:pt x="578163" y="2366323"/>
                  <a:pt x="569094" y="2362529"/>
                  <a:pt x="543208" y="2353901"/>
                </a:cubicBezTo>
                <a:cubicBezTo>
                  <a:pt x="534155" y="2347865"/>
                  <a:pt x="525780" y="2340660"/>
                  <a:pt x="516048" y="2335794"/>
                </a:cubicBezTo>
                <a:cubicBezTo>
                  <a:pt x="500832" y="2328186"/>
                  <a:pt x="467182" y="2322040"/>
                  <a:pt x="452674" y="2317687"/>
                </a:cubicBezTo>
                <a:cubicBezTo>
                  <a:pt x="434392" y="2312203"/>
                  <a:pt x="398353" y="2299580"/>
                  <a:pt x="398353" y="2299580"/>
                </a:cubicBezTo>
                <a:cubicBezTo>
                  <a:pt x="330161" y="2254120"/>
                  <a:pt x="416829" y="2307499"/>
                  <a:pt x="334978" y="2272419"/>
                </a:cubicBezTo>
                <a:cubicBezTo>
                  <a:pt x="247455" y="2234908"/>
                  <a:pt x="375564" y="2271247"/>
                  <a:pt x="271604" y="2245259"/>
                </a:cubicBezTo>
                <a:cubicBezTo>
                  <a:pt x="233751" y="2220023"/>
                  <a:pt x="216715" y="2213796"/>
                  <a:pt x="190123" y="2181885"/>
                </a:cubicBezTo>
                <a:cubicBezTo>
                  <a:pt x="105649" y="2080515"/>
                  <a:pt x="258971" y="2248926"/>
                  <a:pt x="144856" y="2118510"/>
                </a:cubicBezTo>
                <a:cubicBezTo>
                  <a:pt x="133614" y="2105663"/>
                  <a:pt x="119123" y="2095772"/>
                  <a:pt x="108642" y="2082297"/>
                </a:cubicBezTo>
                <a:cubicBezTo>
                  <a:pt x="97838" y="2068407"/>
                  <a:pt x="91242" y="2051671"/>
                  <a:pt x="81481" y="2037029"/>
                </a:cubicBezTo>
                <a:cubicBezTo>
                  <a:pt x="73111" y="2024474"/>
                  <a:pt x="63091" y="2013093"/>
                  <a:pt x="54321" y="2000815"/>
                </a:cubicBezTo>
                <a:cubicBezTo>
                  <a:pt x="47997" y="1991961"/>
                  <a:pt x="42250" y="1982708"/>
                  <a:pt x="36214" y="1973655"/>
                </a:cubicBezTo>
                <a:cubicBezTo>
                  <a:pt x="30178" y="1955548"/>
                  <a:pt x="21245" y="1938161"/>
                  <a:pt x="18107" y="1919334"/>
                </a:cubicBezTo>
                <a:cubicBezTo>
                  <a:pt x="7485" y="1855600"/>
                  <a:pt x="14859" y="1882428"/>
                  <a:pt x="0" y="1837853"/>
                </a:cubicBezTo>
                <a:cubicBezTo>
                  <a:pt x="3018" y="1714122"/>
                  <a:pt x="3792" y="1590317"/>
                  <a:pt x="9054" y="1466661"/>
                </a:cubicBezTo>
                <a:cubicBezTo>
                  <a:pt x="10358" y="1436019"/>
                  <a:pt x="26661" y="1375714"/>
                  <a:pt x="36214" y="1348966"/>
                </a:cubicBezTo>
                <a:cubicBezTo>
                  <a:pt x="43944" y="1327322"/>
                  <a:pt x="54321" y="1306717"/>
                  <a:pt x="63375" y="1285592"/>
                </a:cubicBezTo>
                <a:cubicBezTo>
                  <a:pt x="71733" y="1235440"/>
                  <a:pt x="70608" y="1224776"/>
                  <a:pt x="90535" y="1176950"/>
                </a:cubicBezTo>
                <a:cubicBezTo>
                  <a:pt x="98321" y="1158263"/>
                  <a:pt x="109581" y="1141176"/>
                  <a:pt x="117695" y="1122629"/>
                </a:cubicBezTo>
                <a:cubicBezTo>
                  <a:pt x="130723" y="1092851"/>
                  <a:pt x="139373" y="1061166"/>
                  <a:pt x="153909" y="1032095"/>
                </a:cubicBezTo>
                <a:cubicBezTo>
                  <a:pt x="159945" y="1020024"/>
                  <a:pt x="165072" y="1007454"/>
                  <a:pt x="172016" y="995881"/>
                </a:cubicBezTo>
                <a:cubicBezTo>
                  <a:pt x="183212" y="977220"/>
                  <a:pt x="198498" y="961024"/>
                  <a:pt x="208230" y="941560"/>
                </a:cubicBezTo>
                <a:cubicBezTo>
                  <a:pt x="214266" y="929489"/>
                  <a:pt x="219184" y="916791"/>
                  <a:pt x="226337" y="905346"/>
                </a:cubicBezTo>
                <a:cubicBezTo>
                  <a:pt x="278135" y="822468"/>
                  <a:pt x="226541" y="917145"/>
                  <a:pt x="289711" y="832918"/>
                </a:cubicBezTo>
                <a:cubicBezTo>
                  <a:pt x="306793" y="810142"/>
                  <a:pt x="314847" y="780622"/>
                  <a:pt x="334978" y="760491"/>
                </a:cubicBezTo>
                <a:lnTo>
                  <a:pt x="389299" y="706170"/>
                </a:lnTo>
                <a:cubicBezTo>
                  <a:pt x="398353" y="697116"/>
                  <a:pt x="406217" y="686691"/>
                  <a:pt x="416460" y="679009"/>
                </a:cubicBezTo>
                <a:cubicBezTo>
                  <a:pt x="428531" y="669956"/>
                  <a:pt x="441551" y="662045"/>
                  <a:pt x="452674" y="651849"/>
                </a:cubicBezTo>
                <a:cubicBezTo>
                  <a:pt x="477842" y="628778"/>
                  <a:pt x="497787" y="599906"/>
                  <a:pt x="525101" y="579421"/>
                </a:cubicBezTo>
                <a:cubicBezTo>
                  <a:pt x="537172" y="570368"/>
                  <a:pt x="548760" y="560631"/>
                  <a:pt x="561315" y="552261"/>
                </a:cubicBezTo>
                <a:cubicBezTo>
                  <a:pt x="575956" y="542500"/>
                  <a:pt x="592692" y="535904"/>
                  <a:pt x="606582" y="525101"/>
                </a:cubicBezTo>
                <a:cubicBezTo>
                  <a:pt x="620057" y="514620"/>
                  <a:pt x="629321" y="499368"/>
                  <a:pt x="642796" y="488887"/>
                </a:cubicBezTo>
                <a:cubicBezTo>
                  <a:pt x="656686" y="478083"/>
                  <a:pt x="673745" y="471954"/>
                  <a:pt x="688064" y="461726"/>
                </a:cubicBezTo>
                <a:cubicBezTo>
                  <a:pt x="716063" y="441727"/>
                  <a:pt x="740040" y="416055"/>
                  <a:pt x="769545" y="398352"/>
                </a:cubicBezTo>
                <a:cubicBezTo>
                  <a:pt x="784634" y="389299"/>
                  <a:pt x="800493" y="381420"/>
                  <a:pt x="814812" y="371192"/>
                </a:cubicBezTo>
                <a:cubicBezTo>
                  <a:pt x="842811" y="351192"/>
                  <a:pt x="864345" y="320596"/>
                  <a:pt x="896293" y="307817"/>
                </a:cubicBezTo>
                <a:cubicBezTo>
                  <a:pt x="1003988" y="264739"/>
                  <a:pt x="871502" y="321339"/>
                  <a:pt x="995881" y="253497"/>
                </a:cubicBezTo>
                <a:cubicBezTo>
                  <a:pt x="1026154" y="236985"/>
                  <a:pt x="1064155" y="230331"/>
                  <a:pt x="1095470" y="217283"/>
                </a:cubicBezTo>
                <a:cubicBezTo>
                  <a:pt x="1114157" y="209497"/>
                  <a:pt x="1131103" y="197908"/>
                  <a:pt x="1149790" y="190122"/>
                </a:cubicBezTo>
                <a:cubicBezTo>
                  <a:pt x="1183075" y="176253"/>
                  <a:pt x="1233965" y="164383"/>
                  <a:pt x="1267485" y="153908"/>
                </a:cubicBezTo>
                <a:cubicBezTo>
                  <a:pt x="1400253" y="112419"/>
                  <a:pt x="1296830" y="138334"/>
                  <a:pt x="1430448" y="108641"/>
                </a:cubicBezTo>
                <a:cubicBezTo>
                  <a:pt x="1448555" y="99588"/>
                  <a:pt x="1465874" y="88748"/>
                  <a:pt x="1484769" y="81481"/>
                </a:cubicBezTo>
                <a:cubicBezTo>
                  <a:pt x="1534342" y="62415"/>
                  <a:pt x="1559728" y="61719"/>
                  <a:pt x="1611517" y="54320"/>
                </a:cubicBezTo>
                <a:cubicBezTo>
                  <a:pt x="1629624" y="48284"/>
                  <a:pt x="1647321" y="40842"/>
                  <a:pt x="1665838" y="36213"/>
                </a:cubicBezTo>
                <a:cubicBezTo>
                  <a:pt x="1683647" y="31761"/>
                  <a:pt x="1702098" y="30444"/>
                  <a:pt x="1720159" y="27160"/>
                </a:cubicBezTo>
                <a:cubicBezTo>
                  <a:pt x="1735299" y="24407"/>
                  <a:pt x="1750157" y="20015"/>
                  <a:pt x="1765426" y="18106"/>
                </a:cubicBezTo>
                <a:cubicBezTo>
                  <a:pt x="1816973" y="11663"/>
                  <a:pt x="1946417" y="3239"/>
                  <a:pt x="1991763" y="0"/>
                </a:cubicBezTo>
                <a:cubicBezTo>
                  <a:pt x="2127565" y="3018"/>
                  <a:pt x="2263543" y="1518"/>
                  <a:pt x="2399169" y="9053"/>
                </a:cubicBezTo>
                <a:cubicBezTo>
                  <a:pt x="2416530" y="10018"/>
                  <a:pt x="2532736" y="40573"/>
                  <a:pt x="2553077" y="45267"/>
                </a:cubicBezTo>
                <a:cubicBezTo>
                  <a:pt x="2682153" y="75053"/>
                  <a:pt x="2485873" y="22648"/>
                  <a:pt x="2670773" y="81481"/>
                </a:cubicBezTo>
                <a:cubicBezTo>
                  <a:pt x="2712645" y="94804"/>
                  <a:pt x="2756379" y="102267"/>
                  <a:pt x="2797521" y="117695"/>
                </a:cubicBezTo>
                <a:cubicBezTo>
                  <a:pt x="2821664" y="126748"/>
                  <a:pt x="2845488" y="136701"/>
                  <a:pt x="2869949" y="144855"/>
                </a:cubicBezTo>
                <a:cubicBezTo>
                  <a:pt x="3115779" y="226798"/>
                  <a:pt x="2705074" y="78725"/>
                  <a:pt x="3014804" y="199176"/>
                </a:cubicBezTo>
                <a:cubicBezTo>
                  <a:pt x="3041487" y="209553"/>
                  <a:pt x="3069812" y="215435"/>
                  <a:pt x="3096285" y="226336"/>
                </a:cubicBezTo>
                <a:cubicBezTo>
                  <a:pt x="3121244" y="236613"/>
                  <a:pt x="3144175" y="251304"/>
                  <a:pt x="3168713" y="262550"/>
                </a:cubicBezTo>
                <a:cubicBezTo>
                  <a:pt x="3198453" y="276181"/>
                  <a:pt x="3338050" y="333370"/>
                  <a:pt x="3385996" y="362138"/>
                </a:cubicBezTo>
                <a:cubicBezTo>
                  <a:pt x="3438394" y="393577"/>
                  <a:pt x="3486489" y="432050"/>
                  <a:pt x="3539905" y="461726"/>
                </a:cubicBezTo>
                <a:cubicBezTo>
                  <a:pt x="3567065" y="476815"/>
                  <a:pt x="3595300" y="490115"/>
                  <a:pt x="3621386" y="506994"/>
                </a:cubicBezTo>
                <a:cubicBezTo>
                  <a:pt x="3790629" y="616504"/>
                  <a:pt x="3571427" y="507406"/>
                  <a:pt x="3847723" y="660903"/>
                </a:cubicBezTo>
                <a:cubicBezTo>
                  <a:pt x="3874883" y="675992"/>
                  <a:pt x="3901709" y="691699"/>
                  <a:pt x="3929204" y="706170"/>
                </a:cubicBezTo>
                <a:cubicBezTo>
                  <a:pt x="3959061" y="721884"/>
                  <a:pt x="3991127" y="733555"/>
                  <a:pt x="4019739" y="751437"/>
                </a:cubicBezTo>
                <a:cubicBezTo>
                  <a:pt x="4039726" y="763929"/>
                  <a:pt x="4055526" y="782143"/>
                  <a:pt x="4074060" y="796705"/>
                </a:cubicBezTo>
                <a:cubicBezTo>
                  <a:pt x="4097789" y="815350"/>
                  <a:pt x="4121930" y="833485"/>
                  <a:pt x="4146487" y="851025"/>
                </a:cubicBezTo>
                <a:cubicBezTo>
                  <a:pt x="4164195" y="863674"/>
                  <a:pt x="4183630" y="873878"/>
                  <a:pt x="4200808" y="887239"/>
                </a:cubicBezTo>
                <a:cubicBezTo>
                  <a:pt x="4238018" y="916180"/>
                  <a:pt x="4273236" y="947596"/>
                  <a:pt x="4309450" y="977774"/>
                </a:cubicBezTo>
                <a:lnTo>
                  <a:pt x="4363771" y="1023041"/>
                </a:lnTo>
                <a:lnTo>
                  <a:pt x="4418091" y="1068308"/>
                </a:lnTo>
                <a:cubicBezTo>
                  <a:pt x="4436198" y="1083397"/>
                  <a:pt x="4453232" y="1099876"/>
                  <a:pt x="4472412" y="1113576"/>
                </a:cubicBezTo>
                <a:cubicBezTo>
                  <a:pt x="4493537" y="1128665"/>
                  <a:pt x="4516577" y="1141380"/>
                  <a:pt x="4535786" y="1158843"/>
                </a:cubicBezTo>
                <a:cubicBezTo>
                  <a:pt x="4550084" y="1171841"/>
                  <a:pt x="4557637" y="1191183"/>
                  <a:pt x="4572000" y="1204110"/>
                </a:cubicBezTo>
                <a:cubicBezTo>
                  <a:pt x="4588176" y="1218668"/>
                  <a:pt x="4609034" y="1227105"/>
                  <a:pt x="4626321" y="1240324"/>
                </a:cubicBezTo>
                <a:cubicBezTo>
                  <a:pt x="4660392" y="1266379"/>
                  <a:pt x="4692620" y="1294759"/>
                  <a:pt x="4725909" y="1321806"/>
                </a:cubicBezTo>
                <a:cubicBezTo>
                  <a:pt x="4740906" y="1333991"/>
                  <a:pt x="4771177" y="1358019"/>
                  <a:pt x="4771177" y="1358019"/>
                </a:cubicBezTo>
                <a:cubicBezTo>
                  <a:pt x="4789181" y="1388027"/>
                  <a:pt x="4802287" y="1413389"/>
                  <a:pt x="4825497" y="1439501"/>
                </a:cubicBezTo>
                <a:cubicBezTo>
                  <a:pt x="4839674" y="1455450"/>
                  <a:pt x="4856878" y="1468566"/>
                  <a:pt x="4870765" y="1484768"/>
                </a:cubicBezTo>
                <a:cubicBezTo>
                  <a:pt x="4893158" y="1510893"/>
                  <a:pt x="4913160" y="1538976"/>
                  <a:pt x="4934139" y="1566249"/>
                </a:cubicBezTo>
                <a:cubicBezTo>
                  <a:pt x="4943339" y="1578209"/>
                  <a:pt x="4953198" y="1589733"/>
                  <a:pt x="4961299" y="1602463"/>
                </a:cubicBezTo>
                <a:cubicBezTo>
                  <a:pt x="4982424" y="1635659"/>
                  <a:pt x="5007078" y="1666857"/>
                  <a:pt x="5024674" y="1702051"/>
                </a:cubicBezTo>
                <a:lnTo>
                  <a:pt x="5060887" y="1774479"/>
                </a:lnTo>
                <a:lnTo>
                  <a:pt x="5078994" y="1810693"/>
                </a:lnTo>
                <a:cubicBezTo>
                  <a:pt x="5082012" y="1828800"/>
                  <a:pt x="5084448" y="1847013"/>
                  <a:pt x="5088048" y="1865013"/>
                </a:cubicBezTo>
                <a:cubicBezTo>
                  <a:pt x="5090488" y="1877214"/>
                  <a:pt x="5094402" y="1889080"/>
                  <a:pt x="5097101" y="1901227"/>
                </a:cubicBezTo>
                <a:cubicBezTo>
                  <a:pt x="5100439" y="1916249"/>
                  <a:pt x="5102817" y="1931473"/>
                  <a:pt x="5106155" y="1946495"/>
                </a:cubicBezTo>
                <a:cubicBezTo>
                  <a:pt x="5108854" y="1958641"/>
                  <a:pt x="5112768" y="1970507"/>
                  <a:pt x="5115208" y="1982708"/>
                </a:cubicBezTo>
                <a:cubicBezTo>
                  <a:pt x="5118808" y="2000708"/>
                  <a:pt x="5121244" y="2018922"/>
                  <a:pt x="5124262" y="2037029"/>
                </a:cubicBezTo>
                <a:cubicBezTo>
                  <a:pt x="5122597" y="2120285"/>
                  <a:pt x="5162453" y="2370488"/>
                  <a:pt x="5106155" y="2516863"/>
                </a:cubicBezTo>
                <a:cubicBezTo>
                  <a:pt x="5094487" y="2547200"/>
                  <a:pt x="5080220" y="2576563"/>
                  <a:pt x="5069941" y="2607398"/>
                </a:cubicBezTo>
                <a:cubicBezTo>
                  <a:pt x="5057255" y="2645454"/>
                  <a:pt x="5062233" y="2637065"/>
                  <a:pt x="5033727" y="2679825"/>
                </a:cubicBezTo>
                <a:cubicBezTo>
                  <a:pt x="5025357" y="2692380"/>
                  <a:pt x="5017236" y="2705369"/>
                  <a:pt x="5006567" y="2716039"/>
                </a:cubicBezTo>
                <a:cubicBezTo>
                  <a:pt x="4995897" y="2726709"/>
                  <a:pt x="4981518" y="2733050"/>
                  <a:pt x="4970353" y="2743200"/>
                </a:cubicBezTo>
                <a:cubicBezTo>
                  <a:pt x="4942090" y="2768893"/>
                  <a:pt x="4895050" y="2828658"/>
                  <a:pt x="4852658" y="2842788"/>
                </a:cubicBezTo>
                <a:lnTo>
                  <a:pt x="4825497" y="2851841"/>
                </a:lnTo>
                <a:cubicBezTo>
                  <a:pt x="4763451" y="2893206"/>
                  <a:pt x="4840407" y="2842523"/>
                  <a:pt x="4753070" y="2897108"/>
                </a:cubicBezTo>
                <a:cubicBezTo>
                  <a:pt x="4726803" y="2913525"/>
                  <a:pt x="4720604" y="2921731"/>
                  <a:pt x="4689695" y="2933322"/>
                </a:cubicBezTo>
                <a:cubicBezTo>
                  <a:pt x="4678044" y="2937691"/>
                  <a:pt x="4665552" y="2939358"/>
                  <a:pt x="4653481" y="2942376"/>
                </a:cubicBezTo>
                <a:cubicBezTo>
                  <a:pt x="4606215" y="2973887"/>
                  <a:pt x="4647318" y="2951464"/>
                  <a:pt x="4581054" y="2969536"/>
                </a:cubicBezTo>
                <a:cubicBezTo>
                  <a:pt x="4581017" y="2969546"/>
                  <a:pt x="4513171" y="2992164"/>
                  <a:pt x="4499573" y="2996697"/>
                </a:cubicBezTo>
                <a:cubicBezTo>
                  <a:pt x="4490519" y="2999715"/>
                  <a:pt x="4481859" y="3004400"/>
                  <a:pt x="4472412" y="3005750"/>
                </a:cubicBezTo>
                <a:lnTo>
                  <a:pt x="4409038" y="3014804"/>
                </a:lnTo>
                <a:cubicBezTo>
                  <a:pt x="4122347" y="3005555"/>
                  <a:pt x="4128380" y="3099351"/>
                  <a:pt x="4128380" y="2987643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ounded Rectangular Callout 10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4" name="Picture 1" descr=""/>
          <p:cNvPicPr/>
          <p:nvPr/>
        </p:nvPicPr>
        <p:blipFill>
          <a:blip r:embed="rId3"/>
          <a:stretch/>
        </p:blipFill>
        <p:spPr>
          <a:xfrm>
            <a:off x="3048120" y="2370240"/>
            <a:ext cx="39956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328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0" name="Picture 1" descr=""/>
          <p:cNvPicPr/>
          <p:nvPr/>
        </p:nvPicPr>
        <p:blipFill>
          <a:blip r:embed="rId3"/>
          <a:stretch/>
        </p:blipFill>
        <p:spPr>
          <a:xfrm>
            <a:off x="3048120" y="2370240"/>
            <a:ext cx="3995640" cy="2859120"/>
          </a:xfrm>
          <a:prstGeom prst="rect">
            <a:avLst/>
          </a:prstGeom>
          <a:ln w="0">
            <a:noFill/>
          </a:ln>
        </p:spPr>
      </p:pic>
      <p:sp>
        <p:nvSpPr>
          <p:cNvPr id="331" name="Freeform 3"/>
          <p:cNvSpPr/>
          <p:nvPr/>
        </p:nvSpPr>
        <p:spPr>
          <a:xfrm>
            <a:off x="3809880" y="1674720"/>
            <a:ext cx="3333960" cy="2465640"/>
          </a:xfrm>
          <a:custGeom>
            <a:avLst/>
            <a:gdLst/>
            <a:ahLst/>
            <a:rect l="l" t="t" r="r" b="b"/>
            <a:pathLst>
              <a:path w="3332552" h="2465604">
                <a:moveTo>
                  <a:pt x="877" y="1113576"/>
                </a:moveTo>
                <a:cubicBezTo>
                  <a:pt x="15966" y="1131683"/>
                  <a:pt x="33070" y="1148286"/>
                  <a:pt x="46144" y="1167897"/>
                </a:cubicBezTo>
                <a:cubicBezTo>
                  <a:pt x="51438" y="1175838"/>
                  <a:pt x="50930" y="1186522"/>
                  <a:pt x="55198" y="1195058"/>
                </a:cubicBezTo>
                <a:cubicBezTo>
                  <a:pt x="60064" y="1204790"/>
                  <a:pt x="67907" y="1212771"/>
                  <a:pt x="73305" y="1222218"/>
                </a:cubicBezTo>
                <a:cubicBezTo>
                  <a:pt x="128986" y="1319659"/>
                  <a:pt x="39033" y="1179863"/>
                  <a:pt x="127625" y="1312753"/>
                </a:cubicBezTo>
                <a:cubicBezTo>
                  <a:pt x="133661" y="1321806"/>
                  <a:pt x="138038" y="1332219"/>
                  <a:pt x="145732" y="1339913"/>
                </a:cubicBezTo>
                <a:cubicBezTo>
                  <a:pt x="154786" y="1348966"/>
                  <a:pt x="162786" y="1359212"/>
                  <a:pt x="172893" y="1367073"/>
                </a:cubicBezTo>
                <a:cubicBezTo>
                  <a:pt x="195397" y="1384576"/>
                  <a:pt x="234445" y="1409801"/>
                  <a:pt x="263427" y="1421394"/>
                </a:cubicBezTo>
                <a:cubicBezTo>
                  <a:pt x="307086" y="1438858"/>
                  <a:pt x="353127" y="1449226"/>
                  <a:pt x="399229" y="1457608"/>
                </a:cubicBezTo>
                <a:cubicBezTo>
                  <a:pt x="422814" y="1461896"/>
                  <a:pt x="495576" y="1473682"/>
                  <a:pt x="516924" y="1475715"/>
                </a:cubicBezTo>
                <a:cubicBezTo>
                  <a:pt x="559090" y="1479731"/>
                  <a:pt x="601475" y="1481099"/>
                  <a:pt x="643673" y="1484768"/>
                </a:cubicBezTo>
                <a:cubicBezTo>
                  <a:pt x="670898" y="1487135"/>
                  <a:pt x="697994" y="1490804"/>
                  <a:pt x="725154" y="1493822"/>
                </a:cubicBezTo>
                <a:cubicBezTo>
                  <a:pt x="728805" y="1498690"/>
                  <a:pt x="765605" y="1546360"/>
                  <a:pt x="770421" y="1557196"/>
                </a:cubicBezTo>
                <a:cubicBezTo>
                  <a:pt x="778173" y="1574637"/>
                  <a:pt x="782492" y="1593410"/>
                  <a:pt x="788528" y="1611517"/>
                </a:cubicBezTo>
                <a:lnTo>
                  <a:pt x="806635" y="1665838"/>
                </a:lnTo>
                <a:cubicBezTo>
                  <a:pt x="809653" y="1674891"/>
                  <a:pt x="810395" y="1685058"/>
                  <a:pt x="815689" y="1692998"/>
                </a:cubicBezTo>
                <a:lnTo>
                  <a:pt x="851903" y="1747319"/>
                </a:lnTo>
                <a:cubicBezTo>
                  <a:pt x="857939" y="1756372"/>
                  <a:pt x="862316" y="1766785"/>
                  <a:pt x="870010" y="1774479"/>
                </a:cubicBezTo>
                <a:cubicBezTo>
                  <a:pt x="879063" y="1783533"/>
                  <a:pt x="888838" y="1791919"/>
                  <a:pt x="897170" y="1801640"/>
                </a:cubicBezTo>
                <a:cubicBezTo>
                  <a:pt x="921472" y="1829993"/>
                  <a:pt x="922604" y="1842547"/>
                  <a:pt x="951491" y="1865014"/>
                </a:cubicBezTo>
                <a:cubicBezTo>
                  <a:pt x="958316" y="1870322"/>
                  <a:pt x="1037395" y="1922914"/>
                  <a:pt x="1051079" y="1928388"/>
                </a:cubicBezTo>
                <a:lnTo>
                  <a:pt x="1096346" y="1946495"/>
                </a:lnTo>
                <a:cubicBezTo>
                  <a:pt x="1141613" y="1943477"/>
                  <a:pt x="1187161" y="1943310"/>
                  <a:pt x="1232148" y="1937442"/>
                </a:cubicBezTo>
                <a:cubicBezTo>
                  <a:pt x="1256825" y="1934223"/>
                  <a:pt x="1304576" y="1919335"/>
                  <a:pt x="1304576" y="1919335"/>
                </a:cubicBezTo>
                <a:cubicBezTo>
                  <a:pt x="1316647" y="1913299"/>
                  <a:pt x="1327986" y="1896960"/>
                  <a:pt x="1340790" y="1901228"/>
                </a:cubicBezTo>
                <a:cubicBezTo>
                  <a:pt x="1357598" y="1906831"/>
                  <a:pt x="1365578" y="1974802"/>
                  <a:pt x="1367950" y="1982709"/>
                </a:cubicBezTo>
                <a:cubicBezTo>
                  <a:pt x="1372620" y="1998275"/>
                  <a:pt x="1380351" y="2012759"/>
                  <a:pt x="1386057" y="2027976"/>
                </a:cubicBezTo>
                <a:cubicBezTo>
                  <a:pt x="1389408" y="2036912"/>
                  <a:pt x="1391352" y="2046365"/>
                  <a:pt x="1395111" y="2055137"/>
                </a:cubicBezTo>
                <a:cubicBezTo>
                  <a:pt x="1402923" y="2073364"/>
                  <a:pt x="1417955" y="2102468"/>
                  <a:pt x="1431324" y="2118511"/>
                </a:cubicBezTo>
                <a:cubicBezTo>
                  <a:pt x="1439521" y="2128347"/>
                  <a:pt x="1446174" y="2142154"/>
                  <a:pt x="1458485" y="2145671"/>
                </a:cubicBezTo>
                <a:cubicBezTo>
                  <a:pt x="1490535" y="2154828"/>
                  <a:pt x="1524877" y="2151707"/>
                  <a:pt x="1558073" y="2154725"/>
                </a:cubicBezTo>
                <a:cubicBezTo>
                  <a:pt x="1564109" y="2172832"/>
                  <a:pt x="1572437" y="2190330"/>
                  <a:pt x="1576180" y="2209046"/>
                </a:cubicBezTo>
                <a:cubicBezTo>
                  <a:pt x="1582657" y="2241434"/>
                  <a:pt x="1580027" y="2258161"/>
                  <a:pt x="1603340" y="2281473"/>
                </a:cubicBezTo>
                <a:cubicBezTo>
                  <a:pt x="1611034" y="2289167"/>
                  <a:pt x="1621447" y="2293544"/>
                  <a:pt x="1630501" y="2299580"/>
                </a:cubicBezTo>
                <a:cubicBezTo>
                  <a:pt x="1684822" y="2296562"/>
                  <a:pt x="1739282" y="2295453"/>
                  <a:pt x="1793463" y="2290527"/>
                </a:cubicBezTo>
                <a:cubicBezTo>
                  <a:pt x="1805855" y="2289400"/>
                  <a:pt x="1817759" y="2285048"/>
                  <a:pt x="1829677" y="2281473"/>
                </a:cubicBezTo>
                <a:cubicBezTo>
                  <a:pt x="1847958" y="2275988"/>
                  <a:pt x="1883998" y="2263366"/>
                  <a:pt x="1883998" y="2263366"/>
                </a:cubicBezTo>
                <a:cubicBezTo>
                  <a:pt x="1959326" y="2282199"/>
                  <a:pt x="1883066" y="2255045"/>
                  <a:pt x="1947372" y="2308634"/>
                </a:cubicBezTo>
                <a:cubicBezTo>
                  <a:pt x="1954703" y="2314743"/>
                  <a:pt x="1965761" y="2313928"/>
                  <a:pt x="1974532" y="2317687"/>
                </a:cubicBezTo>
                <a:cubicBezTo>
                  <a:pt x="2058916" y="2353851"/>
                  <a:pt x="1963503" y="2321003"/>
                  <a:pt x="2046960" y="2344848"/>
                </a:cubicBezTo>
                <a:cubicBezTo>
                  <a:pt x="2056136" y="2347470"/>
                  <a:pt x="2064913" y="2351390"/>
                  <a:pt x="2074120" y="2353901"/>
                </a:cubicBezTo>
                <a:cubicBezTo>
                  <a:pt x="2098129" y="2360449"/>
                  <a:pt x="2146548" y="2372008"/>
                  <a:pt x="2146548" y="2372008"/>
                </a:cubicBezTo>
                <a:cubicBezTo>
                  <a:pt x="2212940" y="2368990"/>
                  <a:pt x="2279459" y="2368052"/>
                  <a:pt x="2345724" y="2362955"/>
                </a:cubicBezTo>
                <a:cubicBezTo>
                  <a:pt x="2358130" y="2362001"/>
                  <a:pt x="2370501" y="2358803"/>
                  <a:pt x="2381938" y="2353901"/>
                </a:cubicBezTo>
                <a:cubicBezTo>
                  <a:pt x="2391939" y="2349615"/>
                  <a:pt x="2400045" y="2341830"/>
                  <a:pt x="2409099" y="2335794"/>
                </a:cubicBezTo>
                <a:cubicBezTo>
                  <a:pt x="2421170" y="2341830"/>
                  <a:pt x="2435770" y="2344358"/>
                  <a:pt x="2445313" y="2353901"/>
                </a:cubicBezTo>
                <a:cubicBezTo>
                  <a:pt x="2452061" y="2360649"/>
                  <a:pt x="2447618" y="2374313"/>
                  <a:pt x="2454366" y="2381061"/>
                </a:cubicBezTo>
                <a:cubicBezTo>
                  <a:pt x="2465552" y="2392247"/>
                  <a:pt x="2501509" y="2402811"/>
                  <a:pt x="2517740" y="2408222"/>
                </a:cubicBezTo>
                <a:cubicBezTo>
                  <a:pt x="2563007" y="2405204"/>
                  <a:pt x="2608791" y="2406627"/>
                  <a:pt x="2653542" y="2399168"/>
                </a:cubicBezTo>
                <a:cubicBezTo>
                  <a:pt x="2664275" y="2397379"/>
                  <a:pt x="2670971" y="2385927"/>
                  <a:pt x="2680703" y="2381061"/>
                </a:cubicBezTo>
                <a:cubicBezTo>
                  <a:pt x="2689239" y="2376793"/>
                  <a:pt x="2698810" y="2375026"/>
                  <a:pt x="2707863" y="2372008"/>
                </a:cubicBezTo>
                <a:cubicBezTo>
                  <a:pt x="2716916" y="2381061"/>
                  <a:pt x="2725187" y="2390972"/>
                  <a:pt x="2735023" y="2399168"/>
                </a:cubicBezTo>
                <a:cubicBezTo>
                  <a:pt x="2787861" y="2443200"/>
                  <a:pt x="2816135" y="2420647"/>
                  <a:pt x="2907039" y="2426329"/>
                </a:cubicBezTo>
                <a:cubicBezTo>
                  <a:pt x="2919110" y="2435382"/>
                  <a:pt x="2930152" y="2446003"/>
                  <a:pt x="2943253" y="2453489"/>
                </a:cubicBezTo>
                <a:cubicBezTo>
                  <a:pt x="2990491" y="2480482"/>
                  <a:pt x="3115312" y="2454019"/>
                  <a:pt x="3124322" y="2453489"/>
                </a:cubicBezTo>
                <a:cubicBezTo>
                  <a:pt x="3147461" y="2450184"/>
                  <a:pt x="3197639" y="2445234"/>
                  <a:pt x="3223911" y="2435382"/>
                </a:cubicBezTo>
                <a:cubicBezTo>
                  <a:pt x="3236548" y="2430643"/>
                  <a:pt x="3248053" y="2423311"/>
                  <a:pt x="3260124" y="2417275"/>
                </a:cubicBezTo>
                <a:cubicBezTo>
                  <a:pt x="3303249" y="2359776"/>
                  <a:pt x="3277461" y="2405010"/>
                  <a:pt x="3296338" y="2335794"/>
                </a:cubicBezTo>
                <a:cubicBezTo>
                  <a:pt x="3301360" y="2317380"/>
                  <a:pt x="3308409" y="2299580"/>
                  <a:pt x="3314445" y="2281473"/>
                </a:cubicBezTo>
                <a:cubicBezTo>
                  <a:pt x="3317463" y="2272420"/>
                  <a:pt x="3321628" y="2263671"/>
                  <a:pt x="3323499" y="2254313"/>
                </a:cubicBezTo>
                <a:lnTo>
                  <a:pt x="3332552" y="2209046"/>
                </a:lnTo>
                <a:cubicBezTo>
                  <a:pt x="3329534" y="2097386"/>
                  <a:pt x="3330929" y="1985520"/>
                  <a:pt x="3323499" y="1874067"/>
                </a:cubicBezTo>
                <a:cubicBezTo>
                  <a:pt x="3321844" y="1849237"/>
                  <a:pt x="3313262" y="1825248"/>
                  <a:pt x="3305392" y="1801640"/>
                </a:cubicBezTo>
                <a:cubicBezTo>
                  <a:pt x="3295437" y="1771777"/>
                  <a:pt x="3292665" y="1761688"/>
                  <a:pt x="3278231" y="1729212"/>
                </a:cubicBezTo>
                <a:cubicBezTo>
                  <a:pt x="3272750" y="1716879"/>
                  <a:pt x="3265605" y="1705331"/>
                  <a:pt x="3260124" y="1692998"/>
                </a:cubicBezTo>
                <a:cubicBezTo>
                  <a:pt x="3213886" y="1588961"/>
                  <a:pt x="3268486" y="1700667"/>
                  <a:pt x="3223911" y="1611517"/>
                </a:cubicBezTo>
                <a:cubicBezTo>
                  <a:pt x="3206905" y="1526494"/>
                  <a:pt x="3226976" y="1606200"/>
                  <a:pt x="3187697" y="1511929"/>
                </a:cubicBezTo>
                <a:cubicBezTo>
                  <a:pt x="3180356" y="1494311"/>
                  <a:pt x="3179410" y="1473975"/>
                  <a:pt x="3169590" y="1457608"/>
                </a:cubicBezTo>
                <a:cubicBezTo>
                  <a:pt x="3151887" y="1428103"/>
                  <a:pt x="3121604" y="1406903"/>
                  <a:pt x="3106216" y="1376127"/>
                </a:cubicBezTo>
                <a:cubicBezTo>
                  <a:pt x="3084035" y="1331766"/>
                  <a:pt x="3074469" y="1307020"/>
                  <a:pt x="3042841" y="1267485"/>
                </a:cubicBezTo>
                <a:cubicBezTo>
                  <a:pt x="3032177" y="1254154"/>
                  <a:pt x="3017969" y="1244030"/>
                  <a:pt x="3006627" y="1231271"/>
                </a:cubicBezTo>
                <a:cubicBezTo>
                  <a:pt x="2993789" y="1216829"/>
                  <a:pt x="2983412" y="1200302"/>
                  <a:pt x="2970414" y="1186004"/>
                </a:cubicBezTo>
                <a:cubicBezTo>
                  <a:pt x="2953189" y="1167056"/>
                  <a:pt x="2933106" y="1150822"/>
                  <a:pt x="2916093" y="1131683"/>
                </a:cubicBezTo>
                <a:cubicBezTo>
                  <a:pt x="2884775" y="1096450"/>
                  <a:pt x="2852957" y="1061401"/>
                  <a:pt x="2825558" y="1023042"/>
                </a:cubicBezTo>
                <a:cubicBezTo>
                  <a:pt x="2810469" y="1001917"/>
                  <a:pt x="2797601" y="979014"/>
                  <a:pt x="2780291" y="959667"/>
                </a:cubicBezTo>
                <a:cubicBezTo>
                  <a:pt x="2746142" y="921500"/>
                  <a:pt x="2710534" y="884356"/>
                  <a:pt x="2671649" y="851026"/>
                </a:cubicBezTo>
                <a:cubicBezTo>
                  <a:pt x="2650524" y="832919"/>
                  <a:pt x="2627147" y="817149"/>
                  <a:pt x="2608275" y="796705"/>
                </a:cubicBezTo>
                <a:cubicBezTo>
                  <a:pt x="2590667" y="777629"/>
                  <a:pt x="2579342" y="753508"/>
                  <a:pt x="2563008" y="733331"/>
                </a:cubicBezTo>
                <a:cubicBezTo>
                  <a:pt x="2527996" y="690080"/>
                  <a:pt x="2493714" y="645929"/>
                  <a:pt x="2454366" y="606582"/>
                </a:cubicBezTo>
                <a:cubicBezTo>
                  <a:pt x="2268321" y="420539"/>
                  <a:pt x="2484416" y="632928"/>
                  <a:pt x="2318564" y="479834"/>
                </a:cubicBezTo>
                <a:cubicBezTo>
                  <a:pt x="2299748" y="462465"/>
                  <a:pt x="2284378" y="441334"/>
                  <a:pt x="2264243" y="425513"/>
                </a:cubicBezTo>
                <a:cubicBezTo>
                  <a:pt x="2241857" y="407924"/>
                  <a:pt x="2213432" y="398774"/>
                  <a:pt x="2191816" y="380246"/>
                </a:cubicBezTo>
                <a:cubicBezTo>
                  <a:pt x="2170691" y="362139"/>
                  <a:pt x="2157723" y="335975"/>
                  <a:pt x="2137495" y="316871"/>
                </a:cubicBezTo>
                <a:cubicBezTo>
                  <a:pt x="2072256" y="255256"/>
                  <a:pt x="1997132" y="200059"/>
                  <a:pt x="1920212" y="153909"/>
                </a:cubicBezTo>
                <a:cubicBezTo>
                  <a:pt x="1880658" y="130177"/>
                  <a:pt x="1824254" y="94762"/>
                  <a:pt x="1784410" y="81481"/>
                </a:cubicBezTo>
                <a:cubicBezTo>
                  <a:pt x="1766303" y="75445"/>
                  <a:pt x="1747810" y="70463"/>
                  <a:pt x="1730089" y="63374"/>
                </a:cubicBezTo>
                <a:cubicBezTo>
                  <a:pt x="1717558" y="58362"/>
                  <a:pt x="1706679" y="49535"/>
                  <a:pt x="1693875" y="45267"/>
                </a:cubicBezTo>
                <a:cubicBezTo>
                  <a:pt x="1693861" y="45262"/>
                  <a:pt x="1603347" y="22635"/>
                  <a:pt x="1585233" y="18107"/>
                </a:cubicBezTo>
                <a:lnTo>
                  <a:pt x="1549019" y="9054"/>
                </a:lnTo>
                <a:lnTo>
                  <a:pt x="1512806" y="0"/>
                </a:lnTo>
                <a:cubicBezTo>
                  <a:pt x="1413218" y="3018"/>
                  <a:pt x="1313530" y="3676"/>
                  <a:pt x="1214041" y="9054"/>
                </a:cubicBezTo>
                <a:cubicBezTo>
                  <a:pt x="1201616" y="9726"/>
                  <a:pt x="1190028" y="15667"/>
                  <a:pt x="1177827" y="18107"/>
                </a:cubicBezTo>
                <a:cubicBezTo>
                  <a:pt x="1159827" y="21707"/>
                  <a:pt x="1141456" y="23314"/>
                  <a:pt x="1123507" y="27160"/>
                </a:cubicBezTo>
                <a:cubicBezTo>
                  <a:pt x="1099174" y="32374"/>
                  <a:pt x="1075626" y="41176"/>
                  <a:pt x="1051079" y="45267"/>
                </a:cubicBezTo>
                <a:cubicBezTo>
                  <a:pt x="1032972" y="48285"/>
                  <a:pt x="1014567" y="49869"/>
                  <a:pt x="996758" y="54321"/>
                </a:cubicBezTo>
                <a:cubicBezTo>
                  <a:pt x="978241" y="58950"/>
                  <a:pt x="960544" y="66392"/>
                  <a:pt x="942437" y="72428"/>
                </a:cubicBezTo>
                <a:cubicBezTo>
                  <a:pt x="933384" y="75446"/>
                  <a:pt x="924048" y="77722"/>
                  <a:pt x="915277" y="81481"/>
                </a:cubicBezTo>
                <a:cubicBezTo>
                  <a:pt x="869953" y="100906"/>
                  <a:pt x="794437" y="129893"/>
                  <a:pt x="761368" y="162962"/>
                </a:cubicBezTo>
                <a:cubicBezTo>
                  <a:pt x="749297" y="175033"/>
                  <a:pt x="736396" y="186328"/>
                  <a:pt x="725154" y="199176"/>
                </a:cubicBezTo>
                <a:cubicBezTo>
                  <a:pt x="715218" y="210532"/>
                  <a:pt x="708663" y="224720"/>
                  <a:pt x="697994" y="235390"/>
                </a:cubicBezTo>
                <a:cubicBezTo>
                  <a:pt x="687324" y="246060"/>
                  <a:pt x="672450" y="251881"/>
                  <a:pt x="661780" y="262551"/>
                </a:cubicBezTo>
                <a:cubicBezTo>
                  <a:pt x="651110" y="273220"/>
                  <a:pt x="645289" y="288094"/>
                  <a:pt x="634619" y="298764"/>
                </a:cubicBezTo>
                <a:cubicBezTo>
                  <a:pt x="623949" y="309434"/>
                  <a:pt x="609762" y="315989"/>
                  <a:pt x="598406" y="325925"/>
                </a:cubicBezTo>
                <a:cubicBezTo>
                  <a:pt x="548625" y="369484"/>
                  <a:pt x="572747" y="355961"/>
                  <a:pt x="525978" y="407406"/>
                </a:cubicBezTo>
                <a:cubicBezTo>
                  <a:pt x="508753" y="426354"/>
                  <a:pt x="489764" y="443620"/>
                  <a:pt x="471657" y="461727"/>
                </a:cubicBezTo>
                <a:cubicBezTo>
                  <a:pt x="462604" y="470780"/>
                  <a:pt x="451599" y="478234"/>
                  <a:pt x="444497" y="488887"/>
                </a:cubicBezTo>
                <a:cubicBezTo>
                  <a:pt x="438461" y="497941"/>
                  <a:pt x="432715" y="507194"/>
                  <a:pt x="426390" y="516048"/>
                </a:cubicBezTo>
                <a:cubicBezTo>
                  <a:pt x="399819" y="553247"/>
                  <a:pt x="402465" y="545272"/>
                  <a:pt x="381122" y="579422"/>
                </a:cubicBezTo>
                <a:cubicBezTo>
                  <a:pt x="371796" y="594344"/>
                  <a:pt x="364053" y="610273"/>
                  <a:pt x="353962" y="624689"/>
                </a:cubicBezTo>
                <a:cubicBezTo>
                  <a:pt x="342881" y="640520"/>
                  <a:pt x="328467" y="653879"/>
                  <a:pt x="317748" y="669957"/>
                </a:cubicBezTo>
                <a:cubicBezTo>
                  <a:pt x="310262" y="681186"/>
                  <a:pt x="306585" y="694597"/>
                  <a:pt x="299641" y="706170"/>
                </a:cubicBezTo>
                <a:cubicBezTo>
                  <a:pt x="288445" y="724831"/>
                  <a:pt x="271509" y="740286"/>
                  <a:pt x="263427" y="760491"/>
                </a:cubicBezTo>
                <a:cubicBezTo>
                  <a:pt x="221027" y="866492"/>
                  <a:pt x="267894" y="758339"/>
                  <a:pt x="227214" y="832919"/>
                </a:cubicBezTo>
                <a:cubicBezTo>
                  <a:pt x="214289" y="856616"/>
                  <a:pt x="210087" y="886261"/>
                  <a:pt x="191000" y="905347"/>
                </a:cubicBezTo>
                <a:cubicBezTo>
                  <a:pt x="169875" y="926472"/>
                  <a:pt x="144197" y="943864"/>
                  <a:pt x="127625" y="968721"/>
                </a:cubicBezTo>
                <a:cubicBezTo>
                  <a:pt x="121589" y="977774"/>
                  <a:pt x="116599" y="987620"/>
                  <a:pt x="109518" y="995881"/>
                </a:cubicBezTo>
                <a:cubicBezTo>
                  <a:pt x="98408" y="1008842"/>
                  <a:pt x="83548" y="1018438"/>
                  <a:pt x="73305" y="1032095"/>
                </a:cubicBezTo>
                <a:cubicBezTo>
                  <a:pt x="56223" y="1054871"/>
                  <a:pt x="48169" y="1084391"/>
                  <a:pt x="28037" y="1104523"/>
                </a:cubicBezTo>
                <a:cubicBezTo>
                  <a:pt x="18984" y="1113576"/>
                  <a:pt x="-4849" y="1120231"/>
                  <a:pt x="877" y="1131683"/>
                </a:cubicBezTo>
                <a:cubicBezTo>
                  <a:pt x="6442" y="1142812"/>
                  <a:pt x="25127" y="1126048"/>
                  <a:pt x="37091" y="1122630"/>
                </a:cubicBezTo>
                <a:cubicBezTo>
                  <a:pt x="63190" y="1115173"/>
                  <a:pt x="60992" y="1115205"/>
                  <a:pt x="82358" y="1104523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3"/>
          <a:stretch/>
        </p:blipFill>
        <p:spPr>
          <a:xfrm>
            <a:off x="3048120" y="2370240"/>
            <a:ext cx="3995640" cy="2859120"/>
          </a:xfrm>
          <a:prstGeom prst="rect">
            <a:avLst/>
          </a:prstGeom>
          <a:ln w="0">
            <a:noFill/>
          </a:ln>
        </p:spPr>
      </p:pic>
      <p:sp>
        <p:nvSpPr>
          <p:cNvPr id="338" name="Freeform 3"/>
          <p:cNvSpPr/>
          <p:nvPr/>
        </p:nvSpPr>
        <p:spPr>
          <a:xfrm>
            <a:off x="3809880" y="1674720"/>
            <a:ext cx="3333960" cy="2465640"/>
          </a:xfrm>
          <a:custGeom>
            <a:avLst/>
            <a:gdLst/>
            <a:ahLst/>
            <a:rect l="l" t="t" r="r" b="b"/>
            <a:pathLst>
              <a:path w="3332552" h="2465604">
                <a:moveTo>
                  <a:pt x="877" y="1113576"/>
                </a:moveTo>
                <a:cubicBezTo>
                  <a:pt x="15966" y="1131683"/>
                  <a:pt x="33070" y="1148286"/>
                  <a:pt x="46144" y="1167897"/>
                </a:cubicBezTo>
                <a:cubicBezTo>
                  <a:pt x="51438" y="1175838"/>
                  <a:pt x="50930" y="1186522"/>
                  <a:pt x="55198" y="1195058"/>
                </a:cubicBezTo>
                <a:cubicBezTo>
                  <a:pt x="60064" y="1204790"/>
                  <a:pt x="67907" y="1212771"/>
                  <a:pt x="73305" y="1222218"/>
                </a:cubicBezTo>
                <a:cubicBezTo>
                  <a:pt x="128986" y="1319659"/>
                  <a:pt x="39033" y="1179863"/>
                  <a:pt x="127625" y="1312753"/>
                </a:cubicBezTo>
                <a:cubicBezTo>
                  <a:pt x="133661" y="1321806"/>
                  <a:pt x="138038" y="1332219"/>
                  <a:pt x="145732" y="1339913"/>
                </a:cubicBezTo>
                <a:cubicBezTo>
                  <a:pt x="154786" y="1348966"/>
                  <a:pt x="162786" y="1359212"/>
                  <a:pt x="172893" y="1367073"/>
                </a:cubicBezTo>
                <a:cubicBezTo>
                  <a:pt x="195397" y="1384576"/>
                  <a:pt x="234445" y="1409801"/>
                  <a:pt x="263427" y="1421394"/>
                </a:cubicBezTo>
                <a:cubicBezTo>
                  <a:pt x="307086" y="1438858"/>
                  <a:pt x="353127" y="1449226"/>
                  <a:pt x="399229" y="1457608"/>
                </a:cubicBezTo>
                <a:cubicBezTo>
                  <a:pt x="422814" y="1461896"/>
                  <a:pt x="495576" y="1473682"/>
                  <a:pt x="516924" y="1475715"/>
                </a:cubicBezTo>
                <a:cubicBezTo>
                  <a:pt x="559090" y="1479731"/>
                  <a:pt x="601475" y="1481099"/>
                  <a:pt x="643673" y="1484768"/>
                </a:cubicBezTo>
                <a:cubicBezTo>
                  <a:pt x="670898" y="1487135"/>
                  <a:pt x="697994" y="1490804"/>
                  <a:pt x="725154" y="1493822"/>
                </a:cubicBezTo>
                <a:cubicBezTo>
                  <a:pt x="728805" y="1498690"/>
                  <a:pt x="765605" y="1546360"/>
                  <a:pt x="770421" y="1557196"/>
                </a:cubicBezTo>
                <a:cubicBezTo>
                  <a:pt x="778173" y="1574637"/>
                  <a:pt x="782492" y="1593410"/>
                  <a:pt x="788528" y="1611517"/>
                </a:cubicBezTo>
                <a:lnTo>
                  <a:pt x="806635" y="1665838"/>
                </a:lnTo>
                <a:cubicBezTo>
                  <a:pt x="809653" y="1674891"/>
                  <a:pt x="810395" y="1685058"/>
                  <a:pt x="815689" y="1692998"/>
                </a:cubicBezTo>
                <a:lnTo>
                  <a:pt x="851903" y="1747319"/>
                </a:lnTo>
                <a:cubicBezTo>
                  <a:pt x="857939" y="1756372"/>
                  <a:pt x="862316" y="1766785"/>
                  <a:pt x="870010" y="1774479"/>
                </a:cubicBezTo>
                <a:cubicBezTo>
                  <a:pt x="879063" y="1783533"/>
                  <a:pt x="888838" y="1791919"/>
                  <a:pt x="897170" y="1801640"/>
                </a:cubicBezTo>
                <a:cubicBezTo>
                  <a:pt x="921472" y="1829993"/>
                  <a:pt x="922604" y="1842547"/>
                  <a:pt x="951491" y="1865014"/>
                </a:cubicBezTo>
                <a:cubicBezTo>
                  <a:pt x="958316" y="1870322"/>
                  <a:pt x="1037395" y="1922914"/>
                  <a:pt x="1051079" y="1928388"/>
                </a:cubicBezTo>
                <a:lnTo>
                  <a:pt x="1096346" y="1946495"/>
                </a:lnTo>
                <a:cubicBezTo>
                  <a:pt x="1141613" y="1943477"/>
                  <a:pt x="1187161" y="1943310"/>
                  <a:pt x="1232148" y="1937442"/>
                </a:cubicBezTo>
                <a:cubicBezTo>
                  <a:pt x="1256825" y="1934223"/>
                  <a:pt x="1304576" y="1919335"/>
                  <a:pt x="1304576" y="1919335"/>
                </a:cubicBezTo>
                <a:cubicBezTo>
                  <a:pt x="1316647" y="1913299"/>
                  <a:pt x="1327986" y="1896960"/>
                  <a:pt x="1340790" y="1901228"/>
                </a:cubicBezTo>
                <a:cubicBezTo>
                  <a:pt x="1357598" y="1906831"/>
                  <a:pt x="1365578" y="1974802"/>
                  <a:pt x="1367950" y="1982709"/>
                </a:cubicBezTo>
                <a:cubicBezTo>
                  <a:pt x="1372620" y="1998275"/>
                  <a:pt x="1380351" y="2012759"/>
                  <a:pt x="1386057" y="2027976"/>
                </a:cubicBezTo>
                <a:cubicBezTo>
                  <a:pt x="1389408" y="2036912"/>
                  <a:pt x="1391352" y="2046365"/>
                  <a:pt x="1395111" y="2055137"/>
                </a:cubicBezTo>
                <a:cubicBezTo>
                  <a:pt x="1402923" y="2073364"/>
                  <a:pt x="1417955" y="2102468"/>
                  <a:pt x="1431324" y="2118511"/>
                </a:cubicBezTo>
                <a:cubicBezTo>
                  <a:pt x="1439521" y="2128347"/>
                  <a:pt x="1446174" y="2142154"/>
                  <a:pt x="1458485" y="2145671"/>
                </a:cubicBezTo>
                <a:cubicBezTo>
                  <a:pt x="1490535" y="2154828"/>
                  <a:pt x="1524877" y="2151707"/>
                  <a:pt x="1558073" y="2154725"/>
                </a:cubicBezTo>
                <a:cubicBezTo>
                  <a:pt x="1564109" y="2172832"/>
                  <a:pt x="1572437" y="2190330"/>
                  <a:pt x="1576180" y="2209046"/>
                </a:cubicBezTo>
                <a:cubicBezTo>
                  <a:pt x="1582657" y="2241434"/>
                  <a:pt x="1580027" y="2258161"/>
                  <a:pt x="1603340" y="2281473"/>
                </a:cubicBezTo>
                <a:cubicBezTo>
                  <a:pt x="1611034" y="2289167"/>
                  <a:pt x="1621447" y="2293544"/>
                  <a:pt x="1630501" y="2299580"/>
                </a:cubicBezTo>
                <a:cubicBezTo>
                  <a:pt x="1684822" y="2296562"/>
                  <a:pt x="1739282" y="2295453"/>
                  <a:pt x="1793463" y="2290527"/>
                </a:cubicBezTo>
                <a:cubicBezTo>
                  <a:pt x="1805855" y="2289400"/>
                  <a:pt x="1817759" y="2285048"/>
                  <a:pt x="1829677" y="2281473"/>
                </a:cubicBezTo>
                <a:cubicBezTo>
                  <a:pt x="1847958" y="2275988"/>
                  <a:pt x="1883998" y="2263366"/>
                  <a:pt x="1883998" y="2263366"/>
                </a:cubicBezTo>
                <a:cubicBezTo>
                  <a:pt x="1959326" y="2282199"/>
                  <a:pt x="1883066" y="2255045"/>
                  <a:pt x="1947372" y="2308634"/>
                </a:cubicBezTo>
                <a:cubicBezTo>
                  <a:pt x="1954703" y="2314743"/>
                  <a:pt x="1965761" y="2313928"/>
                  <a:pt x="1974532" y="2317687"/>
                </a:cubicBezTo>
                <a:cubicBezTo>
                  <a:pt x="2058916" y="2353851"/>
                  <a:pt x="1963503" y="2321003"/>
                  <a:pt x="2046960" y="2344848"/>
                </a:cubicBezTo>
                <a:cubicBezTo>
                  <a:pt x="2056136" y="2347470"/>
                  <a:pt x="2064913" y="2351390"/>
                  <a:pt x="2074120" y="2353901"/>
                </a:cubicBezTo>
                <a:cubicBezTo>
                  <a:pt x="2098129" y="2360449"/>
                  <a:pt x="2146548" y="2372008"/>
                  <a:pt x="2146548" y="2372008"/>
                </a:cubicBezTo>
                <a:cubicBezTo>
                  <a:pt x="2212940" y="2368990"/>
                  <a:pt x="2279459" y="2368052"/>
                  <a:pt x="2345724" y="2362955"/>
                </a:cubicBezTo>
                <a:cubicBezTo>
                  <a:pt x="2358130" y="2362001"/>
                  <a:pt x="2370501" y="2358803"/>
                  <a:pt x="2381938" y="2353901"/>
                </a:cubicBezTo>
                <a:cubicBezTo>
                  <a:pt x="2391939" y="2349615"/>
                  <a:pt x="2400045" y="2341830"/>
                  <a:pt x="2409099" y="2335794"/>
                </a:cubicBezTo>
                <a:cubicBezTo>
                  <a:pt x="2421170" y="2341830"/>
                  <a:pt x="2435770" y="2344358"/>
                  <a:pt x="2445313" y="2353901"/>
                </a:cubicBezTo>
                <a:cubicBezTo>
                  <a:pt x="2452061" y="2360649"/>
                  <a:pt x="2447618" y="2374313"/>
                  <a:pt x="2454366" y="2381061"/>
                </a:cubicBezTo>
                <a:cubicBezTo>
                  <a:pt x="2465552" y="2392247"/>
                  <a:pt x="2501509" y="2402811"/>
                  <a:pt x="2517740" y="2408222"/>
                </a:cubicBezTo>
                <a:cubicBezTo>
                  <a:pt x="2563007" y="2405204"/>
                  <a:pt x="2608791" y="2406627"/>
                  <a:pt x="2653542" y="2399168"/>
                </a:cubicBezTo>
                <a:cubicBezTo>
                  <a:pt x="2664275" y="2397379"/>
                  <a:pt x="2670971" y="2385927"/>
                  <a:pt x="2680703" y="2381061"/>
                </a:cubicBezTo>
                <a:cubicBezTo>
                  <a:pt x="2689239" y="2376793"/>
                  <a:pt x="2698810" y="2375026"/>
                  <a:pt x="2707863" y="2372008"/>
                </a:cubicBezTo>
                <a:cubicBezTo>
                  <a:pt x="2716916" y="2381061"/>
                  <a:pt x="2725187" y="2390972"/>
                  <a:pt x="2735023" y="2399168"/>
                </a:cubicBezTo>
                <a:cubicBezTo>
                  <a:pt x="2787861" y="2443200"/>
                  <a:pt x="2816135" y="2420647"/>
                  <a:pt x="2907039" y="2426329"/>
                </a:cubicBezTo>
                <a:cubicBezTo>
                  <a:pt x="2919110" y="2435382"/>
                  <a:pt x="2930152" y="2446003"/>
                  <a:pt x="2943253" y="2453489"/>
                </a:cubicBezTo>
                <a:cubicBezTo>
                  <a:pt x="2990491" y="2480482"/>
                  <a:pt x="3115312" y="2454019"/>
                  <a:pt x="3124322" y="2453489"/>
                </a:cubicBezTo>
                <a:cubicBezTo>
                  <a:pt x="3147461" y="2450184"/>
                  <a:pt x="3197639" y="2445234"/>
                  <a:pt x="3223911" y="2435382"/>
                </a:cubicBezTo>
                <a:cubicBezTo>
                  <a:pt x="3236548" y="2430643"/>
                  <a:pt x="3248053" y="2423311"/>
                  <a:pt x="3260124" y="2417275"/>
                </a:cubicBezTo>
                <a:cubicBezTo>
                  <a:pt x="3303249" y="2359776"/>
                  <a:pt x="3277461" y="2405010"/>
                  <a:pt x="3296338" y="2335794"/>
                </a:cubicBezTo>
                <a:cubicBezTo>
                  <a:pt x="3301360" y="2317380"/>
                  <a:pt x="3308409" y="2299580"/>
                  <a:pt x="3314445" y="2281473"/>
                </a:cubicBezTo>
                <a:cubicBezTo>
                  <a:pt x="3317463" y="2272420"/>
                  <a:pt x="3321628" y="2263671"/>
                  <a:pt x="3323499" y="2254313"/>
                </a:cubicBezTo>
                <a:lnTo>
                  <a:pt x="3332552" y="2209046"/>
                </a:lnTo>
                <a:cubicBezTo>
                  <a:pt x="3329534" y="2097386"/>
                  <a:pt x="3330929" y="1985520"/>
                  <a:pt x="3323499" y="1874067"/>
                </a:cubicBezTo>
                <a:cubicBezTo>
                  <a:pt x="3321844" y="1849237"/>
                  <a:pt x="3313262" y="1825248"/>
                  <a:pt x="3305392" y="1801640"/>
                </a:cubicBezTo>
                <a:cubicBezTo>
                  <a:pt x="3295437" y="1771777"/>
                  <a:pt x="3292665" y="1761688"/>
                  <a:pt x="3278231" y="1729212"/>
                </a:cubicBezTo>
                <a:cubicBezTo>
                  <a:pt x="3272750" y="1716879"/>
                  <a:pt x="3265605" y="1705331"/>
                  <a:pt x="3260124" y="1692998"/>
                </a:cubicBezTo>
                <a:cubicBezTo>
                  <a:pt x="3213886" y="1588961"/>
                  <a:pt x="3268486" y="1700667"/>
                  <a:pt x="3223911" y="1611517"/>
                </a:cubicBezTo>
                <a:cubicBezTo>
                  <a:pt x="3206905" y="1526494"/>
                  <a:pt x="3226976" y="1606200"/>
                  <a:pt x="3187697" y="1511929"/>
                </a:cubicBezTo>
                <a:cubicBezTo>
                  <a:pt x="3180356" y="1494311"/>
                  <a:pt x="3179410" y="1473975"/>
                  <a:pt x="3169590" y="1457608"/>
                </a:cubicBezTo>
                <a:cubicBezTo>
                  <a:pt x="3151887" y="1428103"/>
                  <a:pt x="3121604" y="1406903"/>
                  <a:pt x="3106216" y="1376127"/>
                </a:cubicBezTo>
                <a:cubicBezTo>
                  <a:pt x="3084035" y="1331766"/>
                  <a:pt x="3074469" y="1307020"/>
                  <a:pt x="3042841" y="1267485"/>
                </a:cubicBezTo>
                <a:cubicBezTo>
                  <a:pt x="3032177" y="1254154"/>
                  <a:pt x="3017969" y="1244030"/>
                  <a:pt x="3006627" y="1231271"/>
                </a:cubicBezTo>
                <a:cubicBezTo>
                  <a:pt x="2993789" y="1216829"/>
                  <a:pt x="2983412" y="1200302"/>
                  <a:pt x="2970414" y="1186004"/>
                </a:cubicBezTo>
                <a:cubicBezTo>
                  <a:pt x="2953189" y="1167056"/>
                  <a:pt x="2933106" y="1150822"/>
                  <a:pt x="2916093" y="1131683"/>
                </a:cubicBezTo>
                <a:cubicBezTo>
                  <a:pt x="2884775" y="1096450"/>
                  <a:pt x="2852957" y="1061401"/>
                  <a:pt x="2825558" y="1023042"/>
                </a:cubicBezTo>
                <a:cubicBezTo>
                  <a:pt x="2810469" y="1001917"/>
                  <a:pt x="2797601" y="979014"/>
                  <a:pt x="2780291" y="959667"/>
                </a:cubicBezTo>
                <a:cubicBezTo>
                  <a:pt x="2746142" y="921500"/>
                  <a:pt x="2710534" y="884356"/>
                  <a:pt x="2671649" y="851026"/>
                </a:cubicBezTo>
                <a:cubicBezTo>
                  <a:pt x="2650524" y="832919"/>
                  <a:pt x="2627147" y="817149"/>
                  <a:pt x="2608275" y="796705"/>
                </a:cubicBezTo>
                <a:cubicBezTo>
                  <a:pt x="2590667" y="777629"/>
                  <a:pt x="2579342" y="753508"/>
                  <a:pt x="2563008" y="733331"/>
                </a:cubicBezTo>
                <a:cubicBezTo>
                  <a:pt x="2527996" y="690080"/>
                  <a:pt x="2493714" y="645929"/>
                  <a:pt x="2454366" y="606582"/>
                </a:cubicBezTo>
                <a:cubicBezTo>
                  <a:pt x="2268321" y="420539"/>
                  <a:pt x="2484416" y="632928"/>
                  <a:pt x="2318564" y="479834"/>
                </a:cubicBezTo>
                <a:cubicBezTo>
                  <a:pt x="2299748" y="462465"/>
                  <a:pt x="2284378" y="441334"/>
                  <a:pt x="2264243" y="425513"/>
                </a:cubicBezTo>
                <a:cubicBezTo>
                  <a:pt x="2241857" y="407924"/>
                  <a:pt x="2213432" y="398774"/>
                  <a:pt x="2191816" y="380246"/>
                </a:cubicBezTo>
                <a:cubicBezTo>
                  <a:pt x="2170691" y="362139"/>
                  <a:pt x="2157723" y="335975"/>
                  <a:pt x="2137495" y="316871"/>
                </a:cubicBezTo>
                <a:cubicBezTo>
                  <a:pt x="2072256" y="255256"/>
                  <a:pt x="1997132" y="200059"/>
                  <a:pt x="1920212" y="153909"/>
                </a:cubicBezTo>
                <a:cubicBezTo>
                  <a:pt x="1880658" y="130177"/>
                  <a:pt x="1824254" y="94762"/>
                  <a:pt x="1784410" y="81481"/>
                </a:cubicBezTo>
                <a:cubicBezTo>
                  <a:pt x="1766303" y="75445"/>
                  <a:pt x="1747810" y="70463"/>
                  <a:pt x="1730089" y="63374"/>
                </a:cubicBezTo>
                <a:cubicBezTo>
                  <a:pt x="1717558" y="58362"/>
                  <a:pt x="1706679" y="49535"/>
                  <a:pt x="1693875" y="45267"/>
                </a:cubicBezTo>
                <a:cubicBezTo>
                  <a:pt x="1693861" y="45262"/>
                  <a:pt x="1603347" y="22635"/>
                  <a:pt x="1585233" y="18107"/>
                </a:cubicBezTo>
                <a:lnTo>
                  <a:pt x="1549019" y="9054"/>
                </a:lnTo>
                <a:lnTo>
                  <a:pt x="1512806" y="0"/>
                </a:lnTo>
                <a:cubicBezTo>
                  <a:pt x="1413218" y="3018"/>
                  <a:pt x="1313530" y="3676"/>
                  <a:pt x="1214041" y="9054"/>
                </a:cubicBezTo>
                <a:cubicBezTo>
                  <a:pt x="1201616" y="9726"/>
                  <a:pt x="1190028" y="15667"/>
                  <a:pt x="1177827" y="18107"/>
                </a:cubicBezTo>
                <a:cubicBezTo>
                  <a:pt x="1159827" y="21707"/>
                  <a:pt x="1141456" y="23314"/>
                  <a:pt x="1123507" y="27160"/>
                </a:cubicBezTo>
                <a:cubicBezTo>
                  <a:pt x="1099174" y="32374"/>
                  <a:pt x="1075626" y="41176"/>
                  <a:pt x="1051079" y="45267"/>
                </a:cubicBezTo>
                <a:cubicBezTo>
                  <a:pt x="1032972" y="48285"/>
                  <a:pt x="1014567" y="49869"/>
                  <a:pt x="996758" y="54321"/>
                </a:cubicBezTo>
                <a:cubicBezTo>
                  <a:pt x="978241" y="58950"/>
                  <a:pt x="960544" y="66392"/>
                  <a:pt x="942437" y="72428"/>
                </a:cubicBezTo>
                <a:cubicBezTo>
                  <a:pt x="933384" y="75446"/>
                  <a:pt x="924048" y="77722"/>
                  <a:pt x="915277" y="81481"/>
                </a:cubicBezTo>
                <a:cubicBezTo>
                  <a:pt x="869953" y="100906"/>
                  <a:pt x="794437" y="129893"/>
                  <a:pt x="761368" y="162962"/>
                </a:cubicBezTo>
                <a:cubicBezTo>
                  <a:pt x="749297" y="175033"/>
                  <a:pt x="736396" y="186328"/>
                  <a:pt x="725154" y="199176"/>
                </a:cubicBezTo>
                <a:cubicBezTo>
                  <a:pt x="715218" y="210532"/>
                  <a:pt x="708663" y="224720"/>
                  <a:pt x="697994" y="235390"/>
                </a:cubicBezTo>
                <a:cubicBezTo>
                  <a:pt x="687324" y="246060"/>
                  <a:pt x="672450" y="251881"/>
                  <a:pt x="661780" y="262551"/>
                </a:cubicBezTo>
                <a:cubicBezTo>
                  <a:pt x="651110" y="273220"/>
                  <a:pt x="645289" y="288094"/>
                  <a:pt x="634619" y="298764"/>
                </a:cubicBezTo>
                <a:cubicBezTo>
                  <a:pt x="623949" y="309434"/>
                  <a:pt x="609762" y="315989"/>
                  <a:pt x="598406" y="325925"/>
                </a:cubicBezTo>
                <a:cubicBezTo>
                  <a:pt x="548625" y="369484"/>
                  <a:pt x="572747" y="355961"/>
                  <a:pt x="525978" y="407406"/>
                </a:cubicBezTo>
                <a:cubicBezTo>
                  <a:pt x="508753" y="426354"/>
                  <a:pt x="489764" y="443620"/>
                  <a:pt x="471657" y="461727"/>
                </a:cubicBezTo>
                <a:cubicBezTo>
                  <a:pt x="462604" y="470780"/>
                  <a:pt x="451599" y="478234"/>
                  <a:pt x="444497" y="488887"/>
                </a:cubicBezTo>
                <a:cubicBezTo>
                  <a:pt x="438461" y="497941"/>
                  <a:pt x="432715" y="507194"/>
                  <a:pt x="426390" y="516048"/>
                </a:cubicBezTo>
                <a:cubicBezTo>
                  <a:pt x="399819" y="553247"/>
                  <a:pt x="402465" y="545272"/>
                  <a:pt x="381122" y="579422"/>
                </a:cubicBezTo>
                <a:cubicBezTo>
                  <a:pt x="371796" y="594344"/>
                  <a:pt x="364053" y="610273"/>
                  <a:pt x="353962" y="624689"/>
                </a:cubicBezTo>
                <a:cubicBezTo>
                  <a:pt x="342881" y="640520"/>
                  <a:pt x="328467" y="653879"/>
                  <a:pt x="317748" y="669957"/>
                </a:cubicBezTo>
                <a:cubicBezTo>
                  <a:pt x="310262" y="681186"/>
                  <a:pt x="306585" y="694597"/>
                  <a:pt x="299641" y="706170"/>
                </a:cubicBezTo>
                <a:cubicBezTo>
                  <a:pt x="288445" y="724831"/>
                  <a:pt x="271509" y="740286"/>
                  <a:pt x="263427" y="760491"/>
                </a:cubicBezTo>
                <a:cubicBezTo>
                  <a:pt x="221027" y="866492"/>
                  <a:pt x="267894" y="758339"/>
                  <a:pt x="227214" y="832919"/>
                </a:cubicBezTo>
                <a:cubicBezTo>
                  <a:pt x="214289" y="856616"/>
                  <a:pt x="210087" y="886261"/>
                  <a:pt x="191000" y="905347"/>
                </a:cubicBezTo>
                <a:cubicBezTo>
                  <a:pt x="169875" y="926472"/>
                  <a:pt x="144197" y="943864"/>
                  <a:pt x="127625" y="968721"/>
                </a:cubicBezTo>
                <a:cubicBezTo>
                  <a:pt x="121589" y="977774"/>
                  <a:pt x="116599" y="987620"/>
                  <a:pt x="109518" y="995881"/>
                </a:cubicBezTo>
                <a:cubicBezTo>
                  <a:pt x="98408" y="1008842"/>
                  <a:pt x="83548" y="1018438"/>
                  <a:pt x="73305" y="1032095"/>
                </a:cubicBezTo>
                <a:cubicBezTo>
                  <a:pt x="56223" y="1054871"/>
                  <a:pt x="48169" y="1084391"/>
                  <a:pt x="28037" y="1104523"/>
                </a:cubicBezTo>
                <a:cubicBezTo>
                  <a:pt x="18984" y="1113576"/>
                  <a:pt x="-4849" y="1120231"/>
                  <a:pt x="877" y="1131683"/>
                </a:cubicBezTo>
                <a:cubicBezTo>
                  <a:pt x="6442" y="1142812"/>
                  <a:pt x="25127" y="1126048"/>
                  <a:pt x="37091" y="1122630"/>
                </a:cubicBezTo>
                <a:cubicBezTo>
                  <a:pt x="63190" y="1115173"/>
                  <a:pt x="60992" y="1115205"/>
                  <a:pt x="82358" y="1104523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Freeform 7"/>
          <p:cNvSpPr/>
          <p:nvPr/>
        </p:nvSpPr>
        <p:spPr>
          <a:xfrm>
            <a:off x="2943360" y="2181240"/>
            <a:ext cx="3076560" cy="2263680"/>
          </a:xfrm>
          <a:custGeom>
            <a:avLst/>
            <a:gdLst/>
            <a:ahLst/>
            <a:rect l="l" t="t" r="r" b="b"/>
            <a:pathLst>
              <a:path w="3077034" h="2263366">
                <a:moveTo>
                  <a:pt x="7910" y="1946495"/>
                </a:moveTo>
                <a:cubicBezTo>
                  <a:pt x="29035" y="1993271"/>
                  <a:pt x="98622" y="1950539"/>
                  <a:pt x="143712" y="1955549"/>
                </a:cubicBezTo>
                <a:cubicBezTo>
                  <a:pt x="153197" y="1956603"/>
                  <a:pt x="162530" y="1959968"/>
                  <a:pt x="170872" y="1964602"/>
                </a:cubicBezTo>
                <a:cubicBezTo>
                  <a:pt x="189895" y="1975170"/>
                  <a:pt x="207086" y="1988745"/>
                  <a:pt x="225193" y="2000816"/>
                </a:cubicBezTo>
                <a:lnTo>
                  <a:pt x="252353" y="2018923"/>
                </a:lnTo>
                <a:cubicBezTo>
                  <a:pt x="258389" y="2027976"/>
                  <a:pt x="261963" y="2039286"/>
                  <a:pt x="270460" y="2046083"/>
                </a:cubicBezTo>
                <a:cubicBezTo>
                  <a:pt x="277912" y="2052045"/>
                  <a:pt x="289085" y="2050869"/>
                  <a:pt x="297621" y="2055137"/>
                </a:cubicBezTo>
                <a:cubicBezTo>
                  <a:pt x="307353" y="2060003"/>
                  <a:pt x="314780" y="2068958"/>
                  <a:pt x="324781" y="2073244"/>
                </a:cubicBezTo>
                <a:cubicBezTo>
                  <a:pt x="336218" y="2078145"/>
                  <a:pt x="348595" y="2081264"/>
                  <a:pt x="360995" y="2082297"/>
                </a:cubicBezTo>
                <a:cubicBezTo>
                  <a:pt x="421218" y="2087316"/>
                  <a:pt x="481708" y="2088333"/>
                  <a:pt x="542064" y="2091351"/>
                </a:cubicBezTo>
                <a:lnTo>
                  <a:pt x="623545" y="2145671"/>
                </a:lnTo>
                <a:lnTo>
                  <a:pt x="650706" y="2163778"/>
                </a:lnTo>
                <a:cubicBezTo>
                  <a:pt x="714080" y="2160760"/>
                  <a:pt x="777383" y="2154725"/>
                  <a:pt x="840829" y="2154725"/>
                </a:cubicBezTo>
                <a:cubicBezTo>
                  <a:pt x="862168" y="2154725"/>
                  <a:pt x="885117" y="2154235"/>
                  <a:pt x="904203" y="2163778"/>
                </a:cubicBezTo>
                <a:cubicBezTo>
                  <a:pt x="917699" y="2170526"/>
                  <a:pt x="920693" y="2189322"/>
                  <a:pt x="931363" y="2199992"/>
                </a:cubicBezTo>
                <a:cubicBezTo>
                  <a:pt x="939057" y="2207686"/>
                  <a:pt x="948792" y="2213233"/>
                  <a:pt x="958524" y="2218099"/>
                </a:cubicBezTo>
                <a:cubicBezTo>
                  <a:pt x="966825" y="2222250"/>
                  <a:pt x="1015284" y="2241343"/>
                  <a:pt x="1030951" y="2245260"/>
                </a:cubicBezTo>
                <a:cubicBezTo>
                  <a:pt x="1045880" y="2248992"/>
                  <a:pt x="1061197" y="2250975"/>
                  <a:pt x="1076219" y="2254313"/>
                </a:cubicBezTo>
                <a:cubicBezTo>
                  <a:pt x="1088365" y="2257012"/>
                  <a:pt x="1100361" y="2260348"/>
                  <a:pt x="1112432" y="2263366"/>
                </a:cubicBezTo>
                <a:cubicBezTo>
                  <a:pt x="1209002" y="2260348"/>
                  <a:pt x="1305674" y="2259672"/>
                  <a:pt x="1402143" y="2254313"/>
                </a:cubicBezTo>
                <a:cubicBezTo>
                  <a:pt x="1414567" y="2253623"/>
                  <a:pt x="1426393" y="2248678"/>
                  <a:pt x="1438357" y="2245260"/>
                </a:cubicBezTo>
                <a:cubicBezTo>
                  <a:pt x="1457772" y="2239713"/>
                  <a:pt x="1481748" y="2228818"/>
                  <a:pt x="1501731" y="2227153"/>
                </a:cubicBezTo>
                <a:cubicBezTo>
                  <a:pt x="1561954" y="2222134"/>
                  <a:pt x="1622444" y="2221117"/>
                  <a:pt x="1682801" y="2218099"/>
                </a:cubicBezTo>
                <a:cubicBezTo>
                  <a:pt x="1705940" y="2214794"/>
                  <a:pt x="1756117" y="2209844"/>
                  <a:pt x="1782389" y="2199992"/>
                </a:cubicBezTo>
                <a:cubicBezTo>
                  <a:pt x="1845891" y="2176178"/>
                  <a:pt x="1793220" y="2190049"/>
                  <a:pt x="1845763" y="2163778"/>
                </a:cubicBezTo>
                <a:cubicBezTo>
                  <a:pt x="1854299" y="2159510"/>
                  <a:pt x="1863870" y="2157743"/>
                  <a:pt x="1872924" y="2154725"/>
                </a:cubicBezTo>
                <a:cubicBezTo>
                  <a:pt x="1881977" y="2148689"/>
                  <a:pt x="1890141" y="2141037"/>
                  <a:pt x="1900084" y="2136618"/>
                </a:cubicBezTo>
                <a:cubicBezTo>
                  <a:pt x="1966051" y="2107299"/>
                  <a:pt x="1988320" y="2117437"/>
                  <a:pt x="2072100" y="2109458"/>
                </a:cubicBezTo>
                <a:cubicBezTo>
                  <a:pt x="2140567" y="2102937"/>
                  <a:pt x="2129263" y="2104220"/>
                  <a:pt x="2180741" y="2091351"/>
                </a:cubicBezTo>
                <a:cubicBezTo>
                  <a:pt x="2244738" y="2048687"/>
                  <a:pt x="2165526" y="2102220"/>
                  <a:pt x="2244116" y="2046083"/>
                </a:cubicBezTo>
                <a:cubicBezTo>
                  <a:pt x="2252970" y="2039759"/>
                  <a:pt x="2262917" y="2034942"/>
                  <a:pt x="2271276" y="2027976"/>
                </a:cubicBezTo>
                <a:cubicBezTo>
                  <a:pt x="2281112" y="2019779"/>
                  <a:pt x="2290239" y="2010652"/>
                  <a:pt x="2298436" y="2000816"/>
                </a:cubicBezTo>
                <a:cubicBezTo>
                  <a:pt x="2319312" y="1975765"/>
                  <a:pt x="2313948" y="1966332"/>
                  <a:pt x="2343704" y="1946495"/>
                </a:cubicBezTo>
                <a:cubicBezTo>
                  <a:pt x="2351644" y="1941201"/>
                  <a:pt x="2361811" y="1940460"/>
                  <a:pt x="2370864" y="1937442"/>
                </a:cubicBezTo>
                <a:cubicBezTo>
                  <a:pt x="2398138" y="1955624"/>
                  <a:pt x="2402080" y="1959874"/>
                  <a:pt x="2434238" y="1973656"/>
                </a:cubicBezTo>
                <a:cubicBezTo>
                  <a:pt x="2443010" y="1977415"/>
                  <a:pt x="2451939" y="1981448"/>
                  <a:pt x="2461399" y="1982709"/>
                </a:cubicBezTo>
                <a:cubicBezTo>
                  <a:pt x="2497419" y="1987512"/>
                  <a:pt x="2533826" y="1988745"/>
                  <a:pt x="2570040" y="1991763"/>
                </a:cubicBezTo>
                <a:cubicBezTo>
                  <a:pt x="2594730" y="2016452"/>
                  <a:pt x="2602444" y="2026726"/>
                  <a:pt x="2633415" y="2046083"/>
                </a:cubicBezTo>
                <a:cubicBezTo>
                  <a:pt x="2644860" y="2053236"/>
                  <a:pt x="2657911" y="2057494"/>
                  <a:pt x="2669629" y="2064190"/>
                </a:cubicBezTo>
                <a:cubicBezTo>
                  <a:pt x="2679076" y="2069588"/>
                  <a:pt x="2687736" y="2076261"/>
                  <a:pt x="2696789" y="2082297"/>
                </a:cubicBezTo>
                <a:cubicBezTo>
                  <a:pt x="2733003" y="2079279"/>
                  <a:pt x="2769410" y="2078047"/>
                  <a:pt x="2805430" y="2073244"/>
                </a:cubicBezTo>
                <a:cubicBezTo>
                  <a:pt x="2814890" y="2071983"/>
                  <a:pt x="2823655" y="2067541"/>
                  <a:pt x="2832591" y="2064190"/>
                </a:cubicBezTo>
                <a:cubicBezTo>
                  <a:pt x="2919168" y="2031723"/>
                  <a:pt x="2843385" y="2057573"/>
                  <a:pt x="2905019" y="2037030"/>
                </a:cubicBezTo>
                <a:cubicBezTo>
                  <a:pt x="2963445" y="2048715"/>
                  <a:pt x="2978839" y="2057574"/>
                  <a:pt x="3049874" y="2027976"/>
                </a:cubicBezTo>
                <a:cubicBezTo>
                  <a:pt x="3058683" y="2024306"/>
                  <a:pt x="3056306" y="2009992"/>
                  <a:pt x="3058928" y="2000816"/>
                </a:cubicBezTo>
                <a:cubicBezTo>
                  <a:pt x="3081672" y="1921214"/>
                  <a:pt x="3055321" y="2002582"/>
                  <a:pt x="3077034" y="1937442"/>
                </a:cubicBezTo>
                <a:cubicBezTo>
                  <a:pt x="3074016" y="1880103"/>
                  <a:pt x="3073179" y="1822608"/>
                  <a:pt x="3067981" y="1765426"/>
                </a:cubicBezTo>
                <a:cubicBezTo>
                  <a:pt x="3067117" y="1755922"/>
                  <a:pt x="3062279" y="1747201"/>
                  <a:pt x="3058928" y="1738265"/>
                </a:cubicBezTo>
                <a:cubicBezTo>
                  <a:pt x="3045425" y="1702256"/>
                  <a:pt x="3032228" y="1676730"/>
                  <a:pt x="3022714" y="1638677"/>
                </a:cubicBezTo>
                <a:cubicBezTo>
                  <a:pt x="3013023" y="1599915"/>
                  <a:pt x="3012272" y="1599355"/>
                  <a:pt x="3004607" y="1557196"/>
                </a:cubicBezTo>
                <a:cubicBezTo>
                  <a:pt x="3001323" y="1539135"/>
                  <a:pt x="3001358" y="1520290"/>
                  <a:pt x="2995553" y="1502875"/>
                </a:cubicBezTo>
                <a:cubicBezTo>
                  <a:pt x="2932307" y="1313140"/>
                  <a:pt x="3000770" y="1579338"/>
                  <a:pt x="2950286" y="1394234"/>
                </a:cubicBezTo>
                <a:cubicBezTo>
                  <a:pt x="2946237" y="1379388"/>
                  <a:pt x="2946098" y="1363565"/>
                  <a:pt x="2941232" y="1348966"/>
                </a:cubicBezTo>
                <a:cubicBezTo>
                  <a:pt x="2933964" y="1327162"/>
                  <a:pt x="2921340" y="1307396"/>
                  <a:pt x="2914072" y="1285592"/>
                </a:cubicBezTo>
                <a:cubicBezTo>
                  <a:pt x="2896785" y="1233730"/>
                  <a:pt x="2899655" y="1206799"/>
                  <a:pt x="2877858" y="1158844"/>
                </a:cubicBezTo>
                <a:cubicBezTo>
                  <a:pt x="2870576" y="1142824"/>
                  <a:pt x="2858568" y="1129315"/>
                  <a:pt x="2850698" y="1113576"/>
                </a:cubicBezTo>
                <a:cubicBezTo>
                  <a:pt x="2843430" y="1099040"/>
                  <a:pt x="2839859" y="1082845"/>
                  <a:pt x="2832591" y="1068309"/>
                </a:cubicBezTo>
                <a:cubicBezTo>
                  <a:pt x="2824721" y="1052570"/>
                  <a:pt x="2813300" y="1038781"/>
                  <a:pt x="2805430" y="1023042"/>
                </a:cubicBezTo>
                <a:cubicBezTo>
                  <a:pt x="2801162" y="1014506"/>
                  <a:pt x="2801012" y="1004223"/>
                  <a:pt x="2796377" y="995881"/>
                </a:cubicBezTo>
                <a:cubicBezTo>
                  <a:pt x="2785809" y="976858"/>
                  <a:pt x="2769895" y="961025"/>
                  <a:pt x="2760163" y="941561"/>
                </a:cubicBezTo>
                <a:cubicBezTo>
                  <a:pt x="2745127" y="911489"/>
                  <a:pt x="2743143" y="903778"/>
                  <a:pt x="2723949" y="878186"/>
                </a:cubicBezTo>
                <a:cubicBezTo>
                  <a:pt x="2703304" y="850659"/>
                  <a:pt x="2684905" y="821035"/>
                  <a:pt x="2660575" y="796705"/>
                </a:cubicBezTo>
                <a:lnTo>
                  <a:pt x="2579094" y="715224"/>
                </a:lnTo>
                <a:cubicBezTo>
                  <a:pt x="2570040" y="706171"/>
                  <a:pt x="2559615" y="698307"/>
                  <a:pt x="2551933" y="688064"/>
                </a:cubicBezTo>
                <a:cubicBezTo>
                  <a:pt x="2500708" y="619763"/>
                  <a:pt x="2552526" y="682571"/>
                  <a:pt x="2479506" y="615636"/>
                </a:cubicBezTo>
                <a:cubicBezTo>
                  <a:pt x="2457483" y="595449"/>
                  <a:pt x="2440031" y="570187"/>
                  <a:pt x="2416131" y="552262"/>
                </a:cubicBezTo>
                <a:lnTo>
                  <a:pt x="2343704" y="497941"/>
                </a:lnTo>
                <a:cubicBezTo>
                  <a:pt x="2331633" y="488887"/>
                  <a:pt x="2319401" y="480044"/>
                  <a:pt x="2307490" y="470780"/>
                </a:cubicBezTo>
                <a:cubicBezTo>
                  <a:pt x="2292237" y="458916"/>
                  <a:pt x="2275887" y="448229"/>
                  <a:pt x="2262223" y="434566"/>
                </a:cubicBezTo>
                <a:cubicBezTo>
                  <a:pt x="2253169" y="425513"/>
                  <a:pt x="2244898" y="415603"/>
                  <a:pt x="2235062" y="407406"/>
                </a:cubicBezTo>
                <a:cubicBezTo>
                  <a:pt x="2025450" y="232731"/>
                  <a:pt x="2250341" y="417592"/>
                  <a:pt x="2099260" y="316871"/>
                </a:cubicBezTo>
                <a:cubicBezTo>
                  <a:pt x="1981990" y="238691"/>
                  <a:pt x="2115308" y="281755"/>
                  <a:pt x="1909137" y="190123"/>
                </a:cubicBezTo>
                <a:cubicBezTo>
                  <a:pt x="1843869" y="161115"/>
                  <a:pt x="1817116" y="150702"/>
                  <a:pt x="1755229" y="117695"/>
                </a:cubicBezTo>
                <a:cubicBezTo>
                  <a:pt x="1733761" y="106245"/>
                  <a:pt x="1713902" y="91770"/>
                  <a:pt x="1691854" y="81481"/>
                </a:cubicBezTo>
                <a:cubicBezTo>
                  <a:pt x="1668489" y="70577"/>
                  <a:pt x="1642489" y="65852"/>
                  <a:pt x="1619427" y="54321"/>
                </a:cubicBezTo>
                <a:cubicBezTo>
                  <a:pt x="1605931" y="47573"/>
                  <a:pt x="1597002" y="33289"/>
                  <a:pt x="1583213" y="27161"/>
                </a:cubicBezTo>
                <a:cubicBezTo>
                  <a:pt x="1569151" y="20911"/>
                  <a:pt x="1552791" y="22156"/>
                  <a:pt x="1537945" y="18107"/>
                </a:cubicBezTo>
                <a:cubicBezTo>
                  <a:pt x="1519531" y="13085"/>
                  <a:pt x="1483625" y="0"/>
                  <a:pt x="1483625" y="0"/>
                </a:cubicBezTo>
                <a:cubicBezTo>
                  <a:pt x="1432322" y="3018"/>
                  <a:pt x="1380897" y="4401"/>
                  <a:pt x="1329716" y="9054"/>
                </a:cubicBezTo>
                <a:cubicBezTo>
                  <a:pt x="1314391" y="10447"/>
                  <a:pt x="1299588" y="15354"/>
                  <a:pt x="1284448" y="18107"/>
                </a:cubicBezTo>
                <a:cubicBezTo>
                  <a:pt x="1266388" y="21391"/>
                  <a:pt x="1248235" y="24143"/>
                  <a:pt x="1230128" y="27161"/>
                </a:cubicBezTo>
                <a:cubicBezTo>
                  <a:pt x="1215039" y="36214"/>
                  <a:pt x="1200880" y="47039"/>
                  <a:pt x="1184860" y="54321"/>
                </a:cubicBezTo>
                <a:cubicBezTo>
                  <a:pt x="1167484" y="62219"/>
                  <a:pt x="1148476" y="65905"/>
                  <a:pt x="1130539" y="72428"/>
                </a:cubicBezTo>
                <a:cubicBezTo>
                  <a:pt x="1115266" y="77982"/>
                  <a:pt x="1100028" y="83725"/>
                  <a:pt x="1085272" y="90535"/>
                </a:cubicBezTo>
                <a:cubicBezTo>
                  <a:pt x="1060764" y="101846"/>
                  <a:pt x="1031930" y="107663"/>
                  <a:pt x="1012844" y="126749"/>
                </a:cubicBezTo>
                <a:cubicBezTo>
                  <a:pt x="1000773" y="138820"/>
                  <a:pt x="990105" y="152482"/>
                  <a:pt x="976630" y="162963"/>
                </a:cubicBezTo>
                <a:cubicBezTo>
                  <a:pt x="962740" y="173766"/>
                  <a:pt x="946004" y="180362"/>
                  <a:pt x="931363" y="190123"/>
                </a:cubicBezTo>
                <a:cubicBezTo>
                  <a:pt x="918808" y="198493"/>
                  <a:pt x="907510" y="208630"/>
                  <a:pt x="895149" y="217283"/>
                </a:cubicBezTo>
                <a:cubicBezTo>
                  <a:pt x="877321" y="229763"/>
                  <a:pt x="857671" y="239717"/>
                  <a:pt x="840829" y="253497"/>
                </a:cubicBezTo>
                <a:cubicBezTo>
                  <a:pt x="759217" y="320271"/>
                  <a:pt x="830787" y="278299"/>
                  <a:pt x="759347" y="325925"/>
                </a:cubicBezTo>
                <a:cubicBezTo>
                  <a:pt x="657732" y="393667"/>
                  <a:pt x="764160" y="319416"/>
                  <a:pt x="677866" y="371192"/>
                </a:cubicBezTo>
                <a:cubicBezTo>
                  <a:pt x="659205" y="382388"/>
                  <a:pt x="641652" y="395335"/>
                  <a:pt x="623545" y="407406"/>
                </a:cubicBezTo>
                <a:lnTo>
                  <a:pt x="596385" y="425513"/>
                </a:lnTo>
                <a:cubicBezTo>
                  <a:pt x="587332" y="431549"/>
                  <a:pt x="576919" y="435926"/>
                  <a:pt x="569225" y="443620"/>
                </a:cubicBezTo>
                <a:cubicBezTo>
                  <a:pt x="557154" y="455691"/>
                  <a:pt x="545973" y="468724"/>
                  <a:pt x="533011" y="479834"/>
                </a:cubicBezTo>
                <a:cubicBezTo>
                  <a:pt x="510954" y="498740"/>
                  <a:pt x="495323" y="501369"/>
                  <a:pt x="469636" y="516048"/>
                </a:cubicBezTo>
                <a:cubicBezTo>
                  <a:pt x="460189" y="521446"/>
                  <a:pt x="449795" y="526104"/>
                  <a:pt x="442476" y="534155"/>
                </a:cubicBezTo>
                <a:cubicBezTo>
                  <a:pt x="419331" y="559615"/>
                  <a:pt x="403433" y="591306"/>
                  <a:pt x="379102" y="615636"/>
                </a:cubicBezTo>
                <a:cubicBezTo>
                  <a:pt x="359078" y="635660"/>
                  <a:pt x="346439" y="644746"/>
                  <a:pt x="333834" y="669957"/>
                </a:cubicBezTo>
                <a:cubicBezTo>
                  <a:pt x="326566" y="684493"/>
                  <a:pt x="322996" y="700688"/>
                  <a:pt x="315728" y="715224"/>
                </a:cubicBezTo>
                <a:cubicBezTo>
                  <a:pt x="307858" y="730963"/>
                  <a:pt x="295849" y="744472"/>
                  <a:pt x="288567" y="760491"/>
                </a:cubicBezTo>
                <a:cubicBezTo>
                  <a:pt x="288563" y="760500"/>
                  <a:pt x="265935" y="828387"/>
                  <a:pt x="261407" y="841972"/>
                </a:cubicBezTo>
                <a:cubicBezTo>
                  <a:pt x="258389" y="851026"/>
                  <a:pt x="256621" y="860597"/>
                  <a:pt x="252353" y="869133"/>
                </a:cubicBezTo>
                <a:lnTo>
                  <a:pt x="234246" y="905347"/>
                </a:lnTo>
                <a:cubicBezTo>
                  <a:pt x="231228" y="917418"/>
                  <a:pt x="228768" y="929643"/>
                  <a:pt x="225193" y="941561"/>
                </a:cubicBezTo>
                <a:cubicBezTo>
                  <a:pt x="219709" y="959842"/>
                  <a:pt x="211715" y="977365"/>
                  <a:pt x="207086" y="995881"/>
                </a:cubicBezTo>
                <a:cubicBezTo>
                  <a:pt x="184349" y="1086831"/>
                  <a:pt x="196850" y="1044697"/>
                  <a:pt x="170872" y="1122630"/>
                </a:cubicBezTo>
                <a:cubicBezTo>
                  <a:pt x="167854" y="1131683"/>
                  <a:pt x="165363" y="1140930"/>
                  <a:pt x="161819" y="1149790"/>
                </a:cubicBezTo>
                <a:cubicBezTo>
                  <a:pt x="136623" y="1212781"/>
                  <a:pt x="148852" y="1179638"/>
                  <a:pt x="125605" y="1249378"/>
                </a:cubicBezTo>
                <a:lnTo>
                  <a:pt x="116551" y="1276539"/>
                </a:lnTo>
                <a:cubicBezTo>
                  <a:pt x="113533" y="1285592"/>
                  <a:pt x="111042" y="1294839"/>
                  <a:pt x="107498" y="1303699"/>
                </a:cubicBezTo>
                <a:cubicBezTo>
                  <a:pt x="101462" y="1318788"/>
                  <a:pt x="94061" y="1333400"/>
                  <a:pt x="89391" y="1348966"/>
                </a:cubicBezTo>
                <a:cubicBezTo>
                  <a:pt x="79671" y="1381365"/>
                  <a:pt x="77633" y="1425863"/>
                  <a:pt x="71284" y="1457608"/>
                </a:cubicBezTo>
                <a:cubicBezTo>
                  <a:pt x="66404" y="1482010"/>
                  <a:pt x="59213" y="1505893"/>
                  <a:pt x="53177" y="1530036"/>
                </a:cubicBezTo>
                <a:cubicBezTo>
                  <a:pt x="50159" y="1542107"/>
                  <a:pt x="48059" y="1554446"/>
                  <a:pt x="44124" y="1566250"/>
                </a:cubicBezTo>
                <a:cubicBezTo>
                  <a:pt x="34039" y="1596502"/>
                  <a:pt x="33598" y="1595511"/>
                  <a:pt x="26017" y="1629624"/>
                </a:cubicBezTo>
                <a:cubicBezTo>
                  <a:pt x="22679" y="1644645"/>
                  <a:pt x="17390" y="1659509"/>
                  <a:pt x="16963" y="1674891"/>
                </a:cubicBezTo>
                <a:cubicBezTo>
                  <a:pt x="14365" y="1768408"/>
                  <a:pt x="-13215" y="1899719"/>
                  <a:pt x="7910" y="194649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2"/>
          <a:srcRect l="26140" t="7109" r="29902" b="0"/>
          <a:stretch/>
        </p:blipFill>
        <p:spPr>
          <a:xfrm>
            <a:off x="189000" y="1473120"/>
            <a:ext cx="2843280" cy="3756240"/>
          </a:xfrm>
          <a:prstGeom prst="rect">
            <a:avLst/>
          </a:prstGeom>
          <a:ln w="0">
            <a:noFill/>
          </a:ln>
        </p:spPr>
      </p:pic>
      <p:sp>
        <p:nvSpPr>
          <p:cNvPr id="349" name="Rounded Rectangular Callout 8"/>
          <p:cNvSpPr/>
          <p:nvPr/>
        </p:nvSpPr>
        <p:spPr>
          <a:xfrm>
            <a:off x="2638440" y="189000"/>
            <a:ext cx="3097080" cy="1871640"/>
          </a:xfrm>
          <a:prstGeom prst="wedgeRoundRectCallout">
            <a:avLst>
              <a:gd name="adj1" fmla="val -51560"/>
              <a:gd name="adj2" fmla="val 83587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Rounded Rectangular Callout 9"/>
          <p:cNvSpPr/>
          <p:nvPr/>
        </p:nvSpPr>
        <p:spPr>
          <a:xfrm>
            <a:off x="5589720" y="2384280"/>
            <a:ext cx="3092400" cy="1765440"/>
          </a:xfrm>
          <a:prstGeom prst="wedgeRoundRectCallout">
            <a:avLst>
              <a:gd name="adj1" fmla="val 155972"/>
              <a:gd name="adj2" fmla="val -38958"/>
              <a:gd name="adj3" fmla="val 16667"/>
            </a:avLst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¿ Tienes hambr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ounded Rectangular Callout 10"/>
          <p:cNvSpPr/>
          <p:nvPr/>
        </p:nvSpPr>
        <p:spPr>
          <a:xfrm>
            <a:off x="2638440" y="4653000"/>
            <a:ext cx="4237200" cy="1655640"/>
          </a:xfrm>
          <a:prstGeom prst="wedgeRoundRectCallout">
            <a:avLst>
              <a:gd name="adj1" fmla="val -43666"/>
              <a:gd name="adj2" fmla="val -96152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No, ya no tengo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3"/>
          <a:stretch/>
        </p:blipFill>
        <p:spPr>
          <a:xfrm>
            <a:off x="2936880" y="2708280"/>
            <a:ext cx="3048120" cy="2071800"/>
          </a:xfrm>
          <a:prstGeom prst="rect">
            <a:avLst/>
          </a:prstGeom>
          <a:ln w="0">
            <a:noFill/>
          </a:ln>
        </p:spPr>
      </p:pic>
      <p:sp>
        <p:nvSpPr>
          <p:cNvPr id="72" name="Freeform 1"/>
          <p:cNvSpPr/>
          <p:nvPr/>
        </p:nvSpPr>
        <p:spPr>
          <a:xfrm rot="10372800">
            <a:off x="2789280" y="2173320"/>
            <a:ext cx="3222720" cy="2192400"/>
          </a:xfrm>
          <a:custGeom>
            <a:avLst/>
            <a:gdLst/>
            <a:ahLst/>
            <a:rect l="l" t="t" r="r" b="b"/>
            <a:pathLst>
              <a:path w="3223044" h="1620570">
                <a:moveTo>
                  <a:pt x="72428" y="878186"/>
                </a:moveTo>
                <a:cubicBezTo>
                  <a:pt x="79973" y="906855"/>
                  <a:pt x="88579" y="966403"/>
                  <a:pt x="99588" y="1004934"/>
                </a:cubicBezTo>
                <a:cubicBezTo>
                  <a:pt x="102210" y="1014110"/>
                  <a:pt x="105624" y="1023041"/>
                  <a:pt x="108642" y="1032095"/>
                </a:cubicBezTo>
                <a:cubicBezTo>
                  <a:pt x="119802" y="1132541"/>
                  <a:pt x="109054" y="1087654"/>
                  <a:pt x="135802" y="1167897"/>
                </a:cubicBezTo>
                <a:lnTo>
                  <a:pt x="153909" y="1222218"/>
                </a:lnTo>
                <a:lnTo>
                  <a:pt x="162963" y="1249378"/>
                </a:lnTo>
                <a:cubicBezTo>
                  <a:pt x="165981" y="1294645"/>
                  <a:pt x="167006" y="1340090"/>
                  <a:pt x="172016" y="1385180"/>
                </a:cubicBezTo>
                <a:cubicBezTo>
                  <a:pt x="173070" y="1394665"/>
                  <a:pt x="178755" y="1403082"/>
                  <a:pt x="181070" y="1412340"/>
                </a:cubicBezTo>
                <a:cubicBezTo>
                  <a:pt x="184802" y="1427269"/>
                  <a:pt x="184720" y="1443200"/>
                  <a:pt x="190123" y="1457608"/>
                </a:cubicBezTo>
                <a:cubicBezTo>
                  <a:pt x="193943" y="1467796"/>
                  <a:pt x="202194" y="1475715"/>
                  <a:pt x="208230" y="1484768"/>
                </a:cubicBezTo>
                <a:cubicBezTo>
                  <a:pt x="211248" y="1496839"/>
                  <a:pt x="209510" y="1511266"/>
                  <a:pt x="217283" y="1520982"/>
                </a:cubicBezTo>
                <a:cubicBezTo>
                  <a:pt x="223245" y="1528434"/>
                  <a:pt x="235908" y="1525767"/>
                  <a:pt x="244444" y="1530035"/>
                </a:cubicBezTo>
                <a:cubicBezTo>
                  <a:pt x="327943" y="1571784"/>
                  <a:pt x="175411" y="1540742"/>
                  <a:pt x="389299" y="1557196"/>
                </a:cubicBezTo>
                <a:cubicBezTo>
                  <a:pt x="416575" y="1575380"/>
                  <a:pt x="420513" y="1579627"/>
                  <a:pt x="452674" y="1593410"/>
                </a:cubicBezTo>
                <a:cubicBezTo>
                  <a:pt x="477030" y="1603848"/>
                  <a:pt x="498537" y="1606204"/>
                  <a:pt x="525101" y="1611517"/>
                </a:cubicBezTo>
                <a:cubicBezTo>
                  <a:pt x="576404" y="1608499"/>
                  <a:pt x="627618" y="1602463"/>
                  <a:pt x="679010" y="1602463"/>
                </a:cubicBezTo>
                <a:cubicBezTo>
                  <a:pt x="977440" y="1602463"/>
                  <a:pt x="898164" y="1578946"/>
                  <a:pt x="1023042" y="1620570"/>
                </a:cubicBezTo>
                <a:cubicBezTo>
                  <a:pt x="1071327" y="1617552"/>
                  <a:pt x="1120053" y="1618694"/>
                  <a:pt x="1167897" y="1611517"/>
                </a:cubicBezTo>
                <a:cubicBezTo>
                  <a:pt x="1180427" y="1609638"/>
                  <a:pt x="1219823" y="1583890"/>
                  <a:pt x="1231272" y="1575303"/>
                </a:cubicBezTo>
                <a:cubicBezTo>
                  <a:pt x="1342905" y="1491579"/>
                  <a:pt x="1225527" y="1578933"/>
                  <a:pt x="1303699" y="1511928"/>
                </a:cubicBezTo>
                <a:cubicBezTo>
                  <a:pt x="1315155" y="1502108"/>
                  <a:pt x="1328456" y="1494588"/>
                  <a:pt x="1339913" y="1484768"/>
                </a:cubicBezTo>
                <a:cubicBezTo>
                  <a:pt x="1349634" y="1476436"/>
                  <a:pt x="1356421" y="1464710"/>
                  <a:pt x="1367074" y="1457608"/>
                </a:cubicBezTo>
                <a:cubicBezTo>
                  <a:pt x="1375218" y="1452179"/>
                  <a:pt x="1425161" y="1441012"/>
                  <a:pt x="1430448" y="1439501"/>
                </a:cubicBezTo>
                <a:cubicBezTo>
                  <a:pt x="1521365" y="1413524"/>
                  <a:pt x="1380611" y="1449695"/>
                  <a:pt x="1493822" y="1421394"/>
                </a:cubicBezTo>
                <a:cubicBezTo>
                  <a:pt x="1511929" y="1424412"/>
                  <a:pt x="1530223" y="1426465"/>
                  <a:pt x="1548143" y="1430447"/>
                </a:cubicBezTo>
                <a:cubicBezTo>
                  <a:pt x="1557459" y="1432517"/>
                  <a:pt x="1565760" y="1439501"/>
                  <a:pt x="1575303" y="1439501"/>
                </a:cubicBezTo>
                <a:cubicBezTo>
                  <a:pt x="1653824" y="1439501"/>
                  <a:pt x="1732230" y="1433465"/>
                  <a:pt x="1810693" y="1430447"/>
                </a:cubicBezTo>
                <a:cubicBezTo>
                  <a:pt x="1843990" y="1405475"/>
                  <a:pt x="1854990" y="1399893"/>
                  <a:pt x="1883121" y="1367073"/>
                </a:cubicBezTo>
                <a:cubicBezTo>
                  <a:pt x="1919777" y="1324308"/>
                  <a:pt x="1882641" y="1355072"/>
                  <a:pt x="1919335" y="1303699"/>
                </a:cubicBezTo>
                <a:cubicBezTo>
                  <a:pt x="1935179" y="1281517"/>
                  <a:pt x="1951997" y="1272870"/>
                  <a:pt x="1973656" y="1258431"/>
                </a:cubicBezTo>
                <a:cubicBezTo>
                  <a:pt x="1985727" y="1261449"/>
                  <a:pt x="1998384" y="1262699"/>
                  <a:pt x="2009870" y="1267485"/>
                </a:cubicBezTo>
                <a:cubicBezTo>
                  <a:pt x="2088107" y="1300085"/>
                  <a:pt x="2057653" y="1297951"/>
                  <a:pt x="2109458" y="1312752"/>
                </a:cubicBezTo>
                <a:cubicBezTo>
                  <a:pt x="2121422" y="1316170"/>
                  <a:pt x="2133257" y="1320978"/>
                  <a:pt x="2145672" y="1321806"/>
                </a:cubicBezTo>
                <a:cubicBezTo>
                  <a:pt x="2224019" y="1327029"/>
                  <a:pt x="2302599" y="1327841"/>
                  <a:pt x="2381062" y="1330859"/>
                </a:cubicBezTo>
                <a:cubicBezTo>
                  <a:pt x="2399233" y="1342973"/>
                  <a:pt x="2437106" y="1368845"/>
                  <a:pt x="2453489" y="1376126"/>
                </a:cubicBezTo>
                <a:cubicBezTo>
                  <a:pt x="2464859" y="1381180"/>
                  <a:pt x="2477632" y="1382162"/>
                  <a:pt x="2489703" y="1385180"/>
                </a:cubicBezTo>
                <a:cubicBezTo>
                  <a:pt x="2522899" y="1382162"/>
                  <a:pt x="2556698" y="1383110"/>
                  <a:pt x="2589291" y="1376126"/>
                </a:cubicBezTo>
                <a:cubicBezTo>
                  <a:pt x="2599931" y="1373846"/>
                  <a:pt x="2606509" y="1362438"/>
                  <a:pt x="2616452" y="1358019"/>
                </a:cubicBezTo>
                <a:cubicBezTo>
                  <a:pt x="2633893" y="1350268"/>
                  <a:pt x="2670773" y="1339913"/>
                  <a:pt x="2670773" y="1339913"/>
                </a:cubicBezTo>
                <a:cubicBezTo>
                  <a:pt x="2770360" y="1273520"/>
                  <a:pt x="2703365" y="1304906"/>
                  <a:pt x="2888056" y="1294645"/>
                </a:cubicBezTo>
                <a:cubicBezTo>
                  <a:pt x="2915624" y="1276266"/>
                  <a:pt x="2925533" y="1274012"/>
                  <a:pt x="2942377" y="1240324"/>
                </a:cubicBezTo>
                <a:cubicBezTo>
                  <a:pt x="2950913" y="1223253"/>
                  <a:pt x="2960483" y="1186004"/>
                  <a:pt x="2960483" y="1186004"/>
                </a:cubicBezTo>
                <a:cubicBezTo>
                  <a:pt x="2963501" y="1152808"/>
                  <a:pt x="2959734" y="1118275"/>
                  <a:pt x="2969537" y="1086416"/>
                </a:cubicBezTo>
                <a:cubicBezTo>
                  <a:pt x="2972737" y="1076016"/>
                  <a:pt x="2990661" y="1077362"/>
                  <a:pt x="2996697" y="1068309"/>
                </a:cubicBezTo>
                <a:cubicBezTo>
                  <a:pt x="3036349" y="1008831"/>
                  <a:pt x="2960653" y="1050089"/>
                  <a:pt x="3041965" y="995881"/>
                </a:cubicBezTo>
                <a:cubicBezTo>
                  <a:pt x="3055487" y="986866"/>
                  <a:pt x="3072696" y="985042"/>
                  <a:pt x="3087232" y="977774"/>
                </a:cubicBezTo>
                <a:cubicBezTo>
                  <a:pt x="3106379" y="968200"/>
                  <a:pt x="3134210" y="942755"/>
                  <a:pt x="3150606" y="932507"/>
                </a:cubicBezTo>
                <a:cubicBezTo>
                  <a:pt x="3214160" y="892786"/>
                  <a:pt x="3162204" y="939016"/>
                  <a:pt x="3213981" y="887239"/>
                </a:cubicBezTo>
                <a:cubicBezTo>
                  <a:pt x="3216999" y="878186"/>
                  <a:pt x="3223034" y="869622"/>
                  <a:pt x="3223034" y="860079"/>
                </a:cubicBezTo>
                <a:cubicBezTo>
                  <a:pt x="3223034" y="811963"/>
                  <a:pt x="3224077" y="727405"/>
                  <a:pt x="3204927" y="669956"/>
                </a:cubicBezTo>
                <a:cubicBezTo>
                  <a:pt x="3183867" y="606778"/>
                  <a:pt x="3192377" y="643693"/>
                  <a:pt x="3168713" y="588475"/>
                </a:cubicBezTo>
                <a:cubicBezTo>
                  <a:pt x="3145671" y="534711"/>
                  <a:pt x="3179960" y="588381"/>
                  <a:pt x="3132499" y="525101"/>
                </a:cubicBezTo>
                <a:cubicBezTo>
                  <a:pt x="3116589" y="477367"/>
                  <a:pt x="3133962" y="515993"/>
                  <a:pt x="3096285" y="470780"/>
                </a:cubicBezTo>
                <a:cubicBezTo>
                  <a:pt x="3089319" y="462421"/>
                  <a:pt x="3087626" y="449017"/>
                  <a:pt x="3078179" y="443619"/>
                </a:cubicBezTo>
                <a:cubicBezTo>
                  <a:pt x="3064818" y="435984"/>
                  <a:pt x="3047933" y="437904"/>
                  <a:pt x="3032911" y="434566"/>
                </a:cubicBezTo>
                <a:cubicBezTo>
                  <a:pt x="3020764" y="431867"/>
                  <a:pt x="3008768" y="428531"/>
                  <a:pt x="2996697" y="425513"/>
                </a:cubicBezTo>
                <a:cubicBezTo>
                  <a:pt x="2978590" y="413442"/>
                  <a:pt x="2959786" y="402356"/>
                  <a:pt x="2942377" y="389299"/>
                </a:cubicBezTo>
                <a:cubicBezTo>
                  <a:pt x="2930306" y="380245"/>
                  <a:pt x="2918718" y="370508"/>
                  <a:pt x="2906163" y="362138"/>
                </a:cubicBezTo>
                <a:cubicBezTo>
                  <a:pt x="2846838" y="322588"/>
                  <a:pt x="2869844" y="346216"/>
                  <a:pt x="2806575" y="298764"/>
                </a:cubicBezTo>
                <a:cubicBezTo>
                  <a:pt x="2787719" y="284622"/>
                  <a:pt x="2771434" y="267197"/>
                  <a:pt x="2752254" y="253497"/>
                </a:cubicBezTo>
                <a:cubicBezTo>
                  <a:pt x="2729087" y="236949"/>
                  <a:pt x="2703085" y="224647"/>
                  <a:pt x="2679826" y="208229"/>
                </a:cubicBezTo>
                <a:cubicBezTo>
                  <a:pt x="2569210" y="130147"/>
                  <a:pt x="2633036" y="160799"/>
                  <a:pt x="2525917" y="99588"/>
                </a:cubicBezTo>
                <a:cubicBezTo>
                  <a:pt x="2508340" y="89544"/>
                  <a:pt x="2489977" y="80911"/>
                  <a:pt x="2471596" y="72427"/>
                </a:cubicBezTo>
                <a:cubicBezTo>
                  <a:pt x="2421259" y="49195"/>
                  <a:pt x="2398554" y="39554"/>
                  <a:pt x="2344848" y="27160"/>
                </a:cubicBezTo>
                <a:cubicBezTo>
                  <a:pt x="2326961" y="23032"/>
                  <a:pt x="2308527" y="21707"/>
                  <a:pt x="2290527" y="18107"/>
                </a:cubicBezTo>
                <a:cubicBezTo>
                  <a:pt x="2262113" y="12424"/>
                  <a:pt x="2253035" y="8627"/>
                  <a:pt x="2227153" y="0"/>
                </a:cubicBezTo>
                <a:cubicBezTo>
                  <a:pt x="1651176" y="23998"/>
                  <a:pt x="2401712" y="-5049"/>
                  <a:pt x="1186004" y="18107"/>
                </a:cubicBezTo>
                <a:cubicBezTo>
                  <a:pt x="1144804" y="18892"/>
                  <a:pt x="1038205" y="27651"/>
                  <a:pt x="986828" y="36214"/>
                </a:cubicBezTo>
                <a:cubicBezTo>
                  <a:pt x="974554" y="38260"/>
                  <a:pt x="962761" y="42568"/>
                  <a:pt x="950614" y="45267"/>
                </a:cubicBezTo>
                <a:cubicBezTo>
                  <a:pt x="847216" y="68243"/>
                  <a:pt x="957415" y="41302"/>
                  <a:pt x="869133" y="63374"/>
                </a:cubicBezTo>
                <a:cubicBezTo>
                  <a:pt x="814092" y="100069"/>
                  <a:pt x="872573" y="65479"/>
                  <a:pt x="805759" y="90534"/>
                </a:cubicBezTo>
                <a:cubicBezTo>
                  <a:pt x="793122" y="95273"/>
                  <a:pt x="782182" y="103902"/>
                  <a:pt x="769545" y="108641"/>
                </a:cubicBezTo>
                <a:cubicBezTo>
                  <a:pt x="708301" y="131608"/>
                  <a:pt x="757232" y="104865"/>
                  <a:pt x="706171" y="126748"/>
                </a:cubicBezTo>
                <a:cubicBezTo>
                  <a:pt x="595080" y="174358"/>
                  <a:pt x="733709" y="117506"/>
                  <a:pt x="642796" y="162962"/>
                </a:cubicBezTo>
                <a:cubicBezTo>
                  <a:pt x="628260" y="170230"/>
                  <a:pt x="612802" y="175515"/>
                  <a:pt x="597529" y="181069"/>
                </a:cubicBezTo>
                <a:cubicBezTo>
                  <a:pt x="579592" y="187592"/>
                  <a:pt x="560279" y="190640"/>
                  <a:pt x="543208" y="199176"/>
                </a:cubicBezTo>
                <a:cubicBezTo>
                  <a:pt x="531137" y="205212"/>
                  <a:pt x="518712" y="210587"/>
                  <a:pt x="506994" y="217283"/>
                </a:cubicBezTo>
                <a:cubicBezTo>
                  <a:pt x="497547" y="222681"/>
                  <a:pt x="489566" y="230524"/>
                  <a:pt x="479834" y="235390"/>
                </a:cubicBezTo>
                <a:cubicBezTo>
                  <a:pt x="465298" y="242658"/>
                  <a:pt x="450246" y="249221"/>
                  <a:pt x="434567" y="253497"/>
                </a:cubicBezTo>
                <a:cubicBezTo>
                  <a:pt x="396309" y="263931"/>
                  <a:pt x="378847" y="258548"/>
                  <a:pt x="344032" y="271604"/>
                </a:cubicBezTo>
                <a:cubicBezTo>
                  <a:pt x="331395" y="276343"/>
                  <a:pt x="320151" y="284230"/>
                  <a:pt x="307818" y="289711"/>
                </a:cubicBezTo>
                <a:cubicBezTo>
                  <a:pt x="292967" y="296311"/>
                  <a:pt x="277640" y="301782"/>
                  <a:pt x="262551" y="307818"/>
                </a:cubicBezTo>
                <a:cubicBezTo>
                  <a:pt x="253497" y="316871"/>
                  <a:pt x="245809" y="327536"/>
                  <a:pt x="235390" y="334978"/>
                </a:cubicBezTo>
                <a:cubicBezTo>
                  <a:pt x="224408" y="342822"/>
                  <a:pt x="210895" y="346389"/>
                  <a:pt x="199177" y="353085"/>
                </a:cubicBezTo>
                <a:cubicBezTo>
                  <a:pt x="166431" y="371797"/>
                  <a:pt x="126797" y="407334"/>
                  <a:pt x="108642" y="434566"/>
                </a:cubicBezTo>
                <a:lnTo>
                  <a:pt x="72428" y="488887"/>
                </a:lnTo>
                <a:lnTo>
                  <a:pt x="54321" y="516047"/>
                </a:lnTo>
                <a:cubicBezTo>
                  <a:pt x="27426" y="596738"/>
                  <a:pt x="70445" y="469446"/>
                  <a:pt x="27161" y="588475"/>
                </a:cubicBezTo>
                <a:cubicBezTo>
                  <a:pt x="9529" y="636964"/>
                  <a:pt x="10809" y="635777"/>
                  <a:pt x="0" y="679010"/>
                </a:cubicBezTo>
                <a:cubicBezTo>
                  <a:pt x="4148" y="728787"/>
                  <a:pt x="-9364" y="778287"/>
                  <a:pt x="27161" y="814812"/>
                </a:cubicBezTo>
                <a:cubicBezTo>
                  <a:pt x="34855" y="822506"/>
                  <a:pt x="43859" y="829929"/>
                  <a:pt x="54321" y="832918"/>
                </a:cubicBezTo>
                <a:cubicBezTo>
                  <a:pt x="65928" y="836234"/>
                  <a:pt x="64883" y="849517"/>
                  <a:pt x="72428" y="878186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ounded Rectangular Callout 8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3076560" y="2565360"/>
            <a:ext cx="3552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3"/>
          <a:stretch/>
        </p:blipFill>
        <p:spPr>
          <a:xfrm>
            <a:off x="3076560" y="2565360"/>
            <a:ext cx="3552840" cy="2890800"/>
          </a:xfrm>
          <a:prstGeom prst="rect">
            <a:avLst/>
          </a:prstGeom>
          <a:ln w="0">
            <a:noFill/>
          </a:ln>
        </p:spPr>
      </p:pic>
      <p:sp>
        <p:nvSpPr>
          <p:cNvPr id="88" name="Freeform 3"/>
          <p:cNvSpPr/>
          <p:nvPr/>
        </p:nvSpPr>
        <p:spPr>
          <a:xfrm>
            <a:off x="5286240" y="2133720"/>
            <a:ext cx="1784520" cy="2163600"/>
          </a:xfrm>
          <a:custGeom>
            <a:avLst/>
            <a:gdLst/>
            <a:ahLst/>
            <a:rect l="l" t="t" r="r" b="b"/>
            <a:pathLst>
              <a:path w="1784375" h="2381061">
                <a:moveTo>
                  <a:pt x="37057" y="823865"/>
                </a:moveTo>
                <a:cubicBezTo>
                  <a:pt x="40075" y="829901"/>
                  <a:pt x="48851" y="866196"/>
                  <a:pt x="55164" y="887240"/>
                </a:cubicBezTo>
                <a:cubicBezTo>
                  <a:pt x="57906" y="896381"/>
                  <a:pt x="61903" y="905142"/>
                  <a:pt x="64217" y="914400"/>
                </a:cubicBezTo>
                <a:cubicBezTo>
                  <a:pt x="69383" y="935065"/>
                  <a:pt x="71975" y="966131"/>
                  <a:pt x="82324" y="986828"/>
                </a:cubicBezTo>
                <a:cubicBezTo>
                  <a:pt x="87190" y="996560"/>
                  <a:pt x="94664" y="1004761"/>
                  <a:pt x="100431" y="1013988"/>
                </a:cubicBezTo>
                <a:cubicBezTo>
                  <a:pt x="116035" y="1038955"/>
                  <a:pt x="133909" y="1067962"/>
                  <a:pt x="145698" y="1095469"/>
                </a:cubicBezTo>
                <a:cubicBezTo>
                  <a:pt x="169207" y="1150321"/>
                  <a:pt x="135344" y="1092868"/>
                  <a:pt x="172859" y="1167897"/>
                </a:cubicBezTo>
                <a:cubicBezTo>
                  <a:pt x="218318" y="1258815"/>
                  <a:pt x="161460" y="1120176"/>
                  <a:pt x="209072" y="1231271"/>
                </a:cubicBezTo>
                <a:cubicBezTo>
                  <a:pt x="231560" y="1283744"/>
                  <a:pt x="201438" y="1233401"/>
                  <a:pt x="236233" y="1285592"/>
                </a:cubicBezTo>
                <a:cubicBezTo>
                  <a:pt x="240346" y="1310273"/>
                  <a:pt x="242340" y="1355074"/>
                  <a:pt x="263393" y="1376127"/>
                </a:cubicBezTo>
                <a:cubicBezTo>
                  <a:pt x="284732" y="1397466"/>
                  <a:pt x="310711" y="1413708"/>
                  <a:pt x="335821" y="1430448"/>
                </a:cubicBezTo>
                <a:cubicBezTo>
                  <a:pt x="344874" y="1436484"/>
                  <a:pt x="352755" y="1444837"/>
                  <a:pt x="362981" y="1448555"/>
                </a:cubicBezTo>
                <a:cubicBezTo>
                  <a:pt x="386368" y="1457059"/>
                  <a:pt x="411266" y="1460625"/>
                  <a:pt x="435409" y="1466661"/>
                </a:cubicBezTo>
                <a:cubicBezTo>
                  <a:pt x="474490" y="1476431"/>
                  <a:pt x="513315" y="1487190"/>
                  <a:pt x="553104" y="1493822"/>
                </a:cubicBezTo>
                <a:cubicBezTo>
                  <a:pt x="574153" y="1497330"/>
                  <a:pt x="595353" y="1499857"/>
                  <a:pt x="616478" y="1502875"/>
                </a:cubicBezTo>
                <a:cubicBezTo>
                  <a:pt x="622514" y="1520982"/>
                  <a:pt x="633790" y="1538126"/>
                  <a:pt x="634585" y="1557196"/>
                </a:cubicBezTo>
                <a:cubicBezTo>
                  <a:pt x="637603" y="1629624"/>
                  <a:pt x="639117" y="1702130"/>
                  <a:pt x="643639" y="1774479"/>
                </a:cubicBezTo>
                <a:cubicBezTo>
                  <a:pt x="645157" y="1798762"/>
                  <a:pt x="648992" y="1822859"/>
                  <a:pt x="652692" y="1846907"/>
                </a:cubicBezTo>
                <a:cubicBezTo>
                  <a:pt x="654987" y="1861823"/>
                  <a:pt x="662233" y="1902203"/>
                  <a:pt x="670799" y="1919335"/>
                </a:cubicBezTo>
                <a:cubicBezTo>
                  <a:pt x="675665" y="1929067"/>
                  <a:pt x="682870" y="1937442"/>
                  <a:pt x="688906" y="1946495"/>
                </a:cubicBezTo>
                <a:cubicBezTo>
                  <a:pt x="691924" y="1961584"/>
                  <a:pt x="694622" y="1976741"/>
                  <a:pt x="697960" y="1991762"/>
                </a:cubicBezTo>
                <a:cubicBezTo>
                  <a:pt x="700659" y="2003909"/>
                  <a:pt x="704967" y="2015702"/>
                  <a:pt x="707013" y="2027976"/>
                </a:cubicBezTo>
                <a:cubicBezTo>
                  <a:pt x="711013" y="2051976"/>
                  <a:pt x="710166" y="2076800"/>
                  <a:pt x="716067" y="2100404"/>
                </a:cubicBezTo>
                <a:cubicBezTo>
                  <a:pt x="719340" y="2113497"/>
                  <a:pt x="727477" y="2124900"/>
                  <a:pt x="734173" y="2136618"/>
                </a:cubicBezTo>
                <a:cubicBezTo>
                  <a:pt x="748875" y="2162347"/>
                  <a:pt x="759905" y="2176644"/>
                  <a:pt x="788494" y="2190939"/>
                </a:cubicBezTo>
                <a:cubicBezTo>
                  <a:pt x="799623" y="2196504"/>
                  <a:pt x="812637" y="2196974"/>
                  <a:pt x="824708" y="2199992"/>
                </a:cubicBezTo>
                <a:cubicBezTo>
                  <a:pt x="836779" y="2206028"/>
                  <a:pt x="849204" y="2211403"/>
                  <a:pt x="860922" y="2218099"/>
                </a:cubicBezTo>
                <a:cubicBezTo>
                  <a:pt x="870369" y="2223497"/>
                  <a:pt x="878139" y="2231787"/>
                  <a:pt x="888082" y="2236206"/>
                </a:cubicBezTo>
                <a:cubicBezTo>
                  <a:pt x="905523" y="2243958"/>
                  <a:pt x="942403" y="2254313"/>
                  <a:pt x="942403" y="2254313"/>
                </a:cubicBezTo>
                <a:cubicBezTo>
                  <a:pt x="972582" y="2299580"/>
                  <a:pt x="951456" y="2275437"/>
                  <a:pt x="1014831" y="2317687"/>
                </a:cubicBezTo>
                <a:cubicBezTo>
                  <a:pt x="1023884" y="2323723"/>
                  <a:pt x="1031669" y="2332353"/>
                  <a:pt x="1041991" y="2335794"/>
                </a:cubicBezTo>
                <a:cubicBezTo>
                  <a:pt x="1051045" y="2338812"/>
                  <a:pt x="1060616" y="2340580"/>
                  <a:pt x="1069152" y="2344848"/>
                </a:cubicBezTo>
                <a:cubicBezTo>
                  <a:pt x="1078884" y="2349714"/>
                  <a:pt x="1086311" y="2358669"/>
                  <a:pt x="1096312" y="2362955"/>
                </a:cubicBezTo>
                <a:cubicBezTo>
                  <a:pt x="1107749" y="2367856"/>
                  <a:pt x="1120562" y="2368590"/>
                  <a:pt x="1132526" y="2372008"/>
                </a:cubicBezTo>
                <a:cubicBezTo>
                  <a:pt x="1141702" y="2374630"/>
                  <a:pt x="1150633" y="2378043"/>
                  <a:pt x="1159686" y="2381061"/>
                </a:cubicBezTo>
                <a:cubicBezTo>
                  <a:pt x="1226078" y="2378043"/>
                  <a:pt x="1293437" y="2383691"/>
                  <a:pt x="1358863" y="2372008"/>
                </a:cubicBezTo>
                <a:cubicBezTo>
                  <a:pt x="1380286" y="2368183"/>
                  <a:pt x="1392071" y="2341072"/>
                  <a:pt x="1413183" y="2335794"/>
                </a:cubicBezTo>
                <a:lnTo>
                  <a:pt x="1449397" y="2326741"/>
                </a:lnTo>
                <a:cubicBezTo>
                  <a:pt x="1508264" y="2238440"/>
                  <a:pt x="1413883" y="2373483"/>
                  <a:pt x="1503718" y="2272420"/>
                </a:cubicBezTo>
                <a:cubicBezTo>
                  <a:pt x="1518176" y="2256155"/>
                  <a:pt x="1527861" y="2236206"/>
                  <a:pt x="1539932" y="2218099"/>
                </a:cubicBezTo>
                <a:lnTo>
                  <a:pt x="1558039" y="2190939"/>
                </a:lnTo>
                <a:lnTo>
                  <a:pt x="1576146" y="2163778"/>
                </a:lnTo>
                <a:cubicBezTo>
                  <a:pt x="1579164" y="2154725"/>
                  <a:pt x="1580931" y="2145154"/>
                  <a:pt x="1585199" y="2136618"/>
                </a:cubicBezTo>
                <a:cubicBezTo>
                  <a:pt x="1597803" y="2111410"/>
                  <a:pt x="1610445" y="2102319"/>
                  <a:pt x="1630467" y="2082297"/>
                </a:cubicBezTo>
                <a:cubicBezTo>
                  <a:pt x="1636502" y="2070226"/>
                  <a:pt x="1641877" y="2057801"/>
                  <a:pt x="1648573" y="2046083"/>
                </a:cubicBezTo>
                <a:cubicBezTo>
                  <a:pt x="1653971" y="2036636"/>
                  <a:pt x="1662261" y="2028866"/>
                  <a:pt x="1666680" y="2018923"/>
                </a:cubicBezTo>
                <a:cubicBezTo>
                  <a:pt x="1674432" y="2001482"/>
                  <a:pt x="1676251" y="1981673"/>
                  <a:pt x="1684787" y="1964602"/>
                </a:cubicBezTo>
                <a:cubicBezTo>
                  <a:pt x="1690823" y="1952531"/>
                  <a:pt x="1697577" y="1940793"/>
                  <a:pt x="1702894" y="1928388"/>
                </a:cubicBezTo>
                <a:cubicBezTo>
                  <a:pt x="1713040" y="1904715"/>
                  <a:pt x="1713341" y="1890548"/>
                  <a:pt x="1721001" y="1865014"/>
                </a:cubicBezTo>
                <a:cubicBezTo>
                  <a:pt x="1721021" y="1864947"/>
                  <a:pt x="1743624" y="1797146"/>
                  <a:pt x="1748162" y="1783533"/>
                </a:cubicBezTo>
                <a:cubicBezTo>
                  <a:pt x="1756165" y="1759525"/>
                  <a:pt x="1761399" y="1746129"/>
                  <a:pt x="1766269" y="1720158"/>
                </a:cubicBezTo>
                <a:cubicBezTo>
                  <a:pt x="1773035" y="1684074"/>
                  <a:pt x="1784375" y="1611517"/>
                  <a:pt x="1784375" y="1611517"/>
                </a:cubicBezTo>
                <a:cubicBezTo>
                  <a:pt x="1781357" y="1391216"/>
                  <a:pt x="1781042" y="1170861"/>
                  <a:pt x="1775322" y="950614"/>
                </a:cubicBezTo>
                <a:cubicBezTo>
                  <a:pt x="1774999" y="938175"/>
                  <a:pt x="1768315" y="926674"/>
                  <a:pt x="1766269" y="914400"/>
                </a:cubicBezTo>
                <a:cubicBezTo>
                  <a:pt x="1759253" y="872302"/>
                  <a:pt x="1753456" y="830001"/>
                  <a:pt x="1748162" y="787652"/>
                </a:cubicBezTo>
                <a:cubicBezTo>
                  <a:pt x="1742126" y="739367"/>
                  <a:pt x="1745443" y="688960"/>
                  <a:pt x="1730055" y="642796"/>
                </a:cubicBezTo>
                <a:cubicBezTo>
                  <a:pt x="1687031" y="513724"/>
                  <a:pt x="1730256" y="648028"/>
                  <a:pt x="1702894" y="552261"/>
                </a:cubicBezTo>
                <a:cubicBezTo>
                  <a:pt x="1700272" y="543085"/>
                  <a:pt x="1696352" y="534308"/>
                  <a:pt x="1693841" y="525101"/>
                </a:cubicBezTo>
                <a:cubicBezTo>
                  <a:pt x="1687293" y="501092"/>
                  <a:pt x="1683604" y="476282"/>
                  <a:pt x="1675734" y="452673"/>
                </a:cubicBezTo>
                <a:cubicBezTo>
                  <a:pt x="1669698" y="434566"/>
                  <a:pt x="1662256" y="416869"/>
                  <a:pt x="1657627" y="398353"/>
                </a:cubicBezTo>
                <a:cubicBezTo>
                  <a:pt x="1654609" y="386282"/>
                  <a:pt x="1652508" y="373943"/>
                  <a:pt x="1648573" y="362139"/>
                </a:cubicBezTo>
                <a:cubicBezTo>
                  <a:pt x="1618012" y="270454"/>
                  <a:pt x="1643916" y="359547"/>
                  <a:pt x="1612360" y="280658"/>
                </a:cubicBezTo>
                <a:cubicBezTo>
                  <a:pt x="1600366" y="250674"/>
                  <a:pt x="1595448" y="217146"/>
                  <a:pt x="1576146" y="190123"/>
                </a:cubicBezTo>
                <a:cubicBezTo>
                  <a:pt x="1568704" y="179704"/>
                  <a:pt x="1557318" y="172683"/>
                  <a:pt x="1548985" y="162962"/>
                </a:cubicBezTo>
                <a:cubicBezTo>
                  <a:pt x="1519017" y="127999"/>
                  <a:pt x="1528359" y="127666"/>
                  <a:pt x="1494665" y="99588"/>
                </a:cubicBezTo>
                <a:cubicBezTo>
                  <a:pt x="1486306" y="92622"/>
                  <a:pt x="1476358" y="87805"/>
                  <a:pt x="1467504" y="81481"/>
                </a:cubicBezTo>
                <a:cubicBezTo>
                  <a:pt x="1455225" y="72711"/>
                  <a:pt x="1444786" y="61069"/>
                  <a:pt x="1431290" y="54321"/>
                </a:cubicBezTo>
                <a:cubicBezTo>
                  <a:pt x="1414219" y="45785"/>
                  <a:pt x="1395076" y="42250"/>
                  <a:pt x="1376969" y="36214"/>
                </a:cubicBezTo>
                <a:lnTo>
                  <a:pt x="1322649" y="18107"/>
                </a:lnTo>
                <a:cubicBezTo>
                  <a:pt x="1310578" y="15089"/>
                  <a:pt x="1298733" y="10946"/>
                  <a:pt x="1286435" y="9054"/>
                </a:cubicBezTo>
                <a:cubicBezTo>
                  <a:pt x="1259425" y="4899"/>
                  <a:pt x="1232114" y="3018"/>
                  <a:pt x="1204954" y="0"/>
                </a:cubicBezTo>
                <a:lnTo>
                  <a:pt x="697960" y="9054"/>
                </a:lnTo>
                <a:cubicBezTo>
                  <a:pt x="654884" y="10444"/>
                  <a:pt x="645506" y="20236"/>
                  <a:pt x="607425" y="27160"/>
                </a:cubicBezTo>
                <a:cubicBezTo>
                  <a:pt x="586430" y="30977"/>
                  <a:pt x="565176" y="33196"/>
                  <a:pt x="544051" y="36214"/>
                </a:cubicBezTo>
                <a:cubicBezTo>
                  <a:pt x="534997" y="39232"/>
                  <a:pt x="526097" y="42756"/>
                  <a:pt x="516890" y="45267"/>
                </a:cubicBezTo>
                <a:cubicBezTo>
                  <a:pt x="492881" y="51815"/>
                  <a:pt x="468071" y="55504"/>
                  <a:pt x="444463" y="63374"/>
                </a:cubicBezTo>
                <a:cubicBezTo>
                  <a:pt x="435409" y="66392"/>
                  <a:pt x="425838" y="68160"/>
                  <a:pt x="417302" y="72428"/>
                </a:cubicBezTo>
                <a:cubicBezTo>
                  <a:pt x="401563" y="80297"/>
                  <a:pt x="387774" y="91719"/>
                  <a:pt x="372035" y="99588"/>
                </a:cubicBezTo>
                <a:cubicBezTo>
                  <a:pt x="363499" y="103856"/>
                  <a:pt x="353646" y="104883"/>
                  <a:pt x="344874" y="108642"/>
                </a:cubicBezTo>
                <a:cubicBezTo>
                  <a:pt x="266575" y="142200"/>
                  <a:pt x="345189" y="114574"/>
                  <a:pt x="281500" y="135802"/>
                </a:cubicBezTo>
                <a:cubicBezTo>
                  <a:pt x="216509" y="200793"/>
                  <a:pt x="242543" y="169637"/>
                  <a:pt x="200019" y="226337"/>
                </a:cubicBezTo>
                <a:cubicBezTo>
                  <a:pt x="174985" y="301443"/>
                  <a:pt x="217011" y="183300"/>
                  <a:pt x="154752" y="307818"/>
                </a:cubicBezTo>
                <a:cubicBezTo>
                  <a:pt x="148716" y="319889"/>
                  <a:pt x="143341" y="332314"/>
                  <a:pt x="136645" y="344032"/>
                </a:cubicBezTo>
                <a:cubicBezTo>
                  <a:pt x="124453" y="365367"/>
                  <a:pt x="105256" y="387976"/>
                  <a:pt x="91377" y="407406"/>
                </a:cubicBezTo>
                <a:cubicBezTo>
                  <a:pt x="85053" y="416260"/>
                  <a:pt x="78668" y="425119"/>
                  <a:pt x="73270" y="434566"/>
                </a:cubicBezTo>
                <a:cubicBezTo>
                  <a:pt x="66574" y="446284"/>
                  <a:pt x="63008" y="459798"/>
                  <a:pt x="55164" y="470780"/>
                </a:cubicBezTo>
                <a:cubicBezTo>
                  <a:pt x="47722" y="481199"/>
                  <a:pt x="37057" y="488887"/>
                  <a:pt x="28003" y="497941"/>
                </a:cubicBezTo>
                <a:cubicBezTo>
                  <a:pt x="24985" y="506994"/>
                  <a:pt x="22709" y="516330"/>
                  <a:pt x="18950" y="525101"/>
                </a:cubicBezTo>
                <a:cubicBezTo>
                  <a:pt x="13634" y="537506"/>
                  <a:pt x="1293" y="547826"/>
                  <a:pt x="843" y="561315"/>
                </a:cubicBezTo>
                <a:cubicBezTo>
                  <a:pt x="-1773" y="639793"/>
                  <a:pt x="1816" y="718600"/>
                  <a:pt x="9896" y="796705"/>
                </a:cubicBezTo>
                <a:cubicBezTo>
                  <a:pt x="11016" y="807528"/>
                  <a:pt x="23137" y="814133"/>
                  <a:pt x="28003" y="823865"/>
                </a:cubicBezTo>
                <a:cubicBezTo>
                  <a:pt x="32271" y="832401"/>
                  <a:pt x="30309" y="844278"/>
                  <a:pt x="37057" y="851026"/>
                </a:cubicBezTo>
                <a:cubicBezTo>
                  <a:pt x="43805" y="857774"/>
                  <a:pt x="34039" y="817829"/>
                  <a:pt x="37057" y="82386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3"/>
          <a:stretch/>
        </p:blipFill>
        <p:spPr>
          <a:xfrm>
            <a:off x="3076560" y="2565360"/>
            <a:ext cx="3552840" cy="2890800"/>
          </a:xfrm>
          <a:prstGeom prst="rect">
            <a:avLst/>
          </a:prstGeom>
          <a:ln w="0">
            <a:noFill/>
          </a:ln>
        </p:spPr>
      </p:pic>
      <p:sp>
        <p:nvSpPr>
          <p:cNvPr id="94" name="Freeform 3"/>
          <p:cNvSpPr/>
          <p:nvPr/>
        </p:nvSpPr>
        <p:spPr>
          <a:xfrm>
            <a:off x="3960720" y="2205000"/>
            <a:ext cx="3132360" cy="2165400"/>
          </a:xfrm>
          <a:custGeom>
            <a:avLst/>
            <a:gdLst/>
            <a:ahLst/>
            <a:rect l="l" t="t" r="r" b="b"/>
            <a:pathLst>
              <a:path w="1784375" h="2381061">
                <a:moveTo>
                  <a:pt x="37057" y="823865"/>
                </a:moveTo>
                <a:cubicBezTo>
                  <a:pt x="40075" y="829901"/>
                  <a:pt x="48851" y="866196"/>
                  <a:pt x="55164" y="887240"/>
                </a:cubicBezTo>
                <a:cubicBezTo>
                  <a:pt x="57906" y="896381"/>
                  <a:pt x="61903" y="905142"/>
                  <a:pt x="64217" y="914400"/>
                </a:cubicBezTo>
                <a:cubicBezTo>
                  <a:pt x="69383" y="935065"/>
                  <a:pt x="71975" y="966131"/>
                  <a:pt x="82324" y="986828"/>
                </a:cubicBezTo>
                <a:cubicBezTo>
                  <a:pt x="87190" y="996560"/>
                  <a:pt x="94664" y="1004761"/>
                  <a:pt x="100431" y="1013988"/>
                </a:cubicBezTo>
                <a:cubicBezTo>
                  <a:pt x="116035" y="1038955"/>
                  <a:pt x="133909" y="1067962"/>
                  <a:pt x="145698" y="1095469"/>
                </a:cubicBezTo>
                <a:cubicBezTo>
                  <a:pt x="169207" y="1150321"/>
                  <a:pt x="135344" y="1092868"/>
                  <a:pt x="172859" y="1167897"/>
                </a:cubicBezTo>
                <a:cubicBezTo>
                  <a:pt x="218318" y="1258815"/>
                  <a:pt x="161460" y="1120176"/>
                  <a:pt x="209072" y="1231271"/>
                </a:cubicBezTo>
                <a:cubicBezTo>
                  <a:pt x="231560" y="1283744"/>
                  <a:pt x="201438" y="1233401"/>
                  <a:pt x="236233" y="1285592"/>
                </a:cubicBezTo>
                <a:cubicBezTo>
                  <a:pt x="240346" y="1310273"/>
                  <a:pt x="242340" y="1355074"/>
                  <a:pt x="263393" y="1376127"/>
                </a:cubicBezTo>
                <a:cubicBezTo>
                  <a:pt x="284732" y="1397466"/>
                  <a:pt x="310711" y="1413708"/>
                  <a:pt x="335821" y="1430448"/>
                </a:cubicBezTo>
                <a:cubicBezTo>
                  <a:pt x="344874" y="1436484"/>
                  <a:pt x="352755" y="1444837"/>
                  <a:pt x="362981" y="1448555"/>
                </a:cubicBezTo>
                <a:cubicBezTo>
                  <a:pt x="386368" y="1457059"/>
                  <a:pt x="411266" y="1460625"/>
                  <a:pt x="435409" y="1466661"/>
                </a:cubicBezTo>
                <a:cubicBezTo>
                  <a:pt x="474490" y="1476431"/>
                  <a:pt x="513315" y="1487190"/>
                  <a:pt x="553104" y="1493822"/>
                </a:cubicBezTo>
                <a:cubicBezTo>
                  <a:pt x="574153" y="1497330"/>
                  <a:pt x="595353" y="1499857"/>
                  <a:pt x="616478" y="1502875"/>
                </a:cubicBezTo>
                <a:cubicBezTo>
                  <a:pt x="622514" y="1520982"/>
                  <a:pt x="633790" y="1538126"/>
                  <a:pt x="634585" y="1557196"/>
                </a:cubicBezTo>
                <a:cubicBezTo>
                  <a:pt x="637603" y="1629624"/>
                  <a:pt x="639117" y="1702130"/>
                  <a:pt x="643639" y="1774479"/>
                </a:cubicBezTo>
                <a:cubicBezTo>
                  <a:pt x="645157" y="1798762"/>
                  <a:pt x="648992" y="1822859"/>
                  <a:pt x="652692" y="1846907"/>
                </a:cubicBezTo>
                <a:cubicBezTo>
                  <a:pt x="654987" y="1861823"/>
                  <a:pt x="662233" y="1902203"/>
                  <a:pt x="670799" y="1919335"/>
                </a:cubicBezTo>
                <a:cubicBezTo>
                  <a:pt x="675665" y="1929067"/>
                  <a:pt x="682870" y="1937442"/>
                  <a:pt x="688906" y="1946495"/>
                </a:cubicBezTo>
                <a:cubicBezTo>
                  <a:pt x="691924" y="1961584"/>
                  <a:pt x="694622" y="1976741"/>
                  <a:pt x="697960" y="1991762"/>
                </a:cubicBezTo>
                <a:cubicBezTo>
                  <a:pt x="700659" y="2003909"/>
                  <a:pt x="704967" y="2015702"/>
                  <a:pt x="707013" y="2027976"/>
                </a:cubicBezTo>
                <a:cubicBezTo>
                  <a:pt x="711013" y="2051976"/>
                  <a:pt x="710166" y="2076800"/>
                  <a:pt x="716067" y="2100404"/>
                </a:cubicBezTo>
                <a:cubicBezTo>
                  <a:pt x="719340" y="2113497"/>
                  <a:pt x="727477" y="2124900"/>
                  <a:pt x="734173" y="2136618"/>
                </a:cubicBezTo>
                <a:cubicBezTo>
                  <a:pt x="748875" y="2162347"/>
                  <a:pt x="759905" y="2176644"/>
                  <a:pt x="788494" y="2190939"/>
                </a:cubicBezTo>
                <a:cubicBezTo>
                  <a:pt x="799623" y="2196504"/>
                  <a:pt x="812637" y="2196974"/>
                  <a:pt x="824708" y="2199992"/>
                </a:cubicBezTo>
                <a:cubicBezTo>
                  <a:pt x="836779" y="2206028"/>
                  <a:pt x="849204" y="2211403"/>
                  <a:pt x="860922" y="2218099"/>
                </a:cubicBezTo>
                <a:cubicBezTo>
                  <a:pt x="870369" y="2223497"/>
                  <a:pt x="878139" y="2231787"/>
                  <a:pt x="888082" y="2236206"/>
                </a:cubicBezTo>
                <a:cubicBezTo>
                  <a:pt x="905523" y="2243958"/>
                  <a:pt x="942403" y="2254313"/>
                  <a:pt x="942403" y="2254313"/>
                </a:cubicBezTo>
                <a:cubicBezTo>
                  <a:pt x="972582" y="2299580"/>
                  <a:pt x="951456" y="2275437"/>
                  <a:pt x="1014831" y="2317687"/>
                </a:cubicBezTo>
                <a:cubicBezTo>
                  <a:pt x="1023884" y="2323723"/>
                  <a:pt x="1031669" y="2332353"/>
                  <a:pt x="1041991" y="2335794"/>
                </a:cubicBezTo>
                <a:cubicBezTo>
                  <a:pt x="1051045" y="2338812"/>
                  <a:pt x="1060616" y="2340580"/>
                  <a:pt x="1069152" y="2344848"/>
                </a:cubicBezTo>
                <a:cubicBezTo>
                  <a:pt x="1078884" y="2349714"/>
                  <a:pt x="1086311" y="2358669"/>
                  <a:pt x="1096312" y="2362955"/>
                </a:cubicBezTo>
                <a:cubicBezTo>
                  <a:pt x="1107749" y="2367856"/>
                  <a:pt x="1120562" y="2368590"/>
                  <a:pt x="1132526" y="2372008"/>
                </a:cubicBezTo>
                <a:cubicBezTo>
                  <a:pt x="1141702" y="2374630"/>
                  <a:pt x="1150633" y="2378043"/>
                  <a:pt x="1159686" y="2381061"/>
                </a:cubicBezTo>
                <a:cubicBezTo>
                  <a:pt x="1226078" y="2378043"/>
                  <a:pt x="1293437" y="2383691"/>
                  <a:pt x="1358863" y="2372008"/>
                </a:cubicBezTo>
                <a:cubicBezTo>
                  <a:pt x="1380286" y="2368183"/>
                  <a:pt x="1392071" y="2341072"/>
                  <a:pt x="1413183" y="2335794"/>
                </a:cubicBezTo>
                <a:lnTo>
                  <a:pt x="1449397" y="2326741"/>
                </a:lnTo>
                <a:cubicBezTo>
                  <a:pt x="1508264" y="2238440"/>
                  <a:pt x="1413883" y="2373483"/>
                  <a:pt x="1503718" y="2272420"/>
                </a:cubicBezTo>
                <a:cubicBezTo>
                  <a:pt x="1518176" y="2256155"/>
                  <a:pt x="1527861" y="2236206"/>
                  <a:pt x="1539932" y="2218099"/>
                </a:cubicBezTo>
                <a:lnTo>
                  <a:pt x="1558039" y="2190939"/>
                </a:lnTo>
                <a:lnTo>
                  <a:pt x="1576146" y="2163778"/>
                </a:lnTo>
                <a:cubicBezTo>
                  <a:pt x="1579164" y="2154725"/>
                  <a:pt x="1580931" y="2145154"/>
                  <a:pt x="1585199" y="2136618"/>
                </a:cubicBezTo>
                <a:cubicBezTo>
                  <a:pt x="1597803" y="2111410"/>
                  <a:pt x="1610445" y="2102319"/>
                  <a:pt x="1630467" y="2082297"/>
                </a:cubicBezTo>
                <a:cubicBezTo>
                  <a:pt x="1636502" y="2070226"/>
                  <a:pt x="1641877" y="2057801"/>
                  <a:pt x="1648573" y="2046083"/>
                </a:cubicBezTo>
                <a:cubicBezTo>
                  <a:pt x="1653971" y="2036636"/>
                  <a:pt x="1662261" y="2028866"/>
                  <a:pt x="1666680" y="2018923"/>
                </a:cubicBezTo>
                <a:cubicBezTo>
                  <a:pt x="1674432" y="2001482"/>
                  <a:pt x="1676251" y="1981673"/>
                  <a:pt x="1684787" y="1964602"/>
                </a:cubicBezTo>
                <a:cubicBezTo>
                  <a:pt x="1690823" y="1952531"/>
                  <a:pt x="1697577" y="1940793"/>
                  <a:pt x="1702894" y="1928388"/>
                </a:cubicBezTo>
                <a:cubicBezTo>
                  <a:pt x="1713040" y="1904715"/>
                  <a:pt x="1713341" y="1890548"/>
                  <a:pt x="1721001" y="1865014"/>
                </a:cubicBezTo>
                <a:cubicBezTo>
                  <a:pt x="1721021" y="1864947"/>
                  <a:pt x="1743624" y="1797146"/>
                  <a:pt x="1748162" y="1783533"/>
                </a:cubicBezTo>
                <a:cubicBezTo>
                  <a:pt x="1756165" y="1759525"/>
                  <a:pt x="1761399" y="1746129"/>
                  <a:pt x="1766269" y="1720158"/>
                </a:cubicBezTo>
                <a:cubicBezTo>
                  <a:pt x="1773035" y="1684074"/>
                  <a:pt x="1784375" y="1611517"/>
                  <a:pt x="1784375" y="1611517"/>
                </a:cubicBezTo>
                <a:cubicBezTo>
                  <a:pt x="1781357" y="1391216"/>
                  <a:pt x="1781042" y="1170861"/>
                  <a:pt x="1775322" y="950614"/>
                </a:cubicBezTo>
                <a:cubicBezTo>
                  <a:pt x="1774999" y="938175"/>
                  <a:pt x="1768315" y="926674"/>
                  <a:pt x="1766269" y="914400"/>
                </a:cubicBezTo>
                <a:cubicBezTo>
                  <a:pt x="1759253" y="872302"/>
                  <a:pt x="1753456" y="830001"/>
                  <a:pt x="1748162" y="787652"/>
                </a:cubicBezTo>
                <a:cubicBezTo>
                  <a:pt x="1742126" y="739367"/>
                  <a:pt x="1745443" y="688960"/>
                  <a:pt x="1730055" y="642796"/>
                </a:cubicBezTo>
                <a:cubicBezTo>
                  <a:pt x="1687031" y="513724"/>
                  <a:pt x="1730256" y="648028"/>
                  <a:pt x="1702894" y="552261"/>
                </a:cubicBezTo>
                <a:cubicBezTo>
                  <a:pt x="1700272" y="543085"/>
                  <a:pt x="1696352" y="534308"/>
                  <a:pt x="1693841" y="525101"/>
                </a:cubicBezTo>
                <a:cubicBezTo>
                  <a:pt x="1687293" y="501092"/>
                  <a:pt x="1683604" y="476282"/>
                  <a:pt x="1675734" y="452673"/>
                </a:cubicBezTo>
                <a:cubicBezTo>
                  <a:pt x="1669698" y="434566"/>
                  <a:pt x="1662256" y="416869"/>
                  <a:pt x="1657627" y="398353"/>
                </a:cubicBezTo>
                <a:cubicBezTo>
                  <a:pt x="1654609" y="386282"/>
                  <a:pt x="1652508" y="373943"/>
                  <a:pt x="1648573" y="362139"/>
                </a:cubicBezTo>
                <a:cubicBezTo>
                  <a:pt x="1618012" y="270454"/>
                  <a:pt x="1643916" y="359547"/>
                  <a:pt x="1612360" y="280658"/>
                </a:cubicBezTo>
                <a:cubicBezTo>
                  <a:pt x="1600366" y="250674"/>
                  <a:pt x="1595448" y="217146"/>
                  <a:pt x="1576146" y="190123"/>
                </a:cubicBezTo>
                <a:cubicBezTo>
                  <a:pt x="1568704" y="179704"/>
                  <a:pt x="1557318" y="172683"/>
                  <a:pt x="1548985" y="162962"/>
                </a:cubicBezTo>
                <a:cubicBezTo>
                  <a:pt x="1519017" y="127999"/>
                  <a:pt x="1528359" y="127666"/>
                  <a:pt x="1494665" y="99588"/>
                </a:cubicBezTo>
                <a:cubicBezTo>
                  <a:pt x="1486306" y="92622"/>
                  <a:pt x="1476358" y="87805"/>
                  <a:pt x="1467504" y="81481"/>
                </a:cubicBezTo>
                <a:cubicBezTo>
                  <a:pt x="1455225" y="72711"/>
                  <a:pt x="1444786" y="61069"/>
                  <a:pt x="1431290" y="54321"/>
                </a:cubicBezTo>
                <a:cubicBezTo>
                  <a:pt x="1414219" y="45785"/>
                  <a:pt x="1395076" y="42250"/>
                  <a:pt x="1376969" y="36214"/>
                </a:cubicBezTo>
                <a:lnTo>
                  <a:pt x="1322649" y="18107"/>
                </a:lnTo>
                <a:cubicBezTo>
                  <a:pt x="1310578" y="15089"/>
                  <a:pt x="1298733" y="10946"/>
                  <a:pt x="1286435" y="9054"/>
                </a:cubicBezTo>
                <a:cubicBezTo>
                  <a:pt x="1259425" y="4899"/>
                  <a:pt x="1232114" y="3018"/>
                  <a:pt x="1204954" y="0"/>
                </a:cubicBezTo>
                <a:lnTo>
                  <a:pt x="697960" y="9054"/>
                </a:lnTo>
                <a:cubicBezTo>
                  <a:pt x="654884" y="10444"/>
                  <a:pt x="645506" y="20236"/>
                  <a:pt x="607425" y="27160"/>
                </a:cubicBezTo>
                <a:cubicBezTo>
                  <a:pt x="586430" y="30977"/>
                  <a:pt x="565176" y="33196"/>
                  <a:pt x="544051" y="36214"/>
                </a:cubicBezTo>
                <a:cubicBezTo>
                  <a:pt x="534997" y="39232"/>
                  <a:pt x="526097" y="42756"/>
                  <a:pt x="516890" y="45267"/>
                </a:cubicBezTo>
                <a:cubicBezTo>
                  <a:pt x="492881" y="51815"/>
                  <a:pt x="468071" y="55504"/>
                  <a:pt x="444463" y="63374"/>
                </a:cubicBezTo>
                <a:cubicBezTo>
                  <a:pt x="435409" y="66392"/>
                  <a:pt x="425838" y="68160"/>
                  <a:pt x="417302" y="72428"/>
                </a:cubicBezTo>
                <a:cubicBezTo>
                  <a:pt x="401563" y="80297"/>
                  <a:pt x="387774" y="91719"/>
                  <a:pt x="372035" y="99588"/>
                </a:cubicBezTo>
                <a:cubicBezTo>
                  <a:pt x="363499" y="103856"/>
                  <a:pt x="353646" y="104883"/>
                  <a:pt x="344874" y="108642"/>
                </a:cubicBezTo>
                <a:cubicBezTo>
                  <a:pt x="266575" y="142200"/>
                  <a:pt x="345189" y="114574"/>
                  <a:pt x="281500" y="135802"/>
                </a:cubicBezTo>
                <a:cubicBezTo>
                  <a:pt x="216509" y="200793"/>
                  <a:pt x="242543" y="169637"/>
                  <a:pt x="200019" y="226337"/>
                </a:cubicBezTo>
                <a:cubicBezTo>
                  <a:pt x="174985" y="301443"/>
                  <a:pt x="217011" y="183300"/>
                  <a:pt x="154752" y="307818"/>
                </a:cubicBezTo>
                <a:cubicBezTo>
                  <a:pt x="148716" y="319889"/>
                  <a:pt x="143341" y="332314"/>
                  <a:pt x="136645" y="344032"/>
                </a:cubicBezTo>
                <a:cubicBezTo>
                  <a:pt x="124453" y="365367"/>
                  <a:pt x="105256" y="387976"/>
                  <a:pt x="91377" y="407406"/>
                </a:cubicBezTo>
                <a:cubicBezTo>
                  <a:pt x="85053" y="416260"/>
                  <a:pt x="78668" y="425119"/>
                  <a:pt x="73270" y="434566"/>
                </a:cubicBezTo>
                <a:cubicBezTo>
                  <a:pt x="66574" y="446284"/>
                  <a:pt x="63008" y="459798"/>
                  <a:pt x="55164" y="470780"/>
                </a:cubicBezTo>
                <a:cubicBezTo>
                  <a:pt x="47722" y="481199"/>
                  <a:pt x="37057" y="488887"/>
                  <a:pt x="28003" y="497941"/>
                </a:cubicBezTo>
                <a:cubicBezTo>
                  <a:pt x="24985" y="506994"/>
                  <a:pt x="22709" y="516330"/>
                  <a:pt x="18950" y="525101"/>
                </a:cubicBezTo>
                <a:cubicBezTo>
                  <a:pt x="13634" y="537506"/>
                  <a:pt x="1293" y="547826"/>
                  <a:pt x="843" y="561315"/>
                </a:cubicBezTo>
                <a:cubicBezTo>
                  <a:pt x="-1773" y="639793"/>
                  <a:pt x="1816" y="718600"/>
                  <a:pt x="9896" y="796705"/>
                </a:cubicBezTo>
                <a:cubicBezTo>
                  <a:pt x="11016" y="807528"/>
                  <a:pt x="23137" y="814133"/>
                  <a:pt x="28003" y="823865"/>
                </a:cubicBezTo>
                <a:cubicBezTo>
                  <a:pt x="32271" y="832401"/>
                  <a:pt x="30309" y="844278"/>
                  <a:pt x="37057" y="851026"/>
                </a:cubicBezTo>
                <a:cubicBezTo>
                  <a:pt x="43805" y="857774"/>
                  <a:pt x="34039" y="817829"/>
                  <a:pt x="37057" y="82386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16:07Z</dcterms:modified>
  <cp:revision>144</cp:revision>
  <dc:subject/>
  <dc:title>TITLE</dc:title>
</cp:coreProperties>
</file>