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236-4F21-4BB4-A3D1-BC285436E3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778C-2C7B-4942-9D74-0440EE8C69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E9B5-725F-4D2F-A596-68DC260B72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167C-C28D-49C9-85B3-5CA095C60D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E87-BB2E-46C5-90D3-8C3B73DAF9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1A9-0D86-4635-9A3F-F712A75875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1F09-025D-4492-9256-EC3A6E9DA5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898E-BAB2-4C31-94FF-55AEA281B6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610F-CA12-450A-A6A1-199EC13276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99C5-C6F3-4974-BD16-0B8649873F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237-5CEE-47B8-BC74-279AA57283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6885-A07C-448C-852D-E01EAC4122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B6E8-8E56-49B1-849B-002F5C8169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7FB-AAE3-4246-B4D7-35E9F694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1E7-EC77-4D16-B482-6191E8AD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49C-478B-4E3D-8B8A-25204D07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5A4-CD98-4BCE-9062-D1B0E8C4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3E0-DF23-4EB0-9C32-3AE1ABC9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83B-A2D7-4465-B2C4-0DF92969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306-E4EF-40BF-8A45-FA0C6818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9D7-3D0A-4D67-90F4-10CF1197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673-C8E2-4ECF-8E66-DBD89FF3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4CC-FC2C-4B7A-A151-416C994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A86-7911-40CB-AA2D-1C35553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115-ADC6-4D8D-A056-0291BFD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7E1-2B54-4503-A464-B869283A35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6140520" y="61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13728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306864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0" y="327492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8"/>
          <p:cNvSpPr/>
          <p:nvPr/>
        </p:nvSpPr>
        <p:spPr>
          <a:xfrm rot="19841400">
            <a:off x="5770440" y="103500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213000" y="659772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5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140520" y="61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13728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306864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0" y="327492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09" name="Right Arrow 8"/>
          <p:cNvSpPr/>
          <p:nvPr/>
        </p:nvSpPr>
        <p:spPr>
          <a:xfrm rot="19841400">
            <a:off x="5770440" y="103500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ight Arrow 9"/>
          <p:cNvSpPr/>
          <p:nvPr/>
        </p:nvSpPr>
        <p:spPr>
          <a:xfrm rot="10800000">
            <a:off x="144000" y="469080"/>
            <a:ext cx="2816280" cy="1871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08000" y="890640"/>
            <a:ext cx="31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ien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" name="Group 1"/>
          <p:cNvGrpSpPr/>
          <p:nvPr/>
        </p:nvGrpSpPr>
        <p:grpSpPr>
          <a:xfrm>
            <a:off x="487440" y="4797000"/>
            <a:ext cx="3114720" cy="1871640"/>
            <a:chOff x="487440" y="4797000"/>
            <a:chExt cx="3114720" cy="1871640"/>
          </a:xfrm>
        </p:grpSpPr>
        <p:sp>
          <p:nvSpPr>
            <p:cNvPr id="114" name="Right Arrow 9"/>
            <p:cNvSpPr/>
            <p:nvPr/>
          </p:nvSpPr>
          <p:spPr>
            <a:xfrm rot="10800000">
              <a:off x="523440" y="4797000"/>
              <a:ext cx="2816280" cy="1871640"/>
            </a:xfrm>
            <a:prstGeom prst="rightArrow">
              <a:avLst>
                <a:gd name="adj1" fmla="val 50000"/>
                <a:gd name="adj2" fmla="val 50004"/>
              </a:avLst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TextBox 6"/>
            <p:cNvSpPr/>
            <p:nvPr/>
          </p:nvSpPr>
          <p:spPr>
            <a:xfrm>
              <a:off x="487440" y="5217840"/>
              <a:ext cx="311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Comic Sans MS"/>
                </a:rPr>
                <a:t>tiene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" name="Group 3"/>
          <p:cNvGrpSpPr/>
          <p:nvPr/>
        </p:nvGrpSpPr>
        <p:grpSpPr>
          <a:xfrm>
            <a:off x="365040" y="2384280"/>
            <a:ext cx="3888000" cy="2087640"/>
            <a:chOff x="365040" y="2384280"/>
            <a:chExt cx="3888000" cy="2087640"/>
          </a:xfrm>
        </p:grpSpPr>
        <p:sp>
          <p:nvSpPr>
            <p:cNvPr id="117" name="Oval Callout 11"/>
            <p:cNvSpPr/>
            <p:nvPr/>
          </p:nvSpPr>
          <p:spPr>
            <a:xfrm>
              <a:off x="365040" y="2384280"/>
              <a:ext cx="3240360" cy="2087640"/>
            </a:xfrm>
            <a:prstGeom prst="wedgeEllipseCallout">
              <a:avLst>
                <a:gd name="adj1" fmla="val -47351"/>
                <a:gd name="adj2" fmla="val 58476"/>
              </a:avLst>
            </a:prstGeom>
            <a:solidFill>
              <a:srgbClr val="fffff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TextBox 6"/>
            <p:cNvSpPr/>
            <p:nvPr/>
          </p:nvSpPr>
          <p:spPr>
            <a:xfrm>
              <a:off x="365040" y="2976480"/>
              <a:ext cx="38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¿ tienes ?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" name="Oval Callout 13"/>
          <p:cNvSpPr/>
          <p:nvPr/>
        </p:nvSpPr>
        <p:spPr>
          <a:xfrm>
            <a:off x="365040" y="11592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211640" y="620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I 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265640" y="30448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do you hav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4265640" y="53402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(he / she) h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9280" y="189000"/>
            <a:ext cx="8785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11 colours, plus multicol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first sentence –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el pelo negro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– using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scuchad y repetid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actions to help embed.  </a:t>
            </a:r>
            <a:br>
              <a:rPr sz="2000"/>
            </a:b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(point to self and grasp with the other hand for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tug hair for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l pel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cover eyes for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negr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Discuss the meaning (I have black hair) and ask the children what they notice about the word order (adjectives come after the noun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the other three sentences in the same way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el pelo azul / tengo el pelo rosa / tengo el pelo verde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 2, give children one minute to practise the sentences in 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s 3-8, ask the children to tell you what the sentence is.  Note that the support is gradually withdra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e slide 9 to practis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¿Tienes el pelo negro?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etc.  Discuss the meaning with the children.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¿tienes?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= do you have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for slide 10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iene =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he/she h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I then made some comedy wigs using card to practise these 3 kinds of sentenc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222720" y="40464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neg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Callout 12"/>
          <p:cNvSpPr/>
          <p:nvPr/>
        </p:nvSpPr>
        <p:spPr>
          <a:xfrm>
            <a:off x="87480" y="11592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22720" y="208296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azu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Callout 14"/>
          <p:cNvSpPr/>
          <p:nvPr/>
        </p:nvSpPr>
        <p:spPr>
          <a:xfrm>
            <a:off x="87480" y="1779480"/>
            <a:ext cx="3135240" cy="155916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3222720" y="543708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ver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Callout 16"/>
          <p:cNvSpPr/>
          <p:nvPr/>
        </p:nvSpPr>
        <p:spPr>
          <a:xfrm>
            <a:off x="87480" y="344340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Callout 17"/>
          <p:cNvSpPr/>
          <p:nvPr/>
        </p:nvSpPr>
        <p:spPr>
          <a:xfrm>
            <a:off x="87480" y="510696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3222720" y="375912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ros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5"/>
          <p:cNvSpPr/>
          <p:nvPr/>
        </p:nvSpPr>
        <p:spPr>
          <a:xfrm>
            <a:off x="8172360" y="692280"/>
            <a:ext cx="57636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8172360" y="2271600"/>
            <a:ext cx="576360" cy="576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8172360" y="3979800"/>
            <a:ext cx="576360" cy="57636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8172360" y="5657760"/>
            <a:ext cx="576360" cy="576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65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484360" y="2209680"/>
            <a:ext cx="45086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943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508120" y="2205000"/>
            <a:ext cx="45435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4541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411280" y="2211480"/>
            <a:ext cx="45421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Callout 3"/>
          <p:cNvSpPr/>
          <p:nvPr/>
        </p:nvSpPr>
        <p:spPr>
          <a:xfrm>
            <a:off x="108000" y="298440"/>
            <a:ext cx="32400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6140520" y="61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13728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06864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0" y="327492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Right Arrow 8"/>
          <p:cNvSpPr/>
          <p:nvPr/>
        </p:nvSpPr>
        <p:spPr>
          <a:xfrm rot="19841400">
            <a:off x="5770440" y="103500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08000" y="89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¿ tienes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13Z</dcterms:modified>
  <cp:revision>137</cp:revision>
  <dc:subject/>
  <dc:title>TITLE</dc:title>
</cp:coreProperties>
</file>