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DFA1-BCAA-4E7D-910B-945FF3805D3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5754-840F-498F-B6F1-35AB65A9990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76EF-7754-4E2B-8904-A15497BF63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E5F0-BC34-4A56-A0CC-3FE2D0CD791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51B3-7FB4-4FBE-B391-C9235213DD6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902E-27BB-432D-9938-9DC8CE1C515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2412-AD4E-426D-991D-CE22EAA1B5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A3C5-0FCD-4900-9B65-66676BB0279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05D8-AB9B-4B12-BE16-7A197EC1075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DA9F-6BD1-499D-ADDD-286947C0262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FF0D-4529-4732-8C43-9B0273C301C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4BDA-AB15-44FC-9F54-634995A88E6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5089-5452-415A-9F24-2A780832C13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E52E-B890-4D49-9613-8837C951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767D-1AA8-4823-B968-3EC1B42D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C8F-C0A3-4234-A4F6-B20873C6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D50B-92D1-483B-9F38-8A508B9F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254C-7E21-44BF-B1BA-882BD668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D45-2D3F-405C-882D-ADC55CAB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87D7-76D4-4FE9-BC1B-1371211B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0C95-020C-465B-A6B6-07157F53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AC66-443E-4E4D-8411-3C0323BE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8A5-D537-49FF-B997-FD3B6CEF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B139-82CF-4022-A5A5-CC7290C6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1664-FF56-433D-91B5-6B218852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C312-E6D9-449C-9D2E-9EF3AE3768B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www.lightbulblanguages.co.uk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222720" y="895320"/>
            <a:ext cx="26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el pel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Oval Callout 3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6140520" y="61920"/>
            <a:ext cx="3006720" cy="300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6137280" y="3274920"/>
            <a:ext cx="3006720" cy="300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3068640" y="3274920"/>
            <a:ext cx="3006720" cy="300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4"/>
          <a:stretch/>
        </p:blipFill>
        <p:spPr>
          <a:xfrm>
            <a:off x="0" y="3274920"/>
            <a:ext cx="3006720" cy="3006720"/>
          </a:xfrm>
          <a:prstGeom prst="rect">
            <a:avLst/>
          </a:prstGeom>
          <a:ln w="0">
            <a:noFill/>
          </a:ln>
        </p:spPr>
      </p:pic>
      <p:sp>
        <p:nvSpPr>
          <p:cNvPr id="55" name="Right Arrow 8"/>
          <p:cNvSpPr/>
          <p:nvPr/>
        </p:nvSpPr>
        <p:spPr>
          <a:xfrm rot="19841400">
            <a:off x="5770440" y="1035000"/>
            <a:ext cx="960480" cy="1443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ff6f"/>
          </a:solidFill>
          <a:ln w="25560">
            <a:solidFill>
              <a:srgbClr val="f4f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213000" y="6597720"/>
            <a:ext cx="5967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5"/>
              </a:rPr>
              <a:t>http://www.lightbulblanguages.co.uk</a:t>
            </a: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3222720" y="895320"/>
            <a:ext cx="26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el pel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6140520" y="61920"/>
            <a:ext cx="3006720" cy="3006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6137280" y="3274920"/>
            <a:ext cx="3006720" cy="3006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3"/>
          <a:stretch/>
        </p:blipFill>
        <p:spPr>
          <a:xfrm>
            <a:off x="3068640" y="3274920"/>
            <a:ext cx="3006720" cy="300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4"/>
          <a:stretch/>
        </p:blipFill>
        <p:spPr>
          <a:xfrm>
            <a:off x="0" y="3274920"/>
            <a:ext cx="3006720" cy="3006720"/>
          </a:xfrm>
          <a:prstGeom prst="rect">
            <a:avLst/>
          </a:prstGeom>
          <a:ln w="0">
            <a:noFill/>
          </a:ln>
        </p:spPr>
      </p:pic>
      <p:sp>
        <p:nvSpPr>
          <p:cNvPr id="109" name="Right Arrow 8"/>
          <p:cNvSpPr/>
          <p:nvPr/>
        </p:nvSpPr>
        <p:spPr>
          <a:xfrm rot="19841400">
            <a:off x="5770440" y="1035000"/>
            <a:ext cx="960480" cy="1443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ff6f"/>
          </a:solidFill>
          <a:ln w="25560">
            <a:solidFill>
              <a:srgbClr val="f4f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ight Arrow 9"/>
          <p:cNvSpPr/>
          <p:nvPr/>
        </p:nvSpPr>
        <p:spPr>
          <a:xfrm rot="10800000">
            <a:off x="144000" y="469080"/>
            <a:ext cx="2816280" cy="18716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108000" y="890640"/>
            <a:ext cx="311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ien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3" name="Group 1"/>
          <p:cNvGrpSpPr/>
          <p:nvPr/>
        </p:nvGrpSpPr>
        <p:grpSpPr>
          <a:xfrm>
            <a:off x="487440" y="4797000"/>
            <a:ext cx="3114720" cy="1871640"/>
            <a:chOff x="487440" y="4797000"/>
            <a:chExt cx="3114720" cy="1871640"/>
          </a:xfrm>
        </p:grpSpPr>
        <p:sp>
          <p:nvSpPr>
            <p:cNvPr id="114" name="Right Arrow 9"/>
            <p:cNvSpPr/>
            <p:nvPr/>
          </p:nvSpPr>
          <p:spPr>
            <a:xfrm rot="10800000">
              <a:off x="523440" y="4797000"/>
              <a:ext cx="2816280" cy="1871640"/>
            </a:xfrm>
            <a:prstGeom prst="rightArrow">
              <a:avLst>
                <a:gd name="adj1" fmla="val 50000"/>
                <a:gd name="adj2" fmla="val 50004"/>
              </a:avLst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TextBox 6"/>
            <p:cNvSpPr/>
            <p:nvPr/>
          </p:nvSpPr>
          <p:spPr>
            <a:xfrm>
              <a:off x="487440" y="5217840"/>
              <a:ext cx="3114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Comic Sans MS"/>
                </a:rPr>
                <a:t>tiene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6" name="Group 3"/>
          <p:cNvGrpSpPr/>
          <p:nvPr/>
        </p:nvGrpSpPr>
        <p:grpSpPr>
          <a:xfrm>
            <a:off x="365040" y="2384280"/>
            <a:ext cx="3888000" cy="2087640"/>
            <a:chOff x="365040" y="2384280"/>
            <a:chExt cx="3888000" cy="2087640"/>
          </a:xfrm>
        </p:grpSpPr>
        <p:sp>
          <p:nvSpPr>
            <p:cNvPr id="117" name="Oval Callout 11"/>
            <p:cNvSpPr/>
            <p:nvPr/>
          </p:nvSpPr>
          <p:spPr>
            <a:xfrm>
              <a:off x="365040" y="2384280"/>
              <a:ext cx="3240360" cy="2087640"/>
            </a:xfrm>
            <a:prstGeom prst="wedgeEllipseCallout">
              <a:avLst>
                <a:gd name="adj1" fmla="val -47351"/>
                <a:gd name="adj2" fmla="val 58476"/>
              </a:avLst>
            </a:prstGeom>
            <a:solidFill>
              <a:srgbClr val="fffff7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TextBox 6"/>
            <p:cNvSpPr/>
            <p:nvPr/>
          </p:nvSpPr>
          <p:spPr>
            <a:xfrm>
              <a:off x="365040" y="2976480"/>
              <a:ext cx="388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¿ tienes ?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9" name="Oval Callout 13"/>
          <p:cNvSpPr/>
          <p:nvPr/>
        </p:nvSpPr>
        <p:spPr>
          <a:xfrm>
            <a:off x="365040" y="11592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211640" y="62064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3"/>
                </a:solidFill>
                <a:latin typeface="Comic Sans MS"/>
              </a:rPr>
              <a:t>I hav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Box 16"/>
          <p:cNvSpPr/>
          <p:nvPr/>
        </p:nvSpPr>
        <p:spPr>
          <a:xfrm>
            <a:off x="4265640" y="304488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3"/>
                </a:solidFill>
                <a:latin typeface="Comic Sans MS"/>
              </a:rPr>
              <a:t>do you have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4265640" y="534024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3"/>
                </a:solidFill>
                <a:latin typeface="Comic Sans MS"/>
              </a:rPr>
              <a:t>(he / she) h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79280" y="189000"/>
            <a:ext cx="8785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Notes for the teach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Practise the 11 colours, plus multicolo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Practise the first sentence –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Tengo el pelo negro 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– using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Escuchad y repetid 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 and actions to help embed.  </a:t>
            </a:r>
            <a:br>
              <a:rPr sz="2000"/>
            </a:b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(point to self and grasp with the other hand for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tengo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, tug hair for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el pelo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, cover eyes for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negro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Discuss the meaning (I have black hair) and ask the children what they notice about the word order (adjectives come after the noun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Repeat the other three sentences in the same way (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Tengo el pelo azul / tengo el pelo rosa / tengo el pelo verde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Using slide 2, give children one minute to practise the sentences in pai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Using slides 3-8, ask the children to tell you what the sentence is.  Note that the support is gradually withdraw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Use slide 9 to practise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¿Tienes el pelo negro? 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etc.  Discuss the meaning with the children. (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¿tienes?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 = do you have?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Repeat for slide 10 (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Tiene = 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he/she ha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I then made some comedy wigs using card to practise these 3 kinds of sentenc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3222720" y="404640"/>
            <a:ext cx="567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el pelo neg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Oval Callout 12"/>
          <p:cNvSpPr/>
          <p:nvPr/>
        </p:nvSpPr>
        <p:spPr>
          <a:xfrm>
            <a:off x="87480" y="115920"/>
            <a:ext cx="3135240" cy="155880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222720" y="2082960"/>
            <a:ext cx="567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el pelo azu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Oval Callout 14"/>
          <p:cNvSpPr/>
          <p:nvPr/>
        </p:nvSpPr>
        <p:spPr>
          <a:xfrm>
            <a:off x="87480" y="1779480"/>
            <a:ext cx="3135240" cy="155916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3222720" y="5437080"/>
            <a:ext cx="567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el pelo verd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Oval Callout 16"/>
          <p:cNvSpPr/>
          <p:nvPr/>
        </p:nvSpPr>
        <p:spPr>
          <a:xfrm>
            <a:off x="87480" y="3443400"/>
            <a:ext cx="3135240" cy="155880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Oval Callout 17"/>
          <p:cNvSpPr/>
          <p:nvPr/>
        </p:nvSpPr>
        <p:spPr>
          <a:xfrm>
            <a:off x="87480" y="5106960"/>
            <a:ext cx="3135240" cy="155880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18"/>
          <p:cNvSpPr/>
          <p:nvPr/>
        </p:nvSpPr>
        <p:spPr>
          <a:xfrm>
            <a:off x="3222720" y="3759120"/>
            <a:ext cx="567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el pelo rosa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5"/>
          <p:cNvSpPr/>
          <p:nvPr/>
        </p:nvSpPr>
        <p:spPr>
          <a:xfrm>
            <a:off x="8172360" y="692280"/>
            <a:ext cx="576360" cy="576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Oval 19"/>
          <p:cNvSpPr/>
          <p:nvPr/>
        </p:nvSpPr>
        <p:spPr>
          <a:xfrm>
            <a:off x="8172360" y="2271600"/>
            <a:ext cx="576360" cy="576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20"/>
          <p:cNvSpPr/>
          <p:nvPr/>
        </p:nvSpPr>
        <p:spPr>
          <a:xfrm>
            <a:off x="8172360" y="3979800"/>
            <a:ext cx="576360" cy="57636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Oval 21"/>
          <p:cNvSpPr/>
          <p:nvPr/>
        </p:nvSpPr>
        <p:spPr>
          <a:xfrm>
            <a:off x="8172360" y="5657760"/>
            <a:ext cx="576360" cy="57636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3222720" y="895320"/>
            <a:ext cx="26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el pel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Oval Callout 3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653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3222720" y="895320"/>
            <a:ext cx="26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el pel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Oval Callout 3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2484360" y="2209680"/>
            <a:ext cx="450864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459240" y="895320"/>
            <a:ext cx="2697120" cy="1015920"/>
          </a:xfrm>
          <a:prstGeom prst="rect">
            <a:avLst/>
          </a:prstGeom>
          <a:noFill/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Oval Callout 3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59432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3459240" y="895320"/>
            <a:ext cx="2697120" cy="1015920"/>
          </a:xfrm>
          <a:prstGeom prst="rect">
            <a:avLst/>
          </a:prstGeom>
          <a:noFill/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Oval Callout 3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2508120" y="2205000"/>
            <a:ext cx="454356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3459240" y="895320"/>
            <a:ext cx="2697120" cy="1015920"/>
          </a:xfrm>
          <a:prstGeom prst="rect">
            <a:avLst/>
          </a:prstGeom>
          <a:noFill/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Oval Callout 3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195640" y="2205000"/>
            <a:ext cx="454176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3459240" y="895320"/>
            <a:ext cx="2697120" cy="1015920"/>
          </a:xfrm>
          <a:prstGeom prst="rect">
            <a:avLst/>
          </a:prstGeom>
          <a:noFill/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Oval Callout 3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2411280" y="2211480"/>
            <a:ext cx="454212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3222720" y="895320"/>
            <a:ext cx="26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el pel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Oval Callout 3"/>
          <p:cNvSpPr/>
          <p:nvPr/>
        </p:nvSpPr>
        <p:spPr>
          <a:xfrm>
            <a:off x="108000" y="298440"/>
            <a:ext cx="324000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6140520" y="61920"/>
            <a:ext cx="3006720" cy="3006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6137280" y="3274920"/>
            <a:ext cx="3006720" cy="300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3068640" y="3274920"/>
            <a:ext cx="3006720" cy="300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4"/>
          <a:stretch/>
        </p:blipFill>
        <p:spPr>
          <a:xfrm>
            <a:off x="0" y="3274920"/>
            <a:ext cx="3006720" cy="3006720"/>
          </a:xfrm>
          <a:prstGeom prst="rect">
            <a:avLst/>
          </a:prstGeom>
          <a:ln w="0">
            <a:noFill/>
          </a:ln>
        </p:spPr>
      </p:pic>
      <p:sp>
        <p:nvSpPr>
          <p:cNvPr id="101" name="Right Arrow 8"/>
          <p:cNvSpPr/>
          <p:nvPr/>
        </p:nvSpPr>
        <p:spPr>
          <a:xfrm rot="19841400">
            <a:off x="5770440" y="1035000"/>
            <a:ext cx="960480" cy="1443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ff6f"/>
          </a:solidFill>
          <a:ln w="25560">
            <a:solidFill>
              <a:srgbClr val="f4f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108000" y="89064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¿ tienes 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1-31T11:18:13Z</dcterms:modified>
  <cp:revision>137</cp:revision>
  <dc:subject/>
  <dc:title>TITLE</dc:title>
</cp:coreProperties>
</file>