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B621-E517-42B6-B652-F2734D9F1EA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2B6C-3626-4990-B48A-E891A9B89F8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5353-92FF-4972-B126-5A10107D4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0C18-C779-45C6-88F7-73DD3C52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3E8C-DC16-468D-99F0-D8B903B0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FDD3-B78D-4214-9F47-4BF66D05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D7C2-B072-4A31-9786-24B419F4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60EA-3174-4EB1-9CBD-9F5BEE99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37E5-7AAA-4FCD-A575-742DEEBC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489E-EAEC-4050-AFE8-19F7D2E2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D963-2A87-4FDD-AFAB-99B255EB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D44A-67EF-4904-BAEA-AF9E04EB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8361-73B5-490B-AAFB-6523E574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D75E-A3F6-4E49-B0C5-480DD241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0BBD-37E1-43D7-BB2A-D55872F8DB7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hyperlink" Target="http://www.lightbulblanguages.co.uk/" TargetMode="Externa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08000" y="212760"/>
          <a:ext cx="8928000" cy="64562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  <a:gridCol w="2232000"/>
              </a:tblGrid>
              <a:tr h="2152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</a:tr>
              <a:tr h="2151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</a:tr>
              <a:tr h="2152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</a:tr>
            </a:tbl>
          </a:graphicData>
        </a:graphic>
      </p:graphicFrame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6943680" y="465300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4705200" y="465300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2455920" y="465300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4"/>
          <a:stretch/>
        </p:blipFill>
        <p:spPr>
          <a:xfrm>
            <a:off x="250920" y="465300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5"/>
          <a:stretch/>
        </p:blipFill>
        <p:spPr>
          <a:xfrm>
            <a:off x="6943680" y="2492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6"/>
          <a:stretch/>
        </p:blipFill>
        <p:spPr>
          <a:xfrm>
            <a:off x="4705200" y="2492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"/>
          <p:cNvPicPr/>
          <p:nvPr/>
        </p:nvPicPr>
        <p:blipFill>
          <a:blip r:embed="rId7"/>
          <a:stretch/>
        </p:blipFill>
        <p:spPr>
          <a:xfrm>
            <a:off x="2455920" y="2492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"/>
          <p:cNvPicPr/>
          <p:nvPr/>
        </p:nvPicPr>
        <p:blipFill>
          <a:blip r:embed="rId8"/>
          <a:stretch/>
        </p:blipFill>
        <p:spPr>
          <a:xfrm>
            <a:off x="250920" y="2492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"/>
          <p:cNvPicPr/>
          <p:nvPr/>
        </p:nvPicPr>
        <p:blipFill>
          <a:blip r:embed="rId9"/>
          <a:stretch/>
        </p:blipFill>
        <p:spPr>
          <a:xfrm>
            <a:off x="6943680" y="333360"/>
            <a:ext cx="1944720" cy="194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"/>
          <p:cNvPicPr/>
          <p:nvPr/>
        </p:nvPicPr>
        <p:blipFill>
          <a:blip r:embed="rId10"/>
          <a:stretch/>
        </p:blipFill>
        <p:spPr>
          <a:xfrm>
            <a:off x="4705200" y="333360"/>
            <a:ext cx="1944720" cy="1943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"/>
          <p:cNvPicPr/>
          <p:nvPr/>
        </p:nvPicPr>
        <p:blipFill>
          <a:blip r:embed="rId11"/>
          <a:stretch/>
        </p:blipFill>
        <p:spPr>
          <a:xfrm>
            <a:off x="2455920" y="333360"/>
            <a:ext cx="1944720" cy="194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"/>
          <p:cNvPicPr/>
          <p:nvPr/>
        </p:nvPicPr>
        <p:blipFill>
          <a:blip r:embed="rId12"/>
          <a:stretch/>
        </p:blipFill>
        <p:spPr>
          <a:xfrm>
            <a:off x="250920" y="333360"/>
            <a:ext cx="1944720" cy="1943280"/>
          </a:xfrm>
          <a:prstGeom prst="rect">
            <a:avLst/>
          </a:prstGeom>
          <a:ln w="0">
            <a:noFill/>
          </a:ln>
        </p:spPr>
      </p:pic>
      <p:sp>
        <p:nvSpPr>
          <p:cNvPr id="62" name="TextBox 15"/>
          <p:cNvSpPr/>
          <p:nvPr/>
        </p:nvSpPr>
        <p:spPr>
          <a:xfrm>
            <a:off x="3213000" y="6670800"/>
            <a:ext cx="5967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3"/>
              </a:rPr>
              <a:t>http://www.lightbulblanguages.co.uk</a:t>
            </a: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1-31T11:18:41Z</dcterms:modified>
  <cp:revision>149</cp:revision>
  <dc:subject/>
  <dc:title>TITLE</dc:title>
</cp:coreProperties>
</file>