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E257-8FEE-46DE-BB8C-BCE0DF2C677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5F6A-96C3-4A99-AE52-73B499FCF28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99E9-1A02-495A-8061-A4ACE8FD0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6389-7F0A-4C2C-B8F0-A673B63C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50B6-5FFD-491B-9649-301D3BC7A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213C-5D2B-4BFF-85F7-2F6925C47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BCC9-DA0E-483A-9A49-3D0D2DB1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6FDD-004E-489D-A033-C3764A44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71EB-C67B-4EF4-9344-38425112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7118-399D-408E-83D2-FE6062BC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F60D-AAE8-4810-94C1-D646A9E9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160D-03CF-4C82-AABD-1AC63969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89CF-044E-40F0-A5E7-A819A302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D1C2-AE7A-4378-9375-6E2110FB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1EAB-A632-4577-83B0-1F9A299CBC3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hyperlink" Target="http://www.lightbulblanguages.co.uk/" TargetMode="Externa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08000" y="212760"/>
          <a:ext cx="8928000" cy="64562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  <a:gridCol w="2232000"/>
              </a:tblGrid>
              <a:tr h="2152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</a:tr>
              <a:tr h="2151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</a:tr>
              <a:tr h="2152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</a:tr>
            </a:tbl>
          </a:graphicData>
        </a:graphic>
      </p:graphicFrame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6943680" y="465300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4705200" y="465300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2455920" y="465300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4"/>
          <a:stretch/>
        </p:blipFill>
        <p:spPr>
          <a:xfrm>
            <a:off x="250920" y="465300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5"/>
          <a:stretch/>
        </p:blipFill>
        <p:spPr>
          <a:xfrm>
            <a:off x="6943680" y="2492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6"/>
          <a:stretch/>
        </p:blipFill>
        <p:spPr>
          <a:xfrm>
            <a:off x="4705200" y="2492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"/>
          <p:cNvPicPr/>
          <p:nvPr/>
        </p:nvPicPr>
        <p:blipFill>
          <a:blip r:embed="rId7"/>
          <a:stretch/>
        </p:blipFill>
        <p:spPr>
          <a:xfrm>
            <a:off x="2455920" y="2492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"/>
          <p:cNvPicPr/>
          <p:nvPr/>
        </p:nvPicPr>
        <p:blipFill>
          <a:blip r:embed="rId8"/>
          <a:stretch/>
        </p:blipFill>
        <p:spPr>
          <a:xfrm>
            <a:off x="250920" y="2492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"/>
          <p:cNvPicPr/>
          <p:nvPr/>
        </p:nvPicPr>
        <p:blipFill>
          <a:blip r:embed="rId9"/>
          <a:stretch/>
        </p:blipFill>
        <p:spPr>
          <a:xfrm>
            <a:off x="6943680" y="333360"/>
            <a:ext cx="1944720" cy="194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"/>
          <p:cNvPicPr/>
          <p:nvPr/>
        </p:nvPicPr>
        <p:blipFill>
          <a:blip r:embed="rId10"/>
          <a:stretch/>
        </p:blipFill>
        <p:spPr>
          <a:xfrm>
            <a:off x="4705200" y="333360"/>
            <a:ext cx="1944720" cy="1943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"/>
          <p:cNvPicPr/>
          <p:nvPr/>
        </p:nvPicPr>
        <p:blipFill>
          <a:blip r:embed="rId11"/>
          <a:stretch/>
        </p:blipFill>
        <p:spPr>
          <a:xfrm>
            <a:off x="2455920" y="333360"/>
            <a:ext cx="1944720" cy="194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"/>
          <p:cNvPicPr/>
          <p:nvPr/>
        </p:nvPicPr>
        <p:blipFill>
          <a:blip r:embed="rId12"/>
          <a:stretch/>
        </p:blipFill>
        <p:spPr>
          <a:xfrm>
            <a:off x="250920" y="333360"/>
            <a:ext cx="1944720" cy="1943280"/>
          </a:xfrm>
          <a:prstGeom prst="rect">
            <a:avLst/>
          </a:prstGeom>
          <a:ln w="0">
            <a:noFill/>
          </a:ln>
        </p:spPr>
      </p:pic>
      <p:sp>
        <p:nvSpPr>
          <p:cNvPr id="62" name="TextBox 15"/>
          <p:cNvSpPr/>
          <p:nvPr/>
        </p:nvSpPr>
        <p:spPr>
          <a:xfrm>
            <a:off x="3213000" y="6670800"/>
            <a:ext cx="596736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a"/>
                </a:solidFill>
                <a:latin typeface="Arial Rounded MT Bold"/>
              </a:rPr>
              <a:t>© Light Bulb Languages 2020 CS </a:t>
            </a:r>
            <a:r>
              <a:rPr b="0" lang="en-GB" sz="800" spc="-1" strike="noStrike" u="sng">
                <a:solidFill>
                  <a:srgbClr val="ff5050"/>
                </a:solidFill>
                <a:uFillTx/>
                <a:latin typeface="Arial Rounded MT Bold"/>
                <a:hlinkClick r:id="rId13"/>
              </a:rPr>
              <a:t>http://www.lightbulblanguages.co.uk</a:t>
            </a:r>
            <a:r>
              <a:rPr b="0" lang="en-GB" sz="800" spc="-1" strike="noStrike">
                <a:solidFill>
                  <a:srgbClr val="fffffa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1-31T11:18:41Z</dcterms:modified>
  <cp:revision>149</cp:revision>
  <dc:subject/>
  <dc:title>TITLE</dc:title>
</cp:coreProperties>
</file>