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AE5-A18E-48CE-A9F5-2697040939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tune of Michael Finni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38A-6068-4C7E-9A71-27E52B7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7DE-9353-4A17-99E1-FF57E8F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575-3CE5-48F2-BF35-C8C738E6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45C-FB7D-40DB-9970-4C8995DE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26A-60DF-4663-AD92-93DAE9CB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079-828C-488E-AA38-72D80A73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6D7-5E11-417B-A2FD-B9EF1F80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160-1455-4B56-9DC7-7CEF1839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C48-607E-4693-A01D-D91126EF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5F0-8787-4624-961D-54AC865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BE2-C143-4BE4-ACB6-DED6929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F04-2B6A-4313-955D-684FB93F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BCC4-7CEA-4073-91D5-3B34C22941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image" Target="../media/image12.png"/><Relationship Id="rId8" Type="http://schemas.openxmlformats.org/officeDocument/2006/relationships/image" Target="../media/image6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227480" cy="431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280" y="2565360"/>
            <a:ext cx="1871640" cy="157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804000" y="2708280"/>
            <a:ext cx="153684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708360" y="404640"/>
            <a:ext cx="187164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780000" y="5479920"/>
            <a:ext cx="1944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227480" cy="43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2708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16000" y="2565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24360" y="5664240"/>
            <a:ext cx="172728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0"/>
            <a:ext cx="1800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16000" y="2565360"/>
            <a:ext cx="13334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24360" y="5664240"/>
            <a:ext cx="1727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180036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627280" y="1341360"/>
            <a:ext cx="4229280" cy="432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6443640" y="1316160"/>
            <a:ext cx="1441440" cy="636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1876320" y="981000"/>
            <a:ext cx="109224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547640" y="4724280"/>
            <a:ext cx="1656000" cy="117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6516720" y="4797360"/>
            <a:ext cx="12240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211640" y="5560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1727280" cy="1194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5640" y="2708280"/>
            <a:ext cx="1800360" cy="132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627280" y="1341360"/>
            <a:ext cx="4229280" cy="432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835280" y="5013360"/>
            <a:ext cx="1441440" cy="636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588000" y="4653000"/>
            <a:ext cx="109224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877080" y="2852640"/>
            <a:ext cx="1655640" cy="11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88000" y="1052640"/>
            <a:ext cx="1224000" cy="120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3924360" y="0"/>
            <a:ext cx="15112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885080" y="2637000"/>
            <a:ext cx="934920" cy="122364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16000" y="3017880"/>
            <a:ext cx="1368360" cy="946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216480"/>
            <a:ext cx="49323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n el oeste hay nieb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3T10:37:18Z</dcterms:modified>
  <cp:revision>173</cp:revision>
  <dc:subject/>
  <dc:title>TITLE</dc:title>
</cp:coreProperties>
</file>