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EF1-EDF4-4219-9D6A-1C2DCAA275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9C1-1A4A-4055-ADA3-852BCB13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D90-DACE-47B7-9ED4-6731E25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738-3A24-4CDC-9BEF-61FC9781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51F-7E5C-4E6F-BDAC-5C5EFAD1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E3B-EA07-4CEA-8510-88D411F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625-8C1E-4C37-B142-E947677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CA1-F2BF-4DC8-935D-D9566B0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71D-0BD7-4A18-AD2D-BA2909AF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FBC-2074-44DB-AC8A-E5DF0AAF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DE2-372F-400B-A4C2-3B0E0E4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FF8-28BB-48F1-9784-966FD54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09A-AC59-49EC-A73E-F80AB04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A52-65A2-4000-B691-FD8A463761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227480" cy="431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256536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08360" y="40464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780000" y="5479920"/>
            <a:ext cx="1944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227480" cy="43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2708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16000" y="2565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24360" y="5664240"/>
            <a:ext cx="172728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16000" y="2565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24360" y="5664240"/>
            <a:ext cx="1727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627280" y="1341360"/>
            <a:ext cx="4229280" cy="432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443640" y="1316160"/>
            <a:ext cx="1441440" cy="63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1876320" y="981000"/>
            <a:ext cx="109224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547640" y="4724280"/>
            <a:ext cx="1656000" cy="117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516720" y="4797360"/>
            <a:ext cx="12240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211640" y="5560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1727280" cy="1194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627280" y="1341360"/>
            <a:ext cx="4229280" cy="432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1441440" cy="63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588000" y="4653000"/>
            <a:ext cx="109224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877080" y="2852640"/>
            <a:ext cx="1655640" cy="11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88000" y="1052640"/>
            <a:ext cx="1224000" cy="120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3924360" y="0"/>
            <a:ext cx="15112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885080" y="2637000"/>
            <a:ext cx="934920" cy="12236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16000" y="301788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216480"/>
            <a:ext cx="49323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 el oeste hay nieb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7:18Z</dcterms:modified>
  <cp:revision>173</cp:revision>
  <dc:subject/>
  <dc:title>TITLE</dc:title>
</cp:coreProperties>
</file>