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883-DC26-45DE-8FBA-C6CF0F6159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78A-9EB0-4D64-AFE9-AFE3F3D1D7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A34-D38E-458C-8AAC-152DA07E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82E-B088-4539-AA3D-A2AF79A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E32-FC88-4084-A31B-6FBB1BDF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847-51BF-4D1F-BA02-87E231E8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C4F-FB89-41DF-A595-C79851CE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B8F0-E9A5-45B2-B284-E6C25BBA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1701-1BF6-4B90-8BF9-1B91BA0D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4B4-4AB6-4E62-9EA8-5ED735E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C02-E7D0-40D8-B42C-908A6AA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6992-B23F-4D8B-B071-5539BE0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89C5-BE03-4159-A774-F328519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DBC-1ADF-44D3-A156-6A97B67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6AA-A039-45AE-900C-03939722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F485-6B6C-4882-9715-221E2D6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5A3-D3B1-4F29-8038-F258AAC0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1933-4B24-42E9-82A2-B7F5E6C1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6F7-F3D9-4C88-95C8-4B1587CA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5103-D996-4AED-9E8A-7E8AF5CE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B580-2F09-436C-80DD-6EE25280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ACD1-CE64-4FF6-AB95-E3F28BC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19AE-5F18-4DEA-8230-B837BDE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3FD7-F313-43F4-AFCA-5F10DC7E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821-F86A-436C-9662-E9735448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6E33-84C7-4665-BA2E-40BE068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3840-4C9A-43B2-95E3-3443C23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588C-DE25-4089-93D3-258EA85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585F-B5D3-497C-90B3-FA2F8B1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9CD5-B234-42BA-9121-BDF2E0CF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FE28-76B8-4767-B55D-36C3C737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FF0E-AF9C-4480-9E10-9D9F0AD8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B7F-818E-4E30-BD2F-5B873EA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4AF-B21C-4BD9-BC34-266060A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00F-0F1B-4504-9DE5-7CD4845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A9A-8877-49DB-813A-6D20A48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AAA-3477-4555-B847-3E310CA6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79D-4A9A-4BC9-ABA1-450A54B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26AC-B79E-43B1-A871-B58D4B1FB3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C7B-51AF-4539-91EB-AB956F534F3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F9C-6DD5-4EEE-A70F-0710CD62A77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97160"/>
          <a:ext cx="8856720" cy="267948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295280"/>
                <a:gridCol w="1728720"/>
                <a:gridCol w="360360"/>
                <a:gridCol w="1727280"/>
              </a:tblGrid>
              <a:tr h="33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a bibliot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pa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coleg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 supermerc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a cafete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e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mp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pr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rabaj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jug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m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harl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estudi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 txBox="1"/>
          <p:nvPr/>
        </p:nvSpPr>
        <p:spPr>
          <a:xfrm>
            <a:off x="3059280" y="4365720"/>
            <a:ext cx="280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38:54Z</dcterms:modified>
  <cp:revision>273</cp:revision>
  <dc:subject/>
  <dc:title>TITLE</dc:title>
</cp:coreProperties>
</file>