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1A1D9-F449-4AD6-8935-F65ACF52725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49F0B-DD6F-495D-9DAA-2A4D9C84A42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D5D8-8633-4F7D-8A9C-2E818BAC0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9B93-CDB6-4810-92B9-9C644A737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19E4-1E80-4B86-B491-B51B80081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D62E-B3DC-42E0-991F-70BA4E4F7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F4E6B-C98C-49FE-87B7-BDFC3DC91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F67E4-DD0A-49DB-9CFE-30C272A8B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E2673-8140-4BFB-9A19-AA752A609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1EB87-0DF7-4110-B119-13725A729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AB8C2-73DA-4C84-8562-9A6998068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81690-344D-4F4D-9212-C2A4BFFC9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AD4AC-3397-4341-87A4-53D80C86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DAF6-A9C1-43B9-A9D4-C5CD3B623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40EAD-9A6A-4B18-9B08-EFAF8077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65862-9F49-4010-B986-4468368E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679F8-5A5E-47BE-ACB2-6FC2DD64D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53456-97D1-4724-8E42-FF49B5B50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3DA66-588D-4376-8460-2ACDD62BA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1BF4A-CFEF-4A82-BBEC-072586FFF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C0831-A62B-4A2C-AABA-4277390B9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4DAC7-2B9E-4B87-9736-9AA8CC61D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027B1-5A5C-4D5C-9270-3A98D7CAF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BF0EB-6FF1-4E5C-AE3F-BBC911BD4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8599-683D-430C-8605-1C7AF0472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86DF5-8EAF-4E93-8BD6-40CE0B082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3AE58-8223-43A9-B8BA-5E1E906FF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4EF06-0E5E-463D-AF4E-2846FBBE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B9278-627D-4157-8E59-D571E393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AF118-1B96-402A-A944-52A03C72F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74930-F1C6-4EA9-9D0E-AAE3B6A27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CE08F-C5BF-4759-A390-30E957AEF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9A73-04AB-4AC1-9DC0-1BBC99C28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C451-CD14-4435-9C3A-836592BB8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92A7-5E22-4567-B350-4D41EF8AB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A7F8-9526-4763-8476-698F9A58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849F-14DE-4AC9-8AC8-0C970344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0573-8BD3-412A-AFE4-D0330DF2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BB25B-8640-4C57-9FEF-7C2AE56BEE5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63B18-C64F-4956-8D53-EF9BE98F36CB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73B3D-8C61-4E52-AE4A-5B31434F9436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79280" y="1397160"/>
          <a:ext cx="8856720" cy="2679480"/>
        </p:xfrm>
        <a:graphic>
          <a:graphicData uri="http://schemas.openxmlformats.org/drawingml/2006/table">
            <a:tbl>
              <a:tblPr/>
              <a:tblGrid>
                <a:gridCol w="647640"/>
                <a:gridCol w="3097440"/>
                <a:gridCol w="1295280"/>
                <a:gridCol w="1728720"/>
                <a:gridCol w="360360"/>
                <a:gridCol w="1727280"/>
              </a:tblGrid>
              <a:tr h="334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una bibliote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un parq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un coleg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un supermerca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una cafeterí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 pue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le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camin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beb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compr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apren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trabaj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jug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come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charl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estudi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 txBox="1"/>
          <p:nvPr/>
        </p:nvSpPr>
        <p:spPr>
          <a:xfrm>
            <a:off x="3059280" y="4365720"/>
            <a:ext cx="2808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luedo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2-12-03T21:38:54Z</dcterms:modified>
  <cp:revision>273</cp:revision>
  <dc:subject/>
  <dc:title>TITLE</dc:title>
</cp:coreProperties>
</file>