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CE7B-2F44-4075-86EA-C691E32DD3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51E-1584-4587-98D6-DE11D336BF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32C9-C15F-4687-91FC-18AF2A6C21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D49-EC1A-4AE8-A7B7-1937776391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FD75-7ACC-4A23-AF03-EC3E12FCB9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790B-B14F-4C98-B7AD-7A9DCC318A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A48-8561-41DE-B6B1-FBFF9651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985-2C4F-4915-B148-A5603B3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524-D81B-415B-97CC-C485CAF1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F2E-8446-4F4F-884A-EAF2A73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8F4-DBC8-4033-89D4-3496B9C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818-9124-4701-8281-A87BBD25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CCF-3A3F-45B6-9B2E-BE41848E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74B-00A1-4846-95F5-7C8A9A2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630-A9E9-4D38-810D-6D5B9A39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D39-184C-4FD7-8107-B3B23E1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E76-8CAB-4808-88ED-E969880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ECA-9861-4C3F-9E02-750D0E4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9093-C017-4BFD-81B8-46B828E915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48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verd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77172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ros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multicol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11280" y="1263600"/>
            <a:ext cx="45370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gri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795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naran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52680" y="1268280"/>
            <a:ext cx="42386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14:37Z</dcterms:modified>
  <cp:revision>178</cp:revision>
  <dc:subject/>
  <dc:title>TITLE</dc:title>
</cp:coreProperties>
</file>