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0D0-32F4-464E-8870-2DE03664C3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81C7-4E02-4112-A28A-CA74623BE6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D07-4DBE-4D53-95D4-8A40DDA278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954-6A01-4703-AAF7-9DC35154DF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1D8F-B738-4267-A036-B48F0411D1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7BB4-1734-4186-8FAD-DACAD2A42F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0CA-193C-4E2C-8206-356612C8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6D7-A280-4241-8126-3FE9FD96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B43-3975-490D-AE51-FBE4151E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AAB-EEC3-455C-8F0C-595686AA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29A-71CD-4660-B44C-32CE3719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AC8-C875-40C2-B58B-619EADF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A40-A463-460B-A732-CCCFB45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E24-61B3-45BF-AEDC-123F0D0A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4C4-F14A-4D08-9F73-433C8FE7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CDF-4D8D-4FBF-9647-7F966E0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409-EC92-409B-9EC9-50A4D5FC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986-C4FE-4333-9C95-4AEB670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88A-9B1B-4A2E-A054-062D63D53C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48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verd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77172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ros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multicol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11280" y="1263600"/>
            <a:ext cx="45370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gri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795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9280" y="58770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Es de color naranj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52680" y="1268280"/>
            <a:ext cx="42386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14:37Z</dcterms:modified>
  <cp:revision>178</cp:revision>
  <dc:subject/>
  <dc:title>TITLE</dc:title>
</cp:coreProperties>
</file>