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531D-C3B8-44EA-8372-4653BCCF90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296-48F7-4BC1-9B5A-3692AA9F7C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F647-37E8-4BC8-BC54-FB2F9D0965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AA6-B860-4240-A565-B68EF6AA49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0F7-ED41-4403-9B2A-7EAF0FC9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37A-E3A1-4A1C-B123-EC70C5BC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A95-F6D4-4641-B037-0D096BB2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402-B441-4B64-8CA2-6E68463B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E4C-3D01-4289-9D3F-B0BEF99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5D2-83B6-4F29-B6A8-A3C60F84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F92-DC95-4C42-9F4E-5DE08B1E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BFC-C462-490E-A1CD-48CB2F5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B7C-9E61-4948-9226-329DA8E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C12-2111-4539-8BDA-0FB58B1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0E0-B83B-47AA-85E1-4CD625FC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59F-33A2-4B76-810F-F43501B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D572-5EAD-4249-AD3C-333BFD371E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3573360"/>
            <a:ext cx="28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lápi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estuc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a go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4221000"/>
            <a:ext cx="50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sacapun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189000"/>
            <a:ext cx="47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bolígraf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06064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836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go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270828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pu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8560" y="333360"/>
            <a:ext cx="410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reg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03640" y="5759280"/>
            <a:ext cx="38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ue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est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42900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bolígraf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126828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láp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36572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sacapun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700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bot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501336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cuad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5759280"/>
            <a:ext cx="42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epas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0720" y="3573360"/>
            <a:ext cx="37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caj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270828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s_c_p_nt_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33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l_p_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 _st_ch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5573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_  r_gl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189000"/>
            <a:ext cx="51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_   g_m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3645000"/>
            <a:ext cx="63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b_l_gr_f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2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41:53Z</dcterms:modified>
  <cp:revision>134</cp:revision>
  <dc:subject/>
  <dc:title>TITLE</dc:title>
</cp:coreProperties>
</file>