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56F-D21C-42AE-AFF4-28BABA9CF5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13F-F869-4091-8598-BB2DCCCBC8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D046-57BA-4090-ADC2-C33BE58D87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47ED-6681-4F4C-980F-F08AE229B8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CEC-3A7A-4F5B-8811-B7A7173E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EFD-B7EE-4815-8A19-E1254E8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7A6-1B11-4659-A711-58531BAC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2F2-AE1C-4673-AFD1-06AA0B63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101-2652-4505-8FC2-25E11E53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27B-4CCF-4289-A377-AD4F26C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BBC-7F4A-4844-B9A2-0758D166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3B1-2A78-4B8F-90AA-BFFE2817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70C-0FBA-42FC-9A39-C777BBD5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190-693E-4378-B5EE-D92A8AD8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0E1-D989-43C9-9391-04965AC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F39-3C70-4E3D-8F4B-BDD291A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FBC-CE0E-4F54-AA28-D90600DB4B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3573360"/>
            <a:ext cx="28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estuc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a go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221000"/>
            <a:ext cx="50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189000"/>
            <a:ext cx="47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 bolígraf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06064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go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27082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8560" y="333360"/>
            <a:ext cx="410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est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42900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bolígraf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36572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 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3573360"/>
            <a:ext cx="37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na 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70828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s_c_p_nt_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l_p_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 _st_ch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5573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  r_gl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89000"/>
            <a:ext cx="51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   g_m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3645000"/>
            <a:ext cx="63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  b_l_gr_f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2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41:53Z</dcterms:modified>
  <cp:revision>134</cp:revision>
  <dc:subject/>
  <dc:title>TITLE</dc:title>
</cp:coreProperties>
</file>