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850-CAC6-4B1D-B1A1-85B6DE8C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F6B-FCE4-4201-BDCD-F4FA70DE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2C2-1292-4A34-BBFB-A377E36D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773-F47D-4B48-9D66-12005A61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4AD-0EA4-4A13-B1D6-AC06632D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A22-695D-4B0C-A57B-5228C2F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5BB-B1CB-4629-9176-6CE7871B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531-8DB9-414C-BAFD-117C0056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B81-3D80-414A-B496-EB12C250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C81-42E7-4728-9E53-8F8496C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622-B3C4-4729-ACFA-099408A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85D-A27D-4B7B-ACB5-A302F21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CDFC-C9F1-4A73-AA88-DD4385DCF0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81900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27640" y="4149720"/>
            <a:ext cx="2600280" cy="1685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35280" y="620640"/>
            <a:ext cx="135900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32720" y="765000"/>
            <a:ext cx="1325520" cy="222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564000" y="4076640"/>
            <a:ext cx="1847880" cy="179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900000" y="3213000"/>
            <a:ext cx="1273320" cy="31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18900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314172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314172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21300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1-26T15:22:35Z</dcterms:modified>
  <cp:revision>133</cp:revision>
  <dc:subject/>
  <dc:title>TITLE</dc:title>
</cp:coreProperties>
</file>