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F3D-81B4-44BD-AC66-A63E404F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401-2E28-4AD2-AE8F-F58B2564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1E0-8820-4D9B-953F-59ED2558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59E-C007-4375-A0D6-11FA2AB4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AA9-01F7-4E66-BB72-4C4FBA3A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EA7-DB84-4760-B9C9-37673EC1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D36-1747-475C-9A3F-959C76ED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F98-A236-459E-94CE-8002DB9C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AB7-5924-4ED5-9968-87A27F25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24D-1501-4C05-9636-D5296DB2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2E4-4B31-4EE1-8EF5-1B49E14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FCC-68BD-4C9A-84CB-81B02BC2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03F7-44DA-4179-A855-2CBC472100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81900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27640" y="4149720"/>
            <a:ext cx="2600280" cy="1685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35280" y="620640"/>
            <a:ext cx="135900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32720" y="765000"/>
            <a:ext cx="1325520" cy="2224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564000" y="4076640"/>
            <a:ext cx="1847880" cy="179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900000" y="3213000"/>
            <a:ext cx="1273320" cy="311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18900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314172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314172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321300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1-26T15:22:35Z</dcterms:modified>
  <cp:revision>133</cp:revision>
  <dc:subject/>
  <dc:title>TITLE</dc:title>
</cp:coreProperties>
</file>