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6DA-0471-472B-8A8B-DF29C447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22F-91DD-4317-8C41-EDB2F98C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F46-DA5B-4F8D-AC6A-A360028F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EF5-EBA5-458F-8C68-3A4C495B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A26F-5757-4D09-8164-4006711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AB8-6673-4CB1-9369-61D1944F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FBF3-6D05-44B2-AFCE-9F25A38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62D-9259-4280-944F-DF5B2C40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E366-DAB6-480D-B2EE-75895BE9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E64F-8879-46A9-922E-E631D3CE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CB9-0DAF-4C96-8EAA-5E04BC5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DF6-484F-4B22-945C-2B1882EE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B57E-6FE3-4D5C-8EA4-94F0D48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D2AC-0D70-44B6-9DA2-BD22442D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F95F-7842-4525-8AD0-8998B2C0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29C-9167-44AE-9567-EC9796E8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0D4-AC3C-4B5F-9CA7-CA659F5A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1EB3-D81A-4813-956C-F4B5BF3B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C0D7-0E94-4209-AF2F-12A5E2E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92BB-56C7-41E7-8227-6832D4B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5263-1825-411C-A54A-082E366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7CA5-4F8F-4C20-B6A1-D06256D7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6F9-0E46-4AE0-9E5F-93ECA54A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134D-19DB-40EE-8579-8806127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511A-6158-45F2-9883-689AF10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5F05-12CD-42F2-B4A8-56BD975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62C9-BF76-4D88-8243-3964CD37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CFB1-2D5B-4A1C-A578-BB64ABC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E9FE-B620-445A-954A-4F6C7BB7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1CD6-B8BA-446A-B839-C059B1F5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D3F-8F83-4E42-9F6B-093A8B70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CCD-8A7D-4EC5-9654-060812EB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F88-EA99-4A19-B3FA-691C3B87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4D7-35E8-4741-A228-9A21422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3AA-D635-46A3-9CFE-268D0E9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BAA-4A20-4F03-9AC4-5D36D3E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EB3E-98D2-43FC-8849-B314F95BB2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04EB-D787-4C92-996E-6B019A4EF6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32E-F044-4DE2-BD86-63EA2CD3517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25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29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1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senta y nueve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noventa y cin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3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44,2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38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44,2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0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uarenta y cuatro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venticin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43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82,1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47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82,1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9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enta y dos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qui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52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50,99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56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50,99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uenta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noventa y nuev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1:54Z</dcterms:modified>
  <cp:revision>265</cp:revision>
  <dc:subject/>
  <dc:title>TITLE</dc:title>
</cp:coreProperties>
</file>