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0DA-6D9A-4121-929B-530F57A6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494-7799-4E8E-8AAA-CCFE98D2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5FA-7FF9-4267-A4A9-A5500EA7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729-5693-4B54-BF8B-E9AFADE5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38BD-0BBC-4737-8AE8-AD88087B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7657-CDBB-493E-9426-0BEF3F2A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51AE-69FF-4D88-BACA-7B4BB24B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C928-387E-4212-837A-18804DB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CEB5-B018-4BF6-8D5C-ADB1C128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316E-41B8-487C-8F11-47C20662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E75F-9E6F-46B3-BB9E-7D3B58D5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E3F-A690-48EA-9347-9C63B57B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0600-E8E3-4BCA-B93A-00FCE77B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7533-608D-4ADF-92BE-69193CE6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044E-08CC-4702-994D-580647A7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9F05-76CD-44C6-8B21-A060DC48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B3E6-F544-4DAD-BE3C-E652CBF7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8BD2-F002-4BC4-9D80-D3CADBBB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C3F1-97E9-4B02-B10F-577CDF8F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2B31-48A7-47DD-86FB-90331E45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903C-B3BA-4FCC-8024-1E9C7CD7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4137-1CDE-445A-9FD4-70027849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581-CF10-4543-B01F-CA5ECD36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257F-7CBA-478D-A238-E7A9C453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E621-72D3-4234-A615-2C9B8EC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E794-3375-490D-A11F-CBEACA0E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E74D-CA60-48A5-935C-27CA2879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2BDA-743A-4255-9BB6-AAED7299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6B32-D6E7-41CE-B302-0CC81E57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B914-CA23-41D7-ADB1-06E11E37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C0A-B8FA-4049-BD0D-2DAF39A0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554-198F-4C64-9AAA-25A4A152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0D4-65EA-4814-8F33-41AD45A6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5A0-2F54-40A4-AAAE-21A59A5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A56-69D6-478B-8BB3-624CACD5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AB2-1A58-407C-8935-1E0999B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369-F7E9-4926-97D1-3CDC871CE0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FDEA-A496-4780-92E9-1F5D08352C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3A80-0D8F-4431-BAB6-644AD260805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4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25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69,9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29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69,9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1" name="TextBox 1"/>
          <p:cNvSpPr/>
          <p:nvPr/>
        </p:nvSpPr>
        <p:spPr>
          <a:xfrm>
            <a:off x="250920" y="4440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senta y nueve </a:t>
            </a: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Euros</a:t>
            </a:r>
            <a:br>
              <a:rPr sz="4400"/>
            </a:b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con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noventa y cin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3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44,2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38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44,2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0" name="TextBox 1"/>
          <p:cNvSpPr/>
          <p:nvPr/>
        </p:nvSpPr>
        <p:spPr>
          <a:xfrm>
            <a:off x="250920" y="4440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uarenta y cuatro </a:t>
            </a: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Euros</a:t>
            </a:r>
            <a:br>
              <a:rPr sz="4400"/>
            </a:b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con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venticin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2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43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82,1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47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82,15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9" name="TextBox 1"/>
          <p:cNvSpPr/>
          <p:nvPr/>
        </p:nvSpPr>
        <p:spPr>
          <a:xfrm>
            <a:off x="250920" y="4440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chenta y dos </a:t>
            </a: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Euros</a:t>
            </a:r>
            <a:br>
              <a:rPr sz="4400"/>
            </a:b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con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quin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52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50,99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12"/>
          <p:cNvGrpSpPr/>
          <p:nvPr/>
        </p:nvGrpSpPr>
        <p:grpSpPr>
          <a:xfrm>
            <a:off x="826920" y="347400"/>
            <a:ext cx="3845160" cy="2663640"/>
            <a:chOff x="826920" y="347400"/>
            <a:chExt cx="3845160" cy="2663640"/>
          </a:xfrm>
        </p:grpSpPr>
        <p:pic>
          <p:nvPicPr>
            <p:cNvPr id="156" name="Picture 13" descr=""/>
            <p:cNvPicPr/>
            <p:nvPr/>
          </p:nvPicPr>
          <p:blipFill>
            <a:blip r:embed="rId1"/>
            <a:srcRect l="24247" t="7322" r="24247" b="5226"/>
            <a:stretch/>
          </p:blipFill>
          <p:spPr>
            <a:xfrm rot="16200000">
              <a:off x="1417680" y="-243360"/>
              <a:ext cx="2663640" cy="38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4"/>
            <p:cNvSpPr/>
            <p:nvPr/>
          </p:nvSpPr>
          <p:spPr>
            <a:xfrm>
              <a:off x="1857240" y="1171440"/>
              <a:ext cx="279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ffff"/>
                  </a:solidFill>
                  <a:latin typeface="Arial"/>
                </a:rPr>
                <a:t>50,99 €</a:t>
              </a:r>
              <a:endParaRPr b="0" lang="en-US" sz="6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8" name="TextBox 1"/>
          <p:cNvSpPr/>
          <p:nvPr/>
        </p:nvSpPr>
        <p:spPr>
          <a:xfrm>
            <a:off x="250920" y="4440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uenta </a:t>
            </a: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Euros</a:t>
            </a:r>
            <a:br>
              <a:rPr sz="4400"/>
            </a:br>
            <a:r>
              <a:rPr b="0" lang="en-GB" sz="4400" spc="-1" strike="noStrike">
                <a:solidFill>
                  <a:srgbClr val="fcfc00"/>
                </a:solidFill>
                <a:latin typeface="Comic Sans MS"/>
              </a:rPr>
              <a:t>con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noventa y nuev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51:54Z</dcterms:modified>
  <cp:revision>265</cp:revision>
  <dc:subject/>
  <dc:title>TITLE</dc:title>
</cp:coreProperties>
</file>