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D1EF-40B8-4822-86F2-00E3ED2163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C47E-0DE4-4595-BB44-EE2A0E57D10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B7F9-1EEC-44F0-AEC9-D1E4AC0FA4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F8E7-CA7E-4D26-9F7C-E8F2CA0BDD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1524-8112-4412-94CC-7F6A848E5C9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DDA9-8679-4DDE-A24E-FB9F6CE1AA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E5F-48D3-4CEE-81BB-2AD1B02F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0C4-1ADE-47B8-B452-79625FB2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815-C609-45CA-B291-3A582DCC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C04-14AF-4A17-81F5-ACFA0402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D726-5A6B-413B-9623-0D89FC43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022E-7945-4FF5-B1DE-A431EDCC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E73F-3F31-416E-84E8-2968D76C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6D91-9074-4206-B358-AF88AF76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D280-D1A5-455D-A5E9-E456B10C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E641-D625-4E39-A6A3-F0C23C14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A48A-8061-4B0E-BB77-F79F86C6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8FB-E45B-4AC3-8312-844EE708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3721-4388-40C1-9CA2-1C210A2E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C0E3-7675-4DBD-9E1A-190EDF77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50A7-568F-458F-8342-7BD6B37C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5039-7D1D-4E43-BBAC-8A57FF2B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3FF3-60CF-4E5E-B8B6-1D0966EE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919-FECF-4A6F-854A-665FB367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9F8-A6B6-41ED-9059-88110FDC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C2C6-9D81-4EAB-BDC0-7FC0F316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0F8-F297-4692-9FF8-640B5ECF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952-C389-4F2A-B891-705F224B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F2D-CC93-47B7-9300-C967DC59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202-AFA7-4672-8062-8A040806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30D3-A71F-4754-949E-1D52DA8719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A472-5201-4EF3-A23B-7B5CC78FD5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lightbulblanguages.co.uk/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222720" y="66204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Oval Callout 3"/>
          <p:cNvSpPr/>
          <p:nvPr/>
        </p:nvSpPr>
        <p:spPr>
          <a:xfrm>
            <a:off x="108000" y="6516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3219480" y="286560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Callout 11"/>
          <p:cNvSpPr/>
          <p:nvPr/>
        </p:nvSpPr>
        <p:spPr>
          <a:xfrm>
            <a:off x="104760" y="226836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149640" y="5094360"/>
            <a:ext cx="293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los oj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Callout 14"/>
          <p:cNvSpPr/>
          <p:nvPr/>
        </p:nvSpPr>
        <p:spPr>
          <a:xfrm>
            <a:off x="104760" y="449748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372360" y="4497480"/>
            <a:ext cx="2360520" cy="2360520"/>
          </a:xfrm>
          <a:prstGeom prst="rect">
            <a:avLst/>
          </a:prstGeom>
          <a:ln w="0">
            <a:noFill/>
          </a:ln>
        </p:spPr>
      </p:pic>
      <p:sp>
        <p:nvSpPr>
          <p:cNvPr id="97" name="Right Arrow 16"/>
          <p:cNvSpPr/>
          <p:nvPr/>
        </p:nvSpPr>
        <p:spPr>
          <a:xfrm rot="1126800">
            <a:off x="5957640" y="5127480"/>
            <a:ext cx="1912680" cy="171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ight Arrow 17"/>
          <p:cNvSpPr/>
          <p:nvPr/>
        </p:nvSpPr>
        <p:spPr>
          <a:xfrm rot="20404200">
            <a:off x="5972040" y="5748120"/>
            <a:ext cx="1109880" cy="14436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6062760" y="22320"/>
            <a:ext cx="2295360" cy="2295360"/>
          </a:xfrm>
          <a:prstGeom prst="rect">
            <a:avLst/>
          </a:prstGeom>
          <a:ln w="0">
            <a:noFill/>
          </a:ln>
        </p:spPr>
      </p:pic>
      <p:sp>
        <p:nvSpPr>
          <p:cNvPr id="100" name="Right Arrow 8"/>
          <p:cNvSpPr/>
          <p:nvPr/>
        </p:nvSpPr>
        <p:spPr>
          <a:xfrm rot="19841400">
            <a:off x="5770440" y="801720"/>
            <a:ext cx="960480" cy="1443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ff6f"/>
          </a:solidFill>
          <a:ln w="25560">
            <a:solidFill>
              <a:srgbClr val="f4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6913440" y="2225520"/>
            <a:ext cx="2295720" cy="2295720"/>
          </a:xfrm>
          <a:prstGeom prst="rect">
            <a:avLst/>
          </a:prstGeom>
          <a:ln w="0">
            <a:noFill/>
          </a:ln>
        </p:spPr>
      </p:pic>
      <p:sp>
        <p:nvSpPr>
          <p:cNvPr id="102" name="Right Arrow 12"/>
          <p:cNvSpPr/>
          <p:nvPr/>
        </p:nvSpPr>
        <p:spPr>
          <a:xfrm flipV="1">
            <a:off x="5835600" y="3310920"/>
            <a:ext cx="1816200" cy="106200"/>
          </a:xfrm>
          <a:prstGeom prst="rightArrow">
            <a:avLst>
              <a:gd name="adj1" fmla="val 50000"/>
              <a:gd name="adj2" fmla="val 50117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3213000" y="6670800"/>
            <a:ext cx="5967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4"/>
              </a:rPr>
              <a:t>http://www.lightbulblanguages.co.uk</a:t>
            </a: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3222720" y="66204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l pe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Callout 3"/>
          <p:cNvSpPr/>
          <p:nvPr/>
        </p:nvSpPr>
        <p:spPr>
          <a:xfrm>
            <a:off x="108000" y="6516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6881760" y="2241720"/>
            <a:ext cx="2354400" cy="23526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0"/>
          <p:cNvSpPr/>
          <p:nvPr/>
        </p:nvSpPr>
        <p:spPr>
          <a:xfrm>
            <a:off x="3219480" y="2865600"/>
            <a:ext cx="26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un oj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Oval Callout 11"/>
          <p:cNvSpPr/>
          <p:nvPr/>
        </p:nvSpPr>
        <p:spPr>
          <a:xfrm>
            <a:off x="104760" y="226836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ight Arrow 12"/>
          <p:cNvSpPr/>
          <p:nvPr/>
        </p:nvSpPr>
        <p:spPr>
          <a:xfrm flipV="1">
            <a:off x="5835600" y="3310920"/>
            <a:ext cx="1816200" cy="106200"/>
          </a:xfrm>
          <a:prstGeom prst="rightArrow">
            <a:avLst>
              <a:gd name="adj1" fmla="val 50000"/>
              <a:gd name="adj2" fmla="val 50117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3149640" y="5094360"/>
            <a:ext cx="293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los oj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6300720" y="4537080"/>
            <a:ext cx="2347920" cy="2347920"/>
          </a:xfrm>
          <a:prstGeom prst="rect">
            <a:avLst/>
          </a:prstGeom>
          <a:ln w="0">
            <a:noFill/>
          </a:ln>
        </p:spPr>
      </p:pic>
      <p:sp>
        <p:nvSpPr>
          <p:cNvPr id="113" name="Oval Callout 14"/>
          <p:cNvSpPr/>
          <p:nvPr/>
        </p:nvSpPr>
        <p:spPr>
          <a:xfrm>
            <a:off x="104760" y="4497480"/>
            <a:ext cx="30956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Right Arrow 16"/>
          <p:cNvSpPr/>
          <p:nvPr/>
        </p:nvSpPr>
        <p:spPr>
          <a:xfrm rot="1126800">
            <a:off x="5957640" y="5127480"/>
            <a:ext cx="1912680" cy="171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ight Arrow 17"/>
          <p:cNvSpPr/>
          <p:nvPr/>
        </p:nvSpPr>
        <p:spPr>
          <a:xfrm rot="20404200">
            <a:off x="5972040" y="5748120"/>
            <a:ext cx="1109880" cy="14436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87dee7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3"/>
          <a:stretch/>
        </p:blipFill>
        <p:spPr>
          <a:xfrm>
            <a:off x="6081840" y="0"/>
            <a:ext cx="242064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Right Arrow 8"/>
          <p:cNvSpPr/>
          <p:nvPr/>
        </p:nvSpPr>
        <p:spPr>
          <a:xfrm rot="19841400">
            <a:off x="5770440" y="801720"/>
            <a:ext cx="960480" cy="1443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ff6f"/>
          </a:solidFill>
          <a:ln w="25560">
            <a:solidFill>
              <a:srgbClr val="f4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37" descr=""/>
          <p:cNvPicPr/>
          <p:nvPr/>
        </p:nvPicPr>
        <p:blipFill>
          <a:blip r:embed="rId1"/>
          <a:stretch/>
        </p:blipFill>
        <p:spPr>
          <a:xfrm>
            <a:off x="15840" y="111240"/>
            <a:ext cx="909324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89000"/>
          <a:ext cx="8856720" cy="4611600"/>
        </p:xfrm>
        <a:graphic>
          <a:graphicData uri="http://schemas.openxmlformats.org/drawingml/2006/table">
            <a:tbl>
              <a:tblPr/>
              <a:tblGrid>
                <a:gridCol w="2087640"/>
                <a:gridCol w="1873440"/>
                <a:gridCol w="4895640"/>
              </a:tblGrid>
              <a:tr h="640440"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Te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¿Tie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Tien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el p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+ colou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un oj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+ colou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los oj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olour ending in vowel: </a:t>
                      </a:r>
                      <a:r>
                        <a:rPr b="0" lang="en-GB" sz="34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add 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other colour: </a:t>
                      </a:r>
                      <a:br>
                        <a:rPr sz="3400"/>
                      </a:br>
                      <a:r>
                        <a:rPr b="0" lang="en-GB" sz="34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add e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250920" y="189000"/>
            <a:ext cx="864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Notes for the teach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This is to recap the three different kinds of sentences already practised, and to emphasise el/un/los and the different forms of the colou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Play Guess who? with the 1-20 gri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Arial"/>
              </a:rPr>
              <a:t>The writing frame on slide 4 can be used to support writing wor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1:19:16Z</dcterms:modified>
  <cp:revision>152</cp:revision>
  <dc:subject/>
  <dc:title>TITLE</dc:title>
</cp:coreProperties>
</file>