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3D28-85C3-4BA0-B1BC-31FB44121E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2AB4-6FD6-4249-84FF-3366C979A2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902B-F238-4019-9FCA-36154E1096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CD38-46CA-47FF-908C-AB70B5794F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716F-EB92-4888-8B14-C45CD93AF0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94CF-C663-4E90-9C65-1CA2A1D8C6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1F4-19A0-430F-ABD0-1B921B7D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8D5-15DE-4C5B-BC08-A96E5A55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DC4-CA78-4F3A-A2E7-8046BABF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435-7F37-4871-BCDC-A78BCB9A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C429-5F66-4AE1-8AF2-A9025DAC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8255-BF46-44BD-9A3E-ACF1F5CF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0144-1174-441E-8587-A062ADD6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0384-5593-4B7E-A797-E386D97B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A2C3-4449-4D92-80E2-3D6CEFAF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7BA1-6C16-4395-84FB-EE981E9E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04D3-7F1D-4B58-B546-00456940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D74-D5FB-4C11-BED7-A323698D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693C-27F8-4086-B321-9C760A83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DDC7-CEAC-4A83-B1B7-40298EB9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9119-173B-451C-8C3B-FC03BAE9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3BB9-AC35-4F54-A151-707BC820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A56E-244B-4BDB-9AE6-D1768732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B78-4E70-4451-839B-ECC7087A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075-5502-400F-9D24-A40D378B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9F3-032C-41B7-B532-B5DDEE36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FC6-41E1-4ABD-A5F0-FD3407D5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FE4-6FF9-4A49-8FA4-2C67159C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CCF-10D4-498C-B581-C0025078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627-0299-4159-AE95-C72A013C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F277-85C5-4B04-AA81-F495F60DB6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05E8-3149-4433-A216-F11A6A6E0C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lightbulblanguages.co.uk/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222720" y="66204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Oval Callout 3"/>
          <p:cNvSpPr/>
          <p:nvPr/>
        </p:nvSpPr>
        <p:spPr>
          <a:xfrm>
            <a:off x="108000" y="6516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3219480" y="286560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Callout 11"/>
          <p:cNvSpPr/>
          <p:nvPr/>
        </p:nvSpPr>
        <p:spPr>
          <a:xfrm>
            <a:off x="104760" y="226836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9640" y="5094360"/>
            <a:ext cx="293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los oj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Callout 14"/>
          <p:cNvSpPr/>
          <p:nvPr/>
        </p:nvSpPr>
        <p:spPr>
          <a:xfrm>
            <a:off x="104760" y="449748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372360" y="4497480"/>
            <a:ext cx="2360520" cy="2360520"/>
          </a:xfrm>
          <a:prstGeom prst="rect">
            <a:avLst/>
          </a:prstGeom>
          <a:ln w="0">
            <a:noFill/>
          </a:ln>
        </p:spPr>
      </p:pic>
      <p:sp>
        <p:nvSpPr>
          <p:cNvPr id="97" name="Right Arrow 16"/>
          <p:cNvSpPr/>
          <p:nvPr/>
        </p:nvSpPr>
        <p:spPr>
          <a:xfrm rot="1126800">
            <a:off x="5957640" y="5127480"/>
            <a:ext cx="1912680" cy="171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ight Arrow 17"/>
          <p:cNvSpPr/>
          <p:nvPr/>
        </p:nvSpPr>
        <p:spPr>
          <a:xfrm rot="20404200">
            <a:off x="5972040" y="5748120"/>
            <a:ext cx="1109880" cy="14436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6062760" y="22320"/>
            <a:ext cx="2295360" cy="2295360"/>
          </a:xfrm>
          <a:prstGeom prst="rect">
            <a:avLst/>
          </a:prstGeom>
          <a:ln w="0">
            <a:noFill/>
          </a:ln>
        </p:spPr>
      </p:pic>
      <p:sp>
        <p:nvSpPr>
          <p:cNvPr id="100" name="Right Arrow 8"/>
          <p:cNvSpPr/>
          <p:nvPr/>
        </p:nvSpPr>
        <p:spPr>
          <a:xfrm rot="19841400">
            <a:off x="5770440" y="801720"/>
            <a:ext cx="960480" cy="144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6f"/>
          </a:solidFill>
          <a:ln w="25560">
            <a:solidFill>
              <a:srgbClr val="f4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913440" y="2225520"/>
            <a:ext cx="2295720" cy="2295720"/>
          </a:xfrm>
          <a:prstGeom prst="rect">
            <a:avLst/>
          </a:prstGeom>
          <a:ln w="0">
            <a:noFill/>
          </a:ln>
        </p:spPr>
      </p:pic>
      <p:sp>
        <p:nvSpPr>
          <p:cNvPr id="102" name="Right Arrow 12"/>
          <p:cNvSpPr/>
          <p:nvPr/>
        </p:nvSpPr>
        <p:spPr>
          <a:xfrm flipV="1">
            <a:off x="5835600" y="3310920"/>
            <a:ext cx="1816200" cy="106200"/>
          </a:xfrm>
          <a:prstGeom prst="rightArrow">
            <a:avLst>
              <a:gd name="adj1" fmla="val 50000"/>
              <a:gd name="adj2" fmla="val 50117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3213000" y="667080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4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3222720" y="66204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Callout 3"/>
          <p:cNvSpPr/>
          <p:nvPr/>
        </p:nvSpPr>
        <p:spPr>
          <a:xfrm>
            <a:off x="108000" y="6516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6881760" y="2241720"/>
            <a:ext cx="2354400" cy="23526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0"/>
          <p:cNvSpPr/>
          <p:nvPr/>
        </p:nvSpPr>
        <p:spPr>
          <a:xfrm>
            <a:off x="3219480" y="286560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Callout 11"/>
          <p:cNvSpPr/>
          <p:nvPr/>
        </p:nvSpPr>
        <p:spPr>
          <a:xfrm>
            <a:off x="104760" y="226836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ight Arrow 12"/>
          <p:cNvSpPr/>
          <p:nvPr/>
        </p:nvSpPr>
        <p:spPr>
          <a:xfrm flipV="1">
            <a:off x="5835600" y="3310920"/>
            <a:ext cx="1816200" cy="106200"/>
          </a:xfrm>
          <a:prstGeom prst="rightArrow">
            <a:avLst>
              <a:gd name="adj1" fmla="val 50000"/>
              <a:gd name="adj2" fmla="val 50117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3149640" y="5094360"/>
            <a:ext cx="293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los oj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6300720" y="4537080"/>
            <a:ext cx="2347920" cy="2347920"/>
          </a:xfrm>
          <a:prstGeom prst="rect">
            <a:avLst/>
          </a:prstGeom>
          <a:ln w="0">
            <a:noFill/>
          </a:ln>
        </p:spPr>
      </p:pic>
      <p:sp>
        <p:nvSpPr>
          <p:cNvPr id="113" name="Oval Callout 14"/>
          <p:cNvSpPr/>
          <p:nvPr/>
        </p:nvSpPr>
        <p:spPr>
          <a:xfrm>
            <a:off x="104760" y="449748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ight Arrow 16"/>
          <p:cNvSpPr/>
          <p:nvPr/>
        </p:nvSpPr>
        <p:spPr>
          <a:xfrm rot="1126800">
            <a:off x="5957640" y="5127480"/>
            <a:ext cx="1912680" cy="171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ight Arrow 17"/>
          <p:cNvSpPr/>
          <p:nvPr/>
        </p:nvSpPr>
        <p:spPr>
          <a:xfrm rot="20404200">
            <a:off x="5972040" y="5748120"/>
            <a:ext cx="1109880" cy="14436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3"/>
          <a:stretch/>
        </p:blipFill>
        <p:spPr>
          <a:xfrm>
            <a:off x="6081840" y="0"/>
            <a:ext cx="242064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Right Arrow 8"/>
          <p:cNvSpPr/>
          <p:nvPr/>
        </p:nvSpPr>
        <p:spPr>
          <a:xfrm rot="19841400">
            <a:off x="5770440" y="801720"/>
            <a:ext cx="960480" cy="144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6f"/>
          </a:solidFill>
          <a:ln w="25560">
            <a:solidFill>
              <a:srgbClr val="f4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37" descr=""/>
          <p:cNvPicPr/>
          <p:nvPr/>
        </p:nvPicPr>
        <p:blipFill>
          <a:blip r:embed="rId1"/>
          <a:stretch/>
        </p:blipFill>
        <p:spPr>
          <a:xfrm>
            <a:off x="15840" y="111240"/>
            <a:ext cx="909324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89000"/>
          <a:ext cx="8856720" cy="4611600"/>
        </p:xfrm>
        <a:graphic>
          <a:graphicData uri="http://schemas.openxmlformats.org/drawingml/2006/table">
            <a:tbl>
              <a:tblPr/>
              <a:tblGrid>
                <a:gridCol w="2087640"/>
                <a:gridCol w="1873440"/>
                <a:gridCol w="4895640"/>
              </a:tblGrid>
              <a:tr h="640440"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Te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¿Tie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Tien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el p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+ colou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un oj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+ colou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los oj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olour ending in vowel: </a:t>
                      </a:r>
                      <a:r>
                        <a:rPr b="0" lang="en-GB" sz="34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add 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other colour: </a:t>
                      </a:r>
                      <a:br>
                        <a:rPr sz="3400"/>
                      </a:br>
                      <a:r>
                        <a:rPr b="0" lang="en-GB" sz="34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add e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250920" y="18900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This is to recap the three different kinds of sentences already practised, and to emphasise el/un/los and the different forms of the colou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Play Guess who? with the 1-20 gri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The writing frame on slide 4 can be used to support writing wor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19:16Z</dcterms:modified>
  <cp:revision>152</cp:revision>
  <dc:subject/>
  <dc:title>TITLE</dc:title>
</cp:coreProperties>
</file>