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B1AA-551F-4CAF-923C-470D8BBFC25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4635-AC5B-4EAF-8F35-71EF050CFC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240F-C5DB-49C3-8664-A3E81D5307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20C6-2A8F-4FF4-8E55-EF389C8AD5E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44DB-5D9A-4EF7-8926-4DB71F044FC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EA3-5F68-4EF7-BBEA-BEBB3C45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4CF-2DAC-44BA-94A4-5843B40A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D17-FA33-4C55-B665-2E1D14E5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D4F-195F-4BFE-80A4-73889B22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FD4-2D94-4912-B77C-A0541FCA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7AF-3B0F-4144-BFCC-0E785C71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CB4-DDA5-4AB6-9776-5DC0A6E6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28E-6789-4F6F-9716-04B4F190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7F8-59BE-450F-9BCF-3CA482C8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07B-D249-44D0-A9EE-4720B459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DAA-E8AA-4614-BA7C-9EECE594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9D1-4F98-47A7-8CEE-D7AE0B9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05F9-6B8D-4D0F-9E39-42635A37CB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3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W.A.G.O.L.L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3933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hat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G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ood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ne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ooks </a:t>
            </a: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ik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0-10-19T07:38:00Z</dcterms:modified>
  <cp:revision>177</cp:revision>
  <dc:subject/>
  <dc:title>TITLE</dc:title>
</cp:coreProperties>
</file>