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1B72-C089-4630-9372-482FBF0E98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E006-E7FE-4FEB-B8BF-724852DA06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53BA-0207-458A-89F7-B593454756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B85A-FDB3-4EA1-9F41-81F885EC2F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A402-006D-4F93-8FEE-D34E73145D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7BC-5644-41FE-8A00-36F8438B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042-0F8A-40D6-A810-DF933182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FB5-9935-400D-8EA9-FD1F6E73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DBF-7C37-415D-9CE7-FA71039F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762-E2C5-4E7E-9B66-8E6EF314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D43-4EEF-4E74-B17D-BB2F09FA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388-7045-40C0-BC29-2DD10A4E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B5E-C72B-4D6F-A91A-3C7EDD6D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649-A762-4978-A416-DD0D447F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7F2-95A8-4EF2-B182-9691C70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1EA-50F5-4694-ADCA-D992383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886-85D0-4D26-954B-E51BE31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FE4-109B-4156-A02D-A38F151340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3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W.A.G.O.L.L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3933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hat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G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ood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ne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ooks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ik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38:00Z</dcterms:modified>
  <cp:revision>177</cp:revision>
  <dc:subject/>
  <dc:title>TITLE</dc:title>
</cp:coreProperties>
</file>