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4BBC-B0C3-436C-86DD-73BB8FF1EC9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9C18-8E1E-4FD7-95F8-BD095BE7AD0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376D-7168-4590-94DB-10E9126793C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028D-7AB1-41E4-B4F3-8AD7E6ED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2DEE-4F56-4C15-9F89-AE0CA648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1461-8384-4335-B85E-A1CE3B01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333B-5A85-4D64-8274-71CEF5C1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C5FC-4F50-485B-8293-58FD2366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8F55-303C-42DC-9734-E9C39223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713B-38A6-4EAC-8305-12B0B9CA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D0BE-CC6F-4A10-8640-3D5353C4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151C-9A3E-4EA5-B184-DBE90371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665B-A26D-429F-9729-F5D660F4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EE7-362E-423A-88CE-9733396F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083-310F-4AC7-9BC6-7EF83E95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EC27-9239-43A9-8228-4DE8588DFAE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108000" y="114480"/>
            <a:ext cx="8928000" cy="60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y mother is called Ana.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y great-aunt is called Emilia.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y uncle is called Enrique.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y cousin is called David.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y great-great-grandmother is called Josefina.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y grandfather is called Manuel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822240" y="5508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i madre se llama An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822240" y="1558800"/>
            <a:ext cx="80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i tía abuela se llama Emili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15"/>
          <p:cNvSpPr/>
          <p:nvPr/>
        </p:nvSpPr>
        <p:spPr>
          <a:xfrm>
            <a:off x="822240" y="249408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i tío se llama Enriqu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16"/>
          <p:cNvSpPr/>
          <p:nvPr/>
        </p:nvSpPr>
        <p:spPr>
          <a:xfrm>
            <a:off x="822240" y="355428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i primo se llama David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822240" y="5014800"/>
            <a:ext cx="81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i tatarabuela se llama Josefin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18"/>
          <p:cNvSpPr/>
          <p:nvPr/>
        </p:nvSpPr>
        <p:spPr>
          <a:xfrm>
            <a:off x="822240" y="609444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i abuelo se llama Manuel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108000" y="114480"/>
            <a:ext cx="8928000" cy="40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y cousin Marisa is 6 years old..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y sister Ana is 8 years old.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y brother José is 12 years old.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y cousin Miguel is 10 years old.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822240" y="550800"/>
            <a:ext cx="78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i prima Marisa tiene seis año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822240" y="1558800"/>
            <a:ext cx="80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i hermana Ana tiene ocho año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822240" y="2494080"/>
            <a:ext cx="83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i hermano José tiene doce añ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822240" y="3554280"/>
            <a:ext cx="82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i primo Miguel tiene diez años.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0-19T07:36:22Z</dcterms:modified>
  <cp:revision>172</cp:revision>
  <dc:subject/>
  <dc:title>TITLE</dc:title>
</cp:coreProperties>
</file>