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B26C-AAC2-4D80-A669-51B1E7071BD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BE59-A4F9-4B8F-99BF-F0D1F08A8E2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AAD2-7D4A-4304-B12F-00663FC5B8B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F5BC-810A-48F4-90C7-688D6B34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E505-CD35-45FE-90DD-00959A62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991E-8887-4590-92F8-F47A6FF4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ABC4-4CB7-4CA2-8A71-F7BDEE630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171E-A1CE-4858-9F58-E0C59F58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1094-CF59-486B-AF67-6ECCBE90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A966-71B4-4155-A64F-38F322B9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3054-EEF4-4CF9-A420-4F3FC4D0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C5DE-E9AD-4934-8AAB-76A5966D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58E9-6CDA-4C76-9C17-B265DD54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85A4-757A-47EA-AC91-BC0DEF7B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44D0-5141-4090-A9A7-7FDD8F1E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BEEF-2702-4E31-90ED-2FD73CB5CF4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108000" y="114480"/>
            <a:ext cx="8928000" cy="60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My mother is called Ana.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My great-aunt is called Emilia.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My uncle is called Enrique.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My cousin is called David.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My great-great-grandmother is called Josefina.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My grandfather is called Manuel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822240" y="5508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Mi madre se llama An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822240" y="1558800"/>
            <a:ext cx="807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Mi tía abuela se llama Emili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15"/>
          <p:cNvSpPr/>
          <p:nvPr/>
        </p:nvSpPr>
        <p:spPr>
          <a:xfrm>
            <a:off x="822240" y="249408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Mi tío se llama Enriqu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16"/>
          <p:cNvSpPr/>
          <p:nvPr/>
        </p:nvSpPr>
        <p:spPr>
          <a:xfrm>
            <a:off x="822240" y="355428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Mi primo se llama David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17"/>
          <p:cNvSpPr/>
          <p:nvPr/>
        </p:nvSpPr>
        <p:spPr>
          <a:xfrm>
            <a:off x="822240" y="5014800"/>
            <a:ext cx="812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Mi tatarabuela se llama Josefin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18"/>
          <p:cNvSpPr/>
          <p:nvPr/>
        </p:nvSpPr>
        <p:spPr>
          <a:xfrm>
            <a:off x="822240" y="609444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Mi abuelo se llama Manuel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108000" y="114480"/>
            <a:ext cx="8928000" cy="40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My cousin Marisa is 6 years old..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My sister Ana is 8 years old.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My brother José is 12 years old.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My cousin Miguel is 10 years old.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822240" y="550800"/>
            <a:ext cx="78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Mi prima Marisa tiene seis año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822240" y="1558800"/>
            <a:ext cx="807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Mi hermana Ana tiene ocho año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822240" y="2494080"/>
            <a:ext cx="832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Mi hermano José tiene doce añ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822240" y="3554280"/>
            <a:ext cx="821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Mi primo Miguel tiene diez años.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10-19T07:36:22Z</dcterms:modified>
  <cp:revision>172</cp:revision>
  <dc:subject/>
  <dc:title>TITLE</dc:title>
</cp:coreProperties>
</file>