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E55E-D167-4F4C-A5C5-D77DB9DA99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FBDB-81A8-48CB-85D8-E5FD07902F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6C4D-0A2B-4D2C-81A6-D6E0389B33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6D53-F671-4B64-A7BE-F025917437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5824-A692-4F8A-A69B-382E0B0BC0C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0B2E-376F-400C-8E25-157E04F988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9147-D88C-4264-B827-1A72ECB135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57BC-F6CA-40BB-B91B-A9F2310712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2E4F-6ED2-4F19-A050-1AB7DF2755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6E1-FB9E-43FB-9B17-022B324B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8B3-F03A-4D35-BBD8-23123014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093-EE45-4DB8-AA3B-15E6F569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2E1-E01D-4A68-8BBA-9512BB16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E28-66A2-471C-BE6E-816D9171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33B-9853-469C-B812-3C6BA6B0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FD0-5177-47CA-93AE-FB98B0D4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62E-E840-4927-844F-5D02A4CF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9DC-8169-4E9C-958E-CA1C676F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0B0-EBCB-4D36-9A67-5FD914BE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32C-A3B7-44A9-BE8A-9545AEC8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59F-90DF-4CB0-A1D1-36342288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DC1A-85C8-49EE-8816-2390912F40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0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3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7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o se llama Hécto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7856640" y="43657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o se llama Hécto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buelo se llama Pabl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8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7856640" y="43657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570720" y="495000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a se llama Alb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o se llama Hécto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buelo se llama Pabl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5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7856640" y="43657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6570720" y="495000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6991200" y="5589720"/>
            <a:ext cx="10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Elen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a se llama Alb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o se llama Hécto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padre se llama Mate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buelo se llama Pabl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3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7856640" y="43657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570720" y="495000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6991200" y="5589720"/>
            <a:ext cx="10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7939080" y="61736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8000" y="115920"/>
          <a:ext cx="9001080" cy="286524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28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madre se llama Carmen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padre se llama Pabl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buela se llama Elen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o se llama Hécto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a se llama Alba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o se llama Mate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, me llamo </a:t>
                      </a:r>
                      <a:r>
                        <a:rPr b="1" lang="en-GB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ke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hermana se llama Elen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hermano se llama Héctor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padre se llama Mate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madre se llama Alb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 abuela se llama Carme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Mi abuelo se llama Pablo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92" name="TextBox 3"/>
          <p:cNvSpPr/>
          <p:nvPr/>
        </p:nvSpPr>
        <p:spPr>
          <a:xfrm>
            <a:off x="108000" y="3068640"/>
            <a:ext cx="8928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mother called Carme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brother called Héctor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father called Pabl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sister called Alb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father called Mate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25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o has a grandmother called Ele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7388280" y="314172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7534440" y="37418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7856640" y="43657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6570720" y="495000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991200" y="5589720"/>
            <a:ext cx="10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k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939080" y="617364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1:03Z</dcterms:modified>
  <cp:revision>200</cp:revision>
  <dc:subject/>
  <dc:title>TITLE</dc:title>
</cp:coreProperties>
</file>