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8B3-32E0-4F80-9469-BB7015A54F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D9DA-CBCB-4780-A7CE-5F3E27F8A1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A25B-7594-43AB-9966-E7030292CD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F75F-08E5-4B17-9063-86B544D6BD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5696-3957-424C-8E24-AB08F74D1A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ADD5-36AD-43EE-BE6E-16001B3CAA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0397-FE70-456A-AF4A-FB3CAA9D26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AEA-3CB3-4D0D-BFBB-D4503B3CC5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2F33-4897-4D25-9443-809FDD8992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9B2-3B5A-4C7C-9450-8EFE79B1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197-1833-4BC8-ADF5-71EC8B7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578-5F49-4F8E-98FC-603C551A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620-C269-4643-BA68-3A46DCC3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490-E870-4F32-9255-1C79E0A0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813-D052-4E2D-96BD-4718E433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3EA-6AE2-4B43-89F5-8DA143F2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61F-E352-4E80-A34B-C1FE9B97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33F-317F-464E-B2C4-79C5847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4A7-012F-4C1A-B9CE-2FADB739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0B5-5927-416E-925A-1974F31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67A-0599-47E5-9120-E2CD1FEB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8BE3-BC2D-4493-AEA8-A50B5C127F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0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3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7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8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a se llama Alb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5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991200" y="5589720"/>
            <a:ext cx="10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a se llama Alb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padre se llama Mate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3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6991200" y="5589720"/>
            <a:ext cx="10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939080" y="61736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a se llama Ele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a se llama Alb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padre se llama Mate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2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991200" y="5589720"/>
            <a:ext cx="10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939080" y="61736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1:03Z</dcterms:modified>
  <cp:revision>200</cp:revision>
  <dc:subject/>
  <dc:title>TITLE</dc:title>
</cp:coreProperties>
</file>