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9D53-49F8-46F8-8E94-1A74B090F4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76FD-81CC-44EF-BD4A-C5524D0DA8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B618-886C-442C-8133-FF75E4363B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317-522E-495B-A233-1D6FFEFC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8D0-03DB-4508-BF29-B43ABF36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098-2BB1-4AE1-BEEE-72AA7D56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253-C68D-4624-B0ED-C7D42257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B64-B7BE-4995-A5B7-1ECB65E7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F11-F46D-427E-9C9F-95935580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89B-9575-461E-950C-280F5C08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633-8030-41A4-86A8-330C8D5A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503-FBA6-41EE-90B7-E518C172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911-EB43-4110-AC82-B9883310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C74-AEC3-415A-83F9-70EAEB4E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CBB-1B4F-49EF-8132-059502AB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B175-72B3-4AC9-85AE-68DE6ECF66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6389" t="8856" r="4812" b="11411"/>
          <a:stretch/>
        </p:blipFill>
        <p:spPr>
          <a:xfrm>
            <a:off x="0" y="115920"/>
            <a:ext cx="9144000" cy="6568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5013360"/>
            <a:ext cx="180036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mi p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5516640"/>
            <a:ext cx="180036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mi m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5950080"/>
            <a:ext cx="208764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mi her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5013360"/>
            <a:ext cx="20890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mi her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5445000"/>
            <a:ext cx="180036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mi ab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5877000"/>
            <a:ext cx="180000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mi ab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15920"/>
            <a:ext cx="878544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uncle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tío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a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(girl) cousin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prima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(boy) cou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nephew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sobrino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ni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(female) friend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amiga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(male) friend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765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2492280"/>
            <a:ext cx="28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pr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41497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sob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24360" y="5877000"/>
            <a:ext cx="29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am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1:59:43Z</dcterms:modified>
  <cp:revision>113</cp:revision>
  <dc:subject/>
  <dc:title>TITLE</dc:title>
</cp:coreProperties>
</file>