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718E0-AAF4-4563-993F-A36A596AFF5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07115-5485-4DBF-974F-D74D74159C3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0715F-DE1C-476A-8373-EDDF91B3635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6070-BB80-4702-BA34-4C0BF370B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B15C-1B4D-44D0-A4AC-3CBF058CF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8C2A-5258-4412-9956-FF7B1623E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785F-50EA-45E7-9331-46C5F09EC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ECE5-B638-4549-907B-5158093AE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4300-9B98-4599-99CF-58D71EFE4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4C9F-FF5D-44BC-B8F0-E8BF884A0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EB6C-65D2-46D1-95FD-27BE5AF65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ACE1-556C-4C69-9135-0AA9769D6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F24C-A0C6-42EE-8F2E-6C9A7B98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60FB-8249-41DB-A659-782EA00C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FEA3-81F6-42E2-8D49-E92407156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8131D-EAD8-435B-83D5-B586573BE5B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rcRect l="6389" t="8856" r="4812" b="11411"/>
          <a:stretch/>
        </p:blipFill>
        <p:spPr>
          <a:xfrm>
            <a:off x="0" y="115920"/>
            <a:ext cx="9144000" cy="65689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547640" y="5013360"/>
            <a:ext cx="1800360" cy="52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cc"/>
                </a:solidFill>
                <a:latin typeface="Comic Sans MS"/>
              </a:rPr>
              <a:t>mi pad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47640" y="5516640"/>
            <a:ext cx="1800360" cy="52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cc"/>
                </a:solidFill>
                <a:latin typeface="Comic Sans MS"/>
              </a:rPr>
              <a:t>mi mad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47640" y="5950080"/>
            <a:ext cx="2087640" cy="9471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cc"/>
                </a:solidFill>
                <a:latin typeface="Comic Sans MS"/>
              </a:rPr>
              <a:t>mi herma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859280" y="5013360"/>
            <a:ext cx="2089080" cy="9471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cc"/>
                </a:solidFill>
                <a:latin typeface="Comic Sans MS"/>
              </a:rPr>
              <a:t>mi herm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35640" y="5445000"/>
            <a:ext cx="1800360" cy="9471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cc"/>
                </a:solidFill>
                <a:latin typeface="Comic Sans MS"/>
              </a:rPr>
              <a:t>mi abue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508720" y="5877000"/>
            <a:ext cx="1800000" cy="9471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cc"/>
                </a:solidFill>
                <a:latin typeface="Comic Sans MS"/>
              </a:rPr>
              <a:t>mi abue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9280" y="115920"/>
            <a:ext cx="8785440" cy="65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my uncle</a:t>
            </a:r>
            <a:r>
              <a:rPr b="0" lang="en-GB" sz="4400" spc="-1" strike="noStrike">
                <a:solidFill>
                  <a:srgbClr val="ffffd9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d9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d9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d9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d9"/>
                </a:solidFill>
                <a:latin typeface="Comic Sans MS"/>
              </a:rPr>
              <a:t>mi tío</a:t>
            </a:r>
            <a:br>
              <a:rPr sz="4400"/>
            </a:b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my au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my (girl) cousin</a:t>
            </a:r>
            <a:r>
              <a:rPr b="0" lang="en-GB" sz="4400" spc="-1" strike="noStrike">
                <a:solidFill>
                  <a:srgbClr val="ffffd9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d9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d9"/>
                </a:solidFill>
                <a:latin typeface="Comic Sans MS"/>
              </a:rPr>
              <a:t>mi prima</a:t>
            </a:r>
            <a:br>
              <a:rPr sz="4400"/>
            </a:b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my (boy) cous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my nephew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d9"/>
                </a:solidFill>
                <a:latin typeface="Comic Sans MS"/>
              </a:rPr>
              <a:t>mi sobrino</a:t>
            </a:r>
            <a:br>
              <a:rPr sz="4400"/>
            </a:b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my nie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my (female) friend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d9"/>
                </a:solidFill>
                <a:latin typeface="Comic Sans MS"/>
              </a:rPr>
              <a:t>mi amiga</a:t>
            </a:r>
            <a:br>
              <a:rPr sz="4400"/>
            </a:b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my (male) friend</a:t>
            </a:r>
            <a:r>
              <a:rPr b="0" lang="en-GB" sz="4400" spc="-1" strike="noStrike">
                <a:solidFill>
                  <a:srgbClr val="ffffd9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1640" y="76500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d9"/>
                </a:solidFill>
                <a:latin typeface="Comic Sans MS"/>
              </a:rPr>
              <a:t>mi t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24360" y="2492280"/>
            <a:ext cx="288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d9"/>
                </a:solidFill>
                <a:latin typeface="Comic Sans MS"/>
              </a:rPr>
              <a:t>mi pri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24360" y="4149720"/>
            <a:ext cx="32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d9"/>
                </a:solidFill>
                <a:latin typeface="Comic Sans MS"/>
              </a:rPr>
              <a:t>mi sobr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24360" y="5877000"/>
            <a:ext cx="295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d9"/>
                </a:solidFill>
                <a:latin typeface="Comic Sans MS"/>
              </a:rPr>
              <a:t>mi ami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2-01-19T21:59:43Z</dcterms:modified>
  <cp:revision>113</cp:revision>
  <dc:subject/>
  <dc:title>TITLE</dc:title>
</cp:coreProperties>
</file>