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C85C-CA24-473D-8DF4-B4E876818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FBB0-1D7A-49EA-BECC-0DBFCFA5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FC7C-0191-44EA-A6D3-290793465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A2D8-EFF8-402D-A8FF-5FE9B6AC4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5E8B-996D-492E-A91F-047A6BABE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1720C-82A1-48A0-8ACD-35A08F77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76CC8-6B77-4431-8DF8-1BC60334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0511-FDE5-4A6A-A277-191C1AD0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33AD-2EC3-48E3-AA10-22C1CFE0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AE6F-BA3A-48D4-9D05-16C7008A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84E0-CEEA-4205-8D17-079E075F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0505-1FA8-4456-A754-3B3E9312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D2418-335C-497E-8E2F-DA13DEA4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130A-304F-490D-90BC-A8E4B7D2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B832-3F7B-4DE3-82E2-FD74E9FB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0737-5142-443D-858B-3C1B1A89F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753D-5DC6-427C-906D-514E3BB53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5BB81-E5D3-4165-B163-3CC0B1005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4A21F-05D6-429D-8728-2766DABF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ECD50-79A6-4036-942F-58675101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FEE4B-D451-498D-8F06-38395D75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69DCA-1B55-441F-8BA9-D73C90AC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37EC-984C-4DCB-949D-B6151900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12CD6-668B-4C3B-8EB1-A810B4D1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61259-4EBF-4241-924D-956FF0E7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950E3-BCF8-480F-8671-D130E443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D0840-6FA3-4D22-8038-D881EC12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0FFDC-B176-4BFE-9523-C7F2A0B5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140D6-6160-43C4-9426-9C650C4F1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F0F78-1BFE-4899-9E63-1A904A294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5B73-A45C-478B-A065-74E69BD6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5484-35B5-45BC-80D0-0EA0BCA8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7A20-DC84-48AF-B2DD-0FEA38AA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6134-57A5-4B5E-A302-DC84F501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210A-1C48-4169-897D-A84AD883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B254-9756-4200-BC9A-DCBDB8D6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F12A-89E4-4A99-A350-D36F5E056BF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1882-CAF4-4223-8A88-9A8124FB88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A1D2-E0C5-4E43-B9AB-CB0AAF39B50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4" name="Picture 2" descr="Napoleon Bonaparte - Quotes, Death &amp; Facts - Biography"/>
          <p:cNvPicPr/>
          <p:nvPr/>
        </p:nvPicPr>
        <p:blipFill>
          <a:blip r:embed="rId1"/>
          <a:stretch/>
        </p:blipFill>
        <p:spPr>
          <a:xfrm>
            <a:off x="324000" y="333360"/>
            <a:ext cx="1726920" cy="172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5" name="Picture 4" descr="Saoirse Ronan - IMDb"/>
          <p:cNvPicPr/>
          <p:nvPr/>
        </p:nvPicPr>
        <p:blipFill>
          <a:blip r:embed="rId2"/>
          <a:srcRect l="0" t="0" r="0" b="26978"/>
          <a:stretch/>
        </p:blipFill>
        <p:spPr>
          <a:xfrm>
            <a:off x="291960" y="2530440"/>
            <a:ext cx="1687680" cy="185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6" name="Picture 6" descr="Tom Jones (@RealSirTomJones) | Twitter"/>
          <p:cNvPicPr/>
          <p:nvPr/>
        </p:nvPicPr>
        <p:blipFill>
          <a:blip r:embed="rId3"/>
          <a:stretch/>
        </p:blipFill>
        <p:spPr>
          <a:xfrm>
            <a:off x="128520" y="4687920"/>
            <a:ext cx="2016360" cy="20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Picture 8" descr="Princess Leonor of Spain Celebrates 15th Birthday | PEOPLE.com"/>
          <p:cNvPicPr/>
          <p:nvPr/>
        </p:nvPicPr>
        <p:blipFill>
          <a:blip r:embed="rId4"/>
          <a:stretch/>
        </p:blipFill>
        <p:spPr>
          <a:xfrm>
            <a:off x="7524720" y="257040"/>
            <a:ext cx="1440000" cy="1879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8" name="Picture 10" descr="Andy Murray gives positive fitness update as he prepares for the Battle of  the Brits | Tennis News | Sky Sports"/>
          <p:cNvPicPr/>
          <p:nvPr/>
        </p:nvPicPr>
        <p:blipFill>
          <a:blip r:embed="rId5"/>
          <a:srcRect l="16185" t="0" r="0" b="0"/>
          <a:stretch/>
        </p:blipFill>
        <p:spPr>
          <a:xfrm>
            <a:off x="6783480" y="2421000"/>
            <a:ext cx="2360520" cy="158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9" name="Picture 12" descr="Queen Victoria - Wikipedia"/>
          <p:cNvPicPr/>
          <p:nvPr/>
        </p:nvPicPr>
        <p:blipFill>
          <a:blip r:embed="rId6"/>
          <a:stretch/>
        </p:blipFill>
        <p:spPr>
          <a:xfrm>
            <a:off x="7064280" y="4187880"/>
            <a:ext cx="1800360" cy="253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0" name="Rounded Rectangular Callout 2"/>
          <p:cNvSpPr/>
          <p:nvPr/>
        </p:nvSpPr>
        <p:spPr>
          <a:xfrm>
            <a:off x="1692360" y="115920"/>
            <a:ext cx="3024000" cy="504720"/>
          </a:xfrm>
          <a:prstGeom prst="wedgeRoundRectCallout">
            <a:avLst>
              <a:gd name="adj1" fmla="val -52277"/>
              <a:gd name="adj2" fmla="val 121638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 llamo Napoleó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Rounded Rectangular Callout 9"/>
          <p:cNvSpPr/>
          <p:nvPr/>
        </p:nvSpPr>
        <p:spPr>
          <a:xfrm>
            <a:off x="1689120" y="2278080"/>
            <a:ext cx="2882880" cy="504720"/>
          </a:xfrm>
          <a:prstGeom prst="wedgeRoundRectCallout">
            <a:avLst>
              <a:gd name="adj1" fmla="val -55902"/>
              <a:gd name="adj2" fmla="val 190574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 llamo Saoirs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Rounded Rectangular Callout 10"/>
          <p:cNvSpPr/>
          <p:nvPr/>
        </p:nvSpPr>
        <p:spPr>
          <a:xfrm>
            <a:off x="1822320" y="4581360"/>
            <a:ext cx="2318040" cy="503280"/>
          </a:xfrm>
          <a:prstGeom prst="wedgeRoundRectCallout">
            <a:avLst>
              <a:gd name="adj1" fmla="val -52277"/>
              <a:gd name="adj2" fmla="val 121638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 llamo Tom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Rounded Rectangular Callout 11"/>
          <p:cNvSpPr/>
          <p:nvPr/>
        </p:nvSpPr>
        <p:spPr>
          <a:xfrm>
            <a:off x="4932360" y="372960"/>
            <a:ext cx="2735280" cy="505080"/>
          </a:xfrm>
          <a:prstGeom prst="wedgeRoundRectCallout">
            <a:avLst>
              <a:gd name="adj1" fmla="val 55662"/>
              <a:gd name="adj2" fmla="val 76287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 llamo Leono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Rounded Rectangular Callout 12"/>
          <p:cNvSpPr/>
          <p:nvPr/>
        </p:nvSpPr>
        <p:spPr>
          <a:xfrm>
            <a:off x="4788000" y="2421000"/>
            <a:ext cx="2520720" cy="503280"/>
          </a:xfrm>
          <a:prstGeom prst="wedgeRoundRectCallout">
            <a:avLst>
              <a:gd name="adj1" fmla="val 55662"/>
              <a:gd name="adj2" fmla="val 92615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 llamo Andy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Rounded Rectangular Callout 13"/>
          <p:cNvSpPr/>
          <p:nvPr/>
        </p:nvSpPr>
        <p:spPr>
          <a:xfrm>
            <a:off x="4268880" y="4435560"/>
            <a:ext cx="3024000" cy="504720"/>
          </a:xfrm>
          <a:prstGeom prst="wedgeRoundRectCallout">
            <a:avLst>
              <a:gd name="adj1" fmla="val 52939"/>
              <a:gd name="adj2" fmla="val 130708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 llamo Victoria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Rounded Rectangular Callout 14"/>
          <p:cNvSpPr/>
          <p:nvPr/>
        </p:nvSpPr>
        <p:spPr>
          <a:xfrm>
            <a:off x="2195640" y="620640"/>
            <a:ext cx="2520720" cy="504720"/>
          </a:xfrm>
          <a:prstGeom prst="wedgeRoundRectCallout">
            <a:avLst>
              <a:gd name="adj1" fmla="val -72587"/>
              <a:gd name="adj2" fmla="val 20486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Soy de Francia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Rounded Rectangular Callout 15"/>
          <p:cNvSpPr/>
          <p:nvPr/>
        </p:nvSpPr>
        <p:spPr>
          <a:xfrm>
            <a:off x="2050920" y="2797200"/>
            <a:ext cx="2521080" cy="503280"/>
          </a:xfrm>
          <a:prstGeom prst="wedgeRoundRectCallout">
            <a:avLst>
              <a:gd name="adj1" fmla="val -69745"/>
              <a:gd name="adj2" fmla="val 88379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Soy de Irlanda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Rounded Rectangular Callout 16"/>
          <p:cNvSpPr/>
          <p:nvPr/>
        </p:nvSpPr>
        <p:spPr>
          <a:xfrm>
            <a:off x="1979640" y="5084640"/>
            <a:ext cx="2160720" cy="503280"/>
          </a:xfrm>
          <a:prstGeom prst="wedgeRoundRectCallout">
            <a:avLst>
              <a:gd name="adj1" fmla="val -59430"/>
              <a:gd name="adj2" fmla="val 28009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Soy de Gales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Rounded Rectangular Callout 17"/>
          <p:cNvSpPr/>
          <p:nvPr/>
        </p:nvSpPr>
        <p:spPr>
          <a:xfrm>
            <a:off x="4932360" y="878040"/>
            <a:ext cx="2521080" cy="504720"/>
          </a:xfrm>
          <a:prstGeom prst="wedgeRoundRectCallout">
            <a:avLst>
              <a:gd name="adj1" fmla="val 64324"/>
              <a:gd name="adj2" fmla="val -16652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Soy de España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Rounded Rectangular Callout 18"/>
          <p:cNvSpPr/>
          <p:nvPr/>
        </p:nvSpPr>
        <p:spPr>
          <a:xfrm>
            <a:off x="4759200" y="2922480"/>
            <a:ext cx="2492640" cy="505080"/>
          </a:xfrm>
          <a:prstGeom prst="wedgeRoundRectCallout">
            <a:avLst>
              <a:gd name="adj1" fmla="val 58967"/>
              <a:gd name="adj2" fmla="val -4337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Soy de Escocia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Rounded Rectangular Callout 19"/>
          <p:cNvSpPr/>
          <p:nvPr/>
        </p:nvSpPr>
        <p:spPr>
          <a:xfrm>
            <a:off x="4268880" y="4960800"/>
            <a:ext cx="2962080" cy="503280"/>
          </a:xfrm>
          <a:prstGeom prst="wedgeRoundRectCallout">
            <a:avLst>
              <a:gd name="adj1" fmla="val 55921"/>
              <a:gd name="adj2" fmla="val 34939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Soy de Inglaterra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Rounded Rectangular Callout 21"/>
          <p:cNvSpPr/>
          <p:nvPr/>
        </p:nvSpPr>
        <p:spPr>
          <a:xfrm>
            <a:off x="2146320" y="1292400"/>
            <a:ext cx="2521080" cy="504720"/>
          </a:xfrm>
          <a:prstGeom prst="wedgeRoundRectCallout">
            <a:avLst>
              <a:gd name="adj1" fmla="val -64768"/>
              <a:gd name="adj2" fmla="val -48768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Soy francé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Rounded Rectangular Callout 22"/>
          <p:cNvSpPr/>
          <p:nvPr/>
        </p:nvSpPr>
        <p:spPr>
          <a:xfrm>
            <a:off x="2050920" y="3573360"/>
            <a:ext cx="2521080" cy="505080"/>
          </a:xfrm>
          <a:prstGeom prst="wedgeRoundRectCallout">
            <a:avLst>
              <a:gd name="adj1" fmla="val -64768"/>
              <a:gd name="adj2" fmla="val -48768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Soy irlandes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Rounded Rectangular Callout 23"/>
          <p:cNvSpPr/>
          <p:nvPr/>
        </p:nvSpPr>
        <p:spPr>
          <a:xfrm>
            <a:off x="2171880" y="5695920"/>
            <a:ext cx="1981080" cy="504720"/>
          </a:xfrm>
          <a:prstGeom prst="wedgeRoundRectCallout">
            <a:avLst>
              <a:gd name="adj1" fmla="val -70652"/>
              <a:gd name="adj2" fmla="val -50546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Soy galé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Rounded Rectangular Callout 24"/>
          <p:cNvSpPr/>
          <p:nvPr/>
        </p:nvSpPr>
        <p:spPr>
          <a:xfrm>
            <a:off x="5148360" y="1465200"/>
            <a:ext cx="2305080" cy="504720"/>
          </a:xfrm>
          <a:prstGeom prst="wedgeRoundRectCallout">
            <a:avLst>
              <a:gd name="adj1" fmla="val 63250"/>
              <a:gd name="adj2" fmla="val -46995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Soy español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Rounded Rectangular Callout 25"/>
          <p:cNvSpPr/>
          <p:nvPr/>
        </p:nvSpPr>
        <p:spPr>
          <a:xfrm>
            <a:off x="4809960" y="3500280"/>
            <a:ext cx="2305080" cy="505080"/>
          </a:xfrm>
          <a:prstGeom prst="wedgeRoundRectCallout">
            <a:avLst>
              <a:gd name="adj1" fmla="val 63250"/>
              <a:gd name="adj2" fmla="val -46995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Soy escocé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Rounded Rectangular Callout 26"/>
          <p:cNvSpPr/>
          <p:nvPr/>
        </p:nvSpPr>
        <p:spPr>
          <a:xfrm>
            <a:off x="4932360" y="5721480"/>
            <a:ext cx="2001960" cy="504720"/>
          </a:xfrm>
          <a:prstGeom prst="wedgeRoundRectCallout">
            <a:avLst>
              <a:gd name="adj1" fmla="val 63250"/>
              <a:gd name="adj2" fmla="val -46995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Soy ingles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6-07T13:02:09Z</dcterms:modified>
  <cp:revision>409</cp:revision>
  <dc:subject/>
  <dc:title>TITLE</dc:title>
</cp:coreProperties>
</file>