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4E3B-FE47-47B4-9A50-77D6B80795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82BD-0BA3-4366-A543-833E1E0DF1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10D7-0BFD-4F55-A59D-CD1AE75DFC4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909-A2DD-4916-A728-627B0E72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248-9A8A-437D-A135-601B5BCB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DD9-22E0-4EDE-822E-B47B164C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6D0-2C58-4542-AA69-DD1AE07E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413-E814-4E54-A1A7-10D79324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AF73-AD0B-484E-83D4-8C39A8D5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26A-5937-45DD-9A09-677A6B0D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874-6A4C-4D58-A835-850CF47A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BBB-B086-472D-9DF1-BF7213CB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958-39BE-46B0-9CC2-051F5A8F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BF9-1254-4183-9FBB-16B14CDC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896-27F5-448B-B118-9D8A7B1B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8AD5-A27C-4A10-A220-CC8A6A8DC1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05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fffff7"/>
                </a:solidFill>
                <a:latin typeface="Comic Sans MS"/>
              </a:rPr>
              <a:t>a e i o u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35280" y="260280"/>
            <a:ext cx="1369800" cy="201636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148360" y="260280"/>
            <a:ext cx="2376360" cy="18972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476360" y="3429000"/>
            <a:ext cx="1944720" cy="194472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364000" y="3429000"/>
            <a:ext cx="2016360" cy="175896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611280" y="2276640"/>
            <a:ext cx="3744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242100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_n  b_h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2421000"/>
            <a:ext cx="43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_n_  g_ll_n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44500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_n  g_ll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544500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_n_  r_n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2421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2421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421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2421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51640" y="2421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88000" y="2421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56720" y="2421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4360" y="5445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5445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16720" y="5445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5445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5445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5445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59280" y="5445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08720" y="2421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146640" cy="6337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35280" y="1268280"/>
            <a:ext cx="266364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a v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1886040"/>
            <a:ext cx="266364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a ove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2503440"/>
            <a:ext cx="3816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rinocer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3121200"/>
            <a:ext cx="266364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per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3738600"/>
            <a:ext cx="266364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per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5280" y="4356000"/>
            <a:ext cx="266364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g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4973760"/>
            <a:ext cx="266364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p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5280" y="5589720"/>
            <a:ext cx="266364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caba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3-31T13:52:04Z</dcterms:modified>
  <cp:revision>164</cp:revision>
  <dc:subject/>
  <dc:title>TITLE</dc:title>
</cp:coreProperties>
</file>