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1AA4-0938-4971-A9F2-5ACB6EF1FB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5FA7-B36A-429A-927C-7423FEA7BB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3CF-E0F3-4874-B042-C6A82BDD7B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654-BB1C-4232-8211-5A6A0E58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D10-B09C-4234-AC7B-D0EFC18F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03D-5B38-4C4B-9980-DC85E51D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A52-C033-45C1-8D15-F5351368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1C1-CAD1-4783-9B52-D6B40635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65B-779B-483C-8270-565C672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FF3-7BB5-469A-A472-4F6CAE7D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F41-7171-4529-97E2-2DE8629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B87-E447-44B7-9189-98B83F2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F31-2F46-4377-AD5B-CF2EC80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104-2A64-4A59-BA5C-5635B99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4E8-873F-4118-922B-C7D4AE8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71E-04F7-4C9D-8774-06FADCA59C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5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7"/>
                </a:solidFill>
                <a:latin typeface="Comic Sans MS"/>
              </a:rPr>
              <a:t>a e i o 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1369800" cy="2016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2376360" cy="18972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1944720" cy="194472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64000" y="3429000"/>
            <a:ext cx="2016360" cy="17589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74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421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  b_h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42100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_  g_ll_n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44500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  g_ll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445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_n_  r_n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5672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5445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5445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2421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146640" cy="633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5280" y="126828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a v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88604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a ove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2503440"/>
            <a:ext cx="381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rinocer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312120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pe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373860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pe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435600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g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497376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5589720"/>
            <a:ext cx="266364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un caba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52:04Z</dcterms:modified>
  <cp:revision>164</cp:revision>
  <dc:subject/>
  <dc:title>TITLE</dc:title>
</cp:coreProperties>
</file>