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5958-9528-4FAE-ACB6-954A688859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E6E-9984-47C7-8A77-0141D21993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743-02D5-450C-82F9-43547BA3BB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468-36C3-4343-A2C9-A123F6DB48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4B6-0A8A-4EE4-A0A9-23F237A937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833-EEF4-4A24-974C-DCE38B85FB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ED7-8EBF-4F9A-81E8-74D92EDB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240-2877-4D62-BC89-E0FE671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92E-B973-4C3F-95F1-3FFDA007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691-5FF1-49D8-AE13-9F6A2281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BA1-A9CE-40D0-8928-5210C77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7DC-D9AF-44A4-9468-59858B9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6CD-9B89-4FCA-8153-D23D8F71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40D-98E1-4D24-B005-715E05D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6FF-54B7-4464-910C-C7D368B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923-6E90-4554-9D21-3C473E8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E3E-FECC-4E1E-B21D-19D276E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43E-018E-4659-8FCC-1E26860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861-7516-4862-99AB-7472E44007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y una col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os ojos marrones y una nariz ros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negro y naranj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256520" y="4459320"/>
              <a:ext cx="1887480" cy="239868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4140360" y="378936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tigr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grandes y un estómago enor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as orejas enormes y una nariz enorme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gris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58" name=""/>
            <p:cNvSpPr/>
            <p:nvPr/>
          </p:nvSpPr>
          <p:spPr>
            <a:xfrm>
              <a:off x="4140360" y="3789360"/>
              <a:ext cx="46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elefant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rcRect l="4666" t="11429" r="16205" b="4705"/>
            <a:stretch/>
          </p:blipFill>
          <p:spPr>
            <a:xfrm>
              <a:off x="6156360" y="4483080"/>
              <a:ext cx="2987640" cy="237492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una cabeza pequeña, dos piernas largas y las rodillas grande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tengo braz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ros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64" name=""/>
            <p:cNvSpPr/>
            <p:nvPr/>
          </p:nvSpPr>
          <p:spPr>
            <a:xfrm>
              <a:off x="4140360" y="3789360"/>
              <a:ext cx="467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flamenco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rcRect l="31766" t="16266" r="27593" b="9566"/>
            <a:stretch/>
          </p:blipFill>
          <p:spPr>
            <a:xfrm>
              <a:off x="7310520" y="4508640"/>
              <a:ext cx="1833480" cy="234936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dos piernas muy cortas, una cabeza pequeña y los pies naranja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un estómago grand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blanco y negro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70" name=""/>
            <p:cNvSpPr/>
            <p:nvPr/>
          </p:nvSpPr>
          <p:spPr>
            <a:xfrm>
              <a:off x="4140360" y="3789360"/>
              <a:ext cx="46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ping</a:t>
              </a: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üino</a:t>
              </a: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rcRect l="37788" t="15728" r="18488" b="5522"/>
            <a:stretch/>
          </p:blipFill>
          <p:spPr>
            <a:xfrm>
              <a:off x="7351560" y="4437000"/>
              <a:ext cx="1792440" cy="242100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muy cortas, una cola larga y los dientes puntiagud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os ojos minúscul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verde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40360" y="3789360"/>
            <a:ext cx="46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y un cocodri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1:56Z</dcterms:modified>
  <cp:revision>142</cp:revision>
  <dc:subject/>
  <dc:title>TITLE</dc:title>
</cp:coreProperties>
</file>