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F07-AE54-4761-AA11-3876C345A5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F22-B6C7-423F-BF7C-7CCFCC540C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0F85-2F12-4806-A2AE-5AA386D517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982-2EE2-4588-A98D-3D49DB402F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411-3973-4DF0-936B-B4DD842C2F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D962-31EC-4042-95C2-E81E49160F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DBE-7D6D-4046-8640-92BFECC2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D76-5885-4460-BE22-56C873C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D0-B2D5-4D70-88CA-94EDEDA7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114-9062-421A-999E-49F8004D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A3F-C342-420F-A54F-3EB9461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3ED-2F09-4463-B693-ECE28B2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28E-6B0D-4236-AC20-E30B0AA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ED4-560C-45BD-90A5-453945AC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D03-ACC8-45A8-8436-D7BC03F7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431-16CB-4B88-9058-87A3FB1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62D-BDCA-46A6-A9B6-C01C199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894-CBEB-46F2-B3FF-ADBA9CA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057A-E072-4F24-85F5-00DBFA19CB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y una col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os ojos marrones y una nariz ros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negro y naranj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256520" y="4459320"/>
              <a:ext cx="1887480" cy="239868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4140360" y="378936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tigr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grandes y un estómago enor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as orejas enormes y una nariz enorme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gris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58" name=""/>
            <p:cNvSpPr/>
            <p:nvPr/>
          </p:nvSpPr>
          <p:spPr>
            <a:xfrm>
              <a:off x="4140360" y="3789360"/>
              <a:ext cx="46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elefante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rcRect l="4666" t="11429" r="16205" b="4705"/>
            <a:stretch/>
          </p:blipFill>
          <p:spPr>
            <a:xfrm>
              <a:off x="6156360" y="4483080"/>
              <a:ext cx="2987640" cy="237492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una cabeza pequeña, dos piernas largas y las rodillas grande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tengo braz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rosa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64" name=""/>
            <p:cNvSpPr/>
            <p:nvPr/>
          </p:nvSpPr>
          <p:spPr>
            <a:xfrm>
              <a:off x="4140360" y="3789360"/>
              <a:ext cx="467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flamenco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rcRect l="31766" t="16266" r="27593" b="9566"/>
            <a:stretch/>
          </p:blipFill>
          <p:spPr>
            <a:xfrm>
              <a:off x="7310520" y="4508640"/>
              <a:ext cx="1833480" cy="234936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dos piernas muy cortas, una cabeza pequeña y los pies naranja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un estómago grand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blanco y negro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140360" y="3789360"/>
            <a:ext cx="5003640" cy="3068640"/>
            <a:chOff x="4140360" y="3789360"/>
            <a:chExt cx="5003640" cy="3068640"/>
          </a:xfrm>
        </p:grpSpPr>
        <p:sp>
          <p:nvSpPr>
            <p:cNvPr id="70" name=""/>
            <p:cNvSpPr/>
            <p:nvPr/>
          </p:nvSpPr>
          <p:spPr>
            <a:xfrm>
              <a:off x="4140360" y="3789360"/>
              <a:ext cx="46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Soy un ping</a:t>
              </a: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üino</a:t>
              </a: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rcRect l="37788" t="15728" r="18488" b="5522"/>
            <a:stretch/>
          </p:blipFill>
          <p:spPr>
            <a:xfrm>
              <a:off x="7351560" y="4437000"/>
              <a:ext cx="1792440" cy="2421000"/>
            </a:xfrm>
            <a:prstGeom prst="rect">
              <a:avLst/>
            </a:prstGeom>
            <a:ln w="9360">
              <a:solidFill>
                <a:srgbClr val="fffff7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89000"/>
            <a:ext cx="8785440" cy="4608360"/>
          </a:xfrm>
          <a:prstGeom prst="wedgeRoundRectCallout">
            <a:avLst>
              <a:gd name="adj1" fmla="val -652"/>
              <a:gd name="adj2" fmla="val 5912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cuatro piernas muy cortas, una cola larga y los dientes puntiagud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los ojos minúsculos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verde.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ién so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811760"/>
            <a:ext cx="2771640" cy="2046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40360" y="3789360"/>
            <a:ext cx="46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Soy un cocodri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3-29T15:11:56Z</dcterms:modified>
  <cp:revision>142</cp:revision>
  <dc:subject/>
  <dc:title>TITLE</dc:title>
</cp:coreProperties>
</file>