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55CC-53CC-47A9-9170-F82CAC2EBBE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A64A-678A-497A-B6CD-94050BF9349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34D4-A880-4339-8EAE-35045857D0A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E3D8-0E86-4F1E-B57C-C7A2531647D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C620-981A-4CCE-9D9D-C81CC64C96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EC14-8546-4E84-AAF2-E216F4AB5D3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41F5-B74F-457A-987A-7D674BF53EF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142F-5789-4929-8FD0-FD0BB91099F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DC21-3E3A-4719-A2FE-326DBC7E1F5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4CA1-C423-41DE-AEEA-6FDFA835E60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1D33-85CB-475E-B72A-74325E2D332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16D3-27AD-41AC-951E-80820B591F5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9B87-7B56-446F-AF9D-D576A54B409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80CB-4FF6-4F91-9510-A3B783E8E58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FB1D-09BF-4122-9984-6A6D1A9AF77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1C23-0854-4B47-9BDB-23B20199107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B9EF-3B68-4542-8075-8FB05EA34EE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A9AB-1A1A-4C8A-8C01-CE9D292DB1C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A448-8546-4EC2-840A-C039E1F2EE3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5347-6395-44D8-8B39-7BCE2ECA275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B527-2F1C-40E0-86EA-5BCBC0CD9B7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7CD1-BCCA-4F0E-8AE8-25CF5F222DF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1598-C62A-434F-8571-40D6BDFD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5EF7-2538-4A4B-952D-257A2DE6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824-292F-433C-A2B4-891FC611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A477-E949-4A26-AFE3-8AEC7303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92CD-CB64-4D70-B9D7-4F520A7D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D0A2-C82E-43BC-8B54-36E0E553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7BEA-B4BD-427D-845C-7A956BDB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7330-ED16-43B6-9169-326CEE1D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1B96-56E0-4A6D-A422-27323ECB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5319-517D-46BA-B5F6-FC2E3D81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FCC5-269A-4EA1-859C-8EA2327F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E272-B888-4EB1-9924-35528835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1D6D-E4B6-4C19-AD6B-7ABADFD0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112E-DA63-4F26-85E5-EB437160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EECB-6993-4873-B2C7-2A00D8C5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C924-40C4-4AEA-A51B-1C83475F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6EDC-C3F0-43AE-A4F4-4BAA83EC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2B64-1D4B-470F-A2F2-EA245E15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E981-6A65-449A-A9F5-39B47A1A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A7E1-ABA3-4D23-88E9-68311FF6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1523-D5CF-42AA-A6B8-83E11A36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2C8-1A0C-46A5-AEF0-6875F38C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C51-07D6-4F0A-A196-D3B24374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3E4-6725-4192-9B73-561217A4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0B72-6536-4054-ADE9-79C723B1F75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36E5-973B-4EBF-B4BF-1FE4C011C0D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90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92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94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96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98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468360" y="565200"/>
            <a:ext cx="180000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buel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52 -0.00162 L 0.01181 0.52407 E">
                                      <p:cBhvr>
                                        <p:cTn id="6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218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9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220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22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224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26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Box 16"/>
          <p:cNvSpPr/>
          <p:nvPr/>
        </p:nvSpPr>
        <p:spPr>
          <a:xfrm>
            <a:off x="695160" y="549360"/>
            <a:ext cx="265284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rdenad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Box 17"/>
          <p:cNvSpPr/>
          <p:nvPr/>
        </p:nvSpPr>
        <p:spPr>
          <a:xfrm>
            <a:off x="6959520" y="4722840"/>
            <a:ext cx="114948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Box 18"/>
          <p:cNvSpPr/>
          <p:nvPr/>
        </p:nvSpPr>
        <p:spPr>
          <a:xfrm>
            <a:off x="6280200" y="4014720"/>
            <a:ext cx="250812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erpien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Box 19"/>
          <p:cNvSpPr/>
          <p:nvPr/>
        </p:nvSpPr>
        <p:spPr>
          <a:xfrm>
            <a:off x="6364440" y="3284640"/>
            <a:ext cx="234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stuch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Box 20"/>
          <p:cNvSpPr/>
          <p:nvPr/>
        </p:nvSpPr>
        <p:spPr>
          <a:xfrm>
            <a:off x="6748560" y="2565360"/>
            <a:ext cx="15714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óvi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44444E-006 L 0.61424 0.22037 E">
                                      <p:cBhvr>
                                        <p:cTn id="60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235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6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237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39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241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43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Box 16"/>
          <p:cNvSpPr/>
          <p:nvPr/>
        </p:nvSpPr>
        <p:spPr>
          <a:xfrm>
            <a:off x="695160" y="549360"/>
            <a:ext cx="98424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s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Box 17"/>
          <p:cNvSpPr/>
          <p:nvPr/>
        </p:nvSpPr>
        <p:spPr>
          <a:xfrm>
            <a:off x="6959520" y="4722840"/>
            <a:ext cx="114948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Box 18"/>
          <p:cNvSpPr/>
          <p:nvPr/>
        </p:nvSpPr>
        <p:spPr>
          <a:xfrm>
            <a:off x="6280200" y="4014720"/>
            <a:ext cx="250812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erpien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Box 19"/>
          <p:cNvSpPr/>
          <p:nvPr/>
        </p:nvSpPr>
        <p:spPr>
          <a:xfrm>
            <a:off x="6364440" y="3284640"/>
            <a:ext cx="234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stuch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Box 20"/>
          <p:cNvSpPr/>
          <p:nvPr/>
        </p:nvSpPr>
        <p:spPr>
          <a:xfrm>
            <a:off x="6748560" y="2565360"/>
            <a:ext cx="15714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óvi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Box 21"/>
          <p:cNvSpPr/>
          <p:nvPr/>
        </p:nvSpPr>
        <p:spPr>
          <a:xfrm>
            <a:off x="6135840" y="1857240"/>
            <a:ext cx="265248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rdenad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0.0316 0.62037 E">
                                      <p:cBhvr>
                                        <p:cTn id="66" dur="1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253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4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255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57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259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61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263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Box 17"/>
          <p:cNvSpPr/>
          <p:nvPr/>
        </p:nvSpPr>
        <p:spPr>
          <a:xfrm>
            <a:off x="6959520" y="4722840"/>
            <a:ext cx="114948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Box 18"/>
          <p:cNvSpPr/>
          <p:nvPr/>
        </p:nvSpPr>
        <p:spPr>
          <a:xfrm>
            <a:off x="6280200" y="4014720"/>
            <a:ext cx="250812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erpien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Box 19"/>
          <p:cNvSpPr/>
          <p:nvPr/>
        </p:nvSpPr>
        <p:spPr>
          <a:xfrm>
            <a:off x="6364440" y="3284640"/>
            <a:ext cx="234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stuch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Box 20"/>
          <p:cNvSpPr/>
          <p:nvPr/>
        </p:nvSpPr>
        <p:spPr>
          <a:xfrm>
            <a:off x="6748560" y="2565360"/>
            <a:ext cx="15714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óvi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Box 21"/>
          <p:cNvSpPr/>
          <p:nvPr/>
        </p:nvSpPr>
        <p:spPr>
          <a:xfrm>
            <a:off x="6135840" y="1857240"/>
            <a:ext cx="265248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rdenad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Box 16"/>
          <p:cNvSpPr/>
          <p:nvPr/>
        </p:nvSpPr>
        <p:spPr>
          <a:xfrm>
            <a:off x="695160" y="549360"/>
            <a:ext cx="13557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uez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.04468 L 0.64115 0.13727 E">
                                      <p:cBhvr>
                                        <p:cTn id="72" dur="1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3727440" cy="3960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2"/>
          <a:srcRect l="0" t="12354" r="0" b="13393"/>
          <a:stretch/>
        </p:blipFill>
        <p:spPr>
          <a:xfrm>
            <a:off x="1676520" y="4975200"/>
            <a:ext cx="1746000" cy="720720"/>
          </a:xfrm>
          <a:prstGeom prst="rect">
            <a:avLst/>
          </a:prstGeom>
          <a:ln w="0">
            <a:noFill/>
          </a:ln>
        </p:spPr>
      </p:pic>
      <p:sp>
        <p:nvSpPr>
          <p:cNvPr id="272" name="TextBox 9"/>
          <p:cNvSpPr/>
          <p:nvPr/>
        </p:nvSpPr>
        <p:spPr>
          <a:xfrm>
            <a:off x="2362320" y="5027760"/>
            <a:ext cx="6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Box 16"/>
          <p:cNvSpPr/>
          <p:nvPr/>
        </p:nvSpPr>
        <p:spPr>
          <a:xfrm>
            <a:off x="1871640" y="644400"/>
            <a:ext cx="13557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uez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Box 17"/>
          <p:cNvSpPr/>
          <p:nvPr/>
        </p:nvSpPr>
        <p:spPr>
          <a:xfrm>
            <a:off x="1974960" y="4219560"/>
            <a:ext cx="114912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1295280" y="3511440"/>
            <a:ext cx="250848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erpien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1379520" y="2781360"/>
            <a:ext cx="234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stuch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Box 20"/>
          <p:cNvSpPr/>
          <p:nvPr/>
        </p:nvSpPr>
        <p:spPr>
          <a:xfrm>
            <a:off x="1763640" y="2060640"/>
            <a:ext cx="15717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óvi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Box 21"/>
          <p:cNvSpPr/>
          <p:nvPr/>
        </p:nvSpPr>
        <p:spPr>
          <a:xfrm>
            <a:off x="1150920" y="1352520"/>
            <a:ext cx="265284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rdenad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TextBox 1" descr=""/>
          <p:cNvPicPr/>
          <p:nvPr/>
        </p:nvPicPr>
        <p:blipFill>
          <a:blip r:embed="rId1"/>
          <a:stretch/>
        </p:blipFill>
        <p:spPr>
          <a:xfrm>
            <a:off x="-139680" y="158760"/>
            <a:ext cx="6576840" cy="11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"/>
          <p:cNvGraphicFramePr/>
          <p:nvPr/>
        </p:nvGraphicFramePr>
        <p:xfrm>
          <a:off x="108000" y="1197000"/>
          <a:ext cx="3672000" cy="4148280"/>
        </p:xfrm>
        <a:graphic>
          <a:graphicData uri="http://schemas.openxmlformats.org/drawingml/2006/table">
            <a:tbl>
              <a:tblPr/>
              <a:tblGrid>
                <a:gridCol w="431640"/>
                <a:gridCol w="2448000"/>
                <a:gridCol w="792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ez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ad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óv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tuch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rpien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3" name="TextBox 1" descr=""/>
          <p:cNvPicPr/>
          <p:nvPr/>
        </p:nvPicPr>
        <p:blipFill>
          <a:blip r:embed="rId1"/>
          <a:stretch/>
        </p:blipFill>
        <p:spPr>
          <a:xfrm>
            <a:off x="-139680" y="158760"/>
            <a:ext cx="6576840" cy="11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108000" y="1197000"/>
          <a:ext cx="3672000" cy="4148280"/>
        </p:xfrm>
        <a:graphic>
          <a:graphicData uri="http://schemas.openxmlformats.org/drawingml/2006/table">
            <a:tbl>
              <a:tblPr/>
              <a:tblGrid>
                <a:gridCol w="431640"/>
                <a:gridCol w="2448000"/>
                <a:gridCol w="792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ez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ad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óv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tuch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rpien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285" name="TextBox 2"/>
          <p:cNvSpPr/>
          <p:nvPr/>
        </p:nvSpPr>
        <p:spPr>
          <a:xfrm>
            <a:off x="3924360" y="1197000"/>
            <a:ext cx="5219640" cy="4449960"/>
          </a:xfrm>
          <a:prstGeom prst="rect">
            <a:avLst/>
          </a:prstGeom>
          <a:solidFill>
            <a:srgbClr val="cdf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lón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óvil (m.)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mobile phon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tuche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uez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encil cas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lor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rdenador (m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flower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nzana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rpiente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7" name="TextBox 1" descr=""/>
          <p:cNvPicPr/>
          <p:nvPr/>
        </p:nvPicPr>
        <p:blipFill>
          <a:blip r:embed="rId1"/>
          <a:stretch/>
        </p:blipFill>
        <p:spPr>
          <a:xfrm>
            <a:off x="-139680" y="158760"/>
            <a:ext cx="6576840" cy="11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8" name=""/>
          <p:cNvGraphicFramePr/>
          <p:nvPr/>
        </p:nvGraphicFramePr>
        <p:xfrm>
          <a:off x="108000" y="1197000"/>
          <a:ext cx="3672000" cy="4148280"/>
        </p:xfrm>
        <a:graphic>
          <a:graphicData uri="http://schemas.openxmlformats.org/drawingml/2006/table">
            <a:tbl>
              <a:tblPr/>
              <a:tblGrid>
                <a:gridCol w="431640"/>
                <a:gridCol w="2448000"/>
                <a:gridCol w="792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ez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ad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óv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tuch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rpien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289" name="TextBox 2"/>
          <p:cNvSpPr/>
          <p:nvPr/>
        </p:nvSpPr>
        <p:spPr>
          <a:xfrm>
            <a:off x="3924360" y="1197000"/>
            <a:ext cx="5219640" cy="4449960"/>
          </a:xfrm>
          <a:prstGeom prst="rect">
            <a:avLst/>
          </a:prstGeom>
          <a:solidFill>
            <a:srgbClr val="cdf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lón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óvil (m.)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mobile phon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tuche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uez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encil cas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lor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rdenador (m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flower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nzana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rpiente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1" name="TextBox 1" descr=""/>
          <p:cNvPicPr/>
          <p:nvPr/>
        </p:nvPicPr>
        <p:blipFill>
          <a:blip r:embed="rId1"/>
          <a:stretch/>
        </p:blipFill>
        <p:spPr>
          <a:xfrm>
            <a:off x="-139680" y="158760"/>
            <a:ext cx="6576840" cy="11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108000" y="1197000"/>
          <a:ext cx="3672000" cy="4148280"/>
        </p:xfrm>
        <a:graphic>
          <a:graphicData uri="http://schemas.openxmlformats.org/drawingml/2006/table">
            <a:tbl>
              <a:tblPr/>
              <a:tblGrid>
                <a:gridCol w="431640"/>
                <a:gridCol w="2448000"/>
                <a:gridCol w="792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ez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ad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óv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tuch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rpien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293" name="TextBox 2"/>
          <p:cNvSpPr/>
          <p:nvPr/>
        </p:nvSpPr>
        <p:spPr>
          <a:xfrm>
            <a:off x="3924360" y="1197000"/>
            <a:ext cx="5219640" cy="4449960"/>
          </a:xfrm>
          <a:prstGeom prst="rect">
            <a:avLst/>
          </a:prstGeom>
          <a:solidFill>
            <a:srgbClr val="cdf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lón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óvil (m.)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mobile phon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tuche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uez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encil cas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lor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rdenador (m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flower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nzana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rpiente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5" name="TextBox 1" descr=""/>
          <p:cNvPicPr/>
          <p:nvPr/>
        </p:nvPicPr>
        <p:blipFill>
          <a:blip r:embed="rId1"/>
          <a:stretch/>
        </p:blipFill>
        <p:spPr>
          <a:xfrm>
            <a:off x="-139680" y="158760"/>
            <a:ext cx="6576840" cy="11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"/>
          <p:cNvGraphicFramePr/>
          <p:nvPr/>
        </p:nvGraphicFramePr>
        <p:xfrm>
          <a:off x="108000" y="1197000"/>
          <a:ext cx="3672000" cy="4148280"/>
        </p:xfrm>
        <a:graphic>
          <a:graphicData uri="http://schemas.openxmlformats.org/drawingml/2006/table">
            <a:tbl>
              <a:tblPr/>
              <a:tblGrid>
                <a:gridCol w="431640"/>
                <a:gridCol w="2448000"/>
                <a:gridCol w="792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ez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ad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óv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tuch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rpien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2"/>
          <p:cNvSpPr/>
          <p:nvPr/>
        </p:nvSpPr>
        <p:spPr>
          <a:xfrm>
            <a:off x="3924360" y="1197000"/>
            <a:ext cx="5219640" cy="4449960"/>
          </a:xfrm>
          <a:prstGeom prst="rect">
            <a:avLst/>
          </a:prstGeom>
          <a:solidFill>
            <a:srgbClr val="cdf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lón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óvil (m.)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mobile phon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tuche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uez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encil cas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lor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rdenador (m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flower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nzana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rpiente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9" name="TextBox 1" descr=""/>
          <p:cNvPicPr/>
          <p:nvPr/>
        </p:nvPicPr>
        <p:blipFill>
          <a:blip r:embed="rId1"/>
          <a:stretch/>
        </p:blipFill>
        <p:spPr>
          <a:xfrm>
            <a:off x="-139680" y="158760"/>
            <a:ext cx="6576840" cy="11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0" name=""/>
          <p:cNvGraphicFramePr/>
          <p:nvPr/>
        </p:nvGraphicFramePr>
        <p:xfrm>
          <a:off x="108000" y="1197000"/>
          <a:ext cx="3672000" cy="4148280"/>
        </p:xfrm>
        <a:graphic>
          <a:graphicData uri="http://schemas.openxmlformats.org/drawingml/2006/table">
            <a:tbl>
              <a:tblPr/>
              <a:tblGrid>
                <a:gridCol w="431640"/>
                <a:gridCol w="2448000"/>
                <a:gridCol w="792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ez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ad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óv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tuch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rpien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301" name="TextBox 2"/>
          <p:cNvSpPr/>
          <p:nvPr/>
        </p:nvSpPr>
        <p:spPr>
          <a:xfrm>
            <a:off x="3924360" y="1197000"/>
            <a:ext cx="5219640" cy="4449960"/>
          </a:xfrm>
          <a:prstGeom prst="rect">
            <a:avLst/>
          </a:prstGeom>
          <a:solidFill>
            <a:srgbClr val="cdf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lón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óvil (m.)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mobile phon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tuche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uez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encil cas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lor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rdenador (m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flower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nzana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rpiente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103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105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107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109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11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16"/>
          <p:cNvSpPr/>
          <p:nvPr/>
        </p:nvSpPr>
        <p:spPr>
          <a:xfrm>
            <a:off x="468360" y="565200"/>
            <a:ext cx="165564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visp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L 0.33281 0.56713 E">
                                      <p:cBhvr>
                                        <p:cTn id="12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3" name="TextBox 1" descr=""/>
          <p:cNvPicPr/>
          <p:nvPr/>
        </p:nvPicPr>
        <p:blipFill>
          <a:blip r:embed="rId1"/>
          <a:stretch/>
        </p:blipFill>
        <p:spPr>
          <a:xfrm>
            <a:off x="-139680" y="158760"/>
            <a:ext cx="6576840" cy="11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4" name=""/>
          <p:cNvGraphicFramePr/>
          <p:nvPr/>
        </p:nvGraphicFramePr>
        <p:xfrm>
          <a:off x="108000" y="1197000"/>
          <a:ext cx="3672000" cy="4148280"/>
        </p:xfrm>
        <a:graphic>
          <a:graphicData uri="http://schemas.openxmlformats.org/drawingml/2006/table">
            <a:tbl>
              <a:tblPr/>
              <a:tblGrid>
                <a:gridCol w="431640"/>
                <a:gridCol w="2448000"/>
                <a:gridCol w="792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ez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ad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óv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tuch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rpien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305" name="TextBox 2"/>
          <p:cNvSpPr/>
          <p:nvPr/>
        </p:nvSpPr>
        <p:spPr>
          <a:xfrm>
            <a:off x="3924360" y="1197000"/>
            <a:ext cx="5219640" cy="4449960"/>
          </a:xfrm>
          <a:prstGeom prst="rect">
            <a:avLst/>
          </a:prstGeom>
          <a:solidFill>
            <a:srgbClr val="cdf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lón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óvil (m.)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mobile phon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tuche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uez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encil cas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lor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rdenador (m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flower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nzana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rpiente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7" name="TextBox 1" descr=""/>
          <p:cNvPicPr/>
          <p:nvPr/>
        </p:nvPicPr>
        <p:blipFill>
          <a:blip r:embed="rId1"/>
          <a:stretch/>
        </p:blipFill>
        <p:spPr>
          <a:xfrm>
            <a:off x="-139680" y="158760"/>
            <a:ext cx="6576840" cy="11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8" name=""/>
          <p:cNvGraphicFramePr/>
          <p:nvPr/>
        </p:nvGraphicFramePr>
        <p:xfrm>
          <a:off x="108000" y="1197000"/>
          <a:ext cx="3672000" cy="4148280"/>
        </p:xfrm>
        <a:graphic>
          <a:graphicData uri="http://schemas.openxmlformats.org/drawingml/2006/table">
            <a:tbl>
              <a:tblPr/>
              <a:tblGrid>
                <a:gridCol w="431640"/>
                <a:gridCol w="2448000"/>
                <a:gridCol w="79236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ez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ad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óv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tuch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rpien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309" name="TextBox 2"/>
          <p:cNvSpPr/>
          <p:nvPr/>
        </p:nvSpPr>
        <p:spPr>
          <a:xfrm>
            <a:off x="3924360" y="1197000"/>
            <a:ext cx="5219640" cy="4449960"/>
          </a:xfrm>
          <a:prstGeom prst="rect">
            <a:avLst/>
          </a:prstGeom>
          <a:solidFill>
            <a:srgbClr val="cdf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lón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óvil (m.)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mobile phon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tuche (m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uez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encil cas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lor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rdenador (m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flower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nzana (f.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rpiente (f.)</a:t>
            </a:r>
            <a:br>
              <a:rPr sz="2600"/>
            </a:b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116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118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120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122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24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Box 16"/>
          <p:cNvSpPr/>
          <p:nvPr/>
        </p:nvSpPr>
        <p:spPr>
          <a:xfrm>
            <a:off x="685800" y="565200"/>
            <a:ext cx="114948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22222E-006 L 0.68507 0.60741 E">
                                      <p:cBhvr>
                                        <p:cTn id="18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129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131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133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135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37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16"/>
          <p:cNvSpPr/>
          <p:nvPr/>
        </p:nvSpPr>
        <p:spPr>
          <a:xfrm>
            <a:off x="695160" y="549360"/>
            <a:ext cx="222120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ailarin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6959520" y="4722840"/>
            <a:ext cx="114948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96296E-006 L 0.26667 0.58889 E">
                                      <p:cBhvr>
                                        <p:cTn id="24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143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145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147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149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51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16"/>
          <p:cNvSpPr/>
          <p:nvPr/>
        </p:nvSpPr>
        <p:spPr>
          <a:xfrm>
            <a:off x="695160" y="549360"/>
            <a:ext cx="250848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erpien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17"/>
          <p:cNvSpPr/>
          <p:nvPr/>
        </p:nvSpPr>
        <p:spPr>
          <a:xfrm>
            <a:off x="6959520" y="4722840"/>
            <a:ext cx="114948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60174 0.51528 E">
                                      <p:cBhvr>
                                        <p:cTn id="30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157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159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161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163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65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167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695160" y="549360"/>
            <a:ext cx="20052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cuari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6959520" y="4722840"/>
            <a:ext cx="114948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280200" y="4014720"/>
            <a:ext cx="250812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erpien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L -0.03212 0.62037 E">
                                      <p:cBhvr>
                                        <p:cTn id="36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172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174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176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178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80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182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16"/>
          <p:cNvSpPr/>
          <p:nvPr/>
        </p:nvSpPr>
        <p:spPr>
          <a:xfrm>
            <a:off x="695160" y="549360"/>
            <a:ext cx="23418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iciclet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Box 17"/>
          <p:cNvSpPr/>
          <p:nvPr/>
        </p:nvSpPr>
        <p:spPr>
          <a:xfrm>
            <a:off x="6959520" y="4722840"/>
            <a:ext cx="114948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18"/>
          <p:cNvSpPr/>
          <p:nvPr/>
        </p:nvSpPr>
        <p:spPr>
          <a:xfrm>
            <a:off x="6280200" y="4014720"/>
            <a:ext cx="250812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erpien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44444E-006 L 0.29861 0.61944 E">
                                      <p:cBhvr>
                                        <p:cTn id="42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187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8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189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191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193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95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Box 16"/>
          <p:cNvSpPr/>
          <p:nvPr/>
        </p:nvSpPr>
        <p:spPr>
          <a:xfrm>
            <a:off x="695160" y="549360"/>
            <a:ext cx="23418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stuch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6959520" y="4722840"/>
            <a:ext cx="114948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18"/>
          <p:cNvSpPr/>
          <p:nvPr/>
        </p:nvSpPr>
        <p:spPr>
          <a:xfrm>
            <a:off x="6280200" y="4014720"/>
            <a:ext cx="250812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erpien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96296E-006 L 0.61094 0.41019 E">
                                      <p:cBhvr>
                                        <p:cTn id="48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202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3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204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06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208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10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6959520" y="4722840"/>
            <a:ext cx="114948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Box 18"/>
          <p:cNvSpPr/>
          <p:nvPr/>
        </p:nvSpPr>
        <p:spPr>
          <a:xfrm>
            <a:off x="6280200" y="4014720"/>
            <a:ext cx="250812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erpien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Box 19"/>
          <p:cNvSpPr/>
          <p:nvPr/>
        </p:nvSpPr>
        <p:spPr>
          <a:xfrm>
            <a:off x="6364440" y="3284640"/>
            <a:ext cx="234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stuch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Box 16"/>
          <p:cNvSpPr/>
          <p:nvPr/>
        </p:nvSpPr>
        <p:spPr>
          <a:xfrm>
            <a:off x="695160" y="549360"/>
            <a:ext cx="15732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óvi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40741E-007 L 0.66597 0.34722 E">
                                      <p:cBhvr>
                                        <p:cTn id="54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28:37Z</dcterms:modified>
  <cp:revision>190</cp:revision>
  <dc:subject/>
  <dc:title>TITLE</dc:title>
</cp:coreProperties>
</file>