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7A6F-3D24-43C6-A107-7067720E0CA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DE5F-9072-42DC-98C2-C0E9DA663E4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5524-9E30-4096-92CC-E35020E1612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5AFA-04CE-470D-A1AB-BACD50B05F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0F28-8B69-4FAC-AEE1-85A880DCC36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6815-2138-4ED3-9793-1C84C31C7F8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7EB5-4312-4240-96F2-0269CC657CD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7345-AD31-43E2-A393-C73E4BB7115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9BE9-A68A-4BC0-9E05-E76AF55133D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AE01-12B0-40FA-84F3-B8CE1ADC838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C844-D0CA-488E-8B71-DA2F522C8FC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1DDD-9462-48FB-8F9A-860B7CA61F5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E73D-8A43-4D7C-9310-F51384D4E7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BE61-8979-4E81-9744-5CBE5919054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9656-6B9C-4FA2-BAFE-92F0B4CFC0D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E176-C473-41EA-BA50-5AF90634B8B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EF15-5831-47D1-BB18-958DA594291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0731-FCB5-4C12-9A98-A6830CD9725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58D6-90C1-41E7-BE6E-E03D1FCC3CD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3E0E-4AB2-4DA6-8641-B87D07F6B23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A635-58AC-457F-8767-6855481C04A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694A-66F1-4631-816F-EBD358EE4AC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BE7-4459-4DE7-A7AC-9A66C4A4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8342-4DCA-4B1A-B693-273FB43F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F9C1-6C6B-4E4A-BFA5-89225B03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A17B-88A6-4AA6-A5AF-371F8506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058D-7094-4137-8662-6553AD93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AC70-C7C6-40C2-8137-BA2087F1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8365-01BD-4B52-9859-746BF13A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AC6D-4FEC-4E1F-BE23-3A11A52B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9EAF-6C4F-4C94-880A-C1D600F8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A181-7DE4-439B-A06C-4051F094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03FF-EAD7-4AFA-9BFE-8521DB94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371-8128-431B-A52B-C6041D9C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3712-DA72-4EAD-ACF3-6FECBD2A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8BD0-623E-4B8E-996B-EE331425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CFBB-1C8E-4C8C-AE9E-EA88DA57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B489-688D-4700-B4AC-6DF15211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8A1F-3EA1-4C30-841A-50B73663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C466-92E5-4B1D-AE79-F7DBA45F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1D9-F31F-4CF3-9CF1-7CDD091A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9D1C-4D3D-463F-9865-83121B8A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640-FFAE-4044-9C52-BDE7F167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03A-7C41-4169-BC58-0482D32C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F9EC-2E95-40F9-A307-293A1BBC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BE0D-3CEB-46F6-8C8A-CB04F398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A588-8D9D-4556-85AE-760C1F76EA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82C6-3497-42C4-A591-19FC4FB0CF8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90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92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94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96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98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468360" y="565200"/>
            <a:ext cx="180000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buel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52 -0.00162 L 0.01181 0.52407 E">
                                      <p:cBhvr>
                                        <p:cTn id="6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218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9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220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22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224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26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Box 16"/>
          <p:cNvSpPr/>
          <p:nvPr/>
        </p:nvSpPr>
        <p:spPr>
          <a:xfrm>
            <a:off x="695160" y="549360"/>
            <a:ext cx="265284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rdenad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Box 17"/>
          <p:cNvSpPr/>
          <p:nvPr/>
        </p:nvSpPr>
        <p:spPr>
          <a:xfrm>
            <a:off x="6959520" y="4722840"/>
            <a:ext cx="1149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Box 18"/>
          <p:cNvSpPr/>
          <p:nvPr/>
        </p:nvSpPr>
        <p:spPr>
          <a:xfrm>
            <a:off x="6280200" y="4014720"/>
            <a:ext cx="250812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erpien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Box 19"/>
          <p:cNvSpPr/>
          <p:nvPr/>
        </p:nvSpPr>
        <p:spPr>
          <a:xfrm>
            <a:off x="6364440" y="3284640"/>
            <a:ext cx="234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stuch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Box 20"/>
          <p:cNvSpPr/>
          <p:nvPr/>
        </p:nvSpPr>
        <p:spPr>
          <a:xfrm>
            <a:off x="6748560" y="2565360"/>
            <a:ext cx="15714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óvi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4444E-006 L 0.61424 0.22037 E">
                                      <p:cBhvr>
                                        <p:cTn id="60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235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6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237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39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241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43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Box 16"/>
          <p:cNvSpPr/>
          <p:nvPr/>
        </p:nvSpPr>
        <p:spPr>
          <a:xfrm>
            <a:off x="695160" y="549360"/>
            <a:ext cx="98424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s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Box 17"/>
          <p:cNvSpPr/>
          <p:nvPr/>
        </p:nvSpPr>
        <p:spPr>
          <a:xfrm>
            <a:off x="6959520" y="4722840"/>
            <a:ext cx="1149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Box 18"/>
          <p:cNvSpPr/>
          <p:nvPr/>
        </p:nvSpPr>
        <p:spPr>
          <a:xfrm>
            <a:off x="6280200" y="4014720"/>
            <a:ext cx="250812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erpien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Box 19"/>
          <p:cNvSpPr/>
          <p:nvPr/>
        </p:nvSpPr>
        <p:spPr>
          <a:xfrm>
            <a:off x="6364440" y="3284640"/>
            <a:ext cx="234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stuch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Box 20"/>
          <p:cNvSpPr/>
          <p:nvPr/>
        </p:nvSpPr>
        <p:spPr>
          <a:xfrm>
            <a:off x="6748560" y="2565360"/>
            <a:ext cx="15714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óvi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21"/>
          <p:cNvSpPr/>
          <p:nvPr/>
        </p:nvSpPr>
        <p:spPr>
          <a:xfrm>
            <a:off x="6135840" y="1857240"/>
            <a:ext cx="265248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rdenad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0316 0.62037 E">
                                      <p:cBhvr>
                                        <p:cTn id="66" dur="1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253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4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255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57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259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61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263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Box 17"/>
          <p:cNvSpPr/>
          <p:nvPr/>
        </p:nvSpPr>
        <p:spPr>
          <a:xfrm>
            <a:off x="6959520" y="4722840"/>
            <a:ext cx="1149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Box 18"/>
          <p:cNvSpPr/>
          <p:nvPr/>
        </p:nvSpPr>
        <p:spPr>
          <a:xfrm>
            <a:off x="6280200" y="4014720"/>
            <a:ext cx="250812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erpien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Box 19"/>
          <p:cNvSpPr/>
          <p:nvPr/>
        </p:nvSpPr>
        <p:spPr>
          <a:xfrm>
            <a:off x="6364440" y="3284640"/>
            <a:ext cx="234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stuch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Box 20"/>
          <p:cNvSpPr/>
          <p:nvPr/>
        </p:nvSpPr>
        <p:spPr>
          <a:xfrm>
            <a:off x="6748560" y="2565360"/>
            <a:ext cx="15714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óvi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Box 21"/>
          <p:cNvSpPr/>
          <p:nvPr/>
        </p:nvSpPr>
        <p:spPr>
          <a:xfrm>
            <a:off x="6135840" y="1857240"/>
            <a:ext cx="265248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rdenad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16"/>
          <p:cNvSpPr/>
          <p:nvPr/>
        </p:nvSpPr>
        <p:spPr>
          <a:xfrm>
            <a:off x="695160" y="549360"/>
            <a:ext cx="13557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uez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4468 L 0.64115 0.13727 E">
                                      <p:cBhvr>
                                        <p:cTn id="72" dur="1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3727440" cy="3960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2"/>
          <a:srcRect l="0" t="12354" r="0" b="13393"/>
          <a:stretch/>
        </p:blipFill>
        <p:spPr>
          <a:xfrm>
            <a:off x="1676520" y="4975200"/>
            <a:ext cx="1746000" cy="720720"/>
          </a:xfrm>
          <a:prstGeom prst="rect">
            <a:avLst/>
          </a:prstGeom>
          <a:ln w="0">
            <a:noFill/>
          </a:ln>
        </p:spPr>
      </p:pic>
      <p:sp>
        <p:nvSpPr>
          <p:cNvPr id="272" name="TextBox 9"/>
          <p:cNvSpPr/>
          <p:nvPr/>
        </p:nvSpPr>
        <p:spPr>
          <a:xfrm>
            <a:off x="2362320" y="5027760"/>
            <a:ext cx="6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Box 16"/>
          <p:cNvSpPr/>
          <p:nvPr/>
        </p:nvSpPr>
        <p:spPr>
          <a:xfrm>
            <a:off x="1871640" y="644400"/>
            <a:ext cx="13557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uez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Box 17"/>
          <p:cNvSpPr/>
          <p:nvPr/>
        </p:nvSpPr>
        <p:spPr>
          <a:xfrm>
            <a:off x="1974960" y="4219560"/>
            <a:ext cx="114912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1295280" y="3511440"/>
            <a:ext cx="2508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erpien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1379520" y="2781360"/>
            <a:ext cx="234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stuch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Box 20"/>
          <p:cNvSpPr/>
          <p:nvPr/>
        </p:nvSpPr>
        <p:spPr>
          <a:xfrm>
            <a:off x="1763640" y="2060640"/>
            <a:ext cx="15717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óvi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Box 21"/>
          <p:cNvSpPr/>
          <p:nvPr/>
        </p:nvSpPr>
        <p:spPr>
          <a:xfrm>
            <a:off x="1150920" y="1352520"/>
            <a:ext cx="265284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rdenad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TextBox 1" descr=""/>
          <p:cNvPicPr/>
          <p:nvPr/>
        </p:nvPicPr>
        <p:blipFill>
          <a:blip r:embed="rId1"/>
          <a:stretch/>
        </p:blipFill>
        <p:spPr>
          <a:xfrm>
            <a:off x="-139680" y="158760"/>
            <a:ext cx="657684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"/>
          <p:cNvGraphicFramePr/>
          <p:nvPr/>
        </p:nvGraphicFramePr>
        <p:xfrm>
          <a:off x="108000" y="1197000"/>
          <a:ext cx="3672000" cy="4148280"/>
        </p:xfrm>
        <a:graphic>
          <a:graphicData uri="http://schemas.openxmlformats.org/drawingml/2006/table">
            <a:tbl>
              <a:tblPr/>
              <a:tblGrid>
                <a:gridCol w="431640"/>
                <a:gridCol w="2448000"/>
                <a:gridCol w="792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z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d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óv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uch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rpien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3" name="TextBox 1" descr=""/>
          <p:cNvPicPr/>
          <p:nvPr/>
        </p:nvPicPr>
        <p:blipFill>
          <a:blip r:embed="rId1"/>
          <a:stretch/>
        </p:blipFill>
        <p:spPr>
          <a:xfrm>
            <a:off x="-139680" y="158760"/>
            <a:ext cx="657684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108000" y="1197000"/>
          <a:ext cx="3672000" cy="4148280"/>
        </p:xfrm>
        <a:graphic>
          <a:graphicData uri="http://schemas.openxmlformats.org/drawingml/2006/table">
            <a:tbl>
              <a:tblPr/>
              <a:tblGrid>
                <a:gridCol w="431640"/>
                <a:gridCol w="2448000"/>
                <a:gridCol w="792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z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d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óv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uch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rpien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85" name="TextBox 2"/>
          <p:cNvSpPr/>
          <p:nvPr/>
        </p:nvSpPr>
        <p:spPr>
          <a:xfrm>
            <a:off x="3924360" y="1197000"/>
            <a:ext cx="5219640" cy="4449960"/>
          </a:xfrm>
          <a:prstGeom prst="rect">
            <a:avLst/>
          </a:prstGeom>
          <a:solidFill>
            <a:srgbClr val="cdf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lón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óvil (m.)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obile phon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tuche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uez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encil cas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lor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rdenador (m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flower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nzana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piente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7" name="TextBox 1" descr=""/>
          <p:cNvPicPr/>
          <p:nvPr/>
        </p:nvPicPr>
        <p:blipFill>
          <a:blip r:embed="rId1"/>
          <a:stretch/>
        </p:blipFill>
        <p:spPr>
          <a:xfrm>
            <a:off x="-139680" y="158760"/>
            <a:ext cx="657684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108000" y="1197000"/>
          <a:ext cx="3672000" cy="4148280"/>
        </p:xfrm>
        <a:graphic>
          <a:graphicData uri="http://schemas.openxmlformats.org/drawingml/2006/table">
            <a:tbl>
              <a:tblPr/>
              <a:tblGrid>
                <a:gridCol w="431640"/>
                <a:gridCol w="2448000"/>
                <a:gridCol w="792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z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d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óv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uch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rpien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89" name="TextBox 2"/>
          <p:cNvSpPr/>
          <p:nvPr/>
        </p:nvSpPr>
        <p:spPr>
          <a:xfrm>
            <a:off x="3924360" y="1197000"/>
            <a:ext cx="5219640" cy="4449960"/>
          </a:xfrm>
          <a:prstGeom prst="rect">
            <a:avLst/>
          </a:prstGeom>
          <a:solidFill>
            <a:srgbClr val="cdf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lón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óvil (m.)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obile phon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tuche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uez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encil cas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lor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rdenador (m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flower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nzana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piente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1" name="TextBox 1" descr=""/>
          <p:cNvPicPr/>
          <p:nvPr/>
        </p:nvPicPr>
        <p:blipFill>
          <a:blip r:embed="rId1"/>
          <a:stretch/>
        </p:blipFill>
        <p:spPr>
          <a:xfrm>
            <a:off x="-139680" y="158760"/>
            <a:ext cx="657684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108000" y="1197000"/>
          <a:ext cx="3672000" cy="4148280"/>
        </p:xfrm>
        <a:graphic>
          <a:graphicData uri="http://schemas.openxmlformats.org/drawingml/2006/table">
            <a:tbl>
              <a:tblPr/>
              <a:tblGrid>
                <a:gridCol w="431640"/>
                <a:gridCol w="2448000"/>
                <a:gridCol w="792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z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d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óv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uch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rpien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93" name="TextBox 2"/>
          <p:cNvSpPr/>
          <p:nvPr/>
        </p:nvSpPr>
        <p:spPr>
          <a:xfrm>
            <a:off x="3924360" y="1197000"/>
            <a:ext cx="5219640" cy="4449960"/>
          </a:xfrm>
          <a:prstGeom prst="rect">
            <a:avLst/>
          </a:prstGeom>
          <a:solidFill>
            <a:srgbClr val="cdf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lón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óvil (m.)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obile phon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tuche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uez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encil cas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lor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rdenador (m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flower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nzana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piente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5" name="TextBox 1" descr=""/>
          <p:cNvPicPr/>
          <p:nvPr/>
        </p:nvPicPr>
        <p:blipFill>
          <a:blip r:embed="rId1"/>
          <a:stretch/>
        </p:blipFill>
        <p:spPr>
          <a:xfrm>
            <a:off x="-139680" y="158760"/>
            <a:ext cx="657684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"/>
          <p:cNvGraphicFramePr/>
          <p:nvPr/>
        </p:nvGraphicFramePr>
        <p:xfrm>
          <a:off x="108000" y="1197000"/>
          <a:ext cx="3672000" cy="4148280"/>
        </p:xfrm>
        <a:graphic>
          <a:graphicData uri="http://schemas.openxmlformats.org/drawingml/2006/table">
            <a:tbl>
              <a:tblPr/>
              <a:tblGrid>
                <a:gridCol w="431640"/>
                <a:gridCol w="2448000"/>
                <a:gridCol w="792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z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d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óv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uch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rpien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2"/>
          <p:cNvSpPr/>
          <p:nvPr/>
        </p:nvSpPr>
        <p:spPr>
          <a:xfrm>
            <a:off x="3924360" y="1197000"/>
            <a:ext cx="5219640" cy="4449960"/>
          </a:xfrm>
          <a:prstGeom prst="rect">
            <a:avLst/>
          </a:prstGeom>
          <a:solidFill>
            <a:srgbClr val="cdf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lón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óvil (m.)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obile phon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tuche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uez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encil cas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lor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rdenador (m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flower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nzana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piente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9" name="TextBox 1" descr=""/>
          <p:cNvPicPr/>
          <p:nvPr/>
        </p:nvPicPr>
        <p:blipFill>
          <a:blip r:embed="rId1"/>
          <a:stretch/>
        </p:blipFill>
        <p:spPr>
          <a:xfrm>
            <a:off x="-139680" y="158760"/>
            <a:ext cx="657684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0" name=""/>
          <p:cNvGraphicFramePr/>
          <p:nvPr/>
        </p:nvGraphicFramePr>
        <p:xfrm>
          <a:off x="108000" y="1197000"/>
          <a:ext cx="3672000" cy="4148280"/>
        </p:xfrm>
        <a:graphic>
          <a:graphicData uri="http://schemas.openxmlformats.org/drawingml/2006/table">
            <a:tbl>
              <a:tblPr/>
              <a:tblGrid>
                <a:gridCol w="431640"/>
                <a:gridCol w="2448000"/>
                <a:gridCol w="792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z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d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óv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uch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rpien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01" name="TextBox 2"/>
          <p:cNvSpPr/>
          <p:nvPr/>
        </p:nvSpPr>
        <p:spPr>
          <a:xfrm>
            <a:off x="3924360" y="1197000"/>
            <a:ext cx="5219640" cy="4449960"/>
          </a:xfrm>
          <a:prstGeom prst="rect">
            <a:avLst/>
          </a:prstGeom>
          <a:solidFill>
            <a:srgbClr val="cdf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lón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óvil (m.)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obile phon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tuche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uez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encil cas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lor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rdenador (m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flower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nzana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piente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103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105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07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109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11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468360" y="565200"/>
            <a:ext cx="165564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visp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0.33281 0.56713 E">
                                      <p:cBhvr>
                                        <p:cTn id="12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3" name="TextBox 1" descr=""/>
          <p:cNvPicPr/>
          <p:nvPr/>
        </p:nvPicPr>
        <p:blipFill>
          <a:blip r:embed="rId1"/>
          <a:stretch/>
        </p:blipFill>
        <p:spPr>
          <a:xfrm>
            <a:off x="-139680" y="158760"/>
            <a:ext cx="657684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4" name=""/>
          <p:cNvGraphicFramePr/>
          <p:nvPr/>
        </p:nvGraphicFramePr>
        <p:xfrm>
          <a:off x="108000" y="1197000"/>
          <a:ext cx="3672000" cy="4148280"/>
        </p:xfrm>
        <a:graphic>
          <a:graphicData uri="http://schemas.openxmlformats.org/drawingml/2006/table">
            <a:tbl>
              <a:tblPr/>
              <a:tblGrid>
                <a:gridCol w="431640"/>
                <a:gridCol w="2448000"/>
                <a:gridCol w="792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z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d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óv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uch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rpien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05" name="TextBox 2"/>
          <p:cNvSpPr/>
          <p:nvPr/>
        </p:nvSpPr>
        <p:spPr>
          <a:xfrm>
            <a:off x="3924360" y="1197000"/>
            <a:ext cx="5219640" cy="4449960"/>
          </a:xfrm>
          <a:prstGeom prst="rect">
            <a:avLst/>
          </a:prstGeom>
          <a:solidFill>
            <a:srgbClr val="cdf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lón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óvil (m.)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obile phon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tuche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uez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encil cas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lor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rdenador (m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flower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nzana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piente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7" name="TextBox 1" descr=""/>
          <p:cNvPicPr/>
          <p:nvPr/>
        </p:nvPicPr>
        <p:blipFill>
          <a:blip r:embed="rId1"/>
          <a:stretch/>
        </p:blipFill>
        <p:spPr>
          <a:xfrm>
            <a:off x="-139680" y="158760"/>
            <a:ext cx="657684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8" name=""/>
          <p:cNvGraphicFramePr/>
          <p:nvPr/>
        </p:nvGraphicFramePr>
        <p:xfrm>
          <a:off x="108000" y="1197000"/>
          <a:ext cx="3672000" cy="4148280"/>
        </p:xfrm>
        <a:graphic>
          <a:graphicData uri="http://schemas.openxmlformats.org/drawingml/2006/table">
            <a:tbl>
              <a:tblPr/>
              <a:tblGrid>
                <a:gridCol w="431640"/>
                <a:gridCol w="2448000"/>
                <a:gridCol w="792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z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d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óv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uch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rpien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09" name="TextBox 2"/>
          <p:cNvSpPr/>
          <p:nvPr/>
        </p:nvSpPr>
        <p:spPr>
          <a:xfrm>
            <a:off x="3924360" y="1197000"/>
            <a:ext cx="5219640" cy="4449960"/>
          </a:xfrm>
          <a:prstGeom prst="rect">
            <a:avLst/>
          </a:prstGeom>
          <a:solidFill>
            <a:srgbClr val="cdf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lón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óvil (m.)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obile phon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tuche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uez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encil cas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lor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rdenador (m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flower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nzana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piente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116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118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20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122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24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16"/>
          <p:cNvSpPr/>
          <p:nvPr/>
        </p:nvSpPr>
        <p:spPr>
          <a:xfrm>
            <a:off x="685800" y="565200"/>
            <a:ext cx="1149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22222E-006 L 0.68507 0.60741 E">
                                      <p:cBhvr>
                                        <p:cTn id="18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129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131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33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135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37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695160" y="549360"/>
            <a:ext cx="222120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ailarin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6959520" y="4722840"/>
            <a:ext cx="1149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6296E-006 L 0.26667 0.58889 E">
                                      <p:cBhvr>
                                        <p:cTn id="24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143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145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47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149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51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16"/>
          <p:cNvSpPr/>
          <p:nvPr/>
        </p:nvSpPr>
        <p:spPr>
          <a:xfrm>
            <a:off x="695160" y="549360"/>
            <a:ext cx="2508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erpien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17"/>
          <p:cNvSpPr/>
          <p:nvPr/>
        </p:nvSpPr>
        <p:spPr>
          <a:xfrm>
            <a:off x="6959520" y="4722840"/>
            <a:ext cx="1149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60174 0.51528 E">
                                      <p:cBhvr>
                                        <p:cTn id="30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157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159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61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163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65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695160" y="549360"/>
            <a:ext cx="20052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cuari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6959520" y="4722840"/>
            <a:ext cx="1149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280200" y="4014720"/>
            <a:ext cx="250812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erpien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-0.03212 0.62037 E">
                                      <p:cBhvr>
                                        <p:cTn id="36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172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174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76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178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80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16"/>
          <p:cNvSpPr/>
          <p:nvPr/>
        </p:nvSpPr>
        <p:spPr>
          <a:xfrm>
            <a:off x="695160" y="549360"/>
            <a:ext cx="23418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iciclet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17"/>
          <p:cNvSpPr/>
          <p:nvPr/>
        </p:nvSpPr>
        <p:spPr>
          <a:xfrm>
            <a:off x="6959520" y="4722840"/>
            <a:ext cx="1149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18"/>
          <p:cNvSpPr/>
          <p:nvPr/>
        </p:nvSpPr>
        <p:spPr>
          <a:xfrm>
            <a:off x="6280200" y="4014720"/>
            <a:ext cx="250812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erpien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44444E-006 L 0.29861 0.61944 E">
                                      <p:cBhvr>
                                        <p:cTn id="42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187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189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91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193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95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16"/>
          <p:cNvSpPr/>
          <p:nvPr/>
        </p:nvSpPr>
        <p:spPr>
          <a:xfrm>
            <a:off x="695160" y="549360"/>
            <a:ext cx="23418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stuch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6959520" y="4722840"/>
            <a:ext cx="1149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18"/>
          <p:cNvSpPr/>
          <p:nvPr/>
        </p:nvSpPr>
        <p:spPr>
          <a:xfrm>
            <a:off x="6280200" y="4014720"/>
            <a:ext cx="250812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erpien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96296E-006 L 0.61094 0.41019 E">
                                      <p:cBhvr>
                                        <p:cTn id="48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202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204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06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208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10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6959520" y="4722840"/>
            <a:ext cx="1149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6280200" y="4014720"/>
            <a:ext cx="250812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erpien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Box 19"/>
          <p:cNvSpPr/>
          <p:nvPr/>
        </p:nvSpPr>
        <p:spPr>
          <a:xfrm>
            <a:off x="6364440" y="3284640"/>
            <a:ext cx="234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stuch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Box 16"/>
          <p:cNvSpPr/>
          <p:nvPr/>
        </p:nvSpPr>
        <p:spPr>
          <a:xfrm>
            <a:off x="695160" y="549360"/>
            <a:ext cx="15732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óvi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40741E-007 L 0.66597 0.34722 E">
                                      <p:cBhvr>
                                        <p:cTn id="54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28:37Z</dcterms:modified>
  <cp:revision>190</cp:revision>
  <dc:subject/>
  <dc:title>TITLE</dc:title>
</cp:coreProperties>
</file>