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DE2A-FFC8-42B1-A574-55A592373E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844F-24FF-467F-A9AA-57972E2389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eychel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F33A-BF1C-415E-8B25-9ED412EA3C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E2B-36DE-482D-9499-A5ED2031F7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F92-311D-4E90-A27D-8B3A3F67DA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B04F-A7F6-4E09-96E6-437E140BC4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AA1-D377-48E9-93F2-5CD138FE6B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9B9-2F72-4A54-9230-B537766552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514-605E-40F4-B874-FD938F9BD7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BE3-0B32-4346-ACAF-EE2A5D8F60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86A-E8BA-4233-ADF4-8ED70339B0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8BD-4B27-4DDB-AA75-1F3FE8D8D9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680A-1067-49D6-928A-31193D9E69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C35-F46E-45DF-9E62-F8FA87EB6A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67B-D1EB-4EDA-A660-D3BDB2F273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957-FDC3-44AF-9780-D4F4657228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DE2-F162-48FB-81F8-45DA0D984A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4DAD-633E-4998-8BEB-D238CD0527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B79-97D8-4939-914A-A249EC981A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ug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449-158B-4E7E-8068-F31522162D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h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2D2A-B6E3-4150-9E72-0A7D258EB7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3BD-9F22-4D6F-A25B-DC3EECE7C2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4C8-5679-4667-A2A7-DBAF698A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BB4-ABDD-4841-89B8-D0C44F6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5775-0615-416A-81CB-57D7BBA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1028A-88B9-4C23-92E5-06EF7D1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15562-BBCA-4C85-B0B2-3F16226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7F4D6-3CB1-4F2C-AF7B-8B1AAB0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3C819-1175-41A8-9E10-FCCC4A8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728F9-C8A1-4E22-B737-5D417E5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2F0A-C701-4791-9179-D2DE2F3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7F01E-C146-4E49-BF22-FA8D0BE0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FCD49-182A-4080-A80A-A1A11B1D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773-FE4D-4F00-95EC-166BF33C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216-899A-4682-AFA5-9A7954EB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207-C66A-4D91-8D23-1EF5208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7F50-D8F6-4EBE-920E-3F399DA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19B-6BBB-4EAA-ADA5-5E8FEF3E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873-3112-414D-A8E8-36CA688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0F04-8AA6-43E5-8B44-0A855F6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E972-98A7-439F-8B93-CF5B8F9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2292-4DF5-4329-9E06-91318D9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987-BD0B-415B-B386-B11992DC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AB5F-F16F-46DF-B7F0-F663CCB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601-9B52-4617-BEDF-89F646E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0E4F-457B-44E6-AA95-ED511206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7DEA-9D74-4456-B679-34C0453D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8D87-5B86-46CF-BD61-FACBB729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8381-8651-4034-A8B9-CAD516B1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AE39-50E8-4141-8603-8838A95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D6CE-672E-4266-A004-7D23F56D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AF89-9B17-4C36-A7F3-B3C4B3D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371F-6E93-4F2F-BC57-A3694E2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B3A-9CAC-460F-9050-8D38E3B1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93DD-EEE1-4204-8A7D-1F1E9DD5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71AF-3D7F-4DDD-A193-F7A56B0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A79C-6C93-4AE9-BBAA-9768B3C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8071-9DC0-4884-A18D-B7B1C19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4914-B4DC-4E6E-9764-7F0817A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1321-93F0-4699-B4FF-37E2C6A3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EB15-313C-4567-92F0-153BD684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9245-FDE7-418D-85AC-759B6B61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218E-5530-4CE8-B425-B7EB3EC1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5AFD-D6AE-4ADC-97AE-8E72105B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275-882B-4317-A189-66393F1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A308-3D34-4757-ADC9-C564B65E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0306-6201-4781-BAEF-893BBE12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9156-C240-44AD-8645-D7DE714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D8CB-E6F5-4B45-B1D2-AC7EF48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DBCF-6698-4902-9FBB-5E08CBB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A86D-C168-4EF5-A221-0ADABAD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F663-7E8D-40B4-B0B6-574117E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0BFE-3408-40AA-94BA-C32ACD56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69DC-3AAC-4AF8-85DB-34CFE27C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5673-B952-491C-9756-242D451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DE4-478B-4CC4-9024-B86B0EE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7DF5-4B17-4A19-9B11-349C508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F877-FA51-4B87-9A77-558D1CE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B5BE-AE36-4706-B1DA-ADE7C412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F3B3-D861-460E-BF6F-7529C91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1E92-B3F1-4519-A210-6ACD3E0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C2D0-7B15-4582-AC23-1183F3D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5267-4C0F-4118-847B-857385C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95D1-4FA4-484C-86DA-9142664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E009-3905-4BCE-B6CA-0E1A569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099FE-C231-4FCF-ABCD-F6CE28DF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348-7670-43AB-AFBB-17EA58A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BF3E-1045-4509-BF45-76937543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F628-A521-4BA1-92A5-620B3664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4F2C4-D768-43B6-989D-B972CCE1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6227-24FD-4724-BB39-FB8E657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765A-A175-4787-8232-B5AE594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2858-0D1D-4E87-8CFA-4D7A369D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62A1-ED94-4C75-AE1B-CC2DE90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30F7-AE25-4FA7-94FF-430F593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0A7F-3258-45CF-9EA7-CAF89AF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0B25-FDD0-437D-B075-3510FAE0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B42-FB85-498B-9E1F-E58FA62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2CD7-240E-4CDC-8815-D3692C1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4C35-BD35-4F2A-9B35-043DFE04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6BF9-18B0-4730-AE6A-0DD22834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11B9-037C-4B4B-A798-D9EECA7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2AAB-75FD-46EC-9265-717FFD8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D712-96D4-4690-89EB-9622F9D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D6D3-C996-4E0F-B3EB-60CEBFD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CD17-87EF-4640-ACFD-A43AFD2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87187-04FB-4660-8EFE-5BF6FF0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CCDF-F7F7-4C51-A38B-C8C8D79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5C7-A63F-4EBE-A2A5-57DB6D9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2CD4-07E8-4FA1-A15E-49B53DE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9D8B6-0929-4AC9-879C-96F7EBF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E23A-6BD9-4DD5-AFC7-3549C95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31D2-F67F-4527-AFD7-AE9094E7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54EC0-66F9-4D46-8119-5421D9BA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B35E-5D5A-42AA-AF80-167975F7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DD12D-014A-46F5-81C3-8833E55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A9022-1773-4C3D-993D-865D6CB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4C899-D27F-440C-88FA-B499A0A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F227-41C0-4C85-802F-4A525F5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C69-1F23-4CAE-B3A0-6DC7C7B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54B8-E1A5-497F-AFE6-315DEA63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3940E-6DAB-466E-AE61-35107FA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1E6C6-9BBF-47DB-A220-384A717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73B0-BF59-4C71-9866-8CEF78B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52760-B12F-4D79-B828-BF1E1E7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3B24-0CE6-46B1-9CD8-3E10432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D19A-9FB5-4FEC-94F5-54433585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FC28-BE02-428C-8BD6-F79B418F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77F97-C92D-4F73-9225-13CB5B12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C3A6-EA20-43B5-8557-2CE1132A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680-BBE4-4C53-8267-1B00BD571F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DA3-91A9-445B-850F-6A55BA5F64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84CF-5AF6-4D64-9217-CDE2963234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487-9B1E-40F3-92C8-A36EEA541B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D6C-9FF5-4DA7-9B43-8F985FD332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A198-30DF-4883-9CC0-A6ED8BF38D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942B-46D0-4C8F-BE3B-6EA0630B44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FA4-162F-4272-9A60-6A3FBF2410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7236-3E34-4B26-AEBD-76AE210509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25.png"/><Relationship Id="rId5" Type="http://schemas.openxmlformats.org/officeDocument/2006/relationships/image" Target="../media/image4.png"/><Relationship Id="rId6" Type="http://schemas.openxmlformats.org/officeDocument/2006/relationships/image" Target="../media/image34.png"/><Relationship Id="rId7" Type="http://schemas.openxmlformats.org/officeDocument/2006/relationships/image" Target="../media/image38.png"/><Relationship Id="rId8" Type="http://schemas.openxmlformats.org/officeDocument/2006/relationships/image" Target="../media/image26.pn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195640" y="765000"/>
            <a:ext cx="5616360" cy="331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547640" y="33336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1835280" y="62244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1"/>
          <p:cNvSpPr/>
          <p:nvPr/>
        </p:nvSpPr>
        <p:spPr>
          <a:xfrm>
            <a:off x="179280" y="60213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2141640" y="1809720"/>
            <a:ext cx="4860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2019-06-02_1345_001"/>
          <p:cNvPicPr/>
          <p:nvPr/>
        </p:nvPicPr>
        <p:blipFill>
          <a:blip r:embed="rId1"/>
          <a:stretch/>
        </p:blipFill>
        <p:spPr>
          <a:xfrm>
            <a:off x="1209600" y="1557360"/>
            <a:ext cx="6724800" cy="4464000"/>
          </a:xfrm>
          <a:prstGeom prst="rect">
            <a:avLst/>
          </a:prstGeom>
          <a:ln w="255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Rectangle 1" descr=""/>
          <p:cNvPicPr/>
          <p:nvPr/>
        </p:nvPicPr>
        <p:blipFill>
          <a:blip r:embed="rId1"/>
          <a:stretch/>
        </p:blipFill>
        <p:spPr>
          <a:xfrm>
            <a:off x="6229440" y="5353200"/>
            <a:ext cx="25905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Picture 4" descr="eslarge[1]"/>
          <p:cNvPicPr/>
          <p:nvPr/>
        </p:nvPicPr>
        <p:blipFill>
          <a:blip r:embed="rId1"/>
          <a:stretch/>
        </p:blipFill>
        <p:spPr>
          <a:xfrm>
            <a:off x="4716360" y="2349360"/>
            <a:ext cx="4141800" cy="2738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903840" cy="26049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 escu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6" name="Picture 6" descr="2019-06-02_1320"/>
          <p:cNvPicPr/>
          <p:nvPr/>
        </p:nvPicPr>
        <p:blipFill>
          <a:blip r:embed="rId1"/>
          <a:stretch/>
        </p:blipFill>
        <p:spPr>
          <a:xfrm>
            <a:off x="4635360" y="3033720"/>
            <a:ext cx="4226040" cy="2806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7" name="Picture 7" descr="2000px-Flag_of_Cameroon"/>
          <p:cNvPicPr/>
          <p:nvPr/>
        </p:nvPicPr>
        <p:blipFill>
          <a:blip r:embed="rId2"/>
          <a:stretch/>
        </p:blipFill>
        <p:spPr>
          <a:xfrm>
            <a:off x="108000" y="115920"/>
            <a:ext cx="3627360" cy="2419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8" name="Picture 2" descr=""/>
          <p:cNvPicPr/>
          <p:nvPr/>
        </p:nvPicPr>
        <p:blipFill>
          <a:blip r:embed="rId3"/>
          <a:stretch/>
        </p:blipFill>
        <p:spPr>
          <a:xfrm>
            <a:off x="5292720" y="115920"/>
            <a:ext cx="3693960" cy="2521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3838320" cy="25574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6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a estrel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69960" y="1459080"/>
            <a:ext cx="6004080" cy="3939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dos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5" descr="2019-06-02_1332_001"/>
          <p:cNvPicPr/>
          <p:nvPr/>
        </p:nvPicPr>
        <p:blipFill>
          <a:blip r:embed="rId1"/>
          <a:stretch/>
        </p:blipFill>
        <p:spPr>
          <a:xfrm>
            <a:off x="1116000" y="1773360"/>
            <a:ext cx="7039080" cy="352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6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cuatro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8" name="Picture 2" descr="2019-06-02_1325"/>
          <p:cNvPicPr/>
          <p:nvPr/>
        </p:nvPicPr>
        <p:blipFill>
          <a:blip r:embed="rId1"/>
          <a:stretch/>
        </p:blipFill>
        <p:spPr>
          <a:xfrm>
            <a:off x="1440000" y="1557360"/>
            <a:ext cx="6264000" cy="4191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9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cinco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1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seis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Picture 5" descr="england"/>
          <p:cNvPicPr/>
          <p:nvPr/>
        </p:nvPicPr>
        <p:blipFill>
          <a:blip r:embed="rId1"/>
          <a:stretch/>
        </p:blipFill>
        <p:spPr>
          <a:xfrm>
            <a:off x="250920" y="576360"/>
            <a:ext cx="3913200" cy="2347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2019-06-02_1344"/>
          <p:cNvPicPr/>
          <p:nvPr/>
        </p:nvPicPr>
        <p:blipFill>
          <a:blip r:embed="rId2"/>
          <a:stretch/>
        </p:blipFill>
        <p:spPr>
          <a:xfrm>
            <a:off x="5079960" y="176040"/>
            <a:ext cx="3773520" cy="2748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6" name="Picture 10" descr="2019-06-02_1345"/>
          <p:cNvPicPr/>
          <p:nvPr/>
        </p:nvPicPr>
        <p:blipFill>
          <a:blip r:embed="rId3"/>
          <a:stretch/>
        </p:blipFill>
        <p:spPr>
          <a:xfrm>
            <a:off x="2478240" y="3429000"/>
            <a:ext cx="3884400" cy="2319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57" name="TextBox 5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a cru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8" descr="england"/>
          <p:cNvPicPr/>
          <p:nvPr/>
        </p:nvPicPr>
        <p:blipFill>
          <a:blip r:embed="rId1"/>
          <a:stretch/>
        </p:blipFill>
        <p:spPr>
          <a:xfrm>
            <a:off x="4951440" y="189000"/>
            <a:ext cx="371952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jplarge[1]"/>
          <p:cNvPicPr/>
          <p:nvPr/>
        </p:nvPicPr>
        <p:blipFill>
          <a:blip r:embed="rId2"/>
          <a:stretch/>
        </p:blipFill>
        <p:spPr>
          <a:xfrm>
            <a:off x="4951440" y="3465360"/>
            <a:ext cx="3700440" cy="2471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2019-06-02_1319"/>
          <p:cNvPicPr/>
          <p:nvPr/>
        </p:nvPicPr>
        <p:blipFill>
          <a:blip r:embed="rId3"/>
          <a:stretch/>
        </p:blipFill>
        <p:spPr>
          <a:xfrm>
            <a:off x="208080" y="3692520"/>
            <a:ext cx="4032000" cy="201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85" name="Picture 2" descr="Flags, Symbols, &amp; Currencies of Peru - World Atlas"/>
          <p:cNvPicPr/>
          <p:nvPr/>
        </p:nvPicPr>
        <p:blipFill>
          <a:blip r:embed="rId4"/>
          <a:stretch/>
        </p:blipFill>
        <p:spPr>
          <a:xfrm>
            <a:off x="568440" y="620640"/>
            <a:ext cx="3719520" cy="2251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179280" y="60213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 y blanc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5" descr="jplarge[1]"/>
          <p:cNvPicPr/>
          <p:nvPr/>
        </p:nvPicPr>
        <p:blipFill>
          <a:blip r:embed="rId1"/>
          <a:stretch/>
        </p:blipFill>
        <p:spPr>
          <a:xfrm>
            <a:off x="179280" y="115920"/>
            <a:ext cx="4253040" cy="2843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krlarge[1]"/>
          <p:cNvPicPr/>
          <p:nvPr/>
        </p:nvPicPr>
        <p:blipFill>
          <a:blip r:embed="rId2"/>
          <a:stretch/>
        </p:blipFill>
        <p:spPr>
          <a:xfrm>
            <a:off x="4643280" y="2997360"/>
            <a:ext cx="431352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 círcul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3" name="Picture 11" descr="eslarge[1]"/>
          <p:cNvPicPr/>
          <p:nvPr/>
        </p:nvPicPr>
        <p:blipFill>
          <a:blip r:embed="rId1"/>
          <a:stretch/>
        </p:blipFill>
        <p:spPr>
          <a:xfrm>
            <a:off x="2451240" y="1627200"/>
            <a:ext cx="1807920" cy="1197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arlarge[1]"/>
          <p:cNvPicPr/>
          <p:nvPr/>
        </p:nvPicPr>
        <p:blipFill>
          <a:blip r:embed="rId2"/>
          <a:stretch/>
        </p:blipFill>
        <p:spPr>
          <a:xfrm>
            <a:off x="7027920" y="115920"/>
            <a:ext cx="1803240" cy="1197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5" descr="frlarge[1]"/>
          <p:cNvPicPr/>
          <p:nvPr/>
        </p:nvPicPr>
        <p:blipFill>
          <a:blip r:embed="rId3"/>
          <a:stretch/>
        </p:blipFill>
        <p:spPr>
          <a:xfrm>
            <a:off x="455760" y="74520"/>
            <a:ext cx="1792080" cy="11955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delarge[1]"/>
          <p:cNvPicPr/>
          <p:nvPr/>
        </p:nvPicPr>
        <p:blipFill>
          <a:blip r:embed="rId4"/>
          <a:stretch/>
        </p:blipFill>
        <p:spPr>
          <a:xfrm>
            <a:off x="223920" y="3141720"/>
            <a:ext cx="1938240" cy="11952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467" name="Picture 20" descr="2019-06-02_1319"/>
          <p:cNvPicPr/>
          <p:nvPr/>
        </p:nvPicPr>
        <p:blipFill>
          <a:blip r:embed="rId5"/>
          <a:stretch/>
        </p:blipFill>
        <p:spPr>
          <a:xfrm>
            <a:off x="196920" y="4626000"/>
            <a:ext cx="2392200" cy="1195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8" name="Picture 21" descr="2000px-Flag_of_Cameroon"/>
          <p:cNvPicPr/>
          <p:nvPr/>
        </p:nvPicPr>
        <p:blipFill>
          <a:blip r:embed="rId6"/>
          <a:stretch/>
        </p:blipFill>
        <p:spPr>
          <a:xfrm>
            <a:off x="7008840" y="1628640"/>
            <a:ext cx="1792440" cy="11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9" name="Picture 22" descr="2019-06-02_1332"/>
          <p:cNvPicPr/>
          <p:nvPr/>
        </p:nvPicPr>
        <p:blipFill>
          <a:blip r:embed="rId7"/>
          <a:stretch/>
        </p:blipFill>
        <p:spPr>
          <a:xfrm>
            <a:off x="2874960" y="3251160"/>
            <a:ext cx="1811520" cy="1195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0" name="Picture 12" descr=""/>
          <p:cNvPicPr/>
          <p:nvPr/>
        </p:nvPicPr>
        <p:blipFill>
          <a:blip r:embed="rId8"/>
          <a:stretch/>
        </p:blipFill>
        <p:spPr>
          <a:xfrm>
            <a:off x="3797280" y="115920"/>
            <a:ext cx="1793880" cy="1197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471" name="Picture 2" descr="Flags, Symbols, &amp; Currencies of Peru - World Atlas"/>
          <p:cNvPicPr/>
          <p:nvPr/>
        </p:nvPicPr>
        <p:blipFill>
          <a:blip r:embed="rId9"/>
          <a:stretch/>
        </p:blipFill>
        <p:spPr>
          <a:xfrm>
            <a:off x="6556320" y="4587840"/>
            <a:ext cx="1974960" cy="1197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10"/>
          <a:stretch/>
        </p:blipFill>
        <p:spPr>
          <a:xfrm>
            <a:off x="3544920" y="4643280"/>
            <a:ext cx="1795320" cy="1195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"/>
          <p:cNvPicPr/>
          <p:nvPr/>
        </p:nvPicPr>
        <p:blipFill>
          <a:blip r:embed="rId11"/>
          <a:stretch/>
        </p:blipFill>
        <p:spPr>
          <a:xfrm>
            <a:off x="108000" y="1628640"/>
            <a:ext cx="1793880" cy="1195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"/>
          <p:cNvPicPr/>
          <p:nvPr/>
        </p:nvPicPr>
        <p:blipFill>
          <a:blip r:embed="rId12"/>
          <a:stretch/>
        </p:blipFill>
        <p:spPr>
          <a:xfrm>
            <a:off x="4764240" y="1730520"/>
            <a:ext cx="1792080" cy="1197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"/>
          <p:cNvPicPr/>
          <p:nvPr/>
        </p:nvPicPr>
        <p:blipFill>
          <a:blip r:embed="rId13"/>
          <a:stretch/>
        </p:blipFill>
        <p:spPr>
          <a:xfrm>
            <a:off x="5619600" y="3143160"/>
            <a:ext cx="1793880" cy="1197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5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16" descr="frlarge[1]"/>
          <p:cNvPicPr/>
          <p:nvPr/>
        </p:nvPicPr>
        <p:blipFill>
          <a:blip r:embed="rId1"/>
          <a:stretch/>
        </p:blipFill>
        <p:spPr>
          <a:xfrm>
            <a:off x="3230640" y="2016000"/>
            <a:ext cx="2144520" cy="1430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8" descr="aularge[1]"/>
          <p:cNvPicPr/>
          <p:nvPr/>
        </p:nvPicPr>
        <p:blipFill>
          <a:blip r:embed="rId2"/>
          <a:stretch/>
        </p:blipFill>
        <p:spPr>
          <a:xfrm>
            <a:off x="3708360" y="115920"/>
            <a:ext cx="2867040" cy="1438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2019-06-02_1320"/>
          <p:cNvPicPr/>
          <p:nvPr/>
        </p:nvPicPr>
        <p:blipFill>
          <a:blip r:embed="rId3"/>
          <a:stretch/>
        </p:blipFill>
        <p:spPr>
          <a:xfrm>
            <a:off x="6726240" y="2732040"/>
            <a:ext cx="2308320" cy="153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1" name="Picture 14" descr="0_o0-6o1W1DKmI5LbX"/>
          <p:cNvPicPr/>
          <p:nvPr/>
        </p:nvPicPr>
        <p:blipFill>
          <a:blip r:embed="rId4"/>
          <a:stretch/>
        </p:blipFill>
        <p:spPr>
          <a:xfrm>
            <a:off x="395280" y="3852720"/>
            <a:ext cx="2405160" cy="1268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2" name="Picture 15" descr="2019-06-02_1344"/>
          <p:cNvPicPr/>
          <p:nvPr/>
        </p:nvPicPr>
        <p:blipFill>
          <a:blip r:embed="rId5"/>
          <a:stretch/>
        </p:blipFill>
        <p:spPr>
          <a:xfrm>
            <a:off x="5940360" y="4365720"/>
            <a:ext cx="2075040" cy="151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3" name="Picture 16" descr="2019-06-02_1332_001"/>
          <p:cNvPicPr/>
          <p:nvPr/>
        </p:nvPicPr>
        <p:blipFill>
          <a:blip r:embed="rId6"/>
          <a:stretch/>
        </p:blipFill>
        <p:spPr>
          <a:xfrm>
            <a:off x="3014640" y="4005360"/>
            <a:ext cx="2576520" cy="1290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4" name="Picture 17" descr="2019-06-02_1332"/>
          <p:cNvPicPr/>
          <p:nvPr/>
        </p:nvPicPr>
        <p:blipFill>
          <a:blip r:embed="rId7"/>
          <a:stretch/>
        </p:blipFill>
        <p:spPr>
          <a:xfrm>
            <a:off x="6834240" y="925560"/>
            <a:ext cx="2076480" cy="1373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5" name="Picture 1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2368440" cy="142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9"/>
          <a:stretch/>
        </p:blipFill>
        <p:spPr>
          <a:xfrm>
            <a:off x="179280" y="2008080"/>
            <a:ext cx="2351160" cy="15433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11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, blanca y azul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5" descr="arlarge[1]"/>
          <p:cNvPicPr/>
          <p:nvPr/>
        </p:nvPicPr>
        <p:blipFill>
          <a:blip r:embed="rId1"/>
          <a:stretch/>
        </p:blipFill>
        <p:spPr>
          <a:xfrm>
            <a:off x="1670040" y="333360"/>
            <a:ext cx="288612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0" name="Picture 6" descr="2019-06-02_1345"/>
          <p:cNvPicPr/>
          <p:nvPr/>
        </p:nvPicPr>
        <p:blipFill>
          <a:blip r:embed="rId2"/>
          <a:stretch/>
        </p:blipFill>
        <p:spPr>
          <a:xfrm>
            <a:off x="3564000" y="4076640"/>
            <a:ext cx="2854440" cy="170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01" name="Picture 1" descr=""/>
          <p:cNvPicPr/>
          <p:nvPr/>
        </p:nvPicPr>
        <p:blipFill>
          <a:blip r:embed="rId3"/>
          <a:stretch/>
        </p:blipFill>
        <p:spPr>
          <a:xfrm>
            <a:off x="5840280" y="189000"/>
            <a:ext cx="3017880" cy="187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4"/>
          <a:stretch/>
        </p:blipFill>
        <p:spPr>
          <a:xfrm>
            <a:off x="6516720" y="2359080"/>
            <a:ext cx="2486160" cy="1657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5"/>
          <a:stretch/>
        </p:blipFill>
        <p:spPr>
          <a:xfrm>
            <a:off x="324000" y="2565360"/>
            <a:ext cx="2952720" cy="19670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7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blanca y azul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4" descr="eslarge[1]"/>
          <p:cNvPicPr/>
          <p:nvPr/>
        </p:nvPicPr>
        <p:blipFill>
          <a:blip r:embed="rId1"/>
          <a:stretch/>
        </p:blipFill>
        <p:spPr>
          <a:xfrm>
            <a:off x="4716360" y="1889280"/>
            <a:ext cx="4210200" cy="2784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2019-06-02_1325"/>
          <p:cNvPicPr/>
          <p:nvPr/>
        </p:nvPicPr>
        <p:blipFill>
          <a:blip r:embed="rId2"/>
          <a:stretch/>
        </p:blipFill>
        <p:spPr>
          <a:xfrm>
            <a:off x="176040" y="1989000"/>
            <a:ext cx="3989520" cy="267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08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 y amarill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346560" cy="223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5580000" y="2014560"/>
            <a:ext cx="3276720" cy="2235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0" y="602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bandera es roja, amarilla y ver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5" name="Picture 4" descr="delarge[1]"/>
          <p:cNvPicPr/>
          <p:nvPr/>
        </p:nvPicPr>
        <p:blipFill>
          <a:blip r:embed="rId1"/>
          <a:stretch/>
        </p:blipFill>
        <p:spPr>
          <a:xfrm>
            <a:off x="258840" y="322200"/>
            <a:ext cx="4032000" cy="249084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5222880" y="291960"/>
            <a:ext cx="3781440" cy="25210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1184400" y="3068640"/>
            <a:ext cx="4022640" cy="2681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sp>
        <p:nvSpPr>
          <p:cNvPr id="418" name="TextBox 5"/>
          <p:cNvSpPr/>
          <p:nvPr/>
        </p:nvSpPr>
        <p:spPr>
          <a:xfrm>
            <a:off x="0" y="602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bandera es roja, amarilla y negr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1565280" y="1425600"/>
            <a:ext cx="60134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5:13Z</dcterms:modified>
  <cp:revision>135</cp:revision>
  <dc:subject/>
  <dc:title>TITLE</dc:title>
</cp:coreProperties>
</file>