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12.png" ContentType="image/png"/>
  <Override PartName="/ppt/media/image13.png" ContentType="image/png"/>
  <Override PartName="/ppt/media/image40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9.png" ContentType="image/png"/>
  <Override PartName="/ppt/media/image35.png" ContentType="image/png"/>
  <Override PartName="/ppt/media/image5.jpeg" ContentType="image/jpe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CD97-58DC-49F9-AE97-EFA25324B9C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A040-5506-41BB-B653-4C70A0E0752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seychel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FE61-5708-4E45-822F-BF3BA7AFE74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, amarilla y neg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B867-464A-4CF4-846E-57628756103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0169-CECD-43CC-9BF5-B8DAA54213D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un escu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E7AC-8CAC-45FA-8E9C-2FA85F31B08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una estrel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C087-4485-449F-B8FE-43642B6FA15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una estrel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E3A6-F787-4F78-B735-02B0E43FE56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dos estrel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C2C7-3A1D-48A5-BDF0-A08C31A1F14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dos estrel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0089-72A2-4015-9D06-90796AB08B4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seis estrel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57F7-5CF9-409A-AC50-459DF77B29E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una cru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E0E0-CD52-4FF3-8B3F-3E92343E91E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 y blan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AACF-A87F-48AE-AA08-1337048DA23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un círcu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B1FC-95BA-45D1-90BA-A47EA006CA3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tres franj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F307-1057-41B9-8FA0-06ABA0F5FDC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, blanca y az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6723-49B4-403D-A3FB-1304154220D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blanca y az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ECC3-C357-4E84-AFB7-E5DB870F262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 y amaril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EB5B-718A-4EF2-BC9D-A61C269458A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 y amaril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02F1-A17B-4220-BFD4-3F5B1F03BF8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ugan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DEE8-7FD0-4415-B4E0-1F6301D65A9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gha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2D88-6DF8-42AC-B315-D2E006B444D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aurit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982A-5BE4-4DB6-A03F-73927CF0EA9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6B65-CF01-46E6-9F42-B662F0F29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76D9-3AD8-45EF-AF60-0DA6A402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F32908-242D-433A-A21C-71D1B42F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1A2E8A-AABE-4F6D-A1F6-5CF15C53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04283-31E7-4D8C-B2A7-9307D1DA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4B6DDA-8CAC-4347-9EB3-CDCA6BA2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E35FA8-6C2E-4EFB-B34B-C6696EAA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F9AAC1-D454-48C1-8F05-CA166F73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AAF86D-5F85-4848-91F6-8CB39B49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5A64B6-7AC5-4B6E-8070-66846FFF1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934D49-AE94-4A80-BD2B-C8F344608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ABE6-E4B1-4EFE-9DF2-686DE5FE2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98B6-7487-41B9-B7EE-475580480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9F0A-8218-4FF6-AAA5-FD17D6F98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6564-265E-490A-A687-6C76DC11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9AE06-A7CA-491E-A6E6-838CF109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6C989-8560-403C-BE6D-559BC0ED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4CDA-17DF-4F20-9A1D-3AA5AA90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7876-2BD5-4DC6-BDA5-40C07E46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5ECD-8162-494D-89DB-CDD88D03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6105-61D9-4C52-ABCD-35B11811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1EEFB-CF58-4F23-B825-71E2DED3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39EB-2FD7-4C5F-B02A-D8F35C60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DD561-7718-441B-B9D3-E984BBBE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4302-67A3-43CC-8451-698ADB260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A5DC2-E8B3-4D80-9774-41FE14A8B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3E766-F514-4A94-9D71-88E95307D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2AF7A-6356-4A51-9132-2CA90645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CF2E3-3120-4DD6-8E2E-D7722504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05042-C2E1-4893-8683-D79DC38A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E46D4-4C9F-4D07-8F9B-4F00DC8D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2205-AF58-4512-80E6-3960FA1F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C9BA6-BC8C-43C9-8570-899D5115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9D203-A9C5-4067-8C04-C683C259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00CCF-C56E-4AAD-866D-84B650BF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F41F5-40EB-4436-987E-38DCC8A0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85C5B-D283-4A87-B237-3B733C57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81E7A-75A2-4B4C-ABCF-B1E91BF77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CCD1A-3D80-439E-A265-A92D8A6E4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0ED1B-F039-4B79-AE1F-9262E99C2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92B68-6C5F-48B7-8FFE-946D1432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9D418-F274-414E-B955-F4E5644C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BCEA-267B-4922-B302-3058B380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1C4D9-F2B7-4631-961A-E33B5AC0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CF959-1F15-4E50-9E0C-A3E7894B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D8DE0-AA29-4E64-BD09-6B70D1E7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607BA-9244-4FF2-BC56-53138CB4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6D411-3322-4D8D-9DF4-5913D293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287AF-4209-4238-AED1-F7711764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32418-50CD-4CCA-B201-2CDFDFB6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9ED84-6849-4398-91C2-247EFE2BC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6AC38-02CB-4C31-AFA0-501B8264A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BFA17-642D-4994-812D-9CE3D0013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FF91-20CE-4799-B9D3-D43D9329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06606-F305-4F45-87BE-E8BBD7E4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DF9F6-EB4A-499C-96D2-E9DE56E4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583D8-2154-45F6-BCEA-6577C430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FE8F8-4820-4DDF-AEC2-BE264F55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5A77A-4808-41F4-859C-BF7B03FE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97E5E-F533-496E-A094-81D7B7AD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36414-7DF4-4F10-A12E-E23E8AE8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06EF4-39DA-461E-9971-02DC36E6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50BED-43E8-40FB-A502-2EBE1F42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65A58-9DF6-4DD7-B3E3-5DE7A1F01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9C48-48CE-4F18-967A-AEE2FAEB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CBF51-3314-4DBD-BCD7-1B7DA7600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5B164-C7F9-4EB4-97F0-36DD7E7D6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32A57-8762-4FA8-9273-C2A61FA1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E59E0-4FD8-47D1-AACC-35009FC0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EF827-DA46-4089-95E3-B79B90E3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F74AF-2C8B-4394-9FA2-8530E2C4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CAE08-1F45-4908-9B2D-02AD2E2D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12359-3344-42D4-9CD2-43EE6E9F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0F6EB-B60C-41FD-8DA2-E39B157E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67A29-F14D-4C9C-9A18-182132DA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B31B-EA90-488E-951C-FD4A2545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50DD0-E428-48E7-A3D8-7514B651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A3775-9244-4CE3-A1E5-4077FB743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B499D-C64D-4E63-A928-3EE1F7D5F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2C6F7-D9D5-48AF-A089-35137C8D1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958A6-CBEE-462B-9D8C-975143E7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9B709-724D-4317-86E9-DCD2E0A0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A24A8-B762-40AF-A34D-2FA8DACA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2B20B-6DD1-4B19-981D-8103D1A2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BC2F8-4CEA-4BB0-A445-CF479BC9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D30BF-2E10-42B8-8B95-3E268178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625E-2406-4A8F-966F-CEA2EC6D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5A06D-F437-4370-9597-DB071547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7437C-FFC0-41D6-B28C-37ACB14E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E2DB2-6F76-4A78-A3C2-C796B8DA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511F3-88F8-47C4-A94B-5A749F829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D92A6-90DA-4173-B5B0-F29690756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21D07-31E1-427F-8532-6069EB10C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97821-2F9C-46BD-9D64-EED684D8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60E37-2F64-43BA-A619-E50193BA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FEB2C-72FD-45C8-BFB4-8624684C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F2169-F916-4F36-823A-552645BA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A9BC-0C5D-4ABF-B752-F262FBED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5C11E-7C70-4F12-92F8-99CDE36F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1AE3F-3B85-4E3C-B63F-181D73AB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CE747-DADA-4349-ABD3-6761C407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39CE2-63D6-4BB8-A085-F771837F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778A1-C205-4B00-BDB7-1B2DAE94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4C1B6-01BD-4F06-8693-815D898E7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3E07E-FA4E-47EB-80AE-D77C3FA04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185325-9649-4BCC-9520-33C3CD7EA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1E813F-BC43-4A6B-9DC9-7DC1AB4B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FCC557-DEDE-41F3-8384-749B4099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8BDB-47F8-44E1-AB55-B9F6247EF4D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B68B-8183-4082-BA7A-BAD8FA759B7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4721-201B-460F-8213-8F71FBED4D4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53F9-7D58-44F2-A7A1-4026427B657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BF2C-C027-4372-BF5E-BBBC742EA53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F7E2-EA7C-41EA-8A85-961D10C29B2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E85D-3FCB-4449-B1AE-18482A72705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246C-CBA0-4BB8-A872-8C8E0147CDC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6391-53ED-4E0C-8015-E1FD93E61FC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23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png"/><Relationship Id="rId3" Type="http://schemas.openxmlformats.org/officeDocument/2006/relationships/image" Target="../media/image6.png"/><Relationship Id="rId4" Type="http://schemas.openxmlformats.org/officeDocument/2006/relationships/image" Target="../media/image25.png"/><Relationship Id="rId5" Type="http://schemas.openxmlformats.org/officeDocument/2006/relationships/image" Target="../media/image4.png"/><Relationship Id="rId6" Type="http://schemas.openxmlformats.org/officeDocument/2006/relationships/image" Target="../media/image34.png"/><Relationship Id="rId7" Type="http://schemas.openxmlformats.org/officeDocument/2006/relationships/image" Target="../media/image38.png"/><Relationship Id="rId8" Type="http://schemas.openxmlformats.org/officeDocument/2006/relationships/image" Target="../media/image26.png"/><Relationship Id="rId9" Type="http://schemas.openxmlformats.org/officeDocument/2006/relationships/image" Target="../media/image39.jpeg"/><Relationship Id="rId10" Type="http://schemas.openxmlformats.org/officeDocument/2006/relationships/image" Target="../media/image40.png"/><Relationship Id="rId11" Type="http://schemas.openxmlformats.org/officeDocument/2006/relationships/image" Target="../media/image41.png"/><Relationship Id="rId12" Type="http://schemas.openxmlformats.org/officeDocument/2006/relationships/image" Target="../media/image42.png"/><Relationship Id="rId13" Type="http://schemas.openxmlformats.org/officeDocument/2006/relationships/image" Target="../media/image43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2195640" y="765000"/>
            <a:ext cx="5616360" cy="3311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Oval 8"/>
          <p:cNvSpPr/>
          <p:nvPr/>
        </p:nvSpPr>
        <p:spPr>
          <a:xfrm>
            <a:off x="1547640" y="333360"/>
            <a:ext cx="865440" cy="358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Rectangle 9"/>
          <p:cNvSpPr/>
          <p:nvPr/>
        </p:nvSpPr>
        <p:spPr>
          <a:xfrm>
            <a:off x="1835280" y="622440"/>
            <a:ext cx="288720" cy="496872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TextBox 1"/>
          <p:cNvSpPr/>
          <p:nvPr/>
        </p:nvSpPr>
        <p:spPr>
          <a:xfrm>
            <a:off x="179280" y="6021360"/>
            <a:ext cx="88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Mi bandera es roja.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4" name="Picture 1" descr=""/>
          <p:cNvPicPr/>
          <p:nvPr/>
        </p:nvPicPr>
        <p:blipFill>
          <a:blip r:embed="rId1"/>
          <a:stretch/>
        </p:blipFill>
        <p:spPr>
          <a:xfrm>
            <a:off x="2141640" y="1809720"/>
            <a:ext cx="48607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6" name="Picture 2" descr="2019-06-02_1345_001"/>
          <p:cNvPicPr/>
          <p:nvPr/>
        </p:nvPicPr>
        <p:blipFill>
          <a:blip r:embed="rId1"/>
          <a:stretch/>
        </p:blipFill>
        <p:spPr>
          <a:xfrm>
            <a:off x="1209600" y="1557360"/>
            <a:ext cx="6724800" cy="4464000"/>
          </a:xfrm>
          <a:prstGeom prst="rect">
            <a:avLst/>
          </a:prstGeom>
          <a:ln w="25560">
            <a:solidFill>
              <a:srgbClr val="fffff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324000" y="476280"/>
            <a:ext cx="2303280" cy="65322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roj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ffff"/>
                </a:solidFill>
                <a:latin typeface="Comic Sans MS"/>
              </a:rPr>
              <a:t>azu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amarill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00"/>
                </a:solidFill>
                <a:latin typeface="Comic Sans MS"/>
              </a:rPr>
              <a:t>ver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blanc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egr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2843280" y="476280"/>
            <a:ext cx="6121440" cy="65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i bandera es 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roj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i bandera es </a:t>
            </a:r>
            <a:r>
              <a:rPr b="0" lang="en-GB" sz="4400" spc="-1" strike="noStrike">
                <a:solidFill>
                  <a:srgbClr val="66ffff"/>
                </a:solidFill>
                <a:latin typeface="Comic Sans MS"/>
              </a:rPr>
              <a:t>azu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i bandera es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amaril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i bandera es </a:t>
            </a:r>
            <a:r>
              <a:rPr b="0" lang="en-GB" sz="4400" spc="-1" strike="noStrike">
                <a:solidFill>
                  <a:srgbClr val="00ff00"/>
                </a:solidFill>
                <a:latin typeface="Comic Sans MS"/>
              </a:rPr>
              <a:t>ver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i bandera es blanc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i bandera 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0" name="Rectangle 1" descr=""/>
          <p:cNvPicPr/>
          <p:nvPr/>
        </p:nvPicPr>
        <p:blipFill>
          <a:blip r:embed="rId1"/>
          <a:stretch/>
        </p:blipFill>
        <p:spPr>
          <a:xfrm>
            <a:off x="6229440" y="5353200"/>
            <a:ext cx="259056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2" name="Picture 4" descr="eslarge[1]"/>
          <p:cNvPicPr/>
          <p:nvPr/>
        </p:nvPicPr>
        <p:blipFill>
          <a:blip r:embed="rId1"/>
          <a:stretch/>
        </p:blipFill>
        <p:spPr>
          <a:xfrm>
            <a:off x="4716360" y="2349360"/>
            <a:ext cx="4141800" cy="27385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903840" cy="2604960"/>
          </a:xfrm>
          <a:prstGeom prst="rect">
            <a:avLst/>
          </a:prstGeom>
          <a:ln w="0">
            <a:noFill/>
          </a:ln>
        </p:spPr>
      </p:pic>
      <p:sp>
        <p:nvSpPr>
          <p:cNvPr id="434" name="TextBox 4"/>
          <p:cNvSpPr/>
          <p:nvPr/>
        </p:nvSpPr>
        <p:spPr>
          <a:xfrm>
            <a:off x="0" y="6021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Mi bandera tiene un escud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6" name="Picture 6" descr="2019-06-02_1320"/>
          <p:cNvPicPr/>
          <p:nvPr/>
        </p:nvPicPr>
        <p:blipFill>
          <a:blip r:embed="rId1"/>
          <a:stretch/>
        </p:blipFill>
        <p:spPr>
          <a:xfrm>
            <a:off x="4635360" y="3033720"/>
            <a:ext cx="4226040" cy="28065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37" name="Picture 7" descr="2000px-Flag_of_Cameroon"/>
          <p:cNvPicPr/>
          <p:nvPr/>
        </p:nvPicPr>
        <p:blipFill>
          <a:blip r:embed="rId2"/>
          <a:stretch/>
        </p:blipFill>
        <p:spPr>
          <a:xfrm>
            <a:off x="108000" y="115920"/>
            <a:ext cx="3627360" cy="24192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38" name="Picture 2" descr=""/>
          <p:cNvPicPr/>
          <p:nvPr/>
        </p:nvPicPr>
        <p:blipFill>
          <a:blip r:embed="rId3"/>
          <a:stretch/>
        </p:blipFill>
        <p:spPr>
          <a:xfrm>
            <a:off x="5292720" y="115920"/>
            <a:ext cx="3693960" cy="25210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" descr=""/>
          <p:cNvPicPr/>
          <p:nvPr/>
        </p:nvPicPr>
        <p:blipFill>
          <a:blip r:embed="rId4"/>
          <a:stretch/>
        </p:blipFill>
        <p:spPr>
          <a:xfrm>
            <a:off x="250920" y="3068640"/>
            <a:ext cx="3838320" cy="2557440"/>
          </a:xfrm>
          <a:prstGeom prst="rect">
            <a:avLst/>
          </a:prstGeom>
          <a:ln w="0">
            <a:noFill/>
          </a:ln>
        </p:spPr>
      </p:pic>
      <p:sp>
        <p:nvSpPr>
          <p:cNvPr id="440" name="TextBox 6"/>
          <p:cNvSpPr/>
          <p:nvPr/>
        </p:nvSpPr>
        <p:spPr>
          <a:xfrm>
            <a:off x="0" y="6021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Mi bandera tiene una estrell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1569960" y="1459080"/>
            <a:ext cx="6004080" cy="3939840"/>
          </a:xfrm>
          <a:prstGeom prst="rect">
            <a:avLst/>
          </a:prstGeom>
          <a:ln w="0">
            <a:noFill/>
          </a:ln>
        </p:spPr>
      </p:pic>
      <p:sp>
        <p:nvSpPr>
          <p:cNvPr id="443" name="TextBox 3"/>
          <p:cNvSpPr/>
          <p:nvPr/>
        </p:nvSpPr>
        <p:spPr>
          <a:xfrm>
            <a:off x="0" y="6021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Mi bandera tiene dos estrella</a:t>
            </a:r>
            <a:r>
              <a:rPr b="0" lang="en-GB" sz="4400" spc="-1" strike="noStrike" u="sng">
                <a:solidFill>
                  <a:srgbClr val="fffffa"/>
                </a:solidFill>
                <a:uFillTx/>
                <a:latin typeface="Comic Sans MS"/>
              </a:rPr>
              <a:t>s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5" name="Picture 5" descr="2019-06-02_1332_001"/>
          <p:cNvPicPr/>
          <p:nvPr/>
        </p:nvPicPr>
        <p:blipFill>
          <a:blip r:embed="rId1"/>
          <a:stretch/>
        </p:blipFill>
        <p:spPr>
          <a:xfrm>
            <a:off x="1116000" y="1773360"/>
            <a:ext cx="7039080" cy="3527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46" name="TextBox 3"/>
          <p:cNvSpPr/>
          <p:nvPr/>
        </p:nvSpPr>
        <p:spPr>
          <a:xfrm>
            <a:off x="0" y="6021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Mi bandera tiene cuatro estrella</a:t>
            </a:r>
            <a:r>
              <a:rPr b="0" lang="en-GB" sz="4400" spc="-1" strike="noStrike" u="sng">
                <a:solidFill>
                  <a:srgbClr val="fffffa"/>
                </a:solidFill>
                <a:uFillTx/>
                <a:latin typeface="Comic Sans MS"/>
              </a:rPr>
              <a:t>s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8" name="Picture 2" descr="2019-06-02_1325"/>
          <p:cNvPicPr/>
          <p:nvPr/>
        </p:nvPicPr>
        <p:blipFill>
          <a:blip r:embed="rId1"/>
          <a:stretch/>
        </p:blipFill>
        <p:spPr>
          <a:xfrm>
            <a:off x="1440000" y="1557360"/>
            <a:ext cx="6264000" cy="41911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49" name="TextBox 3"/>
          <p:cNvSpPr/>
          <p:nvPr/>
        </p:nvSpPr>
        <p:spPr>
          <a:xfrm>
            <a:off x="0" y="6021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Mi bandera tiene cinco estrella</a:t>
            </a:r>
            <a:r>
              <a:rPr b="0" lang="en-GB" sz="4400" spc="-1" strike="noStrike" u="sng">
                <a:solidFill>
                  <a:srgbClr val="fffffa"/>
                </a:solidFill>
                <a:uFillTx/>
                <a:latin typeface="Comic Sans MS"/>
              </a:rPr>
              <a:t>s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1" name="Picture 5" descr="aularge[1]"/>
          <p:cNvPicPr/>
          <p:nvPr/>
        </p:nvPicPr>
        <p:blipFill>
          <a:blip r:embed="rId1"/>
          <a:stretch/>
        </p:blipFill>
        <p:spPr>
          <a:xfrm>
            <a:off x="1332000" y="1773360"/>
            <a:ext cx="6553080" cy="3287520"/>
          </a:xfrm>
          <a:prstGeom prst="rect">
            <a:avLst/>
          </a:prstGeom>
          <a:ln w="0">
            <a:noFill/>
          </a:ln>
        </p:spPr>
      </p:pic>
      <p:sp>
        <p:nvSpPr>
          <p:cNvPr id="452" name="TextBox 3"/>
          <p:cNvSpPr/>
          <p:nvPr/>
        </p:nvSpPr>
        <p:spPr>
          <a:xfrm>
            <a:off x="0" y="6021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Mi bandera tiene seis estrella</a:t>
            </a:r>
            <a:r>
              <a:rPr b="0" lang="en-GB" sz="4400" spc="-1" strike="noStrike" u="sng">
                <a:solidFill>
                  <a:srgbClr val="fffffa"/>
                </a:solidFill>
                <a:uFillTx/>
                <a:latin typeface="Comic Sans MS"/>
              </a:rPr>
              <a:t>s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4" name="Picture 5" descr="england"/>
          <p:cNvPicPr/>
          <p:nvPr/>
        </p:nvPicPr>
        <p:blipFill>
          <a:blip r:embed="rId1"/>
          <a:stretch/>
        </p:blipFill>
        <p:spPr>
          <a:xfrm>
            <a:off x="250920" y="576360"/>
            <a:ext cx="3913200" cy="234792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9" descr="2019-06-02_1344"/>
          <p:cNvPicPr/>
          <p:nvPr/>
        </p:nvPicPr>
        <p:blipFill>
          <a:blip r:embed="rId2"/>
          <a:stretch/>
        </p:blipFill>
        <p:spPr>
          <a:xfrm>
            <a:off x="5079960" y="176040"/>
            <a:ext cx="3773520" cy="27482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56" name="Picture 10" descr="2019-06-02_1345"/>
          <p:cNvPicPr/>
          <p:nvPr/>
        </p:nvPicPr>
        <p:blipFill>
          <a:blip r:embed="rId3"/>
          <a:stretch/>
        </p:blipFill>
        <p:spPr>
          <a:xfrm>
            <a:off x="2478240" y="3429000"/>
            <a:ext cx="3884400" cy="23194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57" name="TextBox 5"/>
          <p:cNvSpPr/>
          <p:nvPr/>
        </p:nvSpPr>
        <p:spPr>
          <a:xfrm>
            <a:off x="0" y="6021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Mi bandera tiene una cruz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2" name="Picture 8" descr="england"/>
          <p:cNvPicPr/>
          <p:nvPr/>
        </p:nvPicPr>
        <p:blipFill>
          <a:blip r:embed="rId1"/>
          <a:stretch/>
        </p:blipFill>
        <p:spPr>
          <a:xfrm>
            <a:off x="4951440" y="189000"/>
            <a:ext cx="3719520" cy="22320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9" descr="jplarge[1]"/>
          <p:cNvPicPr/>
          <p:nvPr/>
        </p:nvPicPr>
        <p:blipFill>
          <a:blip r:embed="rId2"/>
          <a:stretch/>
        </p:blipFill>
        <p:spPr>
          <a:xfrm>
            <a:off x="4951440" y="3465360"/>
            <a:ext cx="3700440" cy="24717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2019-06-02_1319"/>
          <p:cNvPicPr/>
          <p:nvPr/>
        </p:nvPicPr>
        <p:blipFill>
          <a:blip r:embed="rId3"/>
          <a:stretch/>
        </p:blipFill>
        <p:spPr>
          <a:xfrm>
            <a:off x="208080" y="3692520"/>
            <a:ext cx="4032000" cy="2016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385" name="Picture 2" descr="Flags, Symbols, &amp; Currencies of Peru - World Atlas"/>
          <p:cNvPicPr/>
          <p:nvPr/>
        </p:nvPicPr>
        <p:blipFill>
          <a:blip r:embed="rId4"/>
          <a:stretch/>
        </p:blipFill>
        <p:spPr>
          <a:xfrm>
            <a:off x="568440" y="620640"/>
            <a:ext cx="3719520" cy="2251080"/>
          </a:xfrm>
          <a:prstGeom prst="rect">
            <a:avLst/>
          </a:prstGeom>
          <a:ln w="0">
            <a:noFill/>
          </a:ln>
        </p:spPr>
      </p:pic>
      <p:sp>
        <p:nvSpPr>
          <p:cNvPr id="386" name="TextBox 6"/>
          <p:cNvSpPr/>
          <p:nvPr/>
        </p:nvSpPr>
        <p:spPr>
          <a:xfrm>
            <a:off x="179280" y="6021360"/>
            <a:ext cx="88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Mi bandera es roja y blanca.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9" name="Picture 5" descr="jplarge[1]"/>
          <p:cNvPicPr/>
          <p:nvPr/>
        </p:nvPicPr>
        <p:blipFill>
          <a:blip r:embed="rId1"/>
          <a:stretch/>
        </p:blipFill>
        <p:spPr>
          <a:xfrm>
            <a:off x="179280" y="115920"/>
            <a:ext cx="4253040" cy="28432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7" descr="krlarge[1]"/>
          <p:cNvPicPr/>
          <p:nvPr/>
        </p:nvPicPr>
        <p:blipFill>
          <a:blip r:embed="rId2"/>
          <a:stretch/>
        </p:blipFill>
        <p:spPr>
          <a:xfrm>
            <a:off x="4643280" y="2997360"/>
            <a:ext cx="4313520" cy="28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1" name="TextBox 4"/>
          <p:cNvSpPr/>
          <p:nvPr/>
        </p:nvSpPr>
        <p:spPr>
          <a:xfrm>
            <a:off x="0" y="6021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Mi bandera tiene un círcul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3" name="Picture 11" descr="eslarge[1]"/>
          <p:cNvPicPr/>
          <p:nvPr/>
        </p:nvPicPr>
        <p:blipFill>
          <a:blip r:embed="rId1"/>
          <a:stretch/>
        </p:blipFill>
        <p:spPr>
          <a:xfrm>
            <a:off x="2451240" y="1627200"/>
            <a:ext cx="1807920" cy="119700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2" descr="arlarge[1]"/>
          <p:cNvPicPr/>
          <p:nvPr/>
        </p:nvPicPr>
        <p:blipFill>
          <a:blip r:embed="rId2"/>
          <a:stretch/>
        </p:blipFill>
        <p:spPr>
          <a:xfrm>
            <a:off x="7027920" y="115920"/>
            <a:ext cx="1803240" cy="11970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15" descr="frlarge[1]"/>
          <p:cNvPicPr/>
          <p:nvPr/>
        </p:nvPicPr>
        <p:blipFill>
          <a:blip r:embed="rId3"/>
          <a:stretch/>
        </p:blipFill>
        <p:spPr>
          <a:xfrm>
            <a:off x="455760" y="74520"/>
            <a:ext cx="1792080" cy="119556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6" descr="delarge[1]"/>
          <p:cNvPicPr/>
          <p:nvPr/>
        </p:nvPicPr>
        <p:blipFill>
          <a:blip r:embed="rId4"/>
          <a:stretch/>
        </p:blipFill>
        <p:spPr>
          <a:xfrm>
            <a:off x="223920" y="3141720"/>
            <a:ext cx="1938240" cy="1195200"/>
          </a:xfrm>
          <a:prstGeom prst="rect">
            <a:avLst/>
          </a:prstGeom>
          <a:ln w="9360">
            <a:solidFill>
              <a:srgbClr val="ffffd9"/>
            </a:solidFill>
            <a:miter/>
          </a:ln>
        </p:spPr>
      </p:pic>
      <p:pic>
        <p:nvPicPr>
          <p:cNvPr id="467" name="Picture 20" descr="2019-06-02_1319"/>
          <p:cNvPicPr/>
          <p:nvPr/>
        </p:nvPicPr>
        <p:blipFill>
          <a:blip r:embed="rId5"/>
          <a:stretch/>
        </p:blipFill>
        <p:spPr>
          <a:xfrm>
            <a:off x="196920" y="4626000"/>
            <a:ext cx="2392200" cy="11952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68" name="Picture 21" descr="2000px-Flag_of_Cameroon"/>
          <p:cNvPicPr/>
          <p:nvPr/>
        </p:nvPicPr>
        <p:blipFill>
          <a:blip r:embed="rId6"/>
          <a:stretch/>
        </p:blipFill>
        <p:spPr>
          <a:xfrm>
            <a:off x="7008840" y="1628640"/>
            <a:ext cx="1792440" cy="1197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69" name="Picture 22" descr="2019-06-02_1332"/>
          <p:cNvPicPr/>
          <p:nvPr/>
        </p:nvPicPr>
        <p:blipFill>
          <a:blip r:embed="rId7"/>
          <a:stretch/>
        </p:blipFill>
        <p:spPr>
          <a:xfrm>
            <a:off x="2874960" y="3251160"/>
            <a:ext cx="1811520" cy="11955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70" name="Picture 12" descr=""/>
          <p:cNvPicPr/>
          <p:nvPr/>
        </p:nvPicPr>
        <p:blipFill>
          <a:blip r:embed="rId8"/>
          <a:stretch/>
        </p:blipFill>
        <p:spPr>
          <a:xfrm>
            <a:off x="3797280" y="115920"/>
            <a:ext cx="1793880" cy="1197000"/>
          </a:xfrm>
          <a:prstGeom prst="rect">
            <a:avLst/>
          </a:prstGeom>
          <a:ln w="9360">
            <a:solidFill>
              <a:srgbClr val="fffffa"/>
            </a:solidFill>
            <a:miter/>
          </a:ln>
        </p:spPr>
      </p:pic>
      <p:pic>
        <p:nvPicPr>
          <p:cNvPr id="471" name="Picture 2" descr="Flags, Symbols, &amp; Currencies of Peru - World Atlas"/>
          <p:cNvPicPr/>
          <p:nvPr/>
        </p:nvPicPr>
        <p:blipFill>
          <a:blip r:embed="rId9"/>
          <a:stretch/>
        </p:blipFill>
        <p:spPr>
          <a:xfrm>
            <a:off x="6556320" y="4587840"/>
            <a:ext cx="1974960" cy="11970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3" descr=""/>
          <p:cNvPicPr/>
          <p:nvPr/>
        </p:nvPicPr>
        <p:blipFill>
          <a:blip r:embed="rId10"/>
          <a:stretch/>
        </p:blipFill>
        <p:spPr>
          <a:xfrm>
            <a:off x="3544920" y="4643280"/>
            <a:ext cx="1795320" cy="119556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2" descr=""/>
          <p:cNvPicPr/>
          <p:nvPr/>
        </p:nvPicPr>
        <p:blipFill>
          <a:blip r:embed="rId11"/>
          <a:stretch/>
        </p:blipFill>
        <p:spPr>
          <a:xfrm>
            <a:off x="108000" y="1628640"/>
            <a:ext cx="1793880" cy="11955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" descr=""/>
          <p:cNvPicPr/>
          <p:nvPr/>
        </p:nvPicPr>
        <p:blipFill>
          <a:blip r:embed="rId12"/>
          <a:stretch/>
        </p:blipFill>
        <p:spPr>
          <a:xfrm>
            <a:off x="4764240" y="1730520"/>
            <a:ext cx="1792080" cy="11970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2" descr=""/>
          <p:cNvPicPr/>
          <p:nvPr/>
        </p:nvPicPr>
        <p:blipFill>
          <a:blip r:embed="rId13"/>
          <a:stretch/>
        </p:blipFill>
        <p:spPr>
          <a:xfrm>
            <a:off x="5619600" y="3143160"/>
            <a:ext cx="1793880" cy="1197000"/>
          </a:xfrm>
          <a:prstGeom prst="rect">
            <a:avLst/>
          </a:prstGeom>
          <a:ln w="0">
            <a:noFill/>
          </a:ln>
        </p:spPr>
      </p:pic>
      <p:sp>
        <p:nvSpPr>
          <p:cNvPr id="476" name="TextBox 15"/>
          <p:cNvSpPr/>
          <p:nvPr/>
        </p:nvSpPr>
        <p:spPr>
          <a:xfrm>
            <a:off x="0" y="6021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Mi bandera tiene tres franja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8" name="Picture 16" descr="frlarge[1]"/>
          <p:cNvPicPr/>
          <p:nvPr/>
        </p:nvPicPr>
        <p:blipFill>
          <a:blip r:embed="rId1"/>
          <a:stretch/>
        </p:blipFill>
        <p:spPr>
          <a:xfrm>
            <a:off x="3230640" y="2016000"/>
            <a:ext cx="2144520" cy="14306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8" descr="aularge[1]"/>
          <p:cNvPicPr/>
          <p:nvPr/>
        </p:nvPicPr>
        <p:blipFill>
          <a:blip r:embed="rId2"/>
          <a:stretch/>
        </p:blipFill>
        <p:spPr>
          <a:xfrm>
            <a:off x="3708360" y="115920"/>
            <a:ext cx="2867040" cy="14382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2" descr="2019-06-02_1320"/>
          <p:cNvPicPr/>
          <p:nvPr/>
        </p:nvPicPr>
        <p:blipFill>
          <a:blip r:embed="rId3"/>
          <a:stretch/>
        </p:blipFill>
        <p:spPr>
          <a:xfrm>
            <a:off x="6726240" y="2732040"/>
            <a:ext cx="2308320" cy="1530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391" name="Picture 14" descr="0_o0-6o1W1DKmI5LbX"/>
          <p:cNvPicPr/>
          <p:nvPr/>
        </p:nvPicPr>
        <p:blipFill>
          <a:blip r:embed="rId4"/>
          <a:stretch/>
        </p:blipFill>
        <p:spPr>
          <a:xfrm>
            <a:off x="395280" y="3852720"/>
            <a:ext cx="2405160" cy="1268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392" name="Picture 15" descr="2019-06-02_1344"/>
          <p:cNvPicPr/>
          <p:nvPr/>
        </p:nvPicPr>
        <p:blipFill>
          <a:blip r:embed="rId5"/>
          <a:stretch/>
        </p:blipFill>
        <p:spPr>
          <a:xfrm>
            <a:off x="5940360" y="4365720"/>
            <a:ext cx="2075040" cy="1511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393" name="Picture 16" descr="2019-06-02_1332_001"/>
          <p:cNvPicPr/>
          <p:nvPr/>
        </p:nvPicPr>
        <p:blipFill>
          <a:blip r:embed="rId6"/>
          <a:stretch/>
        </p:blipFill>
        <p:spPr>
          <a:xfrm>
            <a:off x="3014640" y="4005360"/>
            <a:ext cx="2576520" cy="12906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394" name="Picture 17" descr="2019-06-02_1332"/>
          <p:cNvPicPr/>
          <p:nvPr/>
        </p:nvPicPr>
        <p:blipFill>
          <a:blip r:embed="rId7"/>
          <a:stretch/>
        </p:blipFill>
        <p:spPr>
          <a:xfrm>
            <a:off x="6834240" y="925560"/>
            <a:ext cx="2076480" cy="13730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395" name="Picture 1" descr=""/>
          <p:cNvPicPr/>
          <p:nvPr/>
        </p:nvPicPr>
        <p:blipFill>
          <a:blip r:embed="rId8"/>
          <a:stretch/>
        </p:blipFill>
        <p:spPr>
          <a:xfrm>
            <a:off x="324000" y="189000"/>
            <a:ext cx="2368440" cy="14223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"/>
          <p:cNvPicPr/>
          <p:nvPr/>
        </p:nvPicPr>
        <p:blipFill>
          <a:blip r:embed="rId9"/>
          <a:stretch/>
        </p:blipFill>
        <p:spPr>
          <a:xfrm>
            <a:off x="179280" y="2008080"/>
            <a:ext cx="2351160" cy="1543320"/>
          </a:xfrm>
          <a:prstGeom prst="rect">
            <a:avLst/>
          </a:prstGeom>
          <a:ln w="0">
            <a:noFill/>
          </a:ln>
        </p:spPr>
      </p:pic>
      <p:sp>
        <p:nvSpPr>
          <p:cNvPr id="397" name="TextBox 11"/>
          <p:cNvSpPr/>
          <p:nvPr/>
        </p:nvSpPr>
        <p:spPr>
          <a:xfrm>
            <a:off x="0" y="6021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Mi bandera es roja, blanca y azul.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9" name="Picture 5" descr="arlarge[1]"/>
          <p:cNvPicPr/>
          <p:nvPr/>
        </p:nvPicPr>
        <p:blipFill>
          <a:blip r:embed="rId1"/>
          <a:stretch/>
        </p:blipFill>
        <p:spPr>
          <a:xfrm>
            <a:off x="1670040" y="333360"/>
            <a:ext cx="2886120" cy="191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00" name="Picture 6" descr="2019-06-02_1345"/>
          <p:cNvPicPr/>
          <p:nvPr/>
        </p:nvPicPr>
        <p:blipFill>
          <a:blip r:embed="rId2"/>
          <a:stretch/>
        </p:blipFill>
        <p:spPr>
          <a:xfrm>
            <a:off x="3564000" y="4076640"/>
            <a:ext cx="2854440" cy="17067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01" name="Picture 1" descr=""/>
          <p:cNvPicPr/>
          <p:nvPr/>
        </p:nvPicPr>
        <p:blipFill>
          <a:blip r:embed="rId3"/>
          <a:stretch/>
        </p:blipFill>
        <p:spPr>
          <a:xfrm>
            <a:off x="5840280" y="189000"/>
            <a:ext cx="3017880" cy="1873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"/>
          <p:cNvPicPr/>
          <p:nvPr/>
        </p:nvPicPr>
        <p:blipFill>
          <a:blip r:embed="rId4"/>
          <a:stretch/>
        </p:blipFill>
        <p:spPr>
          <a:xfrm>
            <a:off x="6516720" y="2359080"/>
            <a:ext cx="2486160" cy="16574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"/>
          <p:cNvPicPr/>
          <p:nvPr/>
        </p:nvPicPr>
        <p:blipFill>
          <a:blip r:embed="rId5"/>
          <a:stretch/>
        </p:blipFill>
        <p:spPr>
          <a:xfrm>
            <a:off x="324000" y="2565360"/>
            <a:ext cx="2952720" cy="1967040"/>
          </a:xfrm>
          <a:prstGeom prst="rect">
            <a:avLst/>
          </a:prstGeom>
          <a:ln w="0">
            <a:noFill/>
          </a:ln>
        </p:spPr>
      </p:pic>
      <p:sp>
        <p:nvSpPr>
          <p:cNvPr id="404" name="TextBox 7"/>
          <p:cNvSpPr/>
          <p:nvPr/>
        </p:nvSpPr>
        <p:spPr>
          <a:xfrm>
            <a:off x="0" y="6021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Mi bandera es blanca y azul.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6" name="Picture 4" descr="eslarge[1]"/>
          <p:cNvPicPr/>
          <p:nvPr/>
        </p:nvPicPr>
        <p:blipFill>
          <a:blip r:embed="rId1"/>
          <a:stretch/>
        </p:blipFill>
        <p:spPr>
          <a:xfrm>
            <a:off x="4716360" y="1889280"/>
            <a:ext cx="4210200" cy="27842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2019-06-02_1325"/>
          <p:cNvPicPr/>
          <p:nvPr/>
        </p:nvPicPr>
        <p:blipFill>
          <a:blip r:embed="rId2"/>
          <a:stretch/>
        </p:blipFill>
        <p:spPr>
          <a:xfrm>
            <a:off x="176040" y="1989000"/>
            <a:ext cx="3989520" cy="26704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08" name="TextBox 4"/>
          <p:cNvSpPr/>
          <p:nvPr/>
        </p:nvSpPr>
        <p:spPr>
          <a:xfrm>
            <a:off x="0" y="6021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Mi bandera es roja y amarilla.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10" name="Picture 1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3346560" cy="22338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"/>
          <p:cNvPicPr/>
          <p:nvPr/>
        </p:nvPicPr>
        <p:blipFill>
          <a:blip r:embed="rId2"/>
          <a:stretch/>
        </p:blipFill>
        <p:spPr>
          <a:xfrm>
            <a:off x="5580000" y="2014560"/>
            <a:ext cx="3276720" cy="22352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"/>
          <p:cNvPicPr/>
          <p:nvPr/>
        </p:nvPicPr>
        <p:blipFill>
          <a:blip r:embed="rId3"/>
          <a:stretch/>
        </p:blipFill>
        <p:spPr>
          <a:xfrm>
            <a:off x="1187280" y="3716280"/>
            <a:ext cx="3456000" cy="2303640"/>
          </a:xfrm>
          <a:prstGeom prst="rect">
            <a:avLst/>
          </a:prstGeom>
          <a:ln w="0">
            <a:noFill/>
          </a:ln>
        </p:spPr>
      </p:pic>
      <p:sp>
        <p:nvSpPr>
          <p:cNvPr id="413" name="TextBox 5"/>
          <p:cNvSpPr/>
          <p:nvPr/>
        </p:nvSpPr>
        <p:spPr>
          <a:xfrm>
            <a:off x="0" y="6021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Mi bandera es roja, amarilla y verd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15" name="Picture 4" descr="delarge[1]"/>
          <p:cNvPicPr/>
          <p:nvPr/>
        </p:nvPicPr>
        <p:blipFill>
          <a:blip r:embed="rId1"/>
          <a:stretch/>
        </p:blipFill>
        <p:spPr>
          <a:xfrm>
            <a:off x="258840" y="322200"/>
            <a:ext cx="4032000" cy="2490840"/>
          </a:xfrm>
          <a:prstGeom prst="rect">
            <a:avLst/>
          </a:prstGeom>
          <a:ln w="9360">
            <a:solidFill>
              <a:srgbClr val="ffffd9"/>
            </a:solidFill>
            <a:miter/>
          </a:ln>
        </p:spPr>
      </p:pic>
      <p:pic>
        <p:nvPicPr>
          <p:cNvPr id="416" name="Picture 1" descr=""/>
          <p:cNvPicPr/>
          <p:nvPr/>
        </p:nvPicPr>
        <p:blipFill>
          <a:blip r:embed="rId2"/>
          <a:stretch/>
        </p:blipFill>
        <p:spPr>
          <a:xfrm>
            <a:off x="5222880" y="291960"/>
            <a:ext cx="3781440" cy="2521080"/>
          </a:xfrm>
          <a:prstGeom prst="rect">
            <a:avLst/>
          </a:prstGeom>
          <a:ln w="9360">
            <a:solidFill>
              <a:srgbClr val="fffffa"/>
            </a:solidFill>
            <a:miter/>
          </a:ln>
        </p:spPr>
      </p:pic>
      <p:pic>
        <p:nvPicPr>
          <p:cNvPr id="417" name="Picture 2" descr=""/>
          <p:cNvPicPr/>
          <p:nvPr/>
        </p:nvPicPr>
        <p:blipFill>
          <a:blip r:embed="rId3"/>
          <a:stretch/>
        </p:blipFill>
        <p:spPr>
          <a:xfrm>
            <a:off x="1184400" y="3068640"/>
            <a:ext cx="4022640" cy="2681280"/>
          </a:xfrm>
          <a:prstGeom prst="rect">
            <a:avLst/>
          </a:prstGeom>
          <a:ln w="9360">
            <a:solidFill>
              <a:srgbClr val="fffffa"/>
            </a:solidFill>
            <a:miter/>
          </a:ln>
        </p:spPr>
      </p:pic>
      <p:sp>
        <p:nvSpPr>
          <p:cNvPr id="418" name="TextBox 5"/>
          <p:cNvSpPr/>
          <p:nvPr/>
        </p:nvSpPr>
        <p:spPr>
          <a:xfrm>
            <a:off x="0" y="6021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Mi bandera es roja, amarilla y negra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1827360" y="1600200"/>
            <a:ext cx="5489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2" name="Picture 1" descr=""/>
          <p:cNvPicPr/>
          <p:nvPr/>
        </p:nvPicPr>
        <p:blipFill>
          <a:blip r:embed="rId1"/>
          <a:stretch/>
        </p:blipFill>
        <p:spPr>
          <a:xfrm>
            <a:off x="1565280" y="1425600"/>
            <a:ext cx="601344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7-07T10:55:13Z</dcterms:modified>
  <cp:revision>135</cp:revision>
  <dc:subject/>
  <dc:title>TITLE</dc:title>
</cp:coreProperties>
</file>